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22.jpeg" ContentType="image/jpeg"/>
  <Override PartName="/ppt/media/image5.jpeg" ContentType="image/jpeg"/>
  <Override PartName="/ppt/media/image1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cc"/>
                </a:solidFill>
                <a:latin typeface="Eras Bold ITC"/>
              </a:rPr>
              <a:t>Click to move the slide</a:t>
            </a: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64A5-7C5A-4B8B-83E3-6F625AD4093E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revised June 8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o acid differences designed by cbray (with PPT clip 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o acid differences chart by lprid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o acid differences chart by lprid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le pelvis diagram by cb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 drawings by cb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 drawings by cb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pulation Dynam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PULATIONS IN EC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 by cb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s diagram by cb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code table by cb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88E3-7A0C-4056-BA06-D40828FB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A1C2-49CF-46A0-BBEB-0C8B2ED4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F934-918F-4C38-B89E-780B654C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79F2-55EE-4C05-AFA9-0EA317B0C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DFE0-56C4-4472-A0E1-CF18A104C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ranklin Gothic Heav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8E16-ED5B-4980-A366-AA241055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143A-403D-4E28-ABBE-1513B618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635B-4B19-4190-8C94-FD48E860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E1F8-B229-4F7E-AE17-70A266E4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ranklin Gothic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F4F4-F472-44F0-A86D-F228C48A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CFC4-2E4A-4A8A-BD4D-9F466654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ranklin Gothic Heav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E177-32B9-4A8C-B8EF-F8C70D03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4753-36E5-4A3A-A8BE-477407A7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FA6C-55DE-4C09-B236-97310F4E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42F8-3B2E-4304-95A0-29E213CC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2F55-0C50-49B0-BE8C-1B7D5847D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257C-3234-4550-B848-BBBE82AC9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C3F7-9D94-4A0C-B3E8-325172AB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66DF-748C-4619-9A87-ED23C364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766F-D7E9-4A1A-80C2-2C9B1038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ranklin Gothic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C396-7A51-4239-B9B2-339367A2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0098-3A58-4E0D-A1CB-519BCCEA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255A-7D44-4D24-B8C4-7B02006E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CE33-EBDC-4C36-A316-28E7CE98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7640" y="-17640"/>
            <a:ext cx="1143000" cy="685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15840" y="0"/>
            <a:ext cx="9144000" cy="6858000"/>
          </a:xfrm>
          <a:prstGeom prst="rect">
            <a:avLst/>
          </a:prstGeom>
          <a:solidFill>
            <a:srgbClr val="003366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9C77-5F31-456B-ACEE-8415F7F39C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Click to edit the outline text format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  <a:p>
            <a:pPr lvl="1" marL="653760" indent="-251280"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Second Outline Level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  <a:p>
            <a:pPr lvl="2" marL="1005840" indent="-200880">
              <a:spcBef>
                <a:spcPts val="9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Third Outline Level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  <a:p>
            <a:pPr lvl="3" marL="1407960" indent="-200880">
              <a:spcBef>
                <a:spcPts val="901"/>
              </a:spcBef>
              <a:buClr>
                <a:srgbClr val="ffffff"/>
              </a:buClr>
              <a:buFont typeface="Franklin Gothic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Fourth Outline Level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  <a:p>
            <a:pPr lvl="4" marL="1810440" indent="-200880">
              <a:spcBef>
                <a:spcPts val="901"/>
              </a:spcBef>
              <a:buClr>
                <a:srgbClr val="ffffff"/>
              </a:buClr>
              <a:buFont typeface="Franklin Gothic Heav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Fifth Outline Level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  <a:p>
            <a:pPr lvl="5" marL="1810440" indent="-200880">
              <a:spcBef>
                <a:spcPts val="901"/>
              </a:spcBef>
              <a:buClr>
                <a:srgbClr val="ffffff"/>
              </a:buClr>
              <a:buFont typeface="Franklin Gothic Heav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Sixth Outline Level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  <a:p>
            <a:pPr lvl="6" marL="1810440" indent="-200880">
              <a:spcBef>
                <a:spcPts val="901"/>
              </a:spcBef>
              <a:buClr>
                <a:srgbClr val="ffffff"/>
              </a:buClr>
              <a:buFont typeface="Franklin Gothic Heav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Seventh Outline Level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cc"/>
                </a:solidFill>
                <a:latin typeface="Eras Bold ITC"/>
              </a:rPr>
              <a:t>Click to edit the title text format</a:t>
            </a: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Eras Bold ITC"/>
              </a:rPr>
              <a:t>Click to edit the title text format</a:t>
            </a:r>
            <a:endParaRPr b="0" lang="en-US" sz="4800" spc="-1" strike="noStrike">
              <a:solidFill>
                <a:srgbClr val="00ffff"/>
              </a:solidFill>
              <a:latin typeface="Eras Bold IT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E9FD-6FA8-45D6-B10A-14DE813322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23760" y="-41400"/>
            <a:ext cx="1143000" cy="6946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4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4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image" Target="../media/image21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2.jpeg"/><Relationship Id="rId10" Type="http://schemas.openxmlformats.org/officeDocument/2006/relationships/image" Target="../media/image22.jpeg"/><Relationship Id="rId11" Type="http://schemas.openxmlformats.org/officeDocument/2006/relationships/image" Target="../media/image22.jpeg"/><Relationship Id="rId12" Type="http://schemas.openxmlformats.org/officeDocument/2006/relationships/image" Target="../media/image22.jpeg"/><Relationship Id="rId13" Type="http://schemas.openxmlformats.org/officeDocument/2006/relationships/image" Target="../media/image22.jpeg"/><Relationship Id="rId14" Type="http://schemas.openxmlformats.org/officeDocument/2006/relationships/image" Target="../media/image4.gif"/><Relationship Id="rId15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image" Target="../media/image21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2.jpeg"/><Relationship Id="rId10" Type="http://schemas.openxmlformats.org/officeDocument/2006/relationships/image" Target="../media/image22.jpeg"/><Relationship Id="rId11" Type="http://schemas.openxmlformats.org/officeDocument/2006/relationships/image" Target="../media/image22.jpeg"/><Relationship Id="rId12" Type="http://schemas.openxmlformats.org/officeDocument/2006/relationships/image" Target="../media/image22.jpeg"/><Relationship Id="rId13" Type="http://schemas.openxmlformats.org/officeDocument/2006/relationships/image" Target="../media/image22.jpeg"/><Relationship Id="rId14" Type="http://schemas.openxmlformats.org/officeDocument/2006/relationships/image" Target="../media/image4.gif"/><Relationship Id="rId15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4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4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4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cc"/>
                </a:solidFill>
                <a:latin typeface="Eras Bold ITC"/>
              </a:rPr>
              <a:t>TEACHER NOTES</a:t>
            </a: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This PowerPoint was revised January 3, 2005.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82320" y="139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cc"/>
                </a:solidFill>
                <a:latin typeface="Eras Bold ITC"/>
              </a:rPr>
              <a:t>2 - BIOCHEMICAL</a:t>
            </a: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317600" y="1747800"/>
            <a:ext cx="782640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The similarity of triplet DNA codes making-up amino acids shows: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193760" y="3644640"/>
            <a:ext cx="3564000" cy="30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901"/>
              </a:spcBef>
              <a:buClr>
                <a:srgbClr val="ffff00"/>
              </a:buClr>
              <a:buSzPct val="75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A probable common ancestor for all life on Earth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4659480" y="3448080"/>
            <a:ext cx="4378320" cy="29368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334800" y="3730680"/>
            <a:ext cx="804960" cy="48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82320" y="139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cc"/>
                </a:solidFill>
                <a:latin typeface="Eras Bold ITC"/>
              </a:rPr>
              <a:t>2 - BIOCHEMICAL</a:t>
            </a: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11200" y="1668600"/>
            <a:ext cx="7732800" cy="18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“</a:t>
            </a: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Universal” GENETIC CODE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  <a:p>
            <a:pPr marL="322200" indent="-322200">
              <a:spcBef>
                <a:spcPts val="901"/>
              </a:spcBef>
              <a:buClr>
                <a:srgbClr val="ffff00"/>
              </a:buClr>
              <a:buSzPct val="75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  <a:ea typeface="Arial"/>
              </a:rPr>
              <a:t>Similar genes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  <a:p>
            <a:pPr marL="322200" indent="-322200">
              <a:spcBef>
                <a:spcPts val="901"/>
              </a:spcBef>
              <a:buClr>
                <a:srgbClr val="ffff00"/>
              </a:buClr>
              <a:buSzPct val="75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  <a:ea typeface="Arial"/>
              </a:rPr>
              <a:t>Over the ages, the </a:t>
            </a:r>
            <a:r>
              <a:rPr b="0" lang="en-US" sz="3600" spc="-1" strike="noStrike">
                <a:solidFill>
                  <a:srgbClr val="ffff00"/>
                </a:solidFill>
                <a:latin typeface="Franklin Gothic Heavy"/>
                <a:ea typeface="Arial"/>
              </a:rPr>
              <a:t>genetic code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589360" y="3557160"/>
            <a:ext cx="355428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Franklin Gothic Heavy"/>
                <a:ea typeface="Arial"/>
              </a:rPr>
              <a:t>has passed unchanged</a:t>
            </a:r>
            <a:r>
              <a:rPr b="0" lang="en-US" sz="3600" spc="-1" strike="noStrike">
                <a:solidFill>
                  <a:srgbClr val="00ffff"/>
                </a:solidFill>
                <a:latin typeface="Franklin Gothic Heavy"/>
                <a:ea typeface="Arial"/>
              </a:rPr>
              <a:t> (or nearly so) from parent to offspring.</a:t>
            </a: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1128600" y="3736800"/>
            <a:ext cx="4378320" cy="29368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312840" y="3060720"/>
            <a:ext cx="804600" cy="4827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287280" y="2387520"/>
            <a:ext cx="804960" cy="4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82320" y="139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cc"/>
                </a:solidFill>
                <a:latin typeface="Eras Bold ITC"/>
              </a:rPr>
              <a:t>2 - BIOCHEMICAL</a:t>
            </a: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47320" y="1346040"/>
            <a:ext cx="75344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Franklin Gothic Heavy"/>
              </a:rPr>
              <a:t>AMINO ACID SEQUENCING</a:t>
            </a:r>
            <a:endParaRPr b="0" lang="en-US" sz="40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1163520" y="2187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The amino acid sequence in a particular protein is compared between organisms.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291" name=""/>
          <p:cNvSpPr/>
          <p:nvPr/>
        </p:nvSpPr>
        <p:spPr>
          <a:xfrm>
            <a:off x="5079960" y="5587920"/>
            <a:ext cx="388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cc"/>
                </a:solidFill>
                <a:latin typeface="Arial"/>
              </a:rPr>
              <a:t>Number of differences from human hemoglob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6335640" y="3741840"/>
            <a:ext cx="1179360" cy="1782360"/>
            <a:chOff x="6335640" y="3741840"/>
            <a:chExt cx="1179360" cy="1782360"/>
          </a:xfrm>
        </p:grpSpPr>
        <p:sp>
          <p:nvSpPr>
            <p:cNvPr id="293" name=""/>
            <p:cNvSpPr/>
            <p:nvPr/>
          </p:nvSpPr>
          <p:spPr>
            <a:xfrm>
              <a:off x="6777720" y="4335120"/>
              <a:ext cx="305640" cy="628200"/>
            </a:xfrm>
            <a:custGeom>
              <a:avLst/>
              <a:gdLst/>
              <a:ahLst/>
              <a:rect l="l" t="t" r="r" b="b"/>
              <a:pathLst>
                <a:path w="318" h="654">
                  <a:moveTo>
                    <a:pt x="75" y="52"/>
                  </a:moveTo>
                  <a:lnTo>
                    <a:pt x="109" y="14"/>
                  </a:lnTo>
                  <a:lnTo>
                    <a:pt x="175" y="0"/>
                  </a:lnTo>
                  <a:lnTo>
                    <a:pt x="231" y="14"/>
                  </a:lnTo>
                  <a:lnTo>
                    <a:pt x="262" y="35"/>
                  </a:lnTo>
                  <a:lnTo>
                    <a:pt x="287" y="78"/>
                  </a:lnTo>
                  <a:lnTo>
                    <a:pt x="309" y="154"/>
                  </a:lnTo>
                  <a:lnTo>
                    <a:pt x="318" y="235"/>
                  </a:lnTo>
                  <a:lnTo>
                    <a:pt x="318" y="384"/>
                  </a:lnTo>
                  <a:lnTo>
                    <a:pt x="287" y="512"/>
                  </a:lnTo>
                  <a:lnTo>
                    <a:pt x="240" y="584"/>
                  </a:lnTo>
                  <a:lnTo>
                    <a:pt x="193" y="625"/>
                  </a:lnTo>
                  <a:lnTo>
                    <a:pt x="140" y="654"/>
                  </a:lnTo>
                  <a:lnTo>
                    <a:pt x="65" y="651"/>
                  </a:lnTo>
                  <a:lnTo>
                    <a:pt x="6" y="608"/>
                  </a:lnTo>
                  <a:lnTo>
                    <a:pt x="0" y="555"/>
                  </a:lnTo>
                  <a:lnTo>
                    <a:pt x="28" y="477"/>
                  </a:lnTo>
                  <a:lnTo>
                    <a:pt x="53" y="390"/>
                  </a:lnTo>
                  <a:lnTo>
                    <a:pt x="62" y="276"/>
                  </a:lnTo>
                  <a:lnTo>
                    <a:pt x="47" y="180"/>
                  </a:lnTo>
                  <a:lnTo>
                    <a:pt x="47" y="110"/>
                  </a:lnTo>
                  <a:lnTo>
                    <a:pt x="75" y="52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893280" y="4894560"/>
              <a:ext cx="351360" cy="621360"/>
            </a:xfrm>
            <a:custGeom>
              <a:avLst/>
              <a:gdLst/>
              <a:ahLst/>
              <a:rect l="l" t="t" r="r" b="b"/>
              <a:pathLst>
                <a:path w="366" h="647">
                  <a:moveTo>
                    <a:pt x="122" y="27"/>
                  </a:moveTo>
                  <a:lnTo>
                    <a:pt x="78" y="0"/>
                  </a:lnTo>
                  <a:lnTo>
                    <a:pt x="22" y="0"/>
                  </a:lnTo>
                  <a:lnTo>
                    <a:pt x="0" y="35"/>
                  </a:lnTo>
                  <a:lnTo>
                    <a:pt x="9" y="87"/>
                  </a:lnTo>
                  <a:lnTo>
                    <a:pt x="59" y="139"/>
                  </a:lnTo>
                  <a:lnTo>
                    <a:pt x="162" y="186"/>
                  </a:lnTo>
                  <a:lnTo>
                    <a:pt x="281" y="287"/>
                  </a:lnTo>
                  <a:lnTo>
                    <a:pt x="301" y="331"/>
                  </a:lnTo>
                  <a:lnTo>
                    <a:pt x="290" y="352"/>
                  </a:lnTo>
                  <a:lnTo>
                    <a:pt x="200" y="419"/>
                  </a:lnTo>
                  <a:lnTo>
                    <a:pt x="94" y="497"/>
                  </a:lnTo>
                  <a:lnTo>
                    <a:pt x="69" y="532"/>
                  </a:lnTo>
                  <a:lnTo>
                    <a:pt x="69" y="566"/>
                  </a:lnTo>
                  <a:lnTo>
                    <a:pt x="150" y="604"/>
                  </a:lnTo>
                  <a:lnTo>
                    <a:pt x="275" y="647"/>
                  </a:lnTo>
                  <a:lnTo>
                    <a:pt x="319" y="647"/>
                  </a:lnTo>
                  <a:lnTo>
                    <a:pt x="366" y="618"/>
                  </a:lnTo>
                  <a:lnTo>
                    <a:pt x="366" y="595"/>
                  </a:lnTo>
                  <a:lnTo>
                    <a:pt x="332" y="584"/>
                  </a:lnTo>
                  <a:lnTo>
                    <a:pt x="172" y="566"/>
                  </a:lnTo>
                  <a:lnTo>
                    <a:pt x="112" y="552"/>
                  </a:lnTo>
                  <a:lnTo>
                    <a:pt x="106" y="526"/>
                  </a:lnTo>
                  <a:lnTo>
                    <a:pt x="209" y="453"/>
                  </a:lnTo>
                  <a:lnTo>
                    <a:pt x="322" y="384"/>
                  </a:lnTo>
                  <a:lnTo>
                    <a:pt x="347" y="358"/>
                  </a:lnTo>
                  <a:lnTo>
                    <a:pt x="357" y="322"/>
                  </a:lnTo>
                  <a:lnTo>
                    <a:pt x="347" y="273"/>
                  </a:lnTo>
                  <a:lnTo>
                    <a:pt x="313" y="235"/>
                  </a:lnTo>
                  <a:lnTo>
                    <a:pt x="200" y="108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32480" y="4863600"/>
              <a:ext cx="437400" cy="660600"/>
            </a:xfrm>
            <a:custGeom>
              <a:avLst/>
              <a:gdLst/>
              <a:ahLst/>
              <a:rect l="l" t="t" r="r" b="b"/>
              <a:pathLst>
                <a:path w="455" h="688">
                  <a:moveTo>
                    <a:pt x="248" y="93"/>
                  </a:moveTo>
                  <a:lnTo>
                    <a:pt x="320" y="35"/>
                  </a:lnTo>
                  <a:lnTo>
                    <a:pt x="389" y="0"/>
                  </a:lnTo>
                  <a:lnTo>
                    <a:pt x="433" y="6"/>
                  </a:lnTo>
                  <a:lnTo>
                    <a:pt x="455" y="35"/>
                  </a:lnTo>
                  <a:lnTo>
                    <a:pt x="455" y="67"/>
                  </a:lnTo>
                  <a:lnTo>
                    <a:pt x="442" y="101"/>
                  </a:lnTo>
                  <a:lnTo>
                    <a:pt x="395" y="122"/>
                  </a:lnTo>
                  <a:lnTo>
                    <a:pt x="301" y="171"/>
                  </a:lnTo>
                  <a:lnTo>
                    <a:pt x="245" y="232"/>
                  </a:lnTo>
                  <a:lnTo>
                    <a:pt x="207" y="304"/>
                  </a:lnTo>
                  <a:lnTo>
                    <a:pt x="198" y="348"/>
                  </a:lnTo>
                  <a:lnTo>
                    <a:pt x="248" y="401"/>
                  </a:lnTo>
                  <a:lnTo>
                    <a:pt x="301" y="476"/>
                  </a:lnTo>
                  <a:lnTo>
                    <a:pt x="339" y="546"/>
                  </a:lnTo>
                  <a:lnTo>
                    <a:pt x="348" y="589"/>
                  </a:lnTo>
                  <a:lnTo>
                    <a:pt x="348" y="615"/>
                  </a:lnTo>
                  <a:lnTo>
                    <a:pt x="323" y="633"/>
                  </a:lnTo>
                  <a:lnTo>
                    <a:pt x="245" y="636"/>
                  </a:lnTo>
                  <a:lnTo>
                    <a:pt x="126" y="662"/>
                  </a:lnTo>
                  <a:lnTo>
                    <a:pt x="104" y="685"/>
                  </a:lnTo>
                  <a:lnTo>
                    <a:pt x="85" y="688"/>
                  </a:lnTo>
                  <a:lnTo>
                    <a:pt x="0" y="662"/>
                  </a:lnTo>
                  <a:lnTo>
                    <a:pt x="0" y="636"/>
                  </a:lnTo>
                  <a:lnTo>
                    <a:pt x="37" y="615"/>
                  </a:lnTo>
                  <a:lnTo>
                    <a:pt x="188" y="589"/>
                  </a:lnTo>
                  <a:lnTo>
                    <a:pt x="267" y="598"/>
                  </a:lnTo>
                  <a:lnTo>
                    <a:pt x="304" y="598"/>
                  </a:lnTo>
                  <a:lnTo>
                    <a:pt x="314" y="584"/>
                  </a:lnTo>
                  <a:lnTo>
                    <a:pt x="282" y="520"/>
                  </a:lnTo>
                  <a:lnTo>
                    <a:pt x="217" y="436"/>
                  </a:lnTo>
                  <a:lnTo>
                    <a:pt x="170" y="374"/>
                  </a:lnTo>
                  <a:lnTo>
                    <a:pt x="151" y="339"/>
                  </a:lnTo>
                  <a:lnTo>
                    <a:pt x="151" y="287"/>
                  </a:lnTo>
                  <a:lnTo>
                    <a:pt x="182" y="200"/>
                  </a:lnTo>
                  <a:lnTo>
                    <a:pt x="210" y="145"/>
                  </a:lnTo>
                  <a:lnTo>
                    <a:pt x="248" y="93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335640" y="4073040"/>
              <a:ext cx="459360" cy="614880"/>
            </a:xfrm>
            <a:custGeom>
              <a:avLst/>
              <a:gdLst/>
              <a:ahLst/>
              <a:rect l="l" t="t" r="r" b="b"/>
              <a:pathLst>
                <a:path w="478" h="640">
                  <a:moveTo>
                    <a:pt x="59" y="621"/>
                  </a:moveTo>
                  <a:lnTo>
                    <a:pt x="93" y="640"/>
                  </a:lnTo>
                  <a:lnTo>
                    <a:pt x="118" y="621"/>
                  </a:lnTo>
                  <a:lnTo>
                    <a:pt x="183" y="540"/>
                  </a:lnTo>
                  <a:lnTo>
                    <a:pt x="295" y="470"/>
                  </a:lnTo>
                  <a:lnTo>
                    <a:pt x="373" y="456"/>
                  </a:lnTo>
                  <a:lnTo>
                    <a:pt x="462" y="447"/>
                  </a:lnTo>
                  <a:lnTo>
                    <a:pt x="478" y="409"/>
                  </a:lnTo>
                  <a:lnTo>
                    <a:pt x="455" y="368"/>
                  </a:lnTo>
                  <a:lnTo>
                    <a:pt x="400" y="357"/>
                  </a:lnTo>
                  <a:lnTo>
                    <a:pt x="321" y="374"/>
                  </a:lnTo>
                  <a:lnTo>
                    <a:pt x="209" y="452"/>
                  </a:lnTo>
                  <a:lnTo>
                    <a:pt x="138" y="522"/>
                  </a:lnTo>
                  <a:lnTo>
                    <a:pt x="96" y="557"/>
                  </a:lnTo>
                  <a:lnTo>
                    <a:pt x="70" y="517"/>
                  </a:lnTo>
                  <a:lnTo>
                    <a:pt x="74" y="418"/>
                  </a:lnTo>
                  <a:lnTo>
                    <a:pt x="104" y="296"/>
                  </a:lnTo>
                  <a:lnTo>
                    <a:pt x="138" y="256"/>
                  </a:lnTo>
                  <a:lnTo>
                    <a:pt x="187" y="220"/>
                  </a:lnTo>
                  <a:lnTo>
                    <a:pt x="217" y="191"/>
                  </a:lnTo>
                  <a:lnTo>
                    <a:pt x="133" y="134"/>
                  </a:lnTo>
                  <a:lnTo>
                    <a:pt x="59" y="64"/>
                  </a:lnTo>
                  <a:lnTo>
                    <a:pt x="44" y="0"/>
                  </a:lnTo>
                  <a:lnTo>
                    <a:pt x="11" y="3"/>
                  </a:lnTo>
                  <a:lnTo>
                    <a:pt x="0" y="87"/>
                  </a:lnTo>
                  <a:lnTo>
                    <a:pt x="62" y="139"/>
                  </a:lnTo>
                  <a:lnTo>
                    <a:pt x="130" y="195"/>
                  </a:lnTo>
                  <a:lnTo>
                    <a:pt x="96" y="252"/>
                  </a:lnTo>
                  <a:lnTo>
                    <a:pt x="62" y="322"/>
                  </a:lnTo>
                  <a:lnTo>
                    <a:pt x="40" y="412"/>
                  </a:lnTo>
                  <a:lnTo>
                    <a:pt x="25" y="504"/>
                  </a:lnTo>
                  <a:lnTo>
                    <a:pt x="40" y="584"/>
                  </a:lnTo>
                  <a:lnTo>
                    <a:pt x="59" y="621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081560" y="3741840"/>
              <a:ext cx="433440" cy="666360"/>
            </a:xfrm>
            <a:custGeom>
              <a:avLst/>
              <a:gdLst/>
              <a:ahLst/>
              <a:rect l="l" t="t" r="r" b="b"/>
              <a:pathLst>
                <a:path w="451" h="694">
                  <a:moveTo>
                    <a:pt x="0" y="688"/>
                  </a:moveTo>
                  <a:lnTo>
                    <a:pt x="0" y="642"/>
                  </a:lnTo>
                  <a:lnTo>
                    <a:pt x="28" y="607"/>
                  </a:lnTo>
                  <a:lnTo>
                    <a:pt x="151" y="566"/>
                  </a:lnTo>
                  <a:lnTo>
                    <a:pt x="301" y="532"/>
                  </a:lnTo>
                  <a:lnTo>
                    <a:pt x="389" y="511"/>
                  </a:lnTo>
                  <a:lnTo>
                    <a:pt x="398" y="494"/>
                  </a:lnTo>
                  <a:lnTo>
                    <a:pt x="357" y="442"/>
                  </a:lnTo>
                  <a:lnTo>
                    <a:pt x="276" y="366"/>
                  </a:lnTo>
                  <a:lnTo>
                    <a:pt x="192" y="302"/>
                  </a:lnTo>
                  <a:lnTo>
                    <a:pt x="126" y="267"/>
                  </a:lnTo>
                  <a:lnTo>
                    <a:pt x="88" y="232"/>
                  </a:lnTo>
                  <a:lnTo>
                    <a:pt x="84" y="206"/>
                  </a:lnTo>
                  <a:lnTo>
                    <a:pt x="107" y="183"/>
                  </a:lnTo>
                  <a:lnTo>
                    <a:pt x="160" y="171"/>
                  </a:lnTo>
                  <a:lnTo>
                    <a:pt x="226" y="128"/>
                  </a:lnTo>
                  <a:lnTo>
                    <a:pt x="235" y="84"/>
                  </a:lnTo>
                  <a:lnTo>
                    <a:pt x="235" y="23"/>
                  </a:lnTo>
                  <a:lnTo>
                    <a:pt x="229" y="0"/>
                  </a:lnTo>
                  <a:lnTo>
                    <a:pt x="254" y="6"/>
                  </a:lnTo>
                  <a:lnTo>
                    <a:pt x="289" y="58"/>
                  </a:lnTo>
                  <a:lnTo>
                    <a:pt x="301" y="113"/>
                  </a:lnTo>
                  <a:lnTo>
                    <a:pt x="264" y="154"/>
                  </a:lnTo>
                  <a:lnTo>
                    <a:pt x="229" y="165"/>
                  </a:lnTo>
                  <a:lnTo>
                    <a:pt x="164" y="197"/>
                  </a:lnTo>
                  <a:lnTo>
                    <a:pt x="151" y="215"/>
                  </a:lnTo>
                  <a:lnTo>
                    <a:pt x="160" y="232"/>
                  </a:lnTo>
                  <a:lnTo>
                    <a:pt x="220" y="278"/>
                  </a:lnTo>
                  <a:lnTo>
                    <a:pt x="282" y="304"/>
                  </a:lnTo>
                  <a:lnTo>
                    <a:pt x="367" y="372"/>
                  </a:lnTo>
                  <a:lnTo>
                    <a:pt x="423" y="450"/>
                  </a:lnTo>
                  <a:lnTo>
                    <a:pt x="451" y="511"/>
                  </a:lnTo>
                  <a:lnTo>
                    <a:pt x="442" y="532"/>
                  </a:lnTo>
                  <a:lnTo>
                    <a:pt x="423" y="546"/>
                  </a:lnTo>
                  <a:lnTo>
                    <a:pt x="351" y="572"/>
                  </a:lnTo>
                  <a:lnTo>
                    <a:pt x="207" y="616"/>
                  </a:lnTo>
                  <a:lnTo>
                    <a:pt x="117" y="653"/>
                  </a:lnTo>
                  <a:lnTo>
                    <a:pt x="56" y="685"/>
                  </a:lnTo>
                  <a:lnTo>
                    <a:pt x="19" y="694"/>
                  </a:lnTo>
                  <a:lnTo>
                    <a:pt x="0" y="688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3880" y="3840480"/>
              <a:ext cx="340200" cy="475560"/>
            </a:xfrm>
            <a:custGeom>
              <a:avLst/>
              <a:gdLst/>
              <a:ahLst/>
              <a:rect l="l" t="t" r="r" b="b"/>
              <a:pathLst>
                <a:path w="354" h="495">
                  <a:moveTo>
                    <a:pt x="72" y="402"/>
                  </a:moveTo>
                  <a:lnTo>
                    <a:pt x="113" y="446"/>
                  </a:lnTo>
                  <a:lnTo>
                    <a:pt x="179" y="486"/>
                  </a:lnTo>
                  <a:lnTo>
                    <a:pt x="235" y="495"/>
                  </a:lnTo>
                  <a:lnTo>
                    <a:pt x="278" y="486"/>
                  </a:lnTo>
                  <a:lnTo>
                    <a:pt x="329" y="452"/>
                  </a:lnTo>
                  <a:lnTo>
                    <a:pt x="347" y="382"/>
                  </a:lnTo>
                  <a:lnTo>
                    <a:pt x="354" y="330"/>
                  </a:lnTo>
                  <a:lnTo>
                    <a:pt x="338" y="280"/>
                  </a:lnTo>
                  <a:lnTo>
                    <a:pt x="309" y="219"/>
                  </a:lnTo>
                  <a:lnTo>
                    <a:pt x="282" y="165"/>
                  </a:lnTo>
                  <a:lnTo>
                    <a:pt x="278" y="154"/>
                  </a:lnTo>
                  <a:lnTo>
                    <a:pt x="291" y="93"/>
                  </a:lnTo>
                  <a:lnTo>
                    <a:pt x="329" y="32"/>
                  </a:lnTo>
                  <a:lnTo>
                    <a:pt x="335" y="14"/>
                  </a:lnTo>
                  <a:lnTo>
                    <a:pt x="315" y="0"/>
                  </a:lnTo>
                  <a:lnTo>
                    <a:pt x="291" y="0"/>
                  </a:lnTo>
                  <a:lnTo>
                    <a:pt x="263" y="79"/>
                  </a:lnTo>
                  <a:lnTo>
                    <a:pt x="251" y="131"/>
                  </a:lnTo>
                  <a:lnTo>
                    <a:pt x="216" y="96"/>
                  </a:lnTo>
                  <a:lnTo>
                    <a:pt x="188" y="70"/>
                  </a:lnTo>
                  <a:lnTo>
                    <a:pt x="128" y="49"/>
                  </a:lnTo>
                  <a:lnTo>
                    <a:pt x="85" y="49"/>
                  </a:lnTo>
                  <a:lnTo>
                    <a:pt x="19" y="79"/>
                  </a:lnTo>
                  <a:lnTo>
                    <a:pt x="0" y="163"/>
                  </a:lnTo>
                  <a:lnTo>
                    <a:pt x="16" y="271"/>
                  </a:lnTo>
                  <a:lnTo>
                    <a:pt x="44" y="373"/>
                  </a:lnTo>
                  <a:lnTo>
                    <a:pt x="72" y="402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8150400" y="3267000"/>
            <a:ext cx="785520" cy="1025640"/>
          </a:xfrm>
          <a:custGeom>
            <a:avLst/>
            <a:gdLst/>
            <a:ahLst/>
            <a:rect l="l" t="t" r="r" b="b"/>
            <a:pathLst>
              <a:path w="1991" h="2600">
                <a:moveTo>
                  <a:pt x="281" y="232"/>
                </a:moveTo>
                <a:lnTo>
                  <a:pt x="284" y="243"/>
                </a:lnTo>
                <a:lnTo>
                  <a:pt x="290" y="252"/>
                </a:lnTo>
                <a:lnTo>
                  <a:pt x="299" y="258"/>
                </a:lnTo>
                <a:lnTo>
                  <a:pt x="310" y="260"/>
                </a:lnTo>
                <a:lnTo>
                  <a:pt x="320" y="258"/>
                </a:lnTo>
                <a:lnTo>
                  <a:pt x="328" y="252"/>
                </a:lnTo>
                <a:lnTo>
                  <a:pt x="334" y="243"/>
                </a:lnTo>
                <a:lnTo>
                  <a:pt x="336" y="232"/>
                </a:lnTo>
                <a:lnTo>
                  <a:pt x="334" y="221"/>
                </a:lnTo>
                <a:lnTo>
                  <a:pt x="328" y="212"/>
                </a:lnTo>
                <a:lnTo>
                  <a:pt x="320" y="207"/>
                </a:lnTo>
                <a:lnTo>
                  <a:pt x="310" y="204"/>
                </a:lnTo>
                <a:lnTo>
                  <a:pt x="299" y="207"/>
                </a:lnTo>
                <a:lnTo>
                  <a:pt x="290" y="212"/>
                </a:lnTo>
                <a:lnTo>
                  <a:pt x="284" y="221"/>
                </a:lnTo>
                <a:lnTo>
                  <a:pt x="281" y="232"/>
                </a:lnTo>
                <a:lnTo>
                  <a:pt x="178" y="323"/>
                </a:lnTo>
                <a:lnTo>
                  <a:pt x="165" y="317"/>
                </a:lnTo>
                <a:lnTo>
                  <a:pt x="150" y="311"/>
                </a:lnTo>
                <a:lnTo>
                  <a:pt x="135" y="309"/>
                </a:lnTo>
                <a:lnTo>
                  <a:pt x="119" y="309"/>
                </a:lnTo>
                <a:lnTo>
                  <a:pt x="103" y="309"/>
                </a:lnTo>
                <a:lnTo>
                  <a:pt x="87" y="311"/>
                </a:lnTo>
                <a:lnTo>
                  <a:pt x="72" y="317"/>
                </a:lnTo>
                <a:lnTo>
                  <a:pt x="59" y="322"/>
                </a:lnTo>
                <a:lnTo>
                  <a:pt x="51" y="326"/>
                </a:lnTo>
                <a:lnTo>
                  <a:pt x="43" y="331"/>
                </a:lnTo>
                <a:lnTo>
                  <a:pt x="36" y="338"/>
                </a:lnTo>
                <a:lnTo>
                  <a:pt x="29" y="343"/>
                </a:lnTo>
                <a:lnTo>
                  <a:pt x="21" y="350"/>
                </a:lnTo>
                <a:lnTo>
                  <a:pt x="15" y="357"/>
                </a:lnTo>
                <a:lnTo>
                  <a:pt x="8" y="362"/>
                </a:lnTo>
                <a:lnTo>
                  <a:pt x="0" y="368"/>
                </a:lnTo>
                <a:lnTo>
                  <a:pt x="0" y="354"/>
                </a:lnTo>
                <a:lnTo>
                  <a:pt x="4" y="350"/>
                </a:lnTo>
                <a:lnTo>
                  <a:pt x="5" y="345"/>
                </a:lnTo>
                <a:lnTo>
                  <a:pt x="7" y="339"/>
                </a:lnTo>
                <a:lnTo>
                  <a:pt x="9" y="334"/>
                </a:lnTo>
                <a:lnTo>
                  <a:pt x="23" y="315"/>
                </a:lnTo>
                <a:lnTo>
                  <a:pt x="36" y="297"/>
                </a:lnTo>
                <a:lnTo>
                  <a:pt x="52" y="278"/>
                </a:lnTo>
                <a:lnTo>
                  <a:pt x="68" y="260"/>
                </a:lnTo>
                <a:lnTo>
                  <a:pt x="87" y="244"/>
                </a:lnTo>
                <a:lnTo>
                  <a:pt x="106" y="229"/>
                </a:lnTo>
                <a:lnTo>
                  <a:pt x="126" y="219"/>
                </a:lnTo>
                <a:lnTo>
                  <a:pt x="147" y="212"/>
                </a:lnTo>
                <a:lnTo>
                  <a:pt x="151" y="208"/>
                </a:lnTo>
                <a:lnTo>
                  <a:pt x="154" y="204"/>
                </a:lnTo>
                <a:lnTo>
                  <a:pt x="155" y="200"/>
                </a:lnTo>
                <a:lnTo>
                  <a:pt x="155" y="195"/>
                </a:lnTo>
                <a:lnTo>
                  <a:pt x="157" y="195"/>
                </a:lnTo>
                <a:lnTo>
                  <a:pt x="164" y="148"/>
                </a:lnTo>
                <a:lnTo>
                  <a:pt x="168" y="144"/>
                </a:lnTo>
                <a:lnTo>
                  <a:pt x="169" y="138"/>
                </a:lnTo>
                <a:lnTo>
                  <a:pt x="170" y="133"/>
                </a:lnTo>
                <a:lnTo>
                  <a:pt x="173" y="129"/>
                </a:lnTo>
                <a:lnTo>
                  <a:pt x="180" y="123"/>
                </a:lnTo>
                <a:lnTo>
                  <a:pt x="188" y="121"/>
                </a:lnTo>
                <a:lnTo>
                  <a:pt x="196" y="119"/>
                </a:lnTo>
                <a:lnTo>
                  <a:pt x="205" y="119"/>
                </a:lnTo>
                <a:lnTo>
                  <a:pt x="213" y="118"/>
                </a:lnTo>
                <a:lnTo>
                  <a:pt x="220" y="115"/>
                </a:lnTo>
                <a:lnTo>
                  <a:pt x="227" y="110"/>
                </a:lnTo>
                <a:lnTo>
                  <a:pt x="231" y="103"/>
                </a:lnTo>
                <a:lnTo>
                  <a:pt x="236" y="94"/>
                </a:lnTo>
                <a:lnTo>
                  <a:pt x="240" y="83"/>
                </a:lnTo>
                <a:lnTo>
                  <a:pt x="245" y="72"/>
                </a:lnTo>
                <a:lnTo>
                  <a:pt x="252" y="62"/>
                </a:lnTo>
                <a:lnTo>
                  <a:pt x="259" y="54"/>
                </a:lnTo>
                <a:lnTo>
                  <a:pt x="267" y="46"/>
                </a:lnTo>
                <a:lnTo>
                  <a:pt x="276" y="40"/>
                </a:lnTo>
                <a:lnTo>
                  <a:pt x="288" y="36"/>
                </a:lnTo>
                <a:lnTo>
                  <a:pt x="306" y="42"/>
                </a:lnTo>
                <a:lnTo>
                  <a:pt x="320" y="42"/>
                </a:lnTo>
                <a:lnTo>
                  <a:pt x="335" y="38"/>
                </a:lnTo>
                <a:lnTo>
                  <a:pt x="349" y="32"/>
                </a:lnTo>
                <a:lnTo>
                  <a:pt x="361" y="24"/>
                </a:lnTo>
                <a:lnTo>
                  <a:pt x="374" y="16"/>
                </a:lnTo>
                <a:lnTo>
                  <a:pt x="386" y="8"/>
                </a:lnTo>
                <a:lnTo>
                  <a:pt x="399" y="1"/>
                </a:lnTo>
                <a:lnTo>
                  <a:pt x="413" y="0"/>
                </a:lnTo>
                <a:lnTo>
                  <a:pt x="426" y="1"/>
                </a:lnTo>
                <a:lnTo>
                  <a:pt x="438" y="4"/>
                </a:lnTo>
                <a:lnTo>
                  <a:pt x="449" y="8"/>
                </a:lnTo>
                <a:lnTo>
                  <a:pt x="460" y="15"/>
                </a:lnTo>
                <a:lnTo>
                  <a:pt x="469" y="21"/>
                </a:lnTo>
                <a:lnTo>
                  <a:pt x="477" y="30"/>
                </a:lnTo>
                <a:lnTo>
                  <a:pt x="485" y="39"/>
                </a:lnTo>
                <a:lnTo>
                  <a:pt x="492" y="59"/>
                </a:lnTo>
                <a:lnTo>
                  <a:pt x="496" y="81"/>
                </a:lnTo>
                <a:lnTo>
                  <a:pt x="495" y="103"/>
                </a:lnTo>
                <a:lnTo>
                  <a:pt x="487" y="123"/>
                </a:lnTo>
                <a:lnTo>
                  <a:pt x="496" y="127"/>
                </a:lnTo>
                <a:lnTo>
                  <a:pt x="504" y="134"/>
                </a:lnTo>
                <a:lnTo>
                  <a:pt x="512" y="140"/>
                </a:lnTo>
                <a:lnTo>
                  <a:pt x="520" y="146"/>
                </a:lnTo>
                <a:lnTo>
                  <a:pt x="527" y="154"/>
                </a:lnTo>
                <a:lnTo>
                  <a:pt x="534" y="162"/>
                </a:lnTo>
                <a:lnTo>
                  <a:pt x="539" y="170"/>
                </a:lnTo>
                <a:lnTo>
                  <a:pt x="544" y="178"/>
                </a:lnTo>
                <a:lnTo>
                  <a:pt x="539" y="185"/>
                </a:lnTo>
                <a:lnTo>
                  <a:pt x="540" y="192"/>
                </a:lnTo>
                <a:lnTo>
                  <a:pt x="544" y="199"/>
                </a:lnTo>
                <a:lnTo>
                  <a:pt x="544" y="208"/>
                </a:lnTo>
                <a:lnTo>
                  <a:pt x="538" y="213"/>
                </a:lnTo>
                <a:lnTo>
                  <a:pt x="532" y="220"/>
                </a:lnTo>
                <a:lnTo>
                  <a:pt x="528" y="227"/>
                </a:lnTo>
                <a:lnTo>
                  <a:pt x="529" y="235"/>
                </a:lnTo>
                <a:lnTo>
                  <a:pt x="535" y="244"/>
                </a:lnTo>
                <a:lnTo>
                  <a:pt x="542" y="252"/>
                </a:lnTo>
                <a:lnTo>
                  <a:pt x="550" y="260"/>
                </a:lnTo>
                <a:lnTo>
                  <a:pt x="556" y="268"/>
                </a:lnTo>
                <a:lnTo>
                  <a:pt x="564" y="276"/>
                </a:lnTo>
                <a:lnTo>
                  <a:pt x="572" y="283"/>
                </a:lnTo>
                <a:lnTo>
                  <a:pt x="579" y="291"/>
                </a:lnTo>
                <a:lnTo>
                  <a:pt x="586" y="299"/>
                </a:lnTo>
                <a:lnTo>
                  <a:pt x="599" y="318"/>
                </a:lnTo>
                <a:lnTo>
                  <a:pt x="611" y="337"/>
                </a:lnTo>
                <a:lnTo>
                  <a:pt x="623" y="356"/>
                </a:lnTo>
                <a:lnTo>
                  <a:pt x="637" y="374"/>
                </a:lnTo>
                <a:lnTo>
                  <a:pt x="649" y="393"/>
                </a:lnTo>
                <a:lnTo>
                  <a:pt x="662" y="412"/>
                </a:lnTo>
                <a:lnTo>
                  <a:pt x="676" y="431"/>
                </a:lnTo>
                <a:lnTo>
                  <a:pt x="690" y="448"/>
                </a:lnTo>
                <a:lnTo>
                  <a:pt x="698" y="471"/>
                </a:lnTo>
                <a:lnTo>
                  <a:pt x="709" y="492"/>
                </a:lnTo>
                <a:lnTo>
                  <a:pt x="721" y="513"/>
                </a:lnTo>
                <a:lnTo>
                  <a:pt x="736" y="534"/>
                </a:lnTo>
                <a:lnTo>
                  <a:pt x="749" y="554"/>
                </a:lnTo>
                <a:lnTo>
                  <a:pt x="761" y="574"/>
                </a:lnTo>
                <a:lnTo>
                  <a:pt x="772" y="597"/>
                </a:lnTo>
                <a:lnTo>
                  <a:pt x="780" y="620"/>
                </a:lnTo>
                <a:lnTo>
                  <a:pt x="790" y="639"/>
                </a:lnTo>
                <a:lnTo>
                  <a:pt x="796" y="659"/>
                </a:lnTo>
                <a:lnTo>
                  <a:pt x="804" y="679"/>
                </a:lnTo>
                <a:lnTo>
                  <a:pt x="812" y="699"/>
                </a:lnTo>
                <a:lnTo>
                  <a:pt x="823" y="718"/>
                </a:lnTo>
                <a:lnTo>
                  <a:pt x="835" y="735"/>
                </a:lnTo>
                <a:lnTo>
                  <a:pt x="850" y="750"/>
                </a:lnTo>
                <a:lnTo>
                  <a:pt x="869" y="762"/>
                </a:lnTo>
                <a:lnTo>
                  <a:pt x="869" y="765"/>
                </a:lnTo>
                <a:lnTo>
                  <a:pt x="869" y="766"/>
                </a:lnTo>
                <a:lnTo>
                  <a:pt x="871" y="767"/>
                </a:lnTo>
                <a:lnTo>
                  <a:pt x="873" y="769"/>
                </a:lnTo>
                <a:lnTo>
                  <a:pt x="886" y="765"/>
                </a:lnTo>
                <a:lnTo>
                  <a:pt x="899" y="759"/>
                </a:lnTo>
                <a:lnTo>
                  <a:pt x="913" y="754"/>
                </a:lnTo>
                <a:lnTo>
                  <a:pt x="926" y="749"/>
                </a:lnTo>
                <a:lnTo>
                  <a:pt x="938" y="742"/>
                </a:lnTo>
                <a:lnTo>
                  <a:pt x="952" y="735"/>
                </a:lnTo>
                <a:lnTo>
                  <a:pt x="964" y="730"/>
                </a:lnTo>
                <a:lnTo>
                  <a:pt x="977" y="723"/>
                </a:lnTo>
                <a:lnTo>
                  <a:pt x="989" y="718"/>
                </a:lnTo>
                <a:lnTo>
                  <a:pt x="1003" y="712"/>
                </a:lnTo>
                <a:lnTo>
                  <a:pt x="1016" y="707"/>
                </a:lnTo>
                <a:lnTo>
                  <a:pt x="1031" y="703"/>
                </a:lnTo>
                <a:lnTo>
                  <a:pt x="1044" y="699"/>
                </a:lnTo>
                <a:lnTo>
                  <a:pt x="1059" y="696"/>
                </a:lnTo>
                <a:lnTo>
                  <a:pt x="1075" y="695"/>
                </a:lnTo>
                <a:lnTo>
                  <a:pt x="1091" y="695"/>
                </a:lnTo>
                <a:lnTo>
                  <a:pt x="1107" y="694"/>
                </a:lnTo>
                <a:lnTo>
                  <a:pt x="1122" y="694"/>
                </a:lnTo>
                <a:lnTo>
                  <a:pt x="1137" y="694"/>
                </a:lnTo>
                <a:lnTo>
                  <a:pt x="1153" y="695"/>
                </a:lnTo>
                <a:lnTo>
                  <a:pt x="1168" y="696"/>
                </a:lnTo>
                <a:lnTo>
                  <a:pt x="1182" y="699"/>
                </a:lnTo>
                <a:lnTo>
                  <a:pt x="1197" y="700"/>
                </a:lnTo>
                <a:lnTo>
                  <a:pt x="1212" y="704"/>
                </a:lnTo>
                <a:lnTo>
                  <a:pt x="1225" y="707"/>
                </a:lnTo>
                <a:lnTo>
                  <a:pt x="1240" y="711"/>
                </a:lnTo>
                <a:lnTo>
                  <a:pt x="1253" y="716"/>
                </a:lnTo>
                <a:lnTo>
                  <a:pt x="1267" y="720"/>
                </a:lnTo>
                <a:lnTo>
                  <a:pt x="1281" y="726"/>
                </a:lnTo>
                <a:lnTo>
                  <a:pt x="1295" y="731"/>
                </a:lnTo>
                <a:lnTo>
                  <a:pt x="1307" y="737"/>
                </a:lnTo>
                <a:lnTo>
                  <a:pt x="1320" y="743"/>
                </a:lnTo>
                <a:lnTo>
                  <a:pt x="1331" y="731"/>
                </a:lnTo>
                <a:lnTo>
                  <a:pt x="1342" y="719"/>
                </a:lnTo>
                <a:lnTo>
                  <a:pt x="1353" y="707"/>
                </a:lnTo>
                <a:lnTo>
                  <a:pt x="1365" y="696"/>
                </a:lnTo>
                <a:lnTo>
                  <a:pt x="1377" y="686"/>
                </a:lnTo>
                <a:lnTo>
                  <a:pt x="1389" y="675"/>
                </a:lnTo>
                <a:lnTo>
                  <a:pt x="1402" y="665"/>
                </a:lnTo>
                <a:lnTo>
                  <a:pt x="1414" y="656"/>
                </a:lnTo>
                <a:lnTo>
                  <a:pt x="1432" y="647"/>
                </a:lnTo>
                <a:lnTo>
                  <a:pt x="1449" y="637"/>
                </a:lnTo>
                <a:lnTo>
                  <a:pt x="1466" y="629"/>
                </a:lnTo>
                <a:lnTo>
                  <a:pt x="1485" y="621"/>
                </a:lnTo>
                <a:lnTo>
                  <a:pt x="1503" y="613"/>
                </a:lnTo>
                <a:lnTo>
                  <a:pt x="1521" y="605"/>
                </a:lnTo>
                <a:lnTo>
                  <a:pt x="1542" y="600"/>
                </a:lnTo>
                <a:lnTo>
                  <a:pt x="1560" y="594"/>
                </a:lnTo>
                <a:lnTo>
                  <a:pt x="1572" y="585"/>
                </a:lnTo>
                <a:lnTo>
                  <a:pt x="1584" y="573"/>
                </a:lnTo>
                <a:lnTo>
                  <a:pt x="1595" y="562"/>
                </a:lnTo>
                <a:lnTo>
                  <a:pt x="1607" y="550"/>
                </a:lnTo>
                <a:lnTo>
                  <a:pt x="1618" y="541"/>
                </a:lnTo>
                <a:lnTo>
                  <a:pt x="1631" y="533"/>
                </a:lnTo>
                <a:lnTo>
                  <a:pt x="1645" y="526"/>
                </a:lnTo>
                <a:lnTo>
                  <a:pt x="1661" y="523"/>
                </a:lnTo>
                <a:lnTo>
                  <a:pt x="1668" y="514"/>
                </a:lnTo>
                <a:lnTo>
                  <a:pt x="1673" y="503"/>
                </a:lnTo>
                <a:lnTo>
                  <a:pt x="1678" y="491"/>
                </a:lnTo>
                <a:lnTo>
                  <a:pt x="1682" y="479"/>
                </a:lnTo>
                <a:lnTo>
                  <a:pt x="1686" y="467"/>
                </a:lnTo>
                <a:lnTo>
                  <a:pt x="1692" y="456"/>
                </a:lnTo>
                <a:lnTo>
                  <a:pt x="1697" y="445"/>
                </a:lnTo>
                <a:lnTo>
                  <a:pt x="1705" y="436"/>
                </a:lnTo>
                <a:lnTo>
                  <a:pt x="1718" y="423"/>
                </a:lnTo>
                <a:lnTo>
                  <a:pt x="1732" y="409"/>
                </a:lnTo>
                <a:lnTo>
                  <a:pt x="1747" y="397"/>
                </a:lnTo>
                <a:lnTo>
                  <a:pt x="1761" y="385"/>
                </a:lnTo>
                <a:lnTo>
                  <a:pt x="1776" y="373"/>
                </a:lnTo>
                <a:lnTo>
                  <a:pt x="1791" y="362"/>
                </a:lnTo>
                <a:lnTo>
                  <a:pt x="1807" y="352"/>
                </a:lnTo>
                <a:lnTo>
                  <a:pt x="1822" y="341"/>
                </a:lnTo>
                <a:lnTo>
                  <a:pt x="1836" y="330"/>
                </a:lnTo>
                <a:lnTo>
                  <a:pt x="1853" y="319"/>
                </a:lnTo>
                <a:lnTo>
                  <a:pt x="1867" y="310"/>
                </a:lnTo>
                <a:lnTo>
                  <a:pt x="1882" y="298"/>
                </a:lnTo>
                <a:lnTo>
                  <a:pt x="1898" y="287"/>
                </a:lnTo>
                <a:lnTo>
                  <a:pt x="1913" y="276"/>
                </a:lnTo>
                <a:lnTo>
                  <a:pt x="1926" y="263"/>
                </a:lnTo>
                <a:lnTo>
                  <a:pt x="1941" y="251"/>
                </a:lnTo>
                <a:lnTo>
                  <a:pt x="1958" y="244"/>
                </a:lnTo>
                <a:lnTo>
                  <a:pt x="1960" y="259"/>
                </a:lnTo>
                <a:lnTo>
                  <a:pt x="1962" y="271"/>
                </a:lnTo>
                <a:lnTo>
                  <a:pt x="1965" y="283"/>
                </a:lnTo>
                <a:lnTo>
                  <a:pt x="1965" y="298"/>
                </a:lnTo>
                <a:lnTo>
                  <a:pt x="1961" y="347"/>
                </a:lnTo>
                <a:lnTo>
                  <a:pt x="1958" y="353"/>
                </a:lnTo>
                <a:lnTo>
                  <a:pt x="1957" y="360"/>
                </a:lnTo>
                <a:lnTo>
                  <a:pt x="1956" y="368"/>
                </a:lnTo>
                <a:lnTo>
                  <a:pt x="1953" y="373"/>
                </a:lnTo>
                <a:lnTo>
                  <a:pt x="1948" y="392"/>
                </a:lnTo>
                <a:lnTo>
                  <a:pt x="1940" y="409"/>
                </a:lnTo>
                <a:lnTo>
                  <a:pt x="1929" y="425"/>
                </a:lnTo>
                <a:lnTo>
                  <a:pt x="1914" y="440"/>
                </a:lnTo>
                <a:lnTo>
                  <a:pt x="1926" y="451"/>
                </a:lnTo>
                <a:lnTo>
                  <a:pt x="1940" y="460"/>
                </a:lnTo>
                <a:lnTo>
                  <a:pt x="1954" y="471"/>
                </a:lnTo>
                <a:lnTo>
                  <a:pt x="1968" y="483"/>
                </a:lnTo>
                <a:lnTo>
                  <a:pt x="1979" y="495"/>
                </a:lnTo>
                <a:lnTo>
                  <a:pt x="1987" y="508"/>
                </a:lnTo>
                <a:lnTo>
                  <a:pt x="1991" y="525"/>
                </a:lnTo>
                <a:lnTo>
                  <a:pt x="1988" y="542"/>
                </a:lnTo>
                <a:lnTo>
                  <a:pt x="1980" y="549"/>
                </a:lnTo>
                <a:lnTo>
                  <a:pt x="1970" y="555"/>
                </a:lnTo>
                <a:lnTo>
                  <a:pt x="1962" y="563"/>
                </a:lnTo>
                <a:lnTo>
                  <a:pt x="1954" y="570"/>
                </a:lnTo>
                <a:lnTo>
                  <a:pt x="1946" y="577"/>
                </a:lnTo>
                <a:lnTo>
                  <a:pt x="1937" y="582"/>
                </a:lnTo>
                <a:lnTo>
                  <a:pt x="1929" y="589"/>
                </a:lnTo>
                <a:lnTo>
                  <a:pt x="1920" y="594"/>
                </a:lnTo>
                <a:lnTo>
                  <a:pt x="1918" y="600"/>
                </a:lnTo>
                <a:lnTo>
                  <a:pt x="1922" y="602"/>
                </a:lnTo>
                <a:lnTo>
                  <a:pt x="1929" y="605"/>
                </a:lnTo>
                <a:lnTo>
                  <a:pt x="1933" y="608"/>
                </a:lnTo>
                <a:lnTo>
                  <a:pt x="1945" y="617"/>
                </a:lnTo>
                <a:lnTo>
                  <a:pt x="1953" y="629"/>
                </a:lnTo>
                <a:lnTo>
                  <a:pt x="1957" y="644"/>
                </a:lnTo>
                <a:lnTo>
                  <a:pt x="1953" y="660"/>
                </a:lnTo>
                <a:lnTo>
                  <a:pt x="1942" y="672"/>
                </a:lnTo>
                <a:lnTo>
                  <a:pt x="1933" y="686"/>
                </a:lnTo>
                <a:lnTo>
                  <a:pt x="1925" y="699"/>
                </a:lnTo>
                <a:lnTo>
                  <a:pt x="1917" y="712"/>
                </a:lnTo>
                <a:lnTo>
                  <a:pt x="1916" y="712"/>
                </a:lnTo>
                <a:lnTo>
                  <a:pt x="1914" y="714"/>
                </a:lnTo>
                <a:lnTo>
                  <a:pt x="1913" y="715"/>
                </a:lnTo>
                <a:lnTo>
                  <a:pt x="1912" y="716"/>
                </a:lnTo>
                <a:lnTo>
                  <a:pt x="1918" y="719"/>
                </a:lnTo>
                <a:lnTo>
                  <a:pt x="1924" y="723"/>
                </a:lnTo>
                <a:lnTo>
                  <a:pt x="1929" y="729"/>
                </a:lnTo>
                <a:lnTo>
                  <a:pt x="1936" y="733"/>
                </a:lnTo>
                <a:lnTo>
                  <a:pt x="1940" y="738"/>
                </a:lnTo>
                <a:lnTo>
                  <a:pt x="1945" y="743"/>
                </a:lnTo>
                <a:lnTo>
                  <a:pt x="1950" y="749"/>
                </a:lnTo>
                <a:lnTo>
                  <a:pt x="1954" y="754"/>
                </a:lnTo>
                <a:lnTo>
                  <a:pt x="1956" y="777"/>
                </a:lnTo>
                <a:lnTo>
                  <a:pt x="1950" y="796"/>
                </a:lnTo>
                <a:lnTo>
                  <a:pt x="1941" y="813"/>
                </a:lnTo>
                <a:lnTo>
                  <a:pt x="1928" y="828"/>
                </a:lnTo>
                <a:lnTo>
                  <a:pt x="1913" y="843"/>
                </a:lnTo>
                <a:lnTo>
                  <a:pt x="1898" y="856"/>
                </a:lnTo>
                <a:lnTo>
                  <a:pt x="1885" y="872"/>
                </a:lnTo>
                <a:lnTo>
                  <a:pt x="1875" y="888"/>
                </a:lnTo>
                <a:lnTo>
                  <a:pt x="1885" y="889"/>
                </a:lnTo>
                <a:lnTo>
                  <a:pt x="1895" y="889"/>
                </a:lnTo>
                <a:lnTo>
                  <a:pt x="1906" y="887"/>
                </a:lnTo>
                <a:lnTo>
                  <a:pt x="1914" y="881"/>
                </a:lnTo>
                <a:lnTo>
                  <a:pt x="1924" y="879"/>
                </a:lnTo>
                <a:lnTo>
                  <a:pt x="1933" y="875"/>
                </a:lnTo>
                <a:lnTo>
                  <a:pt x="1942" y="872"/>
                </a:lnTo>
                <a:lnTo>
                  <a:pt x="1953" y="869"/>
                </a:lnTo>
                <a:lnTo>
                  <a:pt x="1945" y="894"/>
                </a:lnTo>
                <a:lnTo>
                  <a:pt x="1936" y="916"/>
                </a:lnTo>
                <a:lnTo>
                  <a:pt x="1925" y="939"/>
                </a:lnTo>
                <a:lnTo>
                  <a:pt x="1913" y="961"/>
                </a:lnTo>
                <a:lnTo>
                  <a:pt x="1898" y="981"/>
                </a:lnTo>
                <a:lnTo>
                  <a:pt x="1881" y="999"/>
                </a:lnTo>
                <a:lnTo>
                  <a:pt x="1862" y="1016"/>
                </a:lnTo>
                <a:lnTo>
                  <a:pt x="1839" y="1029"/>
                </a:lnTo>
                <a:lnTo>
                  <a:pt x="1844" y="1041"/>
                </a:lnTo>
                <a:lnTo>
                  <a:pt x="1850" y="1053"/>
                </a:lnTo>
                <a:lnTo>
                  <a:pt x="1857" y="1064"/>
                </a:lnTo>
                <a:lnTo>
                  <a:pt x="1862" y="1075"/>
                </a:lnTo>
                <a:lnTo>
                  <a:pt x="1867" y="1087"/>
                </a:lnTo>
                <a:lnTo>
                  <a:pt x="1870" y="1099"/>
                </a:lnTo>
                <a:lnTo>
                  <a:pt x="1869" y="1114"/>
                </a:lnTo>
                <a:lnTo>
                  <a:pt x="1865" y="1128"/>
                </a:lnTo>
                <a:lnTo>
                  <a:pt x="1858" y="1146"/>
                </a:lnTo>
                <a:lnTo>
                  <a:pt x="1849" y="1163"/>
                </a:lnTo>
                <a:lnTo>
                  <a:pt x="1839" y="1179"/>
                </a:lnTo>
                <a:lnTo>
                  <a:pt x="1827" y="1195"/>
                </a:lnTo>
                <a:lnTo>
                  <a:pt x="1815" y="1210"/>
                </a:lnTo>
                <a:lnTo>
                  <a:pt x="1800" y="1224"/>
                </a:lnTo>
                <a:lnTo>
                  <a:pt x="1786" y="1236"/>
                </a:lnTo>
                <a:lnTo>
                  <a:pt x="1768" y="1245"/>
                </a:lnTo>
                <a:lnTo>
                  <a:pt x="1756" y="1257"/>
                </a:lnTo>
                <a:lnTo>
                  <a:pt x="1769" y="1266"/>
                </a:lnTo>
                <a:lnTo>
                  <a:pt x="1781" y="1277"/>
                </a:lnTo>
                <a:lnTo>
                  <a:pt x="1791" y="1291"/>
                </a:lnTo>
                <a:lnTo>
                  <a:pt x="1799" y="1304"/>
                </a:lnTo>
                <a:lnTo>
                  <a:pt x="1804" y="1319"/>
                </a:lnTo>
                <a:lnTo>
                  <a:pt x="1807" y="1335"/>
                </a:lnTo>
                <a:lnTo>
                  <a:pt x="1807" y="1352"/>
                </a:lnTo>
                <a:lnTo>
                  <a:pt x="1804" y="1371"/>
                </a:lnTo>
                <a:lnTo>
                  <a:pt x="1802" y="1378"/>
                </a:lnTo>
                <a:lnTo>
                  <a:pt x="1800" y="1386"/>
                </a:lnTo>
                <a:lnTo>
                  <a:pt x="1799" y="1395"/>
                </a:lnTo>
                <a:lnTo>
                  <a:pt x="1796" y="1403"/>
                </a:lnTo>
                <a:lnTo>
                  <a:pt x="1792" y="1415"/>
                </a:lnTo>
                <a:lnTo>
                  <a:pt x="1786" y="1426"/>
                </a:lnTo>
                <a:lnTo>
                  <a:pt x="1779" y="1437"/>
                </a:lnTo>
                <a:lnTo>
                  <a:pt x="1771" y="1448"/>
                </a:lnTo>
                <a:lnTo>
                  <a:pt x="1761" y="1457"/>
                </a:lnTo>
                <a:lnTo>
                  <a:pt x="1752" y="1466"/>
                </a:lnTo>
                <a:lnTo>
                  <a:pt x="1741" y="1474"/>
                </a:lnTo>
                <a:lnTo>
                  <a:pt x="1731" y="1481"/>
                </a:lnTo>
                <a:lnTo>
                  <a:pt x="1729" y="1462"/>
                </a:lnTo>
                <a:lnTo>
                  <a:pt x="1728" y="1445"/>
                </a:lnTo>
                <a:lnTo>
                  <a:pt x="1723" y="1429"/>
                </a:lnTo>
                <a:lnTo>
                  <a:pt x="1712" y="1414"/>
                </a:lnTo>
                <a:lnTo>
                  <a:pt x="1710" y="1501"/>
                </a:lnTo>
                <a:lnTo>
                  <a:pt x="1709" y="1501"/>
                </a:lnTo>
                <a:lnTo>
                  <a:pt x="1705" y="1524"/>
                </a:lnTo>
                <a:lnTo>
                  <a:pt x="1698" y="1546"/>
                </a:lnTo>
                <a:lnTo>
                  <a:pt x="1692" y="1566"/>
                </a:lnTo>
                <a:lnTo>
                  <a:pt x="1684" y="1586"/>
                </a:lnTo>
                <a:lnTo>
                  <a:pt x="1681" y="1583"/>
                </a:lnTo>
                <a:lnTo>
                  <a:pt x="1680" y="1580"/>
                </a:lnTo>
                <a:lnTo>
                  <a:pt x="1680" y="1576"/>
                </a:lnTo>
                <a:lnTo>
                  <a:pt x="1678" y="1572"/>
                </a:lnTo>
                <a:lnTo>
                  <a:pt x="1673" y="1563"/>
                </a:lnTo>
                <a:lnTo>
                  <a:pt x="1668" y="1555"/>
                </a:lnTo>
                <a:lnTo>
                  <a:pt x="1661" y="1547"/>
                </a:lnTo>
                <a:lnTo>
                  <a:pt x="1653" y="1539"/>
                </a:lnTo>
                <a:lnTo>
                  <a:pt x="1650" y="1594"/>
                </a:lnTo>
                <a:lnTo>
                  <a:pt x="1649" y="1594"/>
                </a:lnTo>
                <a:lnTo>
                  <a:pt x="1641" y="1642"/>
                </a:lnTo>
                <a:lnTo>
                  <a:pt x="1638" y="1647"/>
                </a:lnTo>
                <a:lnTo>
                  <a:pt x="1637" y="1653"/>
                </a:lnTo>
                <a:lnTo>
                  <a:pt x="1634" y="1660"/>
                </a:lnTo>
                <a:lnTo>
                  <a:pt x="1633" y="1666"/>
                </a:lnTo>
                <a:lnTo>
                  <a:pt x="1623" y="1690"/>
                </a:lnTo>
                <a:lnTo>
                  <a:pt x="1611" y="1712"/>
                </a:lnTo>
                <a:lnTo>
                  <a:pt x="1598" y="1733"/>
                </a:lnTo>
                <a:lnTo>
                  <a:pt x="1580" y="1752"/>
                </a:lnTo>
                <a:lnTo>
                  <a:pt x="1562" y="1768"/>
                </a:lnTo>
                <a:lnTo>
                  <a:pt x="1540" y="1782"/>
                </a:lnTo>
                <a:lnTo>
                  <a:pt x="1517" y="1794"/>
                </a:lnTo>
                <a:lnTo>
                  <a:pt x="1493" y="1802"/>
                </a:lnTo>
                <a:lnTo>
                  <a:pt x="1488" y="1806"/>
                </a:lnTo>
                <a:lnTo>
                  <a:pt x="1481" y="1808"/>
                </a:lnTo>
                <a:lnTo>
                  <a:pt x="1475" y="1810"/>
                </a:lnTo>
                <a:lnTo>
                  <a:pt x="1468" y="1811"/>
                </a:lnTo>
                <a:lnTo>
                  <a:pt x="1466" y="1831"/>
                </a:lnTo>
                <a:lnTo>
                  <a:pt x="1465" y="1853"/>
                </a:lnTo>
                <a:lnTo>
                  <a:pt x="1462" y="1873"/>
                </a:lnTo>
                <a:lnTo>
                  <a:pt x="1457" y="1890"/>
                </a:lnTo>
                <a:lnTo>
                  <a:pt x="1456" y="1900"/>
                </a:lnTo>
                <a:lnTo>
                  <a:pt x="1450" y="1908"/>
                </a:lnTo>
                <a:lnTo>
                  <a:pt x="1444" y="1914"/>
                </a:lnTo>
                <a:lnTo>
                  <a:pt x="1438" y="1921"/>
                </a:lnTo>
                <a:lnTo>
                  <a:pt x="1440" y="1939"/>
                </a:lnTo>
                <a:lnTo>
                  <a:pt x="1438" y="1955"/>
                </a:lnTo>
                <a:lnTo>
                  <a:pt x="1433" y="1969"/>
                </a:lnTo>
                <a:lnTo>
                  <a:pt x="1428" y="1983"/>
                </a:lnTo>
                <a:lnTo>
                  <a:pt x="1418" y="1995"/>
                </a:lnTo>
                <a:lnTo>
                  <a:pt x="1409" y="2007"/>
                </a:lnTo>
                <a:lnTo>
                  <a:pt x="1397" y="2016"/>
                </a:lnTo>
                <a:lnTo>
                  <a:pt x="1385" y="2026"/>
                </a:lnTo>
                <a:lnTo>
                  <a:pt x="1381" y="2028"/>
                </a:lnTo>
                <a:lnTo>
                  <a:pt x="1378" y="2030"/>
                </a:lnTo>
                <a:lnTo>
                  <a:pt x="1374" y="2033"/>
                </a:lnTo>
                <a:lnTo>
                  <a:pt x="1371" y="2037"/>
                </a:lnTo>
                <a:lnTo>
                  <a:pt x="1371" y="2073"/>
                </a:lnTo>
                <a:lnTo>
                  <a:pt x="1371" y="2108"/>
                </a:lnTo>
                <a:lnTo>
                  <a:pt x="1370" y="2143"/>
                </a:lnTo>
                <a:lnTo>
                  <a:pt x="1369" y="2177"/>
                </a:lnTo>
                <a:lnTo>
                  <a:pt x="1312" y="2177"/>
                </a:lnTo>
                <a:lnTo>
                  <a:pt x="1314" y="2028"/>
                </a:lnTo>
                <a:lnTo>
                  <a:pt x="1316" y="2028"/>
                </a:lnTo>
                <a:lnTo>
                  <a:pt x="1322" y="2003"/>
                </a:lnTo>
                <a:lnTo>
                  <a:pt x="1318" y="1982"/>
                </a:lnTo>
                <a:lnTo>
                  <a:pt x="1307" y="1963"/>
                </a:lnTo>
                <a:lnTo>
                  <a:pt x="1291" y="1947"/>
                </a:lnTo>
                <a:lnTo>
                  <a:pt x="1273" y="1933"/>
                </a:lnTo>
                <a:lnTo>
                  <a:pt x="1255" y="1918"/>
                </a:lnTo>
                <a:lnTo>
                  <a:pt x="1237" y="1904"/>
                </a:lnTo>
                <a:lnTo>
                  <a:pt x="1224" y="1886"/>
                </a:lnTo>
                <a:lnTo>
                  <a:pt x="1213" y="1894"/>
                </a:lnTo>
                <a:lnTo>
                  <a:pt x="1205" y="1904"/>
                </a:lnTo>
                <a:lnTo>
                  <a:pt x="1197" y="1916"/>
                </a:lnTo>
                <a:lnTo>
                  <a:pt x="1189" y="1927"/>
                </a:lnTo>
                <a:lnTo>
                  <a:pt x="1177" y="1936"/>
                </a:lnTo>
                <a:lnTo>
                  <a:pt x="1164" y="1945"/>
                </a:lnTo>
                <a:lnTo>
                  <a:pt x="1150" y="1955"/>
                </a:lnTo>
                <a:lnTo>
                  <a:pt x="1137" y="1965"/>
                </a:lnTo>
                <a:lnTo>
                  <a:pt x="1125" y="1976"/>
                </a:lnTo>
                <a:lnTo>
                  <a:pt x="1115" y="1990"/>
                </a:lnTo>
                <a:lnTo>
                  <a:pt x="1110" y="2004"/>
                </a:lnTo>
                <a:lnTo>
                  <a:pt x="1110" y="2023"/>
                </a:lnTo>
                <a:lnTo>
                  <a:pt x="1107" y="2023"/>
                </a:lnTo>
                <a:lnTo>
                  <a:pt x="1103" y="2050"/>
                </a:lnTo>
                <a:lnTo>
                  <a:pt x="1099" y="2075"/>
                </a:lnTo>
                <a:lnTo>
                  <a:pt x="1095" y="2101"/>
                </a:lnTo>
                <a:lnTo>
                  <a:pt x="1092" y="2128"/>
                </a:lnTo>
                <a:lnTo>
                  <a:pt x="1091" y="2128"/>
                </a:lnTo>
                <a:lnTo>
                  <a:pt x="1083" y="2161"/>
                </a:lnTo>
                <a:lnTo>
                  <a:pt x="1075" y="2194"/>
                </a:lnTo>
                <a:lnTo>
                  <a:pt x="1066" y="2224"/>
                </a:lnTo>
                <a:lnTo>
                  <a:pt x="1055" y="2255"/>
                </a:lnTo>
                <a:lnTo>
                  <a:pt x="1062" y="2262"/>
                </a:lnTo>
                <a:lnTo>
                  <a:pt x="1068" y="2269"/>
                </a:lnTo>
                <a:lnTo>
                  <a:pt x="1075" y="2273"/>
                </a:lnTo>
                <a:lnTo>
                  <a:pt x="1083" y="2278"/>
                </a:lnTo>
                <a:lnTo>
                  <a:pt x="1091" y="2283"/>
                </a:lnTo>
                <a:lnTo>
                  <a:pt x="1098" y="2289"/>
                </a:lnTo>
                <a:lnTo>
                  <a:pt x="1105" y="2295"/>
                </a:lnTo>
                <a:lnTo>
                  <a:pt x="1111" y="2304"/>
                </a:lnTo>
                <a:lnTo>
                  <a:pt x="1151" y="2361"/>
                </a:lnTo>
                <a:lnTo>
                  <a:pt x="1166" y="2360"/>
                </a:lnTo>
                <a:lnTo>
                  <a:pt x="1181" y="2360"/>
                </a:lnTo>
                <a:lnTo>
                  <a:pt x="1197" y="2359"/>
                </a:lnTo>
                <a:lnTo>
                  <a:pt x="1212" y="2356"/>
                </a:lnTo>
                <a:lnTo>
                  <a:pt x="1227" y="2353"/>
                </a:lnTo>
                <a:lnTo>
                  <a:pt x="1241" y="2350"/>
                </a:lnTo>
                <a:lnTo>
                  <a:pt x="1255" y="2345"/>
                </a:lnTo>
                <a:lnTo>
                  <a:pt x="1267" y="2338"/>
                </a:lnTo>
                <a:lnTo>
                  <a:pt x="1271" y="2334"/>
                </a:lnTo>
                <a:lnTo>
                  <a:pt x="1276" y="2332"/>
                </a:lnTo>
                <a:lnTo>
                  <a:pt x="1280" y="2328"/>
                </a:lnTo>
                <a:lnTo>
                  <a:pt x="1286" y="2325"/>
                </a:lnTo>
                <a:lnTo>
                  <a:pt x="1291" y="2321"/>
                </a:lnTo>
                <a:lnTo>
                  <a:pt x="1296" y="2320"/>
                </a:lnTo>
                <a:lnTo>
                  <a:pt x="1302" y="2317"/>
                </a:lnTo>
                <a:lnTo>
                  <a:pt x="1308" y="2316"/>
                </a:lnTo>
                <a:lnTo>
                  <a:pt x="1312" y="2283"/>
                </a:lnTo>
                <a:lnTo>
                  <a:pt x="1314" y="2247"/>
                </a:lnTo>
                <a:lnTo>
                  <a:pt x="1312" y="2211"/>
                </a:lnTo>
                <a:lnTo>
                  <a:pt x="1312" y="2177"/>
                </a:lnTo>
                <a:lnTo>
                  <a:pt x="1369" y="2177"/>
                </a:lnTo>
                <a:lnTo>
                  <a:pt x="1373" y="2202"/>
                </a:lnTo>
                <a:lnTo>
                  <a:pt x="1366" y="2204"/>
                </a:lnTo>
                <a:lnTo>
                  <a:pt x="1361" y="2318"/>
                </a:lnTo>
                <a:lnTo>
                  <a:pt x="1367" y="2324"/>
                </a:lnTo>
                <a:lnTo>
                  <a:pt x="1375" y="2326"/>
                </a:lnTo>
                <a:lnTo>
                  <a:pt x="1383" y="2328"/>
                </a:lnTo>
                <a:lnTo>
                  <a:pt x="1390" y="2330"/>
                </a:lnTo>
                <a:lnTo>
                  <a:pt x="1402" y="2333"/>
                </a:lnTo>
                <a:lnTo>
                  <a:pt x="1413" y="2334"/>
                </a:lnTo>
                <a:lnTo>
                  <a:pt x="1424" y="2337"/>
                </a:lnTo>
                <a:lnTo>
                  <a:pt x="1436" y="2338"/>
                </a:lnTo>
                <a:lnTo>
                  <a:pt x="1446" y="2340"/>
                </a:lnTo>
                <a:lnTo>
                  <a:pt x="1457" y="2342"/>
                </a:lnTo>
                <a:lnTo>
                  <a:pt x="1469" y="2342"/>
                </a:lnTo>
                <a:lnTo>
                  <a:pt x="1481" y="2344"/>
                </a:lnTo>
                <a:lnTo>
                  <a:pt x="1489" y="2353"/>
                </a:lnTo>
                <a:lnTo>
                  <a:pt x="1499" y="2363"/>
                </a:lnTo>
                <a:lnTo>
                  <a:pt x="1507" y="2371"/>
                </a:lnTo>
                <a:lnTo>
                  <a:pt x="1516" y="2380"/>
                </a:lnTo>
                <a:lnTo>
                  <a:pt x="1524" y="2389"/>
                </a:lnTo>
                <a:lnTo>
                  <a:pt x="1533" y="2397"/>
                </a:lnTo>
                <a:lnTo>
                  <a:pt x="1540" y="2407"/>
                </a:lnTo>
                <a:lnTo>
                  <a:pt x="1548" y="2416"/>
                </a:lnTo>
                <a:lnTo>
                  <a:pt x="1540" y="2418"/>
                </a:lnTo>
                <a:lnTo>
                  <a:pt x="1532" y="2414"/>
                </a:lnTo>
                <a:lnTo>
                  <a:pt x="1524" y="2409"/>
                </a:lnTo>
                <a:lnTo>
                  <a:pt x="1516" y="2407"/>
                </a:lnTo>
                <a:lnTo>
                  <a:pt x="1504" y="2404"/>
                </a:lnTo>
                <a:lnTo>
                  <a:pt x="1493" y="2404"/>
                </a:lnTo>
                <a:lnTo>
                  <a:pt x="1483" y="2405"/>
                </a:lnTo>
                <a:lnTo>
                  <a:pt x="1470" y="2407"/>
                </a:lnTo>
                <a:lnTo>
                  <a:pt x="1460" y="2408"/>
                </a:lnTo>
                <a:lnTo>
                  <a:pt x="1449" y="2409"/>
                </a:lnTo>
                <a:lnTo>
                  <a:pt x="1437" y="2409"/>
                </a:lnTo>
                <a:lnTo>
                  <a:pt x="1425" y="2408"/>
                </a:lnTo>
                <a:lnTo>
                  <a:pt x="1425" y="2407"/>
                </a:lnTo>
                <a:lnTo>
                  <a:pt x="1416" y="2407"/>
                </a:lnTo>
                <a:lnTo>
                  <a:pt x="1406" y="2404"/>
                </a:lnTo>
                <a:lnTo>
                  <a:pt x="1397" y="2403"/>
                </a:lnTo>
                <a:lnTo>
                  <a:pt x="1389" y="2400"/>
                </a:lnTo>
                <a:lnTo>
                  <a:pt x="1381" y="2397"/>
                </a:lnTo>
                <a:lnTo>
                  <a:pt x="1373" y="2395"/>
                </a:lnTo>
                <a:lnTo>
                  <a:pt x="1363" y="2393"/>
                </a:lnTo>
                <a:lnTo>
                  <a:pt x="1354" y="2393"/>
                </a:lnTo>
                <a:lnTo>
                  <a:pt x="1339" y="2419"/>
                </a:lnTo>
                <a:lnTo>
                  <a:pt x="1323" y="2443"/>
                </a:lnTo>
                <a:lnTo>
                  <a:pt x="1304" y="2467"/>
                </a:lnTo>
                <a:lnTo>
                  <a:pt x="1287" y="2491"/>
                </a:lnTo>
                <a:lnTo>
                  <a:pt x="1269" y="2515"/>
                </a:lnTo>
                <a:lnTo>
                  <a:pt x="1255" y="2541"/>
                </a:lnTo>
                <a:lnTo>
                  <a:pt x="1244" y="2569"/>
                </a:lnTo>
                <a:lnTo>
                  <a:pt x="1239" y="2600"/>
                </a:lnTo>
                <a:lnTo>
                  <a:pt x="1235" y="2600"/>
                </a:lnTo>
                <a:lnTo>
                  <a:pt x="1233" y="2587"/>
                </a:lnTo>
                <a:lnTo>
                  <a:pt x="1231" y="2573"/>
                </a:lnTo>
                <a:lnTo>
                  <a:pt x="1228" y="2561"/>
                </a:lnTo>
                <a:lnTo>
                  <a:pt x="1228" y="2548"/>
                </a:lnTo>
                <a:lnTo>
                  <a:pt x="1231" y="2548"/>
                </a:lnTo>
                <a:lnTo>
                  <a:pt x="1235" y="2529"/>
                </a:lnTo>
                <a:lnTo>
                  <a:pt x="1235" y="2509"/>
                </a:lnTo>
                <a:lnTo>
                  <a:pt x="1232" y="2490"/>
                </a:lnTo>
                <a:lnTo>
                  <a:pt x="1228" y="2471"/>
                </a:lnTo>
                <a:lnTo>
                  <a:pt x="1231" y="2466"/>
                </a:lnTo>
                <a:lnTo>
                  <a:pt x="1233" y="2459"/>
                </a:lnTo>
                <a:lnTo>
                  <a:pt x="1235" y="2452"/>
                </a:lnTo>
                <a:lnTo>
                  <a:pt x="1237" y="2446"/>
                </a:lnTo>
                <a:lnTo>
                  <a:pt x="1241" y="2439"/>
                </a:lnTo>
                <a:lnTo>
                  <a:pt x="1243" y="2431"/>
                </a:lnTo>
                <a:lnTo>
                  <a:pt x="1244" y="2422"/>
                </a:lnTo>
                <a:lnTo>
                  <a:pt x="1244" y="2414"/>
                </a:lnTo>
                <a:lnTo>
                  <a:pt x="1237" y="2416"/>
                </a:lnTo>
                <a:lnTo>
                  <a:pt x="1229" y="2419"/>
                </a:lnTo>
                <a:lnTo>
                  <a:pt x="1221" y="2420"/>
                </a:lnTo>
                <a:lnTo>
                  <a:pt x="1213" y="2422"/>
                </a:lnTo>
                <a:lnTo>
                  <a:pt x="1204" y="2422"/>
                </a:lnTo>
                <a:lnTo>
                  <a:pt x="1194" y="2422"/>
                </a:lnTo>
                <a:lnTo>
                  <a:pt x="1185" y="2422"/>
                </a:lnTo>
                <a:lnTo>
                  <a:pt x="1177" y="2422"/>
                </a:lnTo>
                <a:lnTo>
                  <a:pt x="1170" y="2423"/>
                </a:lnTo>
                <a:lnTo>
                  <a:pt x="1164" y="2424"/>
                </a:lnTo>
                <a:lnTo>
                  <a:pt x="1157" y="2426"/>
                </a:lnTo>
                <a:lnTo>
                  <a:pt x="1149" y="2427"/>
                </a:lnTo>
                <a:lnTo>
                  <a:pt x="1142" y="2428"/>
                </a:lnTo>
                <a:lnTo>
                  <a:pt x="1134" y="2430"/>
                </a:lnTo>
                <a:lnTo>
                  <a:pt x="1127" y="2432"/>
                </a:lnTo>
                <a:lnTo>
                  <a:pt x="1122" y="2436"/>
                </a:lnTo>
                <a:lnTo>
                  <a:pt x="1113" y="2439"/>
                </a:lnTo>
                <a:lnTo>
                  <a:pt x="1103" y="2443"/>
                </a:lnTo>
                <a:lnTo>
                  <a:pt x="1095" y="2448"/>
                </a:lnTo>
                <a:lnTo>
                  <a:pt x="1087" y="2454"/>
                </a:lnTo>
                <a:lnTo>
                  <a:pt x="1079" y="2460"/>
                </a:lnTo>
                <a:lnTo>
                  <a:pt x="1072" y="2467"/>
                </a:lnTo>
                <a:lnTo>
                  <a:pt x="1064" y="2474"/>
                </a:lnTo>
                <a:lnTo>
                  <a:pt x="1056" y="2479"/>
                </a:lnTo>
                <a:lnTo>
                  <a:pt x="1063" y="2467"/>
                </a:lnTo>
                <a:lnTo>
                  <a:pt x="1075" y="2454"/>
                </a:lnTo>
                <a:lnTo>
                  <a:pt x="1086" y="2438"/>
                </a:lnTo>
                <a:lnTo>
                  <a:pt x="1091" y="2420"/>
                </a:lnTo>
                <a:lnTo>
                  <a:pt x="1095" y="2412"/>
                </a:lnTo>
                <a:lnTo>
                  <a:pt x="1102" y="2405"/>
                </a:lnTo>
                <a:lnTo>
                  <a:pt x="1109" y="2397"/>
                </a:lnTo>
                <a:lnTo>
                  <a:pt x="1114" y="2389"/>
                </a:lnTo>
                <a:lnTo>
                  <a:pt x="1119" y="2383"/>
                </a:lnTo>
                <a:lnTo>
                  <a:pt x="1121" y="2373"/>
                </a:lnTo>
                <a:lnTo>
                  <a:pt x="1118" y="2365"/>
                </a:lnTo>
                <a:lnTo>
                  <a:pt x="1111" y="2356"/>
                </a:lnTo>
                <a:lnTo>
                  <a:pt x="1102" y="2350"/>
                </a:lnTo>
                <a:lnTo>
                  <a:pt x="1092" y="2345"/>
                </a:lnTo>
                <a:lnTo>
                  <a:pt x="1083" y="2340"/>
                </a:lnTo>
                <a:lnTo>
                  <a:pt x="1072" y="2336"/>
                </a:lnTo>
                <a:lnTo>
                  <a:pt x="1062" y="2333"/>
                </a:lnTo>
                <a:lnTo>
                  <a:pt x="1052" y="2330"/>
                </a:lnTo>
                <a:lnTo>
                  <a:pt x="1042" y="2328"/>
                </a:lnTo>
                <a:lnTo>
                  <a:pt x="1031" y="2326"/>
                </a:lnTo>
                <a:lnTo>
                  <a:pt x="1017" y="2340"/>
                </a:lnTo>
                <a:lnTo>
                  <a:pt x="1003" y="2349"/>
                </a:lnTo>
                <a:lnTo>
                  <a:pt x="987" y="2354"/>
                </a:lnTo>
                <a:lnTo>
                  <a:pt x="968" y="2359"/>
                </a:lnTo>
                <a:lnTo>
                  <a:pt x="949" y="2361"/>
                </a:lnTo>
                <a:lnTo>
                  <a:pt x="930" y="2364"/>
                </a:lnTo>
                <a:lnTo>
                  <a:pt x="912" y="2367"/>
                </a:lnTo>
                <a:lnTo>
                  <a:pt x="893" y="2371"/>
                </a:lnTo>
                <a:lnTo>
                  <a:pt x="885" y="2376"/>
                </a:lnTo>
                <a:lnTo>
                  <a:pt x="874" y="2380"/>
                </a:lnTo>
                <a:lnTo>
                  <a:pt x="865" y="2384"/>
                </a:lnTo>
                <a:lnTo>
                  <a:pt x="854" y="2387"/>
                </a:lnTo>
                <a:lnTo>
                  <a:pt x="844" y="2392"/>
                </a:lnTo>
                <a:lnTo>
                  <a:pt x="835" y="2399"/>
                </a:lnTo>
                <a:lnTo>
                  <a:pt x="828" y="2405"/>
                </a:lnTo>
                <a:lnTo>
                  <a:pt x="823" y="2416"/>
                </a:lnTo>
                <a:lnTo>
                  <a:pt x="814" y="2422"/>
                </a:lnTo>
                <a:lnTo>
                  <a:pt x="804" y="2426"/>
                </a:lnTo>
                <a:lnTo>
                  <a:pt x="795" y="2430"/>
                </a:lnTo>
                <a:lnTo>
                  <a:pt x="786" y="2435"/>
                </a:lnTo>
                <a:lnTo>
                  <a:pt x="777" y="2440"/>
                </a:lnTo>
                <a:lnTo>
                  <a:pt x="769" y="2447"/>
                </a:lnTo>
                <a:lnTo>
                  <a:pt x="764" y="2455"/>
                </a:lnTo>
                <a:lnTo>
                  <a:pt x="761" y="2465"/>
                </a:lnTo>
                <a:lnTo>
                  <a:pt x="760" y="2474"/>
                </a:lnTo>
                <a:lnTo>
                  <a:pt x="759" y="2483"/>
                </a:lnTo>
                <a:lnTo>
                  <a:pt x="756" y="2490"/>
                </a:lnTo>
                <a:lnTo>
                  <a:pt x="753" y="2494"/>
                </a:lnTo>
                <a:lnTo>
                  <a:pt x="751" y="2385"/>
                </a:lnTo>
                <a:lnTo>
                  <a:pt x="737" y="2384"/>
                </a:lnTo>
                <a:lnTo>
                  <a:pt x="724" y="2387"/>
                </a:lnTo>
                <a:lnTo>
                  <a:pt x="712" y="2389"/>
                </a:lnTo>
                <a:lnTo>
                  <a:pt x="701" y="2395"/>
                </a:lnTo>
                <a:lnTo>
                  <a:pt x="689" y="2400"/>
                </a:lnTo>
                <a:lnTo>
                  <a:pt x="680" y="2407"/>
                </a:lnTo>
                <a:lnTo>
                  <a:pt x="669" y="2415"/>
                </a:lnTo>
                <a:lnTo>
                  <a:pt x="658" y="2422"/>
                </a:lnTo>
                <a:lnTo>
                  <a:pt x="673" y="2404"/>
                </a:lnTo>
                <a:lnTo>
                  <a:pt x="688" y="2384"/>
                </a:lnTo>
                <a:lnTo>
                  <a:pt x="704" y="2365"/>
                </a:lnTo>
                <a:lnTo>
                  <a:pt x="721" y="2348"/>
                </a:lnTo>
                <a:lnTo>
                  <a:pt x="740" y="2333"/>
                </a:lnTo>
                <a:lnTo>
                  <a:pt x="761" y="2322"/>
                </a:lnTo>
                <a:lnTo>
                  <a:pt x="786" y="2316"/>
                </a:lnTo>
                <a:lnTo>
                  <a:pt x="812" y="2316"/>
                </a:lnTo>
                <a:lnTo>
                  <a:pt x="824" y="2313"/>
                </a:lnTo>
                <a:lnTo>
                  <a:pt x="836" y="2312"/>
                </a:lnTo>
                <a:lnTo>
                  <a:pt x="850" y="2310"/>
                </a:lnTo>
                <a:lnTo>
                  <a:pt x="863" y="2309"/>
                </a:lnTo>
                <a:lnTo>
                  <a:pt x="875" y="2308"/>
                </a:lnTo>
                <a:lnTo>
                  <a:pt x="887" y="2305"/>
                </a:lnTo>
                <a:lnTo>
                  <a:pt x="899" y="2301"/>
                </a:lnTo>
                <a:lnTo>
                  <a:pt x="909" y="2295"/>
                </a:lnTo>
                <a:lnTo>
                  <a:pt x="920" y="2289"/>
                </a:lnTo>
                <a:lnTo>
                  <a:pt x="929" y="2282"/>
                </a:lnTo>
                <a:lnTo>
                  <a:pt x="940" y="2275"/>
                </a:lnTo>
                <a:lnTo>
                  <a:pt x="952" y="2270"/>
                </a:lnTo>
                <a:lnTo>
                  <a:pt x="962" y="2266"/>
                </a:lnTo>
                <a:lnTo>
                  <a:pt x="975" y="2261"/>
                </a:lnTo>
                <a:lnTo>
                  <a:pt x="987" y="2258"/>
                </a:lnTo>
                <a:lnTo>
                  <a:pt x="999" y="2255"/>
                </a:lnTo>
                <a:lnTo>
                  <a:pt x="1005" y="2230"/>
                </a:lnTo>
                <a:lnTo>
                  <a:pt x="1012" y="2204"/>
                </a:lnTo>
                <a:lnTo>
                  <a:pt x="1019" y="2177"/>
                </a:lnTo>
                <a:lnTo>
                  <a:pt x="1025" y="2152"/>
                </a:lnTo>
                <a:lnTo>
                  <a:pt x="1032" y="2125"/>
                </a:lnTo>
                <a:lnTo>
                  <a:pt x="1038" y="2100"/>
                </a:lnTo>
                <a:lnTo>
                  <a:pt x="1043" y="2071"/>
                </a:lnTo>
                <a:lnTo>
                  <a:pt x="1048" y="2045"/>
                </a:lnTo>
                <a:lnTo>
                  <a:pt x="1050" y="2045"/>
                </a:lnTo>
                <a:lnTo>
                  <a:pt x="1054" y="2026"/>
                </a:lnTo>
                <a:lnTo>
                  <a:pt x="1058" y="2007"/>
                </a:lnTo>
                <a:lnTo>
                  <a:pt x="1060" y="1988"/>
                </a:lnTo>
                <a:lnTo>
                  <a:pt x="1063" y="1968"/>
                </a:lnTo>
                <a:lnTo>
                  <a:pt x="1035" y="1959"/>
                </a:lnTo>
                <a:lnTo>
                  <a:pt x="1011" y="1945"/>
                </a:lnTo>
                <a:lnTo>
                  <a:pt x="989" y="1928"/>
                </a:lnTo>
                <a:lnTo>
                  <a:pt x="969" y="1906"/>
                </a:lnTo>
                <a:lnTo>
                  <a:pt x="953" y="1884"/>
                </a:lnTo>
                <a:lnTo>
                  <a:pt x="938" y="1858"/>
                </a:lnTo>
                <a:lnTo>
                  <a:pt x="926" y="1833"/>
                </a:lnTo>
                <a:lnTo>
                  <a:pt x="916" y="1808"/>
                </a:lnTo>
                <a:lnTo>
                  <a:pt x="909" y="1806"/>
                </a:lnTo>
                <a:lnTo>
                  <a:pt x="902" y="1803"/>
                </a:lnTo>
                <a:lnTo>
                  <a:pt x="894" y="1802"/>
                </a:lnTo>
                <a:lnTo>
                  <a:pt x="887" y="1802"/>
                </a:lnTo>
                <a:lnTo>
                  <a:pt x="879" y="1800"/>
                </a:lnTo>
                <a:lnTo>
                  <a:pt x="871" y="1800"/>
                </a:lnTo>
                <a:lnTo>
                  <a:pt x="863" y="1799"/>
                </a:lnTo>
                <a:lnTo>
                  <a:pt x="857" y="1796"/>
                </a:lnTo>
                <a:lnTo>
                  <a:pt x="851" y="1794"/>
                </a:lnTo>
                <a:lnTo>
                  <a:pt x="846" y="1792"/>
                </a:lnTo>
                <a:lnTo>
                  <a:pt x="839" y="1791"/>
                </a:lnTo>
                <a:lnTo>
                  <a:pt x="832" y="1788"/>
                </a:lnTo>
                <a:lnTo>
                  <a:pt x="815" y="1783"/>
                </a:lnTo>
                <a:lnTo>
                  <a:pt x="798" y="1776"/>
                </a:lnTo>
                <a:lnTo>
                  <a:pt x="780" y="1768"/>
                </a:lnTo>
                <a:lnTo>
                  <a:pt x="764" y="1760"/>
                </a:lnTo>
                <a:lnTo>
                  <a:pt x="748" y="1751"/>
                </a:lnTo>
                <a:lnTo>
                  <a:pt x="733" y="1740"/>
                </a:lnTo>
                <a:lnTo>
                  <a:pt x="718" y="1728"/>
                </a:lnTo>
                <a:lnTo>
                  <a:pt x="705" y="1715"/>
                </a:lnTo>
                <a:lnTo>
                  <a:pt x="677" y="1712"/>
                </a:lnTo>
                <a:lnTo>
                  <a:pt x="651" y="1705"/>
                </a:lnTo>
                <a:lnTo>
                  <a:pt x="626" y="1696"/>
                </a:lnTo>
                <a:lnTo>
                  <a:pt x="603" y="1685"/>
                </a:lnTo>
                <a:lnTo>
                  <a:pt x="580" y="1670"/>
                </a:lnTo>
                <a:lnTo>
                  <a:pt x="559" y="1656"/>
                </a:lnTo>
                <a:lnTo>
                  <a:pt x="539" y="1637"/>
                </a:lnTo>
                <a:lnTo>
                  <a:pt x="520" y="1618"/>
                </a:lnTo>
                <a:lnTo>
                  <a:pt x="503" y="1598"/>
                </a:lnTo>
                <a:lnTo>
                  <a:pt x="487" y="1576"/>
                </a:lnTo>
                <a:lnTo>
                  <a:pt x="472" y="1554"/>
                </a:lnTo>
                <a:lnTo>
                  <a:pt x="458" y="1529"/>
                </a:lnTo>
                <a:lnTo>
                  <a:pt x="446" y="1507"/>
                </a:lnTo>
                <a:lnTo>
                  <a:pt x="436" y="1482"/>
                </a:lnTo>
                <a:lnTo>
                  <a:pt x="425" y="1458"/>
                </a:lnTo>
                <a:lnTo>
                  <a:pt x="417" y="1434"/>
                </a:lnTo>
                <a:lnTo>
                  <a:pt x="410" y="1414"/>
                </a:lnTo>
                <a:lnTo>
                  <a:pt x="405" y="1394"/>
                </a:lnTo>
                <a:lnTo>
                  <a:pt x="399" y="1374"/>
                </a:lnTo>
                <a:lnTo>
                  <a:pt x="394" y="1352"/>
                </a:lnTo>
                <a:lnTo>
                  <a:pt x="391" y="1332"/>
                </a:lnTo>
                <a:lnTo>
                  <a:pt x="391" y="1311"/>
                </a:lnTo>
                <a:lnTo>
                  <a:pt x="393" y="1291"/>
                </a:lnTo>
                <a:lnTo>
                  <a:pt x="395" y="1269"/>
                </a:lnTo>
                <a:lnTo>
                  <a:pt x="397" y="1249"/>
                </a:lnTo>
                <a:lnTo>
                  <a:pt x="394" y="1229"/>
                </a:lnTo>
                <a:lnTo>
                  <a:pt x="387" y="1211"/>
                </a:lnTo>
                <a:lnTo>
                  <a:pt x="374" y="1197"/>
                </a:lnTo>
                <a:lnTo>
                  <a:pt x="357" y="1165"/>
                </a:lnTo>
                <a:lnTo>
                  <a:pt x="346" y="1127"/>
                </a:lnTo>
                <a:lnTo>
                  <a:pt x="342" y="1087"/>
                </a:lnTo>
                <a:lnTo>
                  <a:pt x="345" y="1045"/>
                </a:lnTo>
                <a:lnTo>
                  <a:pt x="346" y="1045"/>
                </a:lnTo>
                <a:lnTo>
                  <a:pt x="351" y="1006"/>
                </a:lnTo>
                <a:lnTo>
                  <a:pt x="358" y="967"/>
                </a:lnTo>
                <a:lnTo>
                  <a:pt x="359" y="930"/>
                </a:lnTo>
                <a:lnTo>
                  <a:pt x="349" y="894"/>
                </a:lnTo>
                <a:lnTo>
                  <a:pt x="339" y="872"/>
                </a:lnTo>
                <a:lnTo>
                  <a:pt x="330" y="851"/>
                </a:lnTo>
                <a:lnTo>
                  <a:pt x="324" y="828"/>
                </a:lnTo>
                <a:lnTo>
                  <a:pt x="327" y="801"/>
                </a:lnTo>
                <a:lnTo>
                  <a:pt x="328" y="801"/>
                </a:lnTo>
                <a:lnTo>
                  <a:pt x="326" y="754"/>
                </a:lnTo>
                <a:lnTo>
                  <a:pt x="315" y="710"/>
                </a:lnTo>
                <a:lnTo>
                  <a:pt x="307" y="665"/>
                </a:lnTo>
                <a:lnTo>
                  <a:pt x="310" y="614"/>
                </a:lnTo>
                <a:lnTo>
                  <a:pt x="311" y="614"/>
                </a:lnTo>
                <a:lnTo>
                  <a:pt x="316" y="584"/>
                </a:lnTo>
                <a:lnTo>
                  <a:pt x="316" y="551"/>
                </a:lnTo>
                <a:lnTo>
                  <a:pt x="312" y="522"/>
                </a:lnTo>
                <a:lnTo>
                  <a:pt x="306" y="492"/>
                </a:lnTo>
                <a:lnTo>
                  <a:pt x="300" y="486"/>
                </a:lnTo>
                <a:lnTo>
                  <a:pt x="298" y="476"/>
                </a:lnTo>
                <a:lnTo>
                  <a:pt x="294" y="470"/>
                </a:lnTo>
                <a:lnTo>
                  <a:pt x="286" y="468"/>
                </a:lnTo>
                <a:lnTo>
                  <a:pt x="279" y="468"/>
                </a:lnTo>
                <a:lnTo>
                  <a:pt x="272" y="467"/>
                </a:lnTo>
                <a:lnTo>
                  <a:pt x="265" y="466"/>
                </a:lnTo>
                <a:lnTo>
                  <a:pt x="260" y="463"/>
                </a:lnTo>
                <a:lnTo>
                  <a:pt x="255" y="460"/>
                </a:lnTo>
                <a:lnTo>
                  <a:pt x="249" y="458"/>
                </a:lnTo>
                <a:lnTo>
                  <a:pt x="244" y="453"/>
                </a:lnTo>
                <a:lnTo>
                  <a:pt x="239" y="451"/>
                </a:lnTo>
                <a:lnTo>
                  <a:pt x="236" y="440"/>
                </a:lnTo>
                <a:lnTo>
                  <a:pt x="231" y="433"/>
                </a:lnTo>
                <a:lnTo>
                  <a:pt x="221" y="431"/>
                </a:lnTo>
                <a:lnTo>
                  <a:pt x="212" y="431"/>
                </a:lnTo>
                <a:lnTo>
                  <a:pt x="202" y="432"/>
                </a:lnTo>
                <a:lnTo>
                  <a:pt x="193" y="431"/>
                </a:lnTo>
                <a:lnTo>
                  <a:pt x="184" y="428"/>
                </a:lnTo>
                <a:lnTo>
                  <a:pt x="177" y="421"/>
                </a:lnTo>
                <a:lnTo>
                  <a:pt x="168" y="398"/>
                </a:lnTo>
                <a:lnTo>
                  <a:pt x="168" y="373"/>
                </a:lnTo>
                <a:lnTo>
                  <a:pt x="173" y="346"/>
                </a:lnTo>
                <a:lnTo>
                  <a:pt x="178" y="323"/>
                </a:lnTo>
                <a:lnTo>
                  <a:pt x="281" y="232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7499160" y="3479760"/>
            <a:ext cx="704520" cy="685800"/>
            <a:chOff x="7499160" y="3479760"/>
            <a:chExt cx="704520" cy="685800"/>
          </a:xfrm>
        </p:grpSpPr>
        <p:sp>
          <p:nvSpPr>
            <p:cNvPr id="301" name=""/>
            <p:cNvSpPr/>
            <p:nvPr/>
          </p:nvSpPr>
          <p:spPr>
            <a:xfrm flipH="1">
              <a:off x="7498800" y="3479760"/>
              <a:ext cx="704520" cy="685800"/>
            </a:xfrm>
            <a:prstGeom prst="leftArrow">
              <a:avLst>
                <a:gd name="adj1" fmla="val 50472"/>
                <a:gd name="adj2" fmla="val 27299"/>
              </a:avLst>
            </a:pr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7537320" y="363852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4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8029440" y="4348080"/>
            <a:ext cx="914400" cy="1171800"/>
            <a:chOff x="8029440" y="4348080"/>
            <a:chExt cx="914400" cy="1171800"/>
          </a:xfrm>
        </p:grpSpPr>
        <p:sp>
          <p:nvSpPr>
            <p:cNvPr id="304" name=""/>
            <p:cNvSpPr/>
            <p:nvPr/>
          </p:nvSpPr>
          <p:spPr>
            <a:xfrm>
              <a:off x="8029440" y="4348080"/>
              <a:ext cx="914400" cy="1171800"/>
            </a:xfrm>
            <a:custGeom>
              <a:avLst/>
              <a:gdLst/>
              <a:ahLst/>
              <a:rect l="l" t="t" r="r" b="b"/>
              <a:pathLst>
                <a:path w="2156" h="2764">
                  <a:moveTo>
                    <a:pt x="0" y="1104"/>
                  </a:moveTo>
                  <a:lnTo>
                    <a:pt x="2" y="1108"/>
                  </a:lnTo>
                  <a:lnTo>
                    <a:pt x="3" y="1111"/>
                  </a:lnTo>
                  <a:lnTo>
                    <a:pt x="6" y="1112"/>
                  </a:lnTo>
                  <a:lnTo>
                    <a:pt x="9" y="1114"/>
                  </a:lnTo>
                  <a:lnTo>
                    <a:pt x="18" y="1115"/>
                  </a:lnTo>
                  <a:lnTo>
                    <a:pt x="21" y="1124"/>
                  </a:lnTo>
                  <a:lnTo>
                    <a:pt x="22" y="1134"/>
                  </a:lnTo>
                  <a:lnTo>
                    <a:pt x="24" y="1143"/>
                  </a:lnTo>
                  <a:lnTo>
                    <a:pt x="33" y="1159"/>
                  </a:lnTo>
                  <a:lnTo>
                    <a:pt x="41" y="1175"/>
                  </a:lnTo>
                  <a:lnTo>
                    <a:pt x="49" y="1193"/>
                  </a:lnTo>
                  <a:lnTo>
                    <a:pt x="53" y="1210"/>
                  </a:lnTo>
                  <a:lnTo>
                    <a:pt x="56" y="1221"/>
                  </a:lnTo>
                  <a:lnTo>
                    <a:pt x="62" y="1231"/>
                  </a:lnTo>
                  <a:lnTo>
                    <a:pt x="66" y="1241"/>
                  </a:lnTo>
                  <a:lnTo>
                    <a:pt x="66" y="1251"/>
                  </a:lnTo>
                  <a:lnTo>
                    <a:pt x="62" y="1256"/>
                  </a:lnTo>
                  <a:lnTo>
                    <a:pt x="56" y="1259"/>
                  </a:lnTo>
                  <a:lnTo>
                    <a:pt x="53" y="1264"/>
                  </a:lnTo>
                  <a:lnTo>
                    <a:pt x="54" y="1270"/>
                  </a:lnTo>
                  <a:lnTo>
                    <a:pt x="59" y="1279"/>
                  </a:lnTo>
                  <a:lnTo>
                    <a:pt x="59" y="1288"/>
                  </a:lnTo>
                  <a:lnTo>
                    <a:pt x="59" y="1297"/>
                  </a:lnTo>
                  <a:lnTo>
                    <a:pt x="62" y="1305"/>
                  </a:lnTo>
                  <a:lnTo>
                    <a:pt x="63" y="1308"/>
                  </a:lnTo>
                  <a:lnTo>
                    <a:pt x="65" y="1311"/>
                  </a:lnTo>
                  <a:lnTo>
                    <a:pt x="65" y="1314"/>
                  </a:lnTo>
                  <a:lnTo>
                    <a:pt x="66" y="1317"/>
                  </a:lnTo>
                  <a:lnTo>
                    <a:pt x="69" y="1330"/>
                  </a:lnTo>
                  <a:lnTo>
                    <a:pt x="72" y="1343"/>
                  </a:lnTo>
                  <a:lnTo>
                    <a:pt x="75" y="1356"/>
                  </a:lnTo>
                  <a:lnTo>
                    <a:pt x="76" y="1370"/>
                  </a:lnTo>
                  <a:lnTo>
                    <a:pt x="82" y="1386"/>
                  </a:lnTo>
                  <a:lnTo>
                    <a:pt x="88" y="1400"/>
                  </a:lnTo>
                  <a:lnTo>
                    <a:pt x="92" y="1416"/>
                  </a:lnTo>
                  <a:lnTo>
                    <a:pt x="95" y="1432"/>
                  </a:lnTo>
                  <a:lnTo>
                    <a:pt x="100" y="1444"/>
                  </a:lnTo>
                  <a:lnTo>
                    <a:pt x="103" y="1456"/>
                  </a:lnTo>
                  <a:lnTo>
                    <a:pt x="106" y="1467"/>
                  </a:lnTo>
                  <a:lnTo>
                    <a:pt x="109" y="1479"/>
                  </a:lnTo>
                  <a:lnTo>
                    <a:pt x="110" y="1484"/>
                  </a:lnTo>
                  <a:lnTo>
                    <a:pt x="111" y="1489"/>
                  </a:lnTo>
                  <a:lnTo>
                    <a:pt x="111" y="1497"/>
                  </a:lnTo>
                  <a:lnTo>
                    <a:pt x="113" y="1501"/>
                  </a:lnTo>
                  <a:lnTo>
                    <a:pt x="119" y="1513"/>
                  </a:lnTo>
                  <a:lnTo>
                    <a:pt x="123" y="1526"/>
                  </a:lnTo>
                  <a:lnTo>
                    <a:pt x="129" y="1539"/>
                  </a:lnTo>
                  <a:lnTo>
                    <a:pt x="133" y="1551"/>
                  </a:lnTo>
                  <a:lnTo>
                    <a:pt x="132" y="1552"/>
                  </a:lnTo>
                  <a:lnTo>
                    <a:pt x="130" y="1551"/>
                  </a:lnTo>
                  <a:lnTo>
                    <a:pt x="128" y="1551"/>
                  </a:lnTo>
                  <a:lnTo>
                    <a:pt x="126" y="1552"/>
                  </a:lnTo>
                  <a:lnTo>
                    <a:pt x="123" y="1560"/>
                  </a:lnTo>
                  <a:lnTo>
                    <a:pt x="122" y="1567"/>
                  </a:lnTo>
                  <a:lnTo>
                    <a:pt x="120" y="1574"/>
                  </a:lnTo>
                  <a:lnTo>
                    <a:pt x="119" y="1581"/>
                  </a:lnTo>
                  <a:lnTo>
                    <a:pt x="122" y="1606"/>
                  </a:lnTo>
                  <a:lnTo>
                    <a:pt x="126" y="1633"/>
                  </a:lnTo>
                  <a:lnTo>
                    <a:pt x="132" y="1659"/>
                  </a:lnTo>
                  <a:lnTo>
                    <a:pt x="141" y="1684"/>
                  </a:lnTo>
                  <a:lnTo>
                    <a:pt x="142" y="1697"/>
                  </a:lnTo>
                  <a:lnTo>
                    <a:pt x="136" y="1695"/>
                  </a:lnTo>
                  <a:lnTo>
                    <a:pt x="132" y="1691"/>
                  </a:lnTo>
                  <a:lnTo>
                    <a:pt x="126" y="1688"/>
                  </a:lnTo>
                  <a:lnTo>
                    <a:pt x="120" y="1687"/>
                  </a:lnTo>
                  <a:lnTo>
                    <a:pt x="120" y="1688"/>
                  </a:lnTo>
                  <a:lnTo>
                    <a:pt x="120" y="1691"/>
                  </a:lnTo>
                  <a:lnTo>
                    <a:pt x="120" y="1692"/>
                  </a:lnTo>
                  <a:lnTo>
                    <a:pt x="122" y="1695"/>
                  </a:lnTo>
                  <a:lnTo>
                    <a:pt x="123" y="1697"/>
                  </a:lnTo>
                  <a:lnTo>
                    <a:pt x="123" y="1698"/>
                  </a:lnTo>
                  <a:lnTo>
                    <a:pt x="122" y="1701"/>
                  </a:lnTo>
                  <a:lnTo>
                    <a:pt x="123" y="1703"/>
                  </a:lnTo>
                  <a:lnTo>
                    <a:pt x="125" y="1706"/>
                  </a:lnTo>
                  <a:lnTo>
                    <a:pt x="123" y="1710"/>
                  </a:lnTo>
                  <a:lnTo>
                    <a:pt x="122" y="1714"/>
                  </a:lnTo>
                  <a:lnTo>
                    <a:pt x="122" y="1719"/>
                  </a:lnTo>
                  <a:lnTo>
                    <a:pt x="123" y="1725"/>
                  </a:lnTo>
                  <a:lnTo>
                    <a:pt x="123" y="1730"/>
                  </a:lnTo>
                  <a:lnTo>
                    <a:pt x="123" y="1735"/>
                  </a:lnTo>
                  <a:lnTo>
                    <a:pt x="123" y="1741"/>
                  </a:lnTo>
                  <a:lnTo>
                    <a:pt x="120" y="1742"/>
                  </a:lnTo>
                  <a:lnTo>
                    <a:pt x="117" y="1744"/>
                  </a:lnTo>
                  <a:lnTo>
                    <a:pt x="114" y="1745"/>
                  </a:lnTo>
                  <a:lnTo>
                    <a:pt x="116" y="1749"/>
                  </a:lnTo>
                  <a:lnTo>
                    <a:pt x="122" y="1752"/>
                  </a:lnTo>
                  <a:lnTo>
                    <a:pt x="126" y="1755"/>
                  </a:lnTo>
                  <a:lnTo>
                    <a:pt x="129" y="1760"/>
                  </a:lnTo>
                  <a:lnTo>
                    <a:pt x="130" y="1766"/>
                  </a:lnTo>
                  <a:lnTo>
                    <a:pt x="125" y="1792"/>
                  </a:lnTo>
                  <a:lnTo>
                    <a:pt x="122" y="1796"/>
                  </a:lnTo>
                  <a:lnTo>
                    <a:pt x="119" y="1799"/>
                  </a:lnTo>
                  <a:lnTo>
                    <a:pt x="114" y="1802"/>
                  </a:lnTo>
                  <a:lnTo>
                    <a:pt x="111" y="1805"/>
                  </a:lnTo>
                  <a:lnTo>
                    <a:pt x="101" y="1806"/>
                  </a:lnTo>
                  <a:lnTo>
                    <a:pt x="91" y="1806"/>
                  </a:lnTo>
                  <a:lnTo>
                    <a:pt x="81" y="1808"/>
                  </a:lnTo>
                  <a:lnTo>
                    <a:pt x="72" y="1811"/>
                  </a:lnTo>
                  <a:lnTo>
                    <a:pt x="73" y="1814"/>
                  </a:lnTo>
                  <a:lnTo>
                    <a:pt x="75" y="1817"/>
                  </a:lnTo>
                  <a:lnTo>
                    <a:pt x="78" y="1821"/>
                  </a:lnTo>
                  <a:lnTo>
                    <a:pt x="79" y="1824"/>
                  </a:lnTo>
                  <a:lnTo>
                    <a:pt x="82" y="1831"/>
                  </a:lnTo>
                  <a:lnTo>
                    <a:pt x="85" y="1837"/>
                  </a:lnTo>
                  <a:lnTo>
                    <a:pt x="88" y="1844"/>
                  </a:lnTo>
                  <a:lnTo>
                    <a:pt x="94" y="1850"/>
                  </a:lnTo>
                  <a:lnTo>
                    <a:pt x="100" y="1859"/>
                  </a:lnTo>
                  <a:lnTo>
                    <a:pt x="103" y="1868"/>
                  </a:lnTo>
                  <a:lnTo>
                    <a:pt x="109" y="1875"/>
                  </a:lnTo>
                  <a:lnTo>
                    <a:pt x="116" y="1881"/>
                  </a:lnTo>
                  <a:lnTo>
                    <a:pt x="119" y="1884"/>
                  </a:lnTo>
                  <a:lnTo>
                    <a:pt x="123" y="1884"/>
                  </a:lnTo>
                  <a:lnTo>
                    <a:pt x="128" y="1882"/>
                  </a:lnTo>
                  <a:lnTo>
                    <a:pt x="132" y="1884"/>
                  </a:lnTo>
                  <a:lnTo>
                    <a:pt x="136" y="1891"/>
                  </a:lnTo>
                  <a:lnTo>
                    <a:pt x="141" y="1899"/>
                  </a:lnTo>
                  <a:lnTo>
                    <a:pt x="145" y="1906"/>
                  </a:lnTo>
                  <a:lnTo>
                    <a:pt x="148" y="1913"/>
                  </a:lnTo>
                  <a:lnTo>
                    <a:pt x="149" y="1920"/>
                  </a:lnTo>
                  <a:lnTo>
                    <a:pt x="149" y="1928"/>
                  </a:lnTo>
                  <a:lnTo>
                    <a:pt x="149" y="1935"/>
                  </a:lnTo>
                  <a:lnTo>
                    <a:pt x="149" y="1942"/>
                  </a:lnTo>
                  <a:lnTo>
                    <a:pt x="151" y="1957"/>
                  </a:lnTo>
                  <a:lnTo>
                    <a:pt x="157" y="1969"/>
                  </a:lnTo>
                  <a:lnTo>
                    <a:pt x="165" y="1979"/>
                  </a:lnTo>
                  <a:lnTo>
                    <a:pt x="176" y="1989"/>
                  </a:lnTo>
                  <a:lnTo>
                    <a:pt x="179" y="1995"/>
                  </a:lnTo>
                  <a:lnTo>
                    <a:pt x="183" y="2002"/>
                  </a:lnTo>
                  <a:lnTo>
                    <a:pt x="186" y="2008"/>
                  </a:lnTo>
                  <a:lnTo>
                    <a:pt x="190" y="2015"/>
                  </a:lnTo>
                  <a:lnTo>
                    <a:pt x="192" y="2021"/>
                  </a:lnTo>
                  <a:lnTo>
                    <a:pt x="195" y="2027"/>
                  </a:lnTo>
                  <a:lnTo>
                    <a:pt x="199" y="2031"/>
                  </a:lnTo>
                  <a:lnTo>
                    <a:pt x="203" y="2037"/>
                  </a:lnTo>
                  <a:lnTo>
                    <a:pt x="209" y="2048"/>
                  </a:lnTo>
                  <a:lnTo>
                    <a:pt x="212" y="2061"/>
                  </a:lnTo>
                  <a:lnTo>
                    <a:pt x="215" y="2072"/>
                  </a:lnTo>
                  <a:lnTo>
                    <a:pt x="220" y="2084"/>
                  </a:lnTo>
                  <a:lnTo>
                    <a:pt x="228" y="2088"/>
                  </a:lnTo>
                  <a:lnTo>
                    <a:pt x="231" y="2103"/>
                  </a:lnTo>
                  <a:lnTo>
                    <a:pt x="239" y="2118"/>
                  </a:lnTo>
                  <a:lnTo>
                    <a:pt x="244" y="2132"/>
                  </a:lnTo>
                  <a:lnTo>
                    <a:pt x="249" y="2147"/>
                  </a:lnTo>
                  <a:lnTo>
                    <a:pt x="253" y="2156"/>
                  </a:lnTo>
                  <a:lnTo>
                    <a:pt x="257" y="2166"/>
                  </a:lnTo>
                  <a:lnTo>
                    <a:pt x="259" y="2176"/>
                  </a:lnTo>
                  <a:lnTo>
                    <a:pt x="259" y="2186"/>
                  </a:lnTo>
                  <a:lnTo>
                    <a:pt x="260" y="2192"/>
                  </a:lnTo>
                  <a:lnTo>
                    <a:pt x="260" y="2197"/>
                  </a:lnTo>
                  <a:lnTo>
                    <a:pt x="260" y="2202"/>
                  </a:lnTo>
                  <a:lnTo>
                    <a:pt x="260" y="2208"/>
                  </a:lnTo>
                  <a:lnTo>
                    <a:pt x="266" y="2230"/>
                  </a:lnTo>
                  <a:lnTo>
                    <a:pt x="271" y="2251"/>
                  </a:lnTo>
                  <a:lnTo>
                    <a:pt x="275" y="2273"/>
                  </a:lnTo>
                  <a:lnTo>
                    <a:pt x="284" y="2292"/>
                  </a:lnTo>
                  <a:lnTo>
                    <a:pt x="287" y="2302"/>
                  </a:lnTo>
                  <a:lnTo>
                    <a:pt x="287" y="2315"/>
                  </a:lnTo>
                  <a:lnTo>
                    <a:pt x="287" y="2327"/>
                  </a:lnTo>
                  <a:lnTo>
                    <a:pt x="285" y="2340"/>
                  </a:lnTo>
                  <a:lnTo>
                    <a:pt x="284" y="2353"/>
                  </a:lnTo>
                  <a:lnTo>
                    <a:pt x="284" y="2362"/>
                  </a:lnTo>
                  <a:lnTo>
                    <a:pt x="284" y="2372"/>
                  </a:lnTo>
                  <a:lnTo>
                    <a:pt x="287" y="2382"/>
                  </a:lnTo>
                  <a:lnTo>
                    <a:pt x="288" y="2392"/>
                  </a:lnTo>
                  <a:lnTo>
                    <a:pt x="287" y="2400"/>
                  </a:lnTo>
                  <a:lnTo>
                    <a:pt x="284" y="2406"/>
                  </a:lnTo>
                  <a:lnTo>
                    <a:pt x="281" y="2413"/>
                  </a:lnTo>
                  <a:lnTo>
                    <a:pt x="276" y="2419"/>
                  </a:lnTo>
                  <a:lnTo>
                    <a:pt x="276" y="2423"/>
                  </a:lnTo>
                  <a:lnTo>
                    <a:pt x="278" y="2426"/>
                  </a:lnTo>
                  <a:lnTo>
                    <a:pt x="279" y="2430"/>
                  </a:lnTo>
                  <a:lnTo>
                    <a:pt x="278" y="2435"/>
                  </a:lnTo>
                  <a:lnTo>
                    <a:pt x="281" y="2438"/>
                  </a:lnTo>
                  <a:lnTo>
                    <a:pt x="282" y="2442"/>
                  </a:lnTo>
                  <a:lnTo>
                    <a:pt x="284" y="2446"/>
                  </a:lnTo>
                  <a:lnTo>
                    <a:pt x="284" y="2451"/>
                  </a:lnTo>
                  <a:lnTo>
                    <a:pt x="287" y="2454"/>
                  </a:lnTo>
                  <a:lnTo>
                    <a:pt x="291" y="2458"/>
                  </a:lnTo>
                  <a:lnTo>
                    <a:pt x="294" y="2461"/>
                  </a:lnTo>
                  <a:lnTo>
                    <a:pt x="297" y="2463"/>
                  </a:lnTo>
                  <a:lnTo>
                    <a:pt x="297" y="2479"/>
                  </a:lnTo>
                  <a:lnTo>
                    <a:pt x="293" y="2492"/>
                  </a:lnTo>
                  <a:lnTo>
                    <a:pt x="284" y="2506"/>
                  </a:lnTo>
                  <a:lnTo>
                    <a:pt x="275" y="2518"/>
                  </a:lnTo>
                  <a:lnTo>
                    <a:pt x="275" y="2521"/>
                  </a:lnTo>
                  <a:lnTo>
                    <a:pt x="272" y="2522"/>
                  </a:lnTo>
                  <a:lnTo>
                    <a:pt x="271" y="2524"/>
                  </a:lnTo>
                  <a:lnTo>
                    <a:pt x="269" y="2525"/>
                  </a:lnTo>
                  <a:lnTo>
                    <a:pt x="268" y="2531"/>
                  </a:lnTo>
                  <a:lnTo>
                    <a:pt x="266" y="2536"/>
                  </a:lnTo>
                  <a:lnTo>
                    <a:pt x="266" y="2541"/>
                  </a:lnTo>
                  <a:lnTo>
                    <a:pt x="268" y="2547"/>
                  </a:lnTo>
                  <a:lnTo>
                    <a:pt x="275" y="2552"/>
                  </a:lnTo>
                  <a:lnTo>
                    <a:pt x="282" y="2555"/>
                  </a:lnTo>
                  <a:lnTo>
                    <a:pt x="291" y="2555"/>
                  </a:lnTo>
                  <a:lnTo>
                    <a:pt x="298" y="2558"/>
                  </a:lnTo>
                  <a:lnTo>
                    <a:pt x="295" y="2559"/>
                  </a:lnTo>
                  <a:lnTo>
                    <a:pt x="294" y="2562"/>
                  </a:lnTo>
                  <a:lnTo>
                    <a:pt x="293" y="2565"/>
                  </a:lnTo>
                  <a:lnTo>
                    <a:pt x="290" y="2566"/>
                  </a:lnTo>
                  <a:lnTo>
                    <a:pt x="288" y="2571"/>
                  </a:lnTo>
                  <a:lnTo>
                    <a:pt x="288" y="2574"/>
                  </a:lnTo>
                  <a:lnTo>
                    <a:pt x="290" y="2578"/>
                  </a:lnTo>
                  <a:lnTo>
                    <a:pt x="290" y="2582"/>
                  </a:lnTo>
                  <a:lnTo>
                    <a:pt x="294" y="2590"/>
                  </a:lnTo>
                  <a:lnTo>
                    <a:pt x="301" y="2594"/>
                  </a:lnTo>
                  <a:lnTo>
                    <a:pt x="309" y="2597"/>
                  </a:lnTo>
                  <a:lnTo>
                    <a:pt x="316" y="2600"/>
                  </a:lnTo>
                  <a:lnTo>
                    <a:pt x="320" y="2603"/>
                  </a:lnTo>
                  <a:lnTo>
                    <a:pt x="326" y="2604"/>
                  </a:lnTo>
                  <a:lnTo>
                    <a:pt x="331" y="2606"/>
                  </a:lnTo>
                  <a:lnTo>
                    <a:pt x="335" y="2609"/>
                  </a:lnTo>
                  <a:lnTo>
                    <a:pt x="344" y="2612"/>
                  </a:lnTo>
                  <a:lnTo>
                    <a:pt x="352" y="2609"/>
                  </a:lnTo>
                  <a:lnTo>
                    <a:pt x="361" y="2606"/>
                  </a:lnTo>
                  <a:lnTo>
                    <a:pt x="370" y="2601"/>
                  </a:lnTo>
                  <a:lnTo>
                    <a:pt x="373" y="2598"/>
                  </a:lnTo>
                  <a:lnTo>
                    <a:pt x="377" y="2597"/>
                  </a:lnTo>
                  <a:lnTo>
                    <a:pt x="380" y="2596"/>
                  </a:lnTo>
                  <a:lnTo>
                    <a:pt x="385" y="2594"/>
                  </a:lnTo>
                  <a:lnTo>
                    <a:pt x="395" y="2588"/>
                  </a:lnTo>
                  <a:lnTo>
                    <a:pt x="404" y="2584"/>
                  </a:lnTo>
                  <a:lnTo>
                    <a:pt x="414" y="2579"/>
                  </a:lnTo>
                  <a:lnTo>
                    <a:pt x="425" y="2578"/>
                  </a:lnTo>
                  <a:lnTo>
                    <a:pt x="427" y="2577"/>
                  </a:lnTo>
                  <a:lnTo>
                    <a:pt x="428" y="2575"/>
                  </a:lnTo>
                  <a:lnTo>
                    <a:pt x="430" y="2574"/>
                  </a:lnTo>
                  <a:lnTo>
                    <a:pt x="431" y="2572"/>
                  </a:lnTo>
                  <a:lnTo>
                    <a:pt x="430" y="2566"/>
                  </a:lnTo>
                  <a:lnTo>
                    <a:pt x="428" y="2560"/>
                  </a:lnTo>
                  <a:lnTo>
                    <a:pt x="425" y="2556"/>
                  </a:lnTo>
                  <a:lnTo>
                    <a:pt x="424" y="2550"/>
                  </a:lnTo>
                  <a:lnTo>
                    <a:pt x="418" y="2546"/>
                  </a:lnTo>
                  <a:lnTo>
                    <a:pt x="414" y="2540"/>
                  </a:lnTo>
                  <a:lnTo>
                    <a:pt x="406" y="2536"/>
                  </a:lnTo>
                  <a:lnTo>
                    <a:pt x="399" y="2536"/>
                  </a:lnTo>
                  <a:lnTo>
                    <a:pt x="399" y="2533"/>
                  </a:lnTo>
                  <a:lnTo>
                    <a:pt x="401" y="2531"/>
                  </a:lnTo>
                  <a:lnTo>
                    <a:pt x="404" y="2530"/>
                  </a:lnTo>
                  <a:lnTo>
                    <a:pt x="406" y="2528"/>
                  </a:lnTo>
                  <a:lnTo>
                    <a:pt x="414" y="2522"/>
                  </a:lnTo>
                  <a:lnTo>
                    <a:pt x="420" y="2515"/>
                  </a:lnTo>
                  <a:lnTo>
                    <a:pt x="425" y="2508"/>
                  </a:lnTo>
                  <a:lnTo>
                    <a:pt x="433" y="2501"/>
                  </a:lnTo>
                  <a:lnTo>
                    <a:pt x="439" y="2490"/>
                  </a:lnTo>
                  <a:lnTo>
                    <a:pt x="443" y="2480"/>
                  </a:lnTo>
                  <a:lnTo>
                    <a:pt x="447" y="2470"/>
                  </a:lnTo>
                  <a:lnTo>
                    <a:pt x="453" y="2460"/>
                  </a:lnTo>
                  <a:lnTo>
                    <a:pt x="456" y="2464"/>
                  </a:lnTo>
                  <a:lnTo>
                    <a:pt x="459" y="2468"/>
                  </a:lnTo>
                  <a:lnTo>
                    <a:pt x="461" y="2474"/>
                  </a:lnTo>
                  <a:lnTo>
                    <a:pt x="465" y="2477"/>
                  </a:lnTo>
                  <a:lnTo>
                    <a:pt x="466" y="2482"/>
                  </a:lnTo>
                  <a:lnTo>
                    <a:pt x="469" y="2483"/>
                  </a:lnTo>
                  <a:lnTo>
                    <a:pt x="472" y="2486"/>
                  </a:lnTo>
                  <a:lnTo>
                    <a:pt x="474" y="2489"/>
                  </a:lnTo>
                  <a:lnTo>
                    <a:pt x="475" y="2490"/>
                  </a:lnTo>
                  <a:lnTo>
                    <a:pt x="478" y="2490"/>
                  </a:lnTo>
                  <a:lnTo>
                    <a:pt x="479" y="2490"/>
                  </a:lnTo>
                  <a:lnTo>
                    <a:pt x="481" y="2489"/>
                  </a:lnTo>
                  <a:lnTo>
                    <a:pt x="482" y="2486"/>
                  </a:lnTo>
                  <a:lnTo>
                    <a:pt x="490" y="2486"/>
                  </a:lnTo>
                  <a:lnTo>
                    <a:pt x="497" y="2486"/>
                  </a:lnTo>
                  <a:lnTo>
                    <a:pt x="503" y="2486"/>
                  </a:lnTo>
                  <a:lnTo>
                    <a:pt x="509" y="2483"/>
                  </a:lnTo>
                  <a:lnTo>
                    <a:pt x="512" y="2480"/>
                  </a:lnTo>
                  <a:lnTo>
                    <a:pt x="513" y="2477"/>
                  </a:lnTo>
                  <a:lnTo>
                    <a:pt x="516" y="2474"/>
                  </a:lnTo>
                  <a:lnTo>
                    <a:pt x="520" y="2473"/>
                  </a:lnTo>
                  <a:lnTo>
                    <a:pt x="523" y="2468"/>
                  </a:lnTo>
                  <a:lnTo>
                    <a:pt x="526" y="2464"/>
                  </a:lnTo>
                  <a:lnTo>
                    <a:pt x="529" y="2461"/>
                  </a:lnTo>
                  <a:lnTo>
                    <a:pt x="532" y="2457"/>
                  </a:lnTo>
                  <a:lnTo>
                    <a:pt x="532" y="2445"/>
                  </a:lnTo>
                  <a:lnTo>
                    <a:pt x="531" y="2432"/>
                  </a:lnTo>
                  <a:lnTo>
                    <a:pt x="529" y="2420"/>
                  </a:lnTo>
                  <a:lnTo>
                    <a:pt x="525" y="2408"/>
                  </a:lnTo>
                  <a:lnTo>
                    <a:pt x="523" y="2401"/>
                  </a:lnTo>
                  <a:lnTo>
                    <a:pt x="523" y="2395"/>
                  </a:lnTo>
                  <a:lnTo>
                    <a:pt x="523" y="2388"/>
                  </a:lnTo>
                  <a:lnTo>
                    <a:pt x="520" y="2381"/>
                  </a:lnTo>
                  <a:lnTo>
                    <a:pt x="520" y="2370"/>
                  </a:lnTo>
                  <a:lnTo>
                    <a:pt x="520" y="2360"/>
                  </a:lnTo>
                  <a:lnTo>
                    <a:pt x="520" y="2350"/>
                  </a:lnTo>
                  <a:lnTo>
                    <a:pt x="520" y="2341"/>
                  </a:lnTo>
                  <a:lnTo>
                    <a:pt x="520" y="2340"/>
                  </a:lnTo>
                  <a:lnTo>
                    <a:pt x="520" y="2338"/>
                  </a:lnTo>
                  <a:lnTo>
                    <a:pt x="520" y="2337"/>
                  </a:lnTo>
                  <a:lnTo>
                    <a:pt x="520" y="2335"/>
                  </a:lnTo>
                  <a:lnTo>
                    <a:pt x="520" y="2335"/>
                  </a:lnTo>
                  <a:lnTo>
                    <a:pt x="520" y="2334"/>
                  </a:lnTo>
                  <a:lnTo>
                    <a:pt x="520" y="2334"/>
                  </a:lnTo>
                  <a:lnTo>
                    <a:pt x="522" y="2334"/>
                  </a:lnTo>
                  <a:lnTo>
                    <a:pt x="522" y="2330"/>
                  </a:lnTo>
                  <a:lnTo>
                    <a:pt x="522" y="2324"/>
                  </a:lnTo>
                  <a:lnTo>
                    <a:pt x="523" y="2319"/>
                  </a:lnTo>
                  <a:lnTo>
                    <a:pt x="522" y="2315"/>
                  </a:lnTo>
                  <a:lnTo>
                    <a:pt x="522" y="2313"/>
                  </a:lnTo>
                  <a:lnTo>
                    <a:pt x="522" y="2311"/>
                  </a:lnTo>
                  <a:lnTo>
                    <a:pt x="522" y="2309"/>
                  </a:lnTo>
                  <a:lnTo>
                    <a:pt x="523" y="2308"/>
                  </a:lnTo>
                  <a:lnTo>
                    <a:pt x="523" y="2302"/>
                  </a:lnTo>
                  <a:lnTo>
                    <a:pt x="522" y="2296"/>
                  </a:lnTo>
                  <a:lnTo>
                    <a:pt x="522" y="2290"/>
                  </a:lnTo>
                  <a:lnTo>
                    <a:pt x="523" y="2284"/>
                  </a:lnTo>
                  <a:lnTo>
                    <a:pt x="523" y="2278"/>
                  </a:lnTo>
                  <a:lnTo>
                    <a:pt x="525" y="2273"/>
                  </a:lnTo>
                  <a:lnTo>
                    <a:pt x="525" y="2267"/>
                  </a:lnTo>
                  <a:lnTo>
                    <a:pt x="525" y="2261"/>
                  </a:lnTo>
                  <a:lnTo>
                    <a:pt x="528" y="2255"/>
                  </a:lnTo>
                  <a:lnTo>
                    <a:pt x="528" y="2249"/>
                  </a:lnTo>
                  <a:lnTo>
                    <a:pt x="528" y="2242"/>
                  </a:lnTo>
                  <a:lnTo>
                    <a:pt x="529" y="2238"/>
                  </a:lnTo>
                  <a:lnTo>
                    <a:pt x="528" y="2235"/>
                  </a:lnTo>
                  <a:lnTo>
                    <a:pt x="528" y="2230"/>
                  </a:lnTo>
                  <a:lnTo>
                    <a:pt x="528" y="2227"/>
                  </a:lnTo>
                  <a:lnTo>
                    <a:pt x="529" y="2224"/>
                  </a:lnTo>
                  <a:lnTo>
                    <a:pt x="526" y="2214"/>
                  </a:lnTo>
                  <a:lnTo>
                    <a:pt x="525" y="2202"/>
                  </a:lnTo>
                  <a:lnTo>
                    <a:pt x="525" y="2191"/>
                  </a:lnTo>
                  <a:lnTo>
                    <a:pt x="525" y="2179"/>
                  </a:lnTo>
                  <a:lnTo>
                    <a:pt x="522" y="2164"/>
                  </a:lnTo>
                  <a:lnTo>
                    <a:pt x="520" y="2151"/>
                  </a:lnTo>
                  <a:lnTo>
                    <a:pt x="517" y="2137"/>
                  </a:lnTo>
                  <a:lnTo>
                    <a:pt x="516" y="2124"/>
                  </a:lnTo>
                  <a:lnTo>
                    <a:pt x="516" y="2116"/>
                  </a:lnTo>
                  <a:lnTo>
                    <a:pt x="515" y="2109"/>
                  </a:lnTo>
                  <a:lnTo>
                    <a:pt x="512" y="2103"/>
                  </a:lnTo>
                  <a:lnTo>
                    <a:pt x="512" y="2096"/>
                  </a:lnTo>
                  <a:lnTo>
                    <a:pt x="509" y="2080"/>
                  </a:lnTo>
                  <a:lnTo>
                    <a:pt x="507" y="2062"/>
                  </a:lnTo>
                  <a:lnTo>
                    <a:pt x="504" y="2046"/>
                  </a:lnTo>
                  <a:lnTo>
                    <a:pt x="503" y="2029"/>
                  </a:lnTo>
                  <a:lnTo>
                    <a:pt x="504" y="2021"/>
                  </a:lnTo>
                  <a:lnTo>
                    <a:pt x="506" y="2015"/>
                  </a:lnTo>
                  <a:lnTo>
                    <a:pt x="509" y="2010"/>
                  </a:lnTo>
                  <a:lnTo>
                    <a:pt x="513" y="2005"/>
                  </a:lnTo>
                  <a:lnTo>
                    <a:pt x="517" y="2004"/>
                  </a:lnTo>
                  <a:lnTo>
                    <a:pt x="522" y="2001"/>
                  </a:lnTo>
                  <a:lnTo>
                    <a:pt x="525" y="1998"/>
                  </a:lnTo>
                  <a:lnTo>
                    <a:pt x="529" y="2001"/>
                  </a:lnTo>
                  <a:lnTo>
                    <a:pt x="534" y="1998"/>
                  </a:lnTo>
                  <a:lnTo>
                    <a:pt x="535" y="1994"/>
                  </a:lnTo>
                  <a:lnTo>
                    <a:pt x="535" y="1988"/>
                  </a:lnTo>
                  <a:lnTo>
                    <a:pt x="539" y="1983"/>
                  </a:lnTo>
                  <a:lnTo>
                    <a:pt x="541" y="1980"/>
                  </a:lnTo>
                  <a:lnTo>
                    <a:pt x="542" y="1979"/>
                  </a:lnTo>
                  <a:lnTo>
                    <a:pt x="545" y="1976"/>
                  </a:lnTo>
                  <a:lnTo>
                    <a:pt x="545" y="1973"/>
                  </a:lnTo>
                  <a:lnTo>
                    <a:pt x="544" y="1972"/>
                  </a:lnTo>
                  <a:lnTo>
                    <a:pt x="545" y="1969"/>
                  </a:lnTo>
                  <a:lnTo>
                    <a:pt x="547" y="1967"/>
                  </a:lnTo>
                  <a:lnTo>
                    <a:pt x="548" y="1966"/>
                  </a:lnTo>
                  <a:lnTo>
                    <a:pt x="545" y="1954"/>
                  </a:lnTo>
                  <a:lnTo>
                    <a:pt x="541" y="1944"/>
                  </a:lnTo>
                  <a:lnTo>
                    <a:pt x="535" y="1932"/>
                  </a:lnTo>
                  <a:lnTo>
                    <a:pt x="534" y="1920"/>
                  </a:lnTo>
                  <a:lnTo>
                    <a:pt x="532" y="1915"/>
                  </a:lnTo>
                  <a:lnTo>
                    <a:pt x="531" y="1910"/>
                  </a:lnTo>
                  <a:lnTo>
                    <a:pt x="529" y="1906"/>
                  </a:lnTo>
                  <a:lnTo>
                    <a:pt x="529" y="1900"/>
                  </a:lnTo>
                  <a:lnTo>
                    <a:pt x="531" y="1893"/>
                  </a:lnTo>
                  <a:lnTo>
                    <a:pt x="532" y="1884"/>
                  </a:lnTo>
                  <a:lnTo>
                    <a:pt x="532" y="1875"/>
                  </a:lnTo>
                  <a:lnTo>
                    <a:pt x="534" y="1866"/>
                  </a:lnTo>
                  <a:lnTo>
                    <a:pt x="538" y="1865"/>
                  </a:lnTo>
                  <a:lnTo>
                    <a:pt x="541" y="1861"/>
                  </a:lnTo>
                  <a:lnTo>
                    <a:pt x="542" y="1858"/>
                  </a:lnTo>
                  <a:lnTo>
                    <a:pt x="545" y="1853"/>
                  </a:lnTo>
                  <a:lnTo>
                    <a:pt x="545" y="1847"/>
                  </a:lnTo>
                  <a:lnTo>
                    <a:pt x="547" y="1842"/>
                  </a:lnTo>
                  <a:lnTo>
                    <a:pt x="547" y="1836"/>
                  </a:lnTo>
                  <a:lnTo>
                    <a:pt x="548" y="1830"/>
                  </a:lnTo>
                  <a:lnTo>
                    <a:pt x="550" y="1830"/>
                  </a:lnTo>
                  <a:lnTo>
                    <a:pt x="550" y="1828"/>
                  </a:lnTo>
                  <a:lnTo>
                    <a:pt x="551" y="1827"/>
                  </a:lnTo>
                  <a:lnTo>
                    <a:pt x="553" y="1827"/>
                  </a:lnTo>
                  <a:lnTo>
                    <a:pt x="551" y="1824"/>
                  </a:lnTo>
                  <a:lnTo>
                    <a:pt x="551" y="1820"/>
                  </a:lnTo>
                  <a:lnTo>
                    <a:pt x="553" y="1817"/>
                  </a:lnTo>
                  <a:lnTo>
                    <a:pt x="554" y="1812"/>
                  </a:lnTo>
                  <a:lnTo>
                    <a:pt x="555" y="1809"/>
                  </a:lnTo>
                  <a:lnTo>
                    <a:pt x="557" y="1805"/>
                  </a:lnTo>
                  <a:lnTo>
                    <a:pt x="557" y="1801"/>
                  </a:lnTo>
                  <a:lnTo>
                    <a:pt x="557" y="1798"/>
                  </a:lnTo>
                  <a:lnTo>
                    <a:pt x="560" y="1787"/>
                  </a:lnTo>
                  <a:lnTo>
                    <a:pt x="561" y="1776"/>
                  </a:lnTo>
                  <a:lnTo>
                    <a:pt x="561" y="1766"/>
                  </a:lnTo>
                  <a:lnTo>
                    <a:pt x="564" y="1755"/>
                  </a:lnTo>
                  <a:lnTo>
                    <a:pt x="566" y="1755"/>
                  </a:lnTo>
                  <a:lnTo>
                    <a:pt x="567" y="1761"/>
                  </a:lnTo>
                  <a:lnTo>
                    <a:pt x="567" y="1766"/>
                  </a:lnTo>
                  <a:lnTo>
                    <a:pt x="567" y="1770"/>
                  </a:lnTo>
                  <a:lnTo>
                    <a:pt x="570" y="1774"/>
                  </a:lnTo>
                  <a:lnTo>
                    <a:pt x="571" y="1774"/>
                  </a:lnTo>
                  <a:lnTo>
                    <a:pt x="576" y="1783"/>
                  </a:lnTo>
                  <a:lnTo>
                    <a:pt x="579" y="1790"/>
                  </a:lnTo>
                  <a:lnTo>
                    <a:pt x="582" y="1799"/>
                  </a:lnTo>
                  <a:lnTo>
                    <a:pt x="582" y="1808"/>
                  </a:lnTo>
                  <a:lnTo>
                    <a:pt x="582" y="1809"/>
                  </a:lnTo>
                  <a:lnTo>
                    <a:pt x="583" y="1809"/>
                  </a:lnTo>
                  <a:lnTo>
                    <a:pt x="583" y="1811"/>
                  </a:lnTo>
                  <a:lnTo>
                    <a:pt x="585" y="1811"/>
                  </a:lnTo>
                  <a:lnTo>
                    <a:pt x="588" y="1808"/>
                  </a:lnTo>
                  <a:lnTo>
                    <a:pt x="589" y="1804"/>
                  </a:lnTo>
                  <a:lnTo>
                    <a:pt x="589" y="1801"/>
                  </a:lnTo>
                  <a:lnTo>
                    <a:pt x="590" y="1796"/>
                  </a:lnTo>
                  <a:lnTo>
                    <a:pt x="592" y="1798"/>
                  </a:lnTo>
                  <a:lnTo>
                    <a:pt x="595" y="1799"/>
                  </a:lnTo>
                  <a:lnTo>
                    <a:pt x="596" y="1799"/>
                  </a:lnTo>
                  <a:lnTo>
                    <a:pt x="599" y="1798"/>
                  </a:lnTo>
                  <a:lnTo>
                    <a:pt x="602" y="1802"/>
                  </a:lnTo>
                  <a:lnTo>
                    <a:pt x="605" y="1805"/>
                  </a:lnTo>
                  <a:lnTo>
                    <a:pt x="607" y="1809"/>
                  </a:lnTo>
                  <a:lnTo>
                    <a:pt x="611" y="1814"/>
                  </a:lnTo>
                  <a:lnTo>
                    <a:pt x="611" y="1815"/>
                  </a:lnTo>
                  <a:lnTo>
                    <a:pt x="611" y="1815"/>
                  </a:lnTo>
                  <a:lnTo>
                    <a:pt x="611" y="1817"/>
                  </a:lnTo>
                  <a:lnTo>
                    <a:pt x="612" y="1817"/>
                  </a:lnTo>
                  <a:lnTo>
                    <a:pt x="614" y="1815"/>
                  </a:lnTo>
                  <a:lnTo>
                    <a:pt x="617" y="1817"/>
                  </a:lnTo>
                  <a:lnTo>
                    <a:pt x="618" y="1817"/>
                  </a:lnTo>
                  <a:lnTo>
                    <a:pt x="620" y="1815"/>
                  </a:lnTo>
                  <a:lnTo>
                    <a:pt x="621" y="1820"/>
                  </a:lnTo>
                  <a:lnTo>
                    <a:pt x="626" y="1823"/>
                  </a:lnTo>
                  <a:lnTo>
                    <a:pt x="628" y="1825"/>
                  </a:lnTo>
                  <a:lnTo>
                    <a:pt x="631" y="1828"/>
                  </a:lnTo>
                  <a:lnTo>
                    <a:pt x="634" y="1828"/>
                  </a:lnTo>
                  <a:lnTo>
                    <a:pt x="639" y="1828"/>
                  </a:lnTo>
                  <a:lnTo>
                    <a:pt x="642" y="1828"/>
                  </a:lnTo>
                  <a:lnTo>
                    <a:pt x="643" y="1831"/>
                  </a:lnTo>
                  <a:lnTo>
                    <a:pt x="642" y="1836"/>
                  </a:lnTo>
                  <a:lnTo>
                    <a:pt x="637" y="1837"/>
                  </a:lnTo>
                  <a:lnTo>
                    <a:pt x="631" y="1837"/>
                  </a:lnTo>
                  <a:lnTo>
                    <a:pt x="627" y="1840"/>
                  </a:lnTo>
                  <a:lnTo>
                    <a:pt x="621" y="1840"/>
                  </a:lnTo>
                  <a:lnTo>
                    <a:pt x="615" y="1839"/>
                  </a:lnTo>
                  <a:lnTo>
                    <a:pt x="611" y="1837"/>
                  </a:lnTo>
                  <a:lnTo>
                    <a:pt x="605" y="1836"/>
                  </a:lnTo>
                  <a:lnTo>
                    <a:pt x="604" y="1837"/>
                  </a:lnTo>
                  <a:lnTo>
                    <a:pt x="604" y="1839"/>
                  </a:lnTo>
                  <a:lnTo>
                    <a:pt x="604" y="1840"/>
                  </a:lnTo>
                  <a:lnTo>
                    <a:pt x="604" y="1842"/>
                  </a:lnTo>
                  <a:lnTo>
                    <a:pt x="611" y="1844"/>
                  </a:lnTo>
                  <a:lnTo>
                    <a:pt x="618" y="1849"/>
                  </a:lnTo>
                  <a:lnTo>
                    <a:pt x="626" y="1853"/>
                  </a:lnTo>
                  <a:lnTo>
                    <a:pt x="628" y="1861"/>
                  </a:lnTo>
                  <a:lnTo>
                    <a:pt x="633" y="1869"/>
                  </a:lnTo>
                  <a:lnTo>
                    <a:pt x="630" y="1869"/>
                  </a:lnTo>
                  <a:lnTo>
                    <a:pt x="628" y="1869"/>
                  </a:lnTo>
                  <a:lnTo>
                    <a:pt x="627" y="1871"/>
                  </a:lnTo>
                  <a:lnTo>
                    <a:pt x="626" y="1874"/>
                  </a:lnTo>
                  <a:lnTo>
                    <a:pt x="628" y="1880"/>
                  </a:lnTo>
                  <a:lnTo>
                    <a:pt x="630" y="1887"/>
                  </a:lnTo>
                  <a:lnTo>
                    <a:pt x="630" y="1893"/>
                  </a:lnTo>
                  <a:lnTo>
                    <a:pt x="628" y="1900"/>
                  </a:lnTo>
                  <a:lnTo>
                    <a:pt x="626" y="1900"/>
                  </a:lnTo>
                  <a:lnTo>
                    <a:pt x="624" y="1901"/>
                  </a:lnTo>
                  <a:lnTo>
                    <a:pt x="623" y="1904"/>
                  </a:lnTo>
                  <a:lnTo>
                    <a:pt x="623" y="1906"/>
                  </a:lnTo>
                  <a:lnTo>
                    <a:pt x="626" y="1910"/>
                  </a:lnTo>
                  <a:lnTo>
                    <a:pt x="621" y="1913"/>
                  </a:lnTo>
                  <a:lnTo>
                    <a:pt x="617" y="1915"/>
                  </a:lnTo>
                  <a:lnTo>
                    <a:pt x="612" y="1918"/>
                  </a:lnTo>
                  <a:lnTo>
                    <a:pt x="608" y="1919"/>
                  </a:lnTo>
                  <a:lnTo>
                    <a:pt x="607" y="1920"/>
                  </a:lnTo>
                  <a:lnTo>
                    <a:pt x="607" y="1922"/>
                  </a:lnTo>
                  <a:lnTo>
                    <a:pt x="607" y="1923"/>
                  </a:lnTo>
                  <a:lnTo>
                    <a:pt x="608" y="1925"/>
                  </a:lnTo>
                  <a:lnTo>
                    <a:pt x="612" y="1926"/>
                  </a:lnTo>
                  <a:lnTo>
                    <a:pt x="617" y="1925"/>
                  </a:lnTo>
                  <a:lnTo>
                    <a:pt x="621" y="1922"/>
                  </a:lnTo>
                  <a:lnTo>
                    <a:pt x="626" y="1922"/>
                  </a:lnTo>
                  <a:lnTo>
                    <a:pt x="626" y="1928"/>
                  </a:lnTo>
                  <a:lnTo>
                    <a:pt x="626" y="1935"/>
                  </a:lnTo>
                  <a:lnTo>
                    <a:pt x="623" y="1941"/>
                  </a:lnTo>
                  <a:lnTo>
                    <a:pt x="618" y="1945"/>
                  </a:lnTo>
                  <a:lnTo>
                    <a:pt x="615" y="1947"/>
                  </a:lnTo>
                  <a:lnTo>
                    <a:pt x="615" y="1948"/>
                  </a:lnTo>
                  <a:lnTo>
                    <a:pt x="614" y="1951"/>
                  </a:lnTo>
                  <a:lnTo>
                    <a:pt x="615" y="1953"/>
                  </a:lnTo>
                  <a:lnTo>
                    <a:pt x="617" y="1954"/>
                  </a:lnTo>
                  <a:lnTo>
                    <a:pt x="617" y="1956"/>
                  </a:lnTo>
                  <a:lnTo>
                    <a:pt x="615" y="1958"/>
                  </a:lnTo>
                  <a:lnTo>
                    <a:pt x="614" y="1960"/>
                  </a:lnTo>
                  <a:lnTo>
                    <a:pt x="609" y="1967"/>
                  </a:lnTo>
                  <a:lnTo>
                    <a:pt x="605" y="1973"/>
                  </a:lnTo>
                  <a:lnTo>
                    <a:pt x="601" y="1980"/>
                  </a:lnTo>
                  <a:lnTo>
                    <a:pt x="596" y="1986"/>
                  </a:lnTo>
                  <a:lnTo>
                    <a:pt x="593" y="1989"/>
                  </a:lnTo>
                  <a:lnTo>
                    <a:pt x="592" y="1992"/>
                  </a:lnTo>
                  <a:lnTo>
                    <a:pt x="590" y="1995"/>
                  </a:lnTo>
                  <a:lnTo>
                    <a:pt x="590" y="1999"/>
                  </a:lnTo>
                  <a:lnTo>
                    <a:pt x="588" y="2008"/>
                  </a:lnTo>
                  <a:lnTo>
                    <a:pt x="583" y="2017"/>
                  </a:lnTo>
                  <a:lnTo>
                    <a:pt x="580" y="2026"/>
                  </a:lnTo>
                  <a:lnTo>
                    <a:pt x="576" y="2033"/>
                  </a:lnTo>
                  <a:lnTo>
                    <a:pt x="576" y="2034"/>
                  </a:lnTo>
                  <a:lnTo>
                    <a:pt x="577" y="2036"/>
                  </a:lnTo>
                  <a:lnTo>
                    <a:pt x="577" y="2037"/>
                  </a:lnTo>
                  <a:lnTo>
                    <a:pt x="579" y="2037"/>
                  </a:lnTo>
                  <a:lnTo>
                    <a:pt x="585" y="2034"/>
                  </a:lnTo>
                  <a:lnTo>
                    <a:pt x="589" y="2031"/>
                  </a:lnTo>
                  <a:lnTo>
                    <a:pt x="593" y="2030"/>
                  </a:lnTo>
                  <a:lnTo>
                    <a:pt x="598" y="2027"/>
                  </a:lnTo>
                  <a:lnTo>
                    <a:pt x="601" y="2029"/>
                  </a:lnTo>
                  <a:lnTo>
                    <a:pt x="592" y="2046"/>
                  </a:lnTo>
                  <a:lnTo>
                    <a:pt x="583" y="2064"/>
                  </a:lnTo>
                  <a:lnTo>
                    <a:pt x="573" y="2083"/>
                  </a:lnTo>
                  <a:lnTo>
                    <a:pt x="564" y="2100"/>
                  </a:lnTo>
                  <a:lnTo>
                    <a:pt x="567" y="2102"/>
                  </a:lnTo>
                  <a:lnTo>
                    <a:pt x="570" y="2103"/>
                  </a:lnTo>
                  <a:lnTo>
                    <a:pt x="573" y="2105"/>
                  </a:lnTo>
                  <a:lnTo>
                    <a:pt x="576" y="2107"/>
                  </a:lnTo>
                  <a:lnTo>
                    <a:pt x="580" y="2109"/>
                  </a:lnTo>
                  <a:lnTo>
                    <a:pt x="586" y="2109"/>
                  </a:lnTo>
                  <a:lnTo>
                    <a:pt x="592" y="2110"/>
                  </a:lnTo>
                  <a:lnTo>
                    <a:pt x="598" y="2113"/>
                  </a:lnTo>
                  <a:lnTo>
                    <a:pt x="598" y="2116"/>
                  </a:lnTo>
                  <a:lnTo>
                    <a:pt x="598" y="2118"/>
                  </a:lnTo>
                  <a:lnTo>
                    <a:pt x="598" y="2121"/>
                  </a:lnTo>
                  <a:lnTo>
                    <a:pt x="601" y="2122"/>
                  </a:lnTo>
                  <a:lnTo>
                    <a:pt x="602" y="2125"/>
                  </a:lnTo>
                  <a:lnTo>
                    <a:pt x="598" y="2134"/>
                  </a:lnTo>
                  <a:lnTo>
                    <a:pt x="593" y="2143"/>
                  </a:lnTo>
                  <a:lnTo>
                    <a:pt x="590" y="2151"/>
                  </a:lnTo>
                  <a:lnTo>
                    <a:pt x="588" y="2162"/>
                  </a:lnTo>
                  <a:lnTo>
                    <a:pt x="582" y="2173"/>
                  </a:lnTo>
                  <a:lnTo>
                    <a:pt x="577" y="2185"/>
                  </a:lnTo>
                  <a:lnTo>
                    <a:pt x="573" y="2197"/>
                  </a:lnTo>
                  <a:lnTo>
                    <a:pt x="570" y="2208"/>
                  </a:lnTo>
                  <a:lnTo>
                    <a:pt x="571" y="2235"/>
                  </a:lnTo>
                  <a:lnTo>
                    <a:pt x="574" y="2238"/>
                  </a:lnTo>
                  <a:lnTo>
                    <a:pt x="579" y="2239"/>
                  </a:lnTo>
                  <a:lnTo>
                    <a:pt x="582" y="2242"/>
                  </a:lnTo>
                  <a:lnTo>
                    <a:pt x="585" y="2243"/>
                  </a:lnTo>
                  <a:lnTo>
                    <a:pt x="586" y="2258"/>
                  </a:lnTo>
                  <a:lnTo>
                    <a:pt x="588" y="2273"/>
                  </a:lnTo>
                  <a:lnTo>
                    <a:pt x="589" y="2286"/>
                  </a:lnTo>
                  <a:lnTo>
                    <a:pt x="593" y="2299"/>
                  </a:lnTo>
                  <a:lnTo>
                    <a:pt x="592" y="2306"/>
                  </a:lnTo>
                  <a:lnTo>
                    <a:pt x="590" y="2313"/>
                  </a:lnTo>
                  <a:lnTo>
                    <a:pt x="590" y="2322"/>
                  </a:lnTo>
                  <a:lnTo>
                    <a:pt x="590" y="2330"/>
                  </a:lnTo>
                  <a:lnTo>
                    <a:pt x="588" y="2347"/>
                  </a:lnTo>
                  <a:lnTo>
                    <a:pt x="586" y="2363"/>
                  </a:lnTo>
                  <a:lnTo>
                    <a:pt x="583" y="2381"/>
                  </a:lnTo>
                  <a:lnTo>
                    <a:pt x="577" y="2397"/>
                  </a:lnTo>
                  <a:lnTo>
                    <a:pt x="574" y="2397"/>
                  </a:lnTo>
                  <a:lnTo>
                    <a:pt x="570" y="2397"/>
                  </a:lnTo>
                  <a:lnTo>
                    <a:pt x="569" y="2400"/>
                  </a:lnTo>
                  <a:lnTo>
                    <a:pt x="567" y="2403"/>
                  </a:lnTo>
                  <a:lnTo>
                    <a:pt x="561" y="2407"/>
                  </a:lnTo>
                  <a:lnTo>
                    <a:pt x="560" y="2414"/>
                  </a:lnTo>
                  <a:lnTo>
                    <a:pt x="558" y="2420"/>
                  </a:lnTo>
                  <a:lnTo>
                    <a:pt x="557" y="2427"/>
                  </a:lnTo>
                  <a:lnTo>
                    <a:pt x="554" y="2445"/>
                  </a:lnTo>
                  <a:lnTo>
                    <a:pt x="548" y="2461"/>
                  </a:lnTo>
                  <a:lnTo>
                    <a:pt x="538" y="2476"/>
                  </a:lnTo>
                  <a:lnTo>
                    <a:pt x="526" y="2489"/>
                  </a:lnTo>
                  <a:lnTo>
                    <a:pt x="516" y="2502"/>
                  </a:lnTo>
                  <a:lnTo>
                    <a:pt x="515" y="2508"/>
                  </a:lnTo>
                  <a:lnTo>
                    <a:pt x="512" y="2512"/>
                  </a:lnTo>
                  <a:lnTo>
                    <a:pt x="510" y="2518"/>
                  </a:lnTo>
                  <a:lnTo>
                    <a:pt x="512" y="2524"/>
                  </a:lnTo>
                  <a:lnTo>
                    <a:pt x="513" y="2531"/>
                  </a:lnTo>
                  <a:lnTo>
                    <a:pt x="515" y="2539"/>
                  </a:lnTo>
                  <a:lnTo>
                    <a:pt x="515" y="2546"/>
                  </a:lnTo>
                  <a:lnTo>
                    <a:pt x="515" y="2555"/>
                  </a:lnTo>
                  <a:lnTo>
                    <a:pt x="513" y="2560"/>
                  </a:lnTo>
                  <a:lnTo>
                    <a:pt x="512" y="2566"/>
                  </a:lnTo>
                  <a:lnTo>
                    <a:pt x="510" y="2572"/>
                  </a:lnTo>
                  <a:lnTo>
                    <a:pt x="507" y="2578"/>
                  </a:lnTo>
                  <a:lnTo>
                    <a:pt x="500" y="2585"/>
                  </a:lnTo>
                  <a:lnTo>
                    <a:pt x="494" y="2593"/>
                  </a:lnTo>
                  <a:lnTo>
                    <a:pt x="488" y="2598"/>
                  </a:lnTo>
                  <a:lnTo>
                    <a:pt x="484" y="2607"/>
                  </a:lnTo>
                  <a:lnTo>
                    <a:pt x="481" y="2610"/>
                  </a:lnTo>
                  <a:lnTo>
                    <a:pt x="481" y="2614"/>
                  </a:lnTo>
                  <a:lnTo>
                    <a:pt x="481" y="2619"/>
                  </a:lnTo>
                  <a:lnTo>
                    <a:pt x="479" y="2623"/>
                  </a:lnTo>
                  <a:lnTo>
                    <a:pt x="479" y="2626"/>
                  </a:lnTo>
                  <a:lnTo>
                    <a:pt x="481" y="2628"/>
                  </a:lnTo>
                  <a:lnTo>
                    <a:pt x="481" y="2631"/>
                  </a:lnTo>
                  <a:lnTo>
                    <a:pt x="481" y="2633"/>
                  </a:lnTo>
                  <a:lnTo>
                    <a:pt x="491" y="2636"/>
                  </a:lnTo>
                  <a:lnTo>
                    <a:pt x="503" y="2638"/>
                  </a:lnTo>
                  <a:lnTo>
                    <a:pt x="513" y="2639"/>
                  </a:lnTo>
                  <a:lnTo>
                    <a:pt x="523" y="2644"/>
                  </a:lnTo>
                  <a:lnTo>
                    <a:pt x="526" y="2645"/>
                  </a:lnTo>
                  <a:lnTo>
                    <a:pt x="529" y="2645"/>
                  </a:lnTo>
                  <a:lnTo>
                    <a:pt x="531" y="2647"/>
                  </a:lnTo>
                  <a:lnTo>
                    <a:pt x="532" y="2650"/>
                  </a:lnTo>
                  <a:lnTo>
                    <a:pt x="535" y="2651"/>
                  </a:lnTo>
                  <a:lnTo>
                    <a:pt x="539" y="2651"/>
                  </a:lnTo>
                  <a:lnTo>
                    <a:pt x="544" y="2651"/>
                  </a:lnTo>
                  <a:lnTo>
                    <a:pt x="548" y="2651"/>
                  </a:lnTo>
                  <a:lnTo>
                    <a:pt x="553" y="2648"/>
                  </a:lnTo>
                  <a:lnTo>
                    <a:pt x="557" y="2644"/>
                  </a:lnTo>
                  <a:lnTo>
                    <a:pt x="561" y="2639"/>
                  </a:lnTo>
                  <a:lnTo>
                    <a:pt x="566" y="2636"/>
                  </a:lnTo>
                  <a:lnTo>
                    <a:pt x="577" y="2616"/>
                  </a:lnTo>
                  <a:lnTo>
                    <a:pt x="583" y="2620"/>
                  </a:lnTo>
                  <a:lnTo>
                    <a:pt x="588" y="2625"/>
                  </a:lnTo>
                  <a:lnTo>
                    <a:pt x="592" y="2631"/>
                  </a:lnTo>
                  <a:lnTo>
                    <a:pt x="598" y="2633"/>
                  </a:lnTo>
                  <a:lnTo>
                    <a:pt x="602" y="2645"/>
                  </a:lnTo>
                  <a:lnTo>
                    <a:pt x="605" y="2657"/>
                  </a:lnTo>
                  <a:lnTo>
                    <a:pt x="607" y="2670"/>
                  </a:lnTo>
                  <a:lnTo>
                    <a:pt x="608" y="2682"/>
                  </a:lnTo>
                  <a:lnTo>
                    <a:pt x="609" y="2683"/>
                  </a:lnTo>
                  <a:lnTo>
                    <a:pt x="611" y="2686"/>
                  </a:lnTo>
                  <a:lnTo>
                    <a:pt x="611" y="2689"/>
                  </a:lnTo>
                  <a:lnTo>
                    <a:pt x="611" y="2690"/>
                  </a:lnTo>
                  <a:lnTo>
                    <a:pt x="618" y="2708"/>
                  </a:lnTo>
                  <a:lnTo>
                    <a:pt x="617" y="2709"/>
                  </a:lnTo>
                  <a:lnTo>
                    <a:pt x="615" y="2709"/>
                  </a:lnTo>
                  <a:lnTo>
                    <a:pt x="612" y="2709"/>
                  </a:lnTo>
                  <a:lnTo>
                    <a:pt x="611" y="2709"/>
                  </a:lnTo>
                  <a:lnTo>
                    <a:pt x="607" y="2711"/>
                  </a:lnTo>
                  <a:lnTo>
                    <a:pt x="604" y="2714"/>
                  </a:lnTo>
                  <a:lnTo>
                    <a:pt x="599" y="2715"/>
                  </a:lnTo>
                  <a:lnTo>
                    <a:pt x="598" y="2720"/>
                  </a:lnTo>
                  <a:lnTo>
                    <a:pt x="599" y="2723"/>
                  </a:lnTo>
                  <a:lnTo>
                    <a:pt x="598" y="2727"/>
                  </a:lnTo>
                  <a:lnTo>
                    <a:pt x="596" y="2730"/>
                  </a:lnTo>
                  <a:lnTo>
                    <a:pt x="598" y="2734"/>
                  </a:lnTo>
                  <a:lnTo>
                    <a:pt x="602" y="2739"/>
                  </a:lnTo>
                  <a:lnTo>
                    <a:pt x="605" y="2745"/>
                  </a:lnTo>
                  <a:lnTo>
                    <a:pt x="609" y="2750"/>
                  </a:lnTo>
                  <a:lnTo>
                    <a:pt x="615" y="2753"/>
                  </a:lnTo>
                  <a:lnTo>
                    <a:pt x="617" y="2756"/>
                  </a:lnTo>
                  <a:lnTo>
                    <a:pt x="620" y="2758"/>
                  </a:lnTo>
                  <a:lnTo>
                    <a:pt x="623" y="2758"/>
                  </a:lnTo>
                  <a:lnTo>
                    <a:pt x="626" y="2759"/>
                  </a:lnTo>
                  <a:lnTo>
                    <a:pt x="630" y="2759"/>
                  </a:lnTo>
                  <a:lnTo>
                    <a:pt x="633" y="2761"/>
                  </a:lnTo>
                  <a:lnTo>
                    <a:pt x="636" y="2762"/>
                  </a:lnTo>
                  <a:lnTo>
                    <a:pt x="640" y="2762"/>
                  </a:lnTo>
                  <a:lnTo>
                    <a:pt x="647" y="2762"/>
                  </a:lnTo>
                  <a:lnTo>
                    <a:pt x="653" y="2762"/>
                  </a:lnTo>
                  <a:lnTo>
                    <a:pt x="661" y="2762"/>
                  </a:lnTo>
                  <a:lnTo>
                    <a:pt x="668" y="2764"/>
                  </a:lnTo>
                  <a:lnTo>
                    <a:pt x="675" y="2764"/>
                  </a:lnTo>
                  <a:lnTo>
                    <a:pt x="682" y="2762"/>
                  </a:lnTo>
                  <a:lnTo>
                    <a:pt x="690" y="2762"/>
                  </a:lnTo>
                  <a:lnTo>
                    <a:pt x="696" y="2761"/>
                  </a:lnTo>
                  <a:lnTo>
                    <a:pt x="697" y="2762"/>
                  </a:lnTo>
                  <a:lnTo>
                    <a:pt x="699" y="2762"/>
                  </a:lnTo>
                  <a:lnTo>
                    <a:pt x="700" y="2761"/>
                  </a:lnTo>
                  <a:lnTo>
                    <a:pt x="701" y="2761"/>
                  </a:lnTo>
                  <a:lnTo>
                    <a:pt x="706" y="2761"/>
                  </a:lnTo>
                  <a:lnTo>
                    <a:pt x="709" y="2761"/>
                  </a:lnTo>
                  <a:lnTo>
                    <a:pt x="712" y="2759"/>
                  </a:lnTo>
                  <a:lnTo>
                    <a:pt x="713" y="2758"/>
                  </a:lnTo>
                  <a:lnTo>
                    <a:pt x="720" y="2756"/>
                  </a:lnTo>
                  <a:lnTo>
                    <a:pt x="728" y="2753"/>
                  </a:lnTo>
                  <a:lnTo>
                    <a:pt x="734" y="2749"/>
                  </a:lnTo>
                  <a:lnTo>
                    <a:pt x="739" y="2745"/>
                  </a:lnTo>
                  <a:lnTo>
                    <a:pt x="757" y="2740"/>
                  </a:lnTo>
                  <a:lnTo>
                    <a:pt x="758" y="2743"/>
                  </a:lnTo>
                  <a:lnTo>
                    <a:pt x="761" y="2746"/>
                  </a:lnTo>
                  <a:lnTo>
                    <a:pt x="764" y="2747"/>
                  </a:lnTo>
                  <a:lnTo>
                    <a:pt x="767" y="2749"/>
                  </a:lnTo>
                  <a:lnTo>
                    <a:pt x="774" y="2750"/>
                  </a:lnTo>
                  <a:lnTo>
                    <a:pt x="783" y="2752"/>
                  </a:lnTo>
                  <a:lnTo>
                    <a:pt x="792" y="2752"/>
                  </a:lnTo>
                  <a:lnTo>
                    <a:pt x="799" y="2749"/>
                  </a:lnTo>
                  <a:lnTo>
                    <a:pt x="804" y="2749"/>
                  </a:lnTo>
                  <a:lnTo>
                    <a:pt x="810" y="2750"/>
                  </a:lnTo>
                  <a:lnTo>
                    <a:pt x="814" y="2750"/>
                  </a:lnTo>
                  <a:lnTo>
                    <a:pt x="817" y="2747"/>
                  </a:lnTo>
                  <a:lnTo>
                    <a:pt x="820" y="2746"/>
                  </a:lnTo>
                  <a:lnTo>
                    <a:pt x="824" y="2745"/>
                  </a:lnTo>
                  <a:lnTo>
                    <a:pt x="827" y="2745"/>
                  </a:lnTo>
                  <a:lnTo>
                    <a:pt x="830" y="2745"/>
                  </a:lnTo>
                  <a:lnTo>
                    <a:pt x="836" y="2743"/>
                  </a:lnTo>
                  <a:lnTo>
                    <a:pt x="842" y="2740"/>
                  </a:lnTo>
                  <a:lnTo>
                    <a:pt x="846" y="2737"/>
                  </a:lnTo>
                  <a:lnTo>
                    <a:pt x="849" y="2731"/>
                  </a:lnTo>
                  <a:lnTo>
                    <a:pt x="850" y="2724"/>
                  </a:lnTo>
                  <a:lnTo>
                    <a:pt x="849" y="2717"/>
                  </a:lnTo>
                  <a:lnTo>
                    <a:pt x="852" y="2709"/>
                  </a:lnTo>
                  <a:lnTo>
                    <a:pt x="858" y="2705"/>
                  </a:lnTo>
                  <a:lnTo>
                    <a:pt x="859" y="2704"/>
                  </a:lnTo>
                  <a:lnTo>
                    <a:pt x="862" y="2704"/>
                  </a:lnTo>
                  <a:lnTo>
                    <a:pt x="864" y="2704"/>
                  </a:lnTo>
                  <a:lnTo>
                    <a:pt x="865" y="2702"/>
                  </a:lnTo>
                  <a:lnTo>
                    <a:pt x="872" y="2698"/>
                  </a:lnTo>
                  <a:lnTo>
                    <a:pt x="880" y="2692"/>
                  </a:lnTo>
                  <a:lnTo>
                    <a:pt x="887" y="2688"/>
                  </a:lnTo>
                  <a:lnTo>
                    <a:pt x="894" y="2682"/>
                  </a:lnTo>
                  <a:lnTo>
                    <a:pt x="896" y="2677"/>
                  </a:lnTo>
                  <a:lnTo>
                    <a:pt x="897" y="2673"/>
                  </a:lnTo>
                  <a:lnTo>
                    <a:pt x="897" y="2669"/>
                  </a:lnTo>
                  <a:lnTo>
                    <a:pt x="896" y="2664"/>
                  </a:lnTo>
                  <a:lnTo>
                    <a:pt x="894" y="2658"/>
                  </a:lnTo>
                  <a:lnTo>
                    <a:pt x="893" y="2652"/>
                  </a:lnTo>
                  <a:lnTo>
                    <a:pt x="890" y="2647"/>
                  </a:lnTo>
                  <a:lnTo>
                    <a:pt x="887" y="2641"/>
                  </a:lnTo>
                  <a:lnTo>
                    <a:pt x="891" y="2639"/>
                  </a:lnTo>
                  <a:lnTo>
                    <a:pt x="896" y="2638"/>
                  </a:lnTo>
                  <a:lnTo>
                    <a:pt x="900" y="2636"/>
                  </a:lnTo>
                  <a:lnTo>
                    <a:pt x="904" y="2636"/>
                  </a:lnTo>
                  <a:lnTo>
                    <a:pt x="907" y="2632"/>
                  </a:lnTo>
                  <a:lnTo>
                    <a:pt x="910" y="2628"/>
                  </a:lnTo>
                  <a:lnTo>
                    <a:pt x="912" y="2623"/>
                  </a:lnTo>
                  <a:lnTo>
                    <a:pt x="910" y="2620"/>
                  </a:lnTo>
                  <a:lnTo>
                    <a:pt x="909" y="2610"/>
                  </a:lnTo>
                  <a:lnTo>
                    <a:pt x="909" y="2601"/>
                  </a:lnTo>
                  <a:lnTo>
                    <a:pt x="909" y="2593"/>
                  </a:lnTo>
                  <a:lnTo>
                    <a:pt x="907" y="2584"/>
                  </a:lnTo>
                  <a:lnTo>
                    <a:pt x="910" y="2566"/>
                  </a:lnTo>
                  <a:lnTo>
                    <a:pt x="906" y="2556"/>
                  </a:lnTo>
                  <a:lnTo>
                    <a:pt x="903" y="2546"/>
                  </a:lnTo>
                  <a:lnTo>
                    <a:pt x="900" y="2537"/>
                  </a:lnTo>
                  <a:lnTo>
                    <a:pt x="891" y="2531"/>
                  </a:lnTo>
                  <a:lnTo>
                    <a:pt x="880" y="2524"/>
                  </a:lnTo>
                  <a:lnTo>
                    <a:pt x="887" y="2522"/>
                  </a:lnTo>
                  <a:lnTo>
                    <a:pt x="894" y="2521"/>
                  </a:lnTo>
                  <a:lnTo>
                    <a:pt x="902" y="2521"/>
                  </a:lnTo>
                  <a:lnTo>
                    <a:pt x="909" y="2520"/>
                  </a:lnTo>
                  <a:lnTo>
                    <a:pt x="918" y="2515"/>
                  </a:lnTo>
                  <a:lnTo>
                    <a:pt x="925" y="2511"/>
                  </a:lnTo>
                  <a:lnTo>
                    <a:pt x="932" y="2506"/>
                  </a:lnTo>
                  <a:lnTo>
                    <a:pt x="941" y="2502"/>
                  </a:lnTo>
                  <a:lnTo>
                    <a:pt x="948" y="2498"/>
                  </a:lnTo>
                  <a:lnTo>
                    <a:pt x="956" y="2495"/>
                  </a:lnTo>
                  <a:lnTo>
                    <a:pt x="964" y="2490"/>
                  </a:lnTo>
                  <a:lnTo>
                    <a:pt x="973" y="2487"/>
                  </a:lnTo>
                  <a:lnTo>
                    <a:pt x="985" y="2486"/>
                  </a:lnTo>
                  <a:lnTo>
                    <a:pt x="994" y="2487"/>
                  </a:lnTo>
                  <a:lnTo>
                    <a:pt x="1004" y="2490"/>
                  </a:lnTo>
                  <a:lnTo>
                    <a:pt x="1014" y="2492"/>
                  </a:lnTo>
                  <a:lnTo>
                    <a:pt x="1020" y="2495"/>
                  </a:lnTo>
                  <a:lnTo>
                    <a:pt x="1027" y="2495"/>
                  </a:lnTo>
                  <a:lnTo>
                    <a:pt x="1034" y="2495"/>
                  </a:lnTo>
                  <a:lnTo>
                    <a:pt x="1039" y="2499"/>
                  </a:lnTo>
                  <a:lnTo>
                    <a:pt x="1037" y="2509"/>
                  </a:lnTo>
                  <a:lnTo>
                    <a:pt x="1036" y="2518"/>
                  </a:lnTo>
                  <a:lnTo>
                    <a:pt x="1033" y="2527"/>
                  </a:lnTo>
                  <a:lnTo>
                    <a:pt x="1032" y="2537"/>
                  </a:lnTo>
                  <a:lnTo>
                    <a:pt x="1032" y="2543"/>
                  </a:lnTo>
                  <a:lnTo>
                    <a:pt x="1032" y="2549"/>
                  </a:lnTo>
                  <a:lnTo>
                    <a:pt x="1032" y="2555"/>
                  </a:lnTo>
                  <a:lnTo>
                    <a:pt x="1034" y="2559"/>
                  </a:lnTo>
                  <a:lnTo>
                    <a:pt x="1036" y="2566"/>
                  </a:lnTo>
                  <a:lnTo>
                    <a:pt x="1037" y="2572"/>
                  </a:lnTo>
                  <a:lnTo>
                    <a:pt x="1042" y="2578"/>
                  </a:lnTo>
                  <a:lnTo>
                    <a:pt x="1046" y="2582"/>
                  </a:lnTo>
                  <a:lnTo>
                    <a:pt x="1051" y="2590"/>
                  </a:lnTo>
                  <a:lnTo>
                    <a:pt x="1056" y="2594"/>
                  </a:lnTo>
                  <a:lnTo>
                    <a:pt x="1064" y="2597"/>
                  </a:lnTo>
                  <a:lnTo>
                    <a:pt x="1071" y="2598"/>
                  </a:lnTo>
                  <a:lnTo>
                    <a:pt x="1077" y="2597"/>
                  </a:lnTo>
                  <a:lnTo>
                    <a:pt x="1083" y="2594"/>
                  </a:lnTo>
                  <a:lnTo>
                    <a:pt x="1087" y="2591"/>
                  </a:lnTo>
                  <a:lnTo>
                    <a:pt x="1090" y="2588"/>
                  </a:lnTo>
                  <a:lnTo>
                    <a:pt x="1091" y="2582"/>
                  </a:lnTo>
                  <a:lnTo>
                    <a:pt x="1091" y="2578"/>
                  </a:lnTo>
                  <a:lnTo>
                    <a:pt x="1093" y="2572"/>
                  </a:lnTo>
                  <a:lnTo>
                    <a:pt x="1096" y="2568"/>
                  </a:lnTo>
                  <a:lnTo>
                    <a:pt x="1096" y="2565"/>
                  </a:lnTo>
                  <a:lnTo>
                    <a:pt x="1097" y="2562"/>
                  </a:lnTo>
                  <a:lnTo>
                    <a:pt x="1099" y="2560"/>
                  </a:lnTo>
                  <a:lnTo>
                    <a:pt x="1100" y="2558"/>
                  </a:lnTo>
                  <a:lnTo>
                    <a:pt x="1103" y="2552"/>
                  </a:lnTo>
                  <a:lnTo>
                    <a:pt x="1109" y="2546"/>
                  </a:lnTo>
                  <a:lnTo>
                    <a:pt x="1115" y="2541"/>
                  </a:lnTo>
                  <a:lnTo>
                    <a:pt x="1121" y="2537"/>
                  </a:lnTo>
                  <a:lnTo>
                    <a:pt x="1121" y="2530"/>
                  </a:lnTo>
                  <a:lnTo>
                    <a:pt x="1121" y="2524"/>
                  </a:lnTo>
                  <a:lnTo>
                    <a:pt x="1121" y="2517"/>
                  </a:lnTo>
                  <a:lnTo>
                    <a:pt x="1121" y="2511"/>
                  </a:lnTo>
                  <a:lnTo>
                    <a:pt x="1121" y="2505"/>
                  </a:lnTo>
                  <a:lnTo>
                    <a:pt x="1122" y="2499"/>
                  </a:lnTo>
                  <a:lnTo>
                    <a:pt x="1124" y="2493"/>
                  </a:lnTo>
                  <a:lnTo>
                    <a:pt x="1128" y="2489"/>
                  </a:lnTo>
                  <a:lnTo>
                    <a:pt x="1137" y="2487"/>
                  </a:lnTo>
                  <a:lnTo>
                    <a:pt x="1145" y="2486"/>
                  </a:lnTo>
                  <a:lnTo>
                    <a:pt x="1153" y="2486"/>
                  </a:lnTo>
                  <a:lnTo>
                    <a:pt x="1162" y="2486"/>
                  </a:lnTo>
                  <a:lnTo>
                    <a:pt x="1167" y="2486"/>
                  </a:lnTo>
                  <a:lnTo>
                    <a:pt x="1173" y="2486"/>
                  </a:lnTo>
                  <a:lnTo>
                    <a:pt x="1179" y="2484"/>
                  </a:lnTo>
                  <a:lnTo>
                    <a:pt x="1185" y="2484"/>
                  </a:lnTo>
                  <a:lnTo>
                    <a:pt x="1191" y="2483"/>
                  </a:lnTo>
                  <a:lnTo>
                    <a:pt x="1195" y="2482"/>
                  </a:lnTo>
                  <a:lnTo>
                    <a:pt x="1201" y="2480"/>
                  </a:lnTo>
                  <a:lnTo>
                    <a:pt x="1207" y="2479"/>
                  </a:lnTo>
                  <a:lnTo>
                    <a:pt x="1216" y="2465"/>
                  </a:lnTo>
                  <a:lnTo>
                    <a:pt x="1220" y="2451"/>
                  </a:lnTo>
                  <a:lnTo>
                    <a:pt x="1224" y="2435"/>
                  </a:lnTo>
                  <a:lnTo>
                    <a:pt x="1229" y="2420"/>
                  </a:lnTo>
                  <a:lnTo>
                    <a:pt x="1232" y="2420"/>
                  </a:lnTo>
                  <a:lnTo>
                    <a:pt x="1232" y="2417"/>
                  </a:lnTo>
                  <a:lnTo>
                    <a:pt x="1233" y="2416"/>
                  </a:lnTo>
                  <a:lnTo>
                    <a:pt x="1235" y="2416"/>
                  </a:lnTo>
                  <a:lnTo>
                    <a:pt x="1236" y="2419"/>
                  </a:lnTo>
                  <a:lnTo>
                    <a:pt x="1240" y="2422"/>
                  </a:lnTo>
                  <a:lnTo>
                    <a:pt x="1243" y="2425"/>
                  </a:lnTo>
                  <a:lnTo>
                    <a:pt x="1246" y="2426"/>
                  </a:lnTo>
                  <a:lnTo>
                    <a:pt x="1251" y="2430"/>
                  </a:lnTo>
                  <a:lnTo>
                    <a:pt x="1256" y="2435"/>
                  </a:lnTo>
                  <a:lnTo>
                    <a:pt x="1259" y="2439"/>
                  </a:lnTo>
                  <a:lnTo>
                    <a:pt x="1262" y="2445"/>
                  </a:lnTo>
                  <a:lnTo>
                    <a:pt x="1265" y="2445"/>
                  </a:lnTo>
                  <a:lnTo>
                    <a:pt x="1268" y="2445"/>
                  </a:lnTo>
                  <a:lnTo>
                    <a:pt x="1271" y="2444"/>
                  </a:lnTo>
                  <a:lnTo>
                    <a:pt x="1273" y="2441"/>
                  </a:lnTo>
                  <a:lnTo>
                    <a:pt x="1273" y="2430"/>
                  </a:lnTo>
                  <a:lnTo>
                    <a:pt x="1273" y="2420"/>
                  </a:lnTo>
                  <a:lnTo>
                    <a:pt x="1271" y="2411"/>
                  </a:lnTo>
                  <a:lnTo>
                    <a:pt x="1268" y="2401"/>
                  </a:lnTo>
                  <a:lnTo>
                    <a:pt x="1268" y="2394"/>
                  </a:lnTo>
                  <a:lnTo>
                    <a:pt x="1267" y="2385"/>
                  </a:lnTo>
                  <a:lnTo>
                    <a:pt x="1264" y="2378"/>
                  </a:lnTo>
                  <a:lnTo>
                    <a:pt x="1261" y="2370"/>
                  </a:lnTo>
                  <a:lnTo>
                    <a:pt x="1256" y="2356"/>
                  </a:lnTo>
                  <a:lnTo>
                    <a:pt x="1254" y="2340"/>
                  </a:lnTo>
                  <a:lnTo>
                    <a:pt x="1249" y="2324"/>
                  </a:lnTo>
                  <a:lnTo>
                    <a:pt x="1240" y="2309"/>
                  </a:lnTo>
                  <a:lnTo>
                    <a:pt x="1236" y="2295"/>
                  </a:lnTo>
                  <a:lnTo>
                    <a:pt x="1232" y="2278"/>
                  </a:lnTo>
                  <a:lnTo>
                    <a:pt x="1230" y="2262"/>
                  </a:lnTo>
                  <a:lnTo>
                    <a:pt x="1227" y="2246"/>
                  </a:lnTo>
                  <a:lnTo>
                    <a:pt x="1224" y="2238"/>
                  </a:lnTo>
                  <a:lnTo>
                    <a:pt x="1221" y="2227"/>
                  </a:lnTo>
                  <a:lnTo>
                    <a:pt x="1220" y="2219"/>
                  </a:lnTo>
                  <a:lnTo>
                    <a:pt x="1218" y="2210"/>
                  </a:lnTo>
                  <a:lnTo>
                    <a:pt x="1220" y="2201"/>
                  </a:lnTo>
                  <a:lnTo>
                    <a:pt x="1218" y="2192"/>
                  </a:lnTo>
                  <a:lnTo>
                    <a:pt x="1216" y="2185"/>
                  </a:lnTo>
                  <a:lnTo>
                    <a:pt x="1210" y="2179"/>
                  </a:lnTo>
                  <a:lnTo>
                    <a:pt x="1208" y="2173"/>
                  </a:lnTo>
                  <a:lnTo>
                    <a:pt x="1205" y="2169"/>
                  </a:lnTo>
                  <a:lnTo>
                    <a:pt x="1202" y="2164"/>
                  </a:lnTo>
                  <a:lnTo>
                    <a:pt x="1202" y="2159"/>
                  </a:lnTo>
                  <a:lnTo>
                    <a:pt x="1199" y="2150"/>
                  </a:lnTo>
                  <a:lnTo>
                    <a:pt x="1198" y="2141"/>
                  </a:lnTo>
                  <a:lnTo>
                    <a:pt x="1195" y="2134"/>
                  </a:lnTo>
                  <a:lnTo>
                    <a:pt x="1194" y="2125"/>
                  </a:lnTo>
                  <a:lnTo>
                    <a:pt x="1197" y="2124"/>
                  </a:lnTo>
                  <a:lnTo>
                    <a:pt x="1199" y="2121"/>
                  </a:lnTo>
                  <a:lnTo>
                    <a:pt x="1201" y="2118"/>
                  </a:lnTo>
                  <a:lnTo>
                    <a:pt x="1202" y="2115"/>
                  </a:lnTo>
                  <a:lnTo>
                    <a:pt x="1202" y="2110"/>
                  </a:lnTo>
                  <a:lnTo>
                    <a:pt x="1201" y="2106"/>
                  </a:lnTo>
                  <a:lnTo>
                    <a:pt x="1201" y="2102"/>
                  </a:lnTo>
                  <a:lnTo>
                    <a:pt x="1198" y="2099"/>
                  </a:lnTo>
                  <a:lnTo>
                    <a:pt x="1199" y="2097"/>
                  </a:lnTo>
                  <a:lnTo>
                    <a:pt x="1201" y="2097"/>
                  </a:lnTo>
                  <a:lnTo>
                    <a:pt x="1202" y="2096"/>
                  </a:lnTo>
                  <a:lnTo>
                    <a:pt x="1202" y="2094"/>
                  </a:lnTo>
                  <a:lnTo>
                    <a:pt x="1201" y="2091"/>
                  </a:lnTo>
                  <a:lnTo>
                    <a:pt x="1199" y="2087"/>
                  </a:lnTo>
                  <a:lnTo>
                    <a:pt x="1198" y="2084"/>
                  </a:lnTo>
                  <a:lnTo>
                    <a:pt x="1202" y="2081"/>
                  </a:lnTo>
                  <a:lnTo>
                    <a:pt x="1204" y="2080"/>
                  </a:lnTo>
                  <a:lnTo>
                    <a:pt x="1204" y="2078"/>
                  </a:lnTo>
                  <a:lnTo>
                    <a:pt x="1204" y="2075"/>
                  </a:lnTo>
                  <a:lnTo>
                    <a:pt x="1202" y="2074"/>
                  </a:lnTo>
                  <a:lnTo>
                    <a:pt x="1192" y="2059"/>
                  </a:lnTo>
                  <a:lnTo>
                    <a:pt x="1191" y="2055"/>
                  </a:lnTo>
                  <a:lnTo>
                    <a:pt x="1189" y="2050"/>
                  </a:lnTo>
                  <a:lnTo>
                    <a:pt x="1188" y="2046"/>
                  </a:lnTo>
                  <a:lnTo>
                    <a:pt x="1185" y="2042"/>
                  </a:lnTo>
                  <a:lnTo>
                    <a:pt x="1183" y="2033"/>
                  </a:lnTo>
                  <a:lnTo>
                    <a:pt x="1182" y="2024"/>
                  </a:lnTo>
                  <a:lnTo>
                    <a:pt x="1182" y="2017"/>
                  </a:lnTo>
                  <a:lnTo>
                    <a:pt x="1183" y="2008"/>
                  </a:lnTo>
                  <a:lnTo>
                    <a:pt x="1186" y="2005"/>
                  </a:lnTo>
                  <a:lnTo>
                    <a:pt x="1188" y="2004"/>
                  </a:lnTo>
                  <a:lnTo>
                    <a:pt x="1191" y="2001"/>
                  </a:lnTo>
                  <a:lnTo>
                    <a:pt x="1192" y="1999"/>
                  </a:lnTo>
                  <a:lnTo>
                    <a:pt x="1197" y="1996"/>
                  </a:lnTo>
                  <a:lnTo>
                    <a:pt x="1204" y="1995"/>
                  </a:lnTo>
                  <a:lnTo>
                    <a:pt x="1210" y="1995"/>
                  </a:lnTo>
                  <a:lnTo>
                    <a:pt x="1216" y="1995"/>
                  </a:lnTo>
                  <a:lnTo>
                    <a:pt x="1221" y="1992"/>
                  </a:lnTo>
                  <a:lnTo>
                    <a:pt x="1227" y="1989"/>
                  </a:lnTo>
                  <a:lnTo>
                    <a:pt x="1235" y="1986"/>
                  </a:lnTo>
                  <a:lnTo>
                    <a:pt x="1240" y="1983"/>
                  </a:lnTo>
                  <a:lnTo>
                    <a:pt x="1240" y="1980"/>
                  </a:lnTo>
                  <a:lnTo>
                    <a:pt x="1248" y="1977"/>
                  </a:lnTo>
                  <a:lnTo>
                    <a:pt x="1255" y="1975"/>
                  </a:lnTo>
                  <a:lnTo>
                    <a:pt x="1262" y="1973"/>
                  </a:lnTo>
                  <a:lnTo>
                    <a:pt x="1271" y="1972"/>
                  </a:lnTo>
                  <a:lnTo>
                    <a:pt x="1274" y="1969"/>
                  </a:lnTo>
                  <a:lnTo>
                    <a:pt x="1278" y="1966"/>
                  </a:lnTo>
                  <a:lnTo>
                    <a:pt x="1283" y="1963"/>
                  </a:lnTo>
                  <a:lnTo>
                    <a:pt x="1287" y="1961"/>
                  </a:lnTo>
                  <a:lnTo>
                    <a:pt x="1293" y="1954"/>
                  </a:lnTo>
                  <a:lnTo>
                    <a:pt x="1300" y="1948"/>
                  </a:lnTo>
                  <a:lnTo>
                    <a:pt x="1308" y="1944"/>
                  </a:lnTo>
                  <a:lnTo>
                    <a:pt x="1316" y="1938"/>
                  </a:lnTo>
                  <a:lnTo>
                    <a:pt x="1324" y="1932"/>
                  </a:lnTo>
                  <a:lnTo>
                    <a:pt x="1331" y="1928"/>
                  </a:lnTo>
                  <a:lnTo>
                    <a:pt x="1338" y="1922"/>
                  </a:lnTo>
                  <a:lnTo>
                    <a:pt x="1344" y="1915"/>
                  </a:lnTo>
                  <a:lnTo>
                    <a:pt x="1346" y="1913"/>
                  </a:lnTo>
                  <a:lnTo>
                    <a:pt x="1347" y="1912"/>
                  </a:lnTo>
                  <a:lnTo>
                    <a:pt x="1348" y="1912"/>
                  </a:lnTo>
                  <a:lnTo>
                    <a:pt x="1350" y="1913"/>
                  </a:lnTo>
                  <a:lnTo>
                    <a:pt x="1350" y="1913"/>
                  </a:lnTo>
                  <a:lnTo>
                    <a:pt x="1351" y="1915"/>
                  </a:lnTo>
                  <a:lnTo>
                    <a:pt x="1353" y="1915"/>
                  </a:lnTo>
                  <a:lnTo>
                    <a:pt x="1354" y="1913"/>
                  </a:lnTo>
                  <a:lnTo>
                    <a:pt x="1360" y="1909"/>
                  </a:lnTo>
                  <a:lnTo>
                    <a:pt x="1367" y="1901"/>
                  </a:lnTo>
                  <a:lnTo>
                    <a:pt x="1373" y="1896"/>
                  </a:lnTo>
                  <a:lnTo>
                    <a:pt x="1379" y="1891"/>
                  </a:lnTo>
                  <a:lnTo>
                    <a:pt x="1385" y="1891"/>
                  </a:lnTo>
                  <a:lnTo>
                    <a:pt x="1389" y="1887"/>
                  </a:lnTo>
                  <a:lnTo>
                    <a:pt x="1394" y="1882"/>
                  </a:lnTo>
                  <a:lnTo>
                    <a:pt x="1398" y="1878"/>
                  </a:lnTo>
                  <a:lnTo>
                    <a:pt x="1408" y="1863"/>
                  </a:lnTo>
                  <a:lnTo>
                    <a:pt x="1419" y="1849"/>
                  </a:lnTo>
                  <a:lnTo>
                    <a:pt x="1429" y="1833"/>
                  </a:lnTo>
                  <a:lnTo>
                    <a:pt x="1438" y="1817"/>
                  </a:lnTo>
                  <a:lnTo>
                    <a:pt x="1440" y="1811"/>
                  </a:lnTo>
                  <a:lnTo>
                    <a:pt x="1443" y="1805"/>
                  </a:lnTo>
                  <a:lnTo>
                    <a:pt x="1445" y="1801"/>
                  </a:lnTo>
                  <a:lnTo>
                    <a:pt x="1446" y="1795"/>
                  </a:lnTo>
                  <a:lnTo>
                    <a:pt x="1449" y="1792"/>
                  </a:lnTo>
                  <a:lnTo>
                    <a:pt x="1452" y="1798"/>
                  </a:lnTo>
                  <a:lnTo>
                    <a:pt x="1457" y="1804"/>
                  </a:lnTo>
                  <a:lnTo>
                    <a:pt x="1459" y="1809"/>
                  </a:lnTo>
                  <a:lnTo>
                    <a:pt x="1462" y="1815"/>
                  </a:lnTo>
                  <a:lnTo>
                    <a:pt x="1468" y="1824"/>
                  </a:lnTo>
                  <a:lnTo>
                    <a:pt x="1473" y="1831"/>
                  </a:lnTo>
                  <a:lnTo>
                    <a:pt x="1478" y="1840"/>
                  </a:lnTo>
                  <a:lnTo>
                    <a:pt x="1484" y="1849"/>
                  </a:lnTo>
                  <a:lnTo>
                    <a:pt x="1487" y="1858"/>
                  </a:lnTo>
                  <a:lnTo>
                    <a:pt x="1492" y="1868"/>
                  </a:lnTo>
                  <a:lnTo>
                    <a:pt x="1496" y="1877"/>
                  </a:lnTo>
                  <a:lnTo>
                    <a:pt x="1502" y="1887"/>
                  </a:lnTo>
                  <a:lnTo>
                    <a:pt x="1511" y="1897"/>
                  </a:lnTo>
                  <a:lnTo>
                    <a:pt x="1516" y="1909"/>
                  </a:lnTo>
                  <a:lnTo>
                    <a:pt x="1522" y="1920"/>
                  </a:lnTo>
                  <a:lnTo>
                    <a:pt x="1530" y="1932"/>
                  </a:lnTo>
                  <a:lnTo>
                    <a:pt x="1538" y="1945"/>
                  </a:lnTo>
                  <a:lnTo>
                    <a:pt x="1546" y="1958"/>
                  </a:lnTo>
                  <a:lnTo>
                    <a:pt x="1551" y="1972"/>
                  </a:lnTo>
                  <a:lnTo>
                    <a:pt x="1559" y="1985"/>
                  </a:lnTo>
                  <a:lnTo>
                    <a:pt x="1566" y="1995"/>
                  </a:lnTo>
                  <a:lnTo>
                    <a:pt x="1573" y="2004"/>
                  </a:lnTo>
                  <a:lnTo>
                    <a:pt x="1579" y="2012"/>
                  </a:lnTo>
                  <a:lnTo>
                    <a:pt x="1587" y="2021"/>
                  </a:lnTo>
                  <a:lnTo>
                    <a:pt x="1588" y="2023"/>
                  </a:lnTo>
                  <a:lnTo>
                    <a:pt x="1589" y="2024"/>
                  </a:lnTo>
                  <a:lnTo>
                    <a:pt x="1592" y="2024"/>
                  </a:lnTo>
                  <a:lnTo>
                    <a:pt x="1594" y="2023"/>
                  </a:lnTo>
                  <a:lnTo>
                    <a:pt x="1595" y="2021"/>
                  </a:lnTo>
                  <a:lnTo>
                    <a:pt x="1597" y="2018"/>
                  </a:lnTo>
                  <a:lnTo>
                    <a:pt x="1597" y="2017"/>
                  </a:lnTo>
                  <a:lnTo>
                    <a:pt x="1598" y="2015"/>
                  </a:lnTo>
                  <a:lnTo>
                    <a:pt x="1605" y="2023"/>
                  </a:lnTo>
                  <a:lnTo>
                    <a:pt x="1611" y="2033"/>
                  </a:lnTo>
                  <a:lnTo>
                    <a:pt x="1616" y="2042"/>
                  </a:lnTo>
                  <a:lnTo>
                    <a:pt x="1622" y="2050"/>
                  </a:lnTo>
                  <a:lnTo>
                    <a:pt x="1632" y="2067"/>
                  </a:lnTo>
                  <a:lnTo>
                    <a:pt x="1643" y="2084"/>
                  </a:lnTo>
                  <a:lnTo>
                    <a:pt x="1654" y="2100"/>
                  </a:lnTo>
                  <a:lnTo>
                    <a:pt x="1664" y="2118"/>
                  </a:lnTo>
                  <a:lnTo>
                    <a:pt x="1676" y="2128"/>
                  </a:lnTo>
                  <a:lnTo>
                    <a:pt x="1684" y="2138"/>
                  </a:lnTo>
                  <a:lnTo>
                    <a:pt x="1692" y="2150"/>
                  </a:lnTo>
                  <a:lnTo>
                    <a:pt x="1697" y="2163"/>
                  </a:lnTo>
                  <a:lnTo>
                    <a:pt x="1700" y="2170"/>
                  </a:lnTo>
                  <a:lnTo>
                    <a:pt x="1702" y="2179"/>
                  </a:lnTo>
                  <a:lnTo>
                    <a:pt x="1703" y="2188"/>
                  </a:lnTo>
                  <a:lnTo>
                    <a:pt x="1709" y="2195"/>
                  </a:lnTo>
                  <a:lnTo>
                    <a:pt x="1714" y="2195"/>
                  </a:lnTo>
                  <a:lnTo>
                    <a:pt x="1718" y="2197"/>
                  </a:lnTo>
                  <a:lnTo>
                    <a:pt x="1722" y="2200"/>
                  </a:lnTo>
                  <a:lnTo>
                    <a:pt x="1725" y="2204"/>
                  </a:lnTo>
                  <a:lnTo>
                    <a:pt x="1730" y="2208"/>
                  </a:lnTo>
                  <a:lnTo>
                    <a:pt x="1734" y="2210"/>
                  </a:lnTo>
                  <a:lnTo>
                    <a:pt x="1738" y="2213"/>
                  </a:lnTo>
                  <a:lnTo>
                    <a:pt x="1741" y="2217"/>
                  </a:lnTo>
                  <a:lnTo>
                    <a:pt x="1743" y="2223"/>
                  </a:lnTo>
                  <a:lnTo>
                    <a:pt x="1744" y="2227"/>
                  </a:lnTo>
                  <a:lnTo>
                    <a:pt x="1746" y="2232"/>
                  </a:lnTo>
                  <a:lnTo>
                    <a:pt x="1749" y="2236"/>
                  </a:lnTo>
                  <a:lnTo>
                    <a:pt x="1756" y="2249"/>
                  </a:lnTo>
                  <a:lnTo>
                    <a:pt x="1763" y="2264"/>
                  </a:lnTo>
                  <a:lnTo>
                    <a:pt x="1769" y="2277"/>
                  </a:lnTo>
                  <a:lnTo>
                    <a:pt x="1771" y="2292"/>
                  </a:lnTo>
                  <a:lnTo>
                    <a:pt x="1772" y="2302"/>
                  </a:lnTo>
                  <a:lnTo>
                    <a:pt x="1776" y="2311"/>
                  </a:lnTo>
                  <a:lnTo>
                    <a:pt x="1778" y="2321"/>
                  </a:lnTo>
                  <a:lnTo>
                    <a:pt x="1778" y="2331"/>
                  </a:lnTo>
                  <a:lnTo>
                    <a:pt x="1778" y="2334"/>
                  </a:lnTo>
                  <a:lnTo>
                    <a:pt x="1778" y="2338"/>
                  </a:lnTo>
                  <a:lnTo>
                    <a:pt x="1776" y="2343"/>
                  </a:lnTo>
                  <a:lnTo>
                    <a:pt x="1778" y="2347"/>
                  </a:lnTo>
                  <a:lnTo>
                    <a:pt x="1776" y="2351"/>
                  </a:lnTo>
                  <a:lnTo>
                    <a:pt x="1776" y="2356"/>
                  </a:lnTo>
                  <a:lnTo>
                    <a:pt x="1775" y="2362"/>
                  </a:lnTo>
                  <a:lnTo>
                    <a:pt x="1775" y="2366"/>
                  </a:lnTo>
                  <a:lnTo>
                    <a:pt x="1768" y="2373"/>
                  </a:lnTo>
                  <a:lnTo>
                    <a:pt x="1760" y="2378"/>
                  </a:lnTo>
                  <a:lnTo>
                    <a:pt x="1752" y="2382"/>
                  </a:lnTo>
                  <a:lnTo>
                    <a:pt x="1746" y="2388"/>
                  </a:lnTo>
                  <a:lnTo>
                    <a:pt x="1741" y="2394"/>
                  </a:lnTo>
                  <a:lnTo>
                    <a:pt x="1737" y="2398"/>
                  </a:lnTo>
                  <a:lnTo>
                    <a:pt x="1734" y="2404"/>
                  </a:lnTo>
                  <a:lnTo>
                    <a:pt x="1731" y="2410"/>
                  </a:lnTo>
                  <a:lnTo>
                    <a:pt x="1725" y="2414"/>
                  </a:lnTo>
                  <a:lnTo>
                    <a:pt x="1721" y="2420"/>
                  </a:lnTo>
                  <a:lnTo>
                    <a:pt x="1716" y="2426"/>
                  </a:lnTo>
                  <a:lnTo>
                    <a:pt x="1714" y="2432"/>
                  </a:lnTo>
                  <a:lnTo>
                    <a:pt x="1711" y="2436"/>
                  </a:lnTo>
                  <a:lnTo>
                    <a:pt x="1708" y="2441"/>
                  </a:lnTo>
                  <a:lnTo>
                    <a:pt x="1706" y="2445"/>
                  </a:lnTo>
                  <a:lnTo>
                    <a:pt x="1705" y="2449"/>
                  </a:lnTo>
                  <a:lnTo>
                    <a:pt x="1699" y="2457"/>
                  </a:lnTo>
                  <a:lnTo>
                    <a:pt x="1693" y="2463"/>
                  </a:lnTo>
                  <a:lnTo>
                    <a:pt x="1687" y="2468"/>
                  </a:lnTo>
                  <a:lnTo>
                    <a:pt x="1679" y="2473"/>
                  </a:lnTo>
                  <a:lnTo>
                    <a:pt x="1677" y="2477"/>
                  </a:lnTo>
                  <a:lnTo>
                    <a:pt x="1676" y="2480"/>
                  </a:lnTo>
                  <a:lnTo>
                    <a:pt x="1674" y="2484"/>
                  </a:lnTo>
                  <a:lnTo>
                    <a:pt x="1671" y="2489"/>
                  </a:lnTo>
                  <a:lnTo>
                    <a:pt x="1665" y="2511"/>
                  </a:lnTo>
                  <a:lnTo>
                    <a:pt x="1665" y="2515"/>
                  </a:lnTo>
                  <a:lnTo>
                    <a:pt x="1667" y="2520"/>
                  </a:lnTo>
                  <a:lnTo>
                    <a:pt x="1667" y="2524"/>
                  </a:lnTo>
                  <a:lnTo>
                    <a:pt x="1670" y="2528"/>
                  </a:lnTo>
                  <a:lnTo>
                    <a:pt x="1671" y="2530"/>
                  </a:lnTo>
                  <a:lnTo>
                    <a:pt x="1673" y="2533"/>
                  </a:lnTo>
                  <a:lnTo>
                    <a:pt x="1676" y="2534"/>
                  </a:lnTo>
                  <a:lnTo>
                    <a:pt x="1677" y="2536"/>
                  </a:lnTo>
                  <a:lnTo>
                    <a:pt x="1681" y="2536"/>
                  </a:lnTo>
                  <a:lnTo>
                    <a:pt x="1687" y="2534"/>
                  </a:lnTo>
                  <a:lnTo>
                    <a:pt x="1693" y="2531"/>
                  </a:lnTo>
                  <a:lnTo>
                    <a:pt x="1697" y="2530"/>
                  </a:lnTo>
                  <a:lnTo>
                    <a:pt x="1702" y="2530"/>
                  </a:lnTo>
                  <a:lnTo>
                    <a:pt x="1706" y="2528"/>
                  </a:lnTo>
                  <a:lnTo>
                    <a:pt x="1709" y="2528"/>
                  </a:lnTo>
                  <a:lnTo>
                    <a:pt x="1714" y="2527"/>
                  </a:lnTo>
                  <a:lnTo>
                    <a:pt x="1722" y="2518"/>
                  </a:lnTo>
                  <a:lnTo>
                    <a:pt x="1733" y="2511"/>
                  </a:lnTo>
                  <a:lnTo>
                    <a:pt x="1743" y="2505"/>
                  </a:lnTo>
                  <a:lnTo>
                    <a:pt x="1754" y="2498"/>
                  </a:lnTo>
                  <a:lnTo>
                    <a:pt x="1757" y="2493"/>
                  </a:lnTo>
                  <a:lnTo>
                    <a:pt x="1759" y="2489"/>
                  </a:lnTo>
                  <a:lnTo>
                    <a:pt x="1757" y="2483"/>
                  </a:lnTo>
                  <a:lnTo>
                    <a:pt x="1759" y="2479"/>
                  </a:lnTo>
                  <a:lnTo>
                    <a:pt x="1762" y="2473"/>
                  </a:lnTo>
                  <a:lnTo>
                    <a:pt x="1765" y="2468"/>
                  </a:lnTo>
                  <a:lnTo>
                    <a:pt x="1771" y="2464"/>
                  </a:lnTo>
                  <a:lnTo>
                    <a:pt x="1775" y="2461"/>
                  </a:lnTo>
                  <a:lnTo>
                    <a:pt x="1778" y="2460"/>
                  </a:lnTo>
                  <a:lnTo>
                    <a:pt x="1782" y="2458"/>
                  </a:lnTo>
                  <a:lnTo>
                    <a:pt x="1785" y="2457"/>
                  </a:lnTo>
                  <a:lnTo>
                    <a:pt x="1788" y="2458"/>
                  </a:lnTo>
                  <a:lnTo>
                    <a:pt x="1798" y="2460"/>
                  </a:lnTo>
                  <a:lnTo>
                    <a:pt x="1808" y="2460"/>
                  </a:lnTo>
                  <a:lnTo>
                    <a:pt x="1820" y="2457"/>
                  </a:lnTo>
                  <a:lnTo>
                    <a:pt x="1829" y="2452"/>
                  </a:lnTo>
                  <a:lnTo>
                    <a:pt x="1836" y="2454"/>
                  </a:lnTo>
                  <a:lnTo>
                    <a:pt x="1842" y="2454"/>
                  </a:lnTo>
                  <a:lnTo>
                    <a:pt x="1849" y="2452"/>
                  </a:lnTo>
                  <a:lnTo>
                    <a:pt x="1855" y="2452"/>
                  </a:lnTo>
                  <a:lnTo>
                    <a:pt x="1863" y="2454"/>
                  </a:lnTo>
                  <a:lnTo>
                    <a:pt x="1868" y="2452"/>
                  </a:lnTo>
                  <a:lnTo>
                    <a:pt x="1876" y="2452"/>
                  </a:lnTo>
                  <a:lnTo>
                    <a:pt x="1883" y="2452"/>
                  </a:lnTo>
                  <a:lnTo>
                    <a:pt x="1890" y="2454"/>
                  </a:lnTo>
                  <a:lnTo>
                    <a:pt x="1899" y="2458"/>
                  </a:lnTo>
                  <a:lnTo>
                    <a:pt x="1905" y="2464"/>
                  </a:lnTo>
                  <a:lnTo>
                    <a:pt x="1911" y="2471"/>
                  </a:lnTo>
                  <a:lnTo>
                    <a:pt x="1919" y="2479"/>
                  </a:lnTo>
                  <a:lnTo>
                    <a:pt x="1927" y="2487"/>
                  </a:lnTo>
                  <a:lnTo>
                    <a:pt x="1936" y="2495"/>
                  </a:lnTo>
                  <a:lnTo>
                    <a:pt x="1943" y="2503"/>
                  </a:lnTo>
                  <a:lnTo>
                    <a:pt x="1944" y="2517"/>
                  </a:lnTo>
                  <a:lnTo>
                    <a:pt x="1950" y="2524"/>
                  </a:lnTo>
                  <a:lnTo>
                    <a:pt x="1957" y="2530"/>
                  </a:lnTo>
                  <a:lnTo>
                    <a:pt x="1963" y="2537"/>
                  </a:lnTo>
                  <a:lnTo>
                    <a:pt x="1968" y="2544"/>
                  </a:lnTo>
                  <a:lnTo>
                    <a:pt x="1974" y="2549"/>
                  </a:lnTo>
                  <a:lnTo>
                    <a:pt x="1979" y="2553"/>
                  </a:lnTo>
                  <a:lnTo>
                    <a:pt x="1984" y="2558"/>
                  </a:lnTo>
                  <a:lnTo>
                    <a:pt x="1991" y="2559"/>
                  </a:lnTo>
                  <a:lnTo>
                    <a:pt x="1998" y="2562"/>
                  </a:lnTo>
                  <a:lnTo>
                    <a:pt x="2004" y="2560"/>
                  </a:lnTo>
                  <a:lnTo>
                    <a:pt x="2011" y="2560"/>
                  </a:lnTo>
                  <a:lnTo>
                    <a:pt x="2017" y="2559"/>
                  </a:lnTo>
                  <a:lnTo>
                    <a:pt x="2020" y="2558"/>
                  </a:lnTo>
                  <a:lnTo>
                    <a:pt x="2022" y="2555"/>
                  </a:lnTo>
                  <a:lnTo>
                    <a:pt x="2022" y="2553"/>
                  </a:lnTo>
                  <a:lnTo>
                    <a:pt x="2022" y="2550"/>
                  </a:lnTo>
                  <a:lnTo>
                    <a:pt x="2026" y="2549"/>
                  </a:lnTo>
                  <a:lnTo>
                    <a:pt x="2029" y="2552"/>
                  </a:lnTo>
                  <a:lnTo>
                    <a:pt x="2032" y="2555"/>
                  </a:lnTo>
                  <a:lnTo>
                    <a:pt x="2035" y="2558"/>
                  </a:lnTo>
                  <a:lnTo>
                    <a:pt x="2042" y="2565"/>
                  </a:lnTo>
                  <a:lnTo>
                    <a:pt x="2049" y="2569"/>
                  </a:lnTo>
                  <a:lnTo>
                    <a:pt x="2058" y="2572"/>
                  </a:lnTo>
                  <a:lnTo>
                    <a:pt x="2068" y="2575"/>
                  </a:lnTo>
                  <a:lnTo>
                    <a:pt x="2073" y="2574"/>
                  </a:lnTo>
                  <a:lnTo>
                    <a:pt x="2076" y="2572"/>
                  </a:lnTo>
                  <a:lnTo>
                    <a:pt x="2079" y="2571"/>
                  </a:lnTo>
                  <a:lnTo>
                    <a:pt x="2083" y="2572"/>
                  </a:lnTo>
                  <a:lnTo>
                    <a:pt x="2086" y="2574"/>
                  </a:lnTo>
                  <a:lnTo>
                    <a:pt x="2090" y="2575"/>
                  </a:lnTo>
                  <a:lnTo>
                    <a:pt x="2093" y="2578"/>
                  </a:lnTo>
                  <a:lnTo>
                    <a:pt x="2096" y="2581"/>
                  </a:lnTo>
                  <a:lnTo>
                    <a:pt x="2099" y="2581"/>
                  </a:lnTo>
                  <a:lnTo>
                    <a:pt x="2104" y="2582"/>
                  </a:lnTo>
                  <a:lnTo>
                    <a:pt x="2108" y="2582"/>
                  </a:lnTo>
                  <a:lnTo>
                    <a:pt x="2112" y="2584"/>
                  </a:lnTo>
                  <a:lnTo>
                    <a:pt x="2118" y="2582"/>
                  </a:lnTo>
                  <a:lnTo>
                    <a:pt x="2124" y="2579"/>
                  </a:lnTo>
                  <a:lnTo>
                    <a:pt x="2130" y="2575"/>
                  </a:lnTo>
                  <a:lnTo>
                    <a:pt x="2133" y="2569"/>
                  </a:lnTo>
                  <a:lnTo>
                    <a:pt x="2133" y="2566"/>
                  </a:lnTo>
                  <a:lnTo>
                    <a:pt x="2131" y="2563"/>
                  </a:lnTo>
                  <a:lnTo>
                    <a:pt x="2130" y="2562"/>
                  </a:lnTo>
                  <a:lnTo>
                    <a:pt x="2130" y="2559"/>
                  </a:lnTo>
                  <a:lnTo>
                    <a:pt x="2130" y="2558"/>
                  </a:lnTo>
                  <a:lnTo>
                    <a:pt x="2130" y="2556"/>
                  </a:lnTo>
                  <a:lnTo>
                    <a:pt x="2128" y="2556"/>
                  </a:lnTo>
                  <a:lnTo>
                    <a:pt x="2128" y="2555"/>
                  </a:lnTo>
                  <a:lnTo>
                    <a:pt x="2134" y="2556"/>
                  </a:lnTo>
                  <a:lnTo>
                    <a:pt x="2141" y="2556"/>
                  </a:lnTo>
                  <a:lnTo>
                    <a:pt x="2147" y="2556"/>
                  </a:lnTo>
                  <a:lnTo>
                    <a:pt x="2153" y="2558"/>
                  </a:lnTo>
                  <a:lnTo>
                    <a:pt x="2156" y="2555"/>
                  </a:lnTo>
                  <a:lnTo>
                    <a:pt x="2156" y="2550"/>
                  </a:lnTo>
                  <a:lnTo>
                    <a:pt x="2155" y="2547"/>
                  </a:lnTo>
                  <a:lnTo>
                    <a:pt x="2155" y="2543"/>
                  </a:lnTo>
                  <a:lnTo>
                    <a:pt x="2155" y="2539"/>
                  </a:lnTo>
                  <a:lnTo>
                    <a:pt x="2155" y="2536"/>
                  </a:lnTo>
                  <a:lnTo>
                    <a:pt x="2155" y="2533"/>
                  </a:lnTo>
                  <a:lnTo>
                    <a:pt x="2153" y="2530"/>
                  </a:lnTo>
                  <a:lnTo>
                    <a:pt x="2155" y="2527"/>
                  </a:lnTo>
                  <a:lnTo>
                    <a:pt x="2153" y="2522"/>
                  </a:lnTo>
                  <a:lnTo>
                    <a:pt x="2153" y="2518"/>
                  </a:lnTo>
                  <a:lnTo>
                    <a:pt x="2153" y="2515"/>
                  </a:lnTo>
                  <a:lnTo>
                    <a:pt x="2153" y="2509"/>
                  </a:lnTo>
                  <a:lnTo>
                    <a:pt x="2150" y="2503"/>
                  </a:lnTo>
                  <a:lnTo>
                    <a:pt x="2147" y="2498"/>
                  </a:lnTo>
                  <a:lnTo>
                    <a:pt x="2147" y="2490"/>
                  </a:lnTo>
                  <a:lnTo>
                    <a:pt x="2144" y="2487"/>
                  </a:lnTo>
                  <a:lnTo>
                    <a:pt x="2143" y="2483"/>
                  </a:lnTo>
                  <a:lnTo>
                    <a:pt x="2143" y="2480"/>
                  </a:lnTo>
                  <a:lnTo>
                    <a:pt x="2141" y="2477"/>
                  </a:lnTo>
                  <a:lnTo>
                    <a:pt x="2136" y="2467"/>
                  </a:lnTo>
                  <a:lnTo>
                    <a:pt x="2128" y="2457"/>
                  </a:lnTo>
                  <a:lnTo>
                    <a:pt x="2121" y="2448"/>
                  </a:lnTo>
                  <a:lnTo>
                    <a:pt x="2111" y="2441"/>
                  </a:lnTo>
                  <a:lnTo>
                    <a:pt x="2108" y="2438"/>
                  </a:lnTo>
                  <a:lnTo>
                    <a:pt x="2104" y="2433"/>
                  </a:lnTo>
                  <a:lnTo>
                    <a:pt x="2099" y="2429"/>
                  </a:lnTo>
                  <a:lnTo>
                    <a:pt x="2095" y="2426"/>
                  </a:lnTo>
                  <a:lnTo>
                    <a:pt x="2093" y="2417"/>
                  </a:lnTo>
                  <a:lnTo>
                    <a:pt x="2089" y="2410"/>
                  </a:lnTo>
                  <a:lnTo>
                    <a:pt x="2083" y="2403"/>
                  </a:lnTo>
                  <a:lnTo>
                    <a:pt x="2079" y="2394"/>
                  </a:lnTo>
                  <a:lnTo>
                    <a:pt x="2074" y="2385"/>
                  </a:lnTo>
                  <a:lnTo>
                    <a:pt x="2071" y="2376"/>
                  </a:lnTo>
                  <a:lnTo>
                    <a:pt x="2068" y="2368"/>
                  </a:lnTo>
                  <a:lnTo>
                    <a:pt x="2066" y="2359"/>
                  </a:lnTo>
                  <a:lnTo>
                    <a:pt x="2064" y="2353"/>
                  </a:lnTo>
                  <a:lnTo>
                    <a:pt x="2063" y="2347"/>
                  </a:lnTo>
                  <a:lnTo>
                    <a:pt x="2060" y="2343"/>
                  </a:lnTo>
                  <a:lnTo>
                    <a:pt x="2057" y="2337"/>
                  </a:lnTo>
                  <a:lnTo>
                    <a:pt x="2057" y="2332"/>
                  </a:lnTo>
                  <a:lnTo>
                    <a:pt x="2055" y="2328"/>
                  </a:lnTo>
                  <a:lnTo>
                    <a:pt x="2055" y="2324"/>
                  </a:lnTo>
                  <a:lnTo>
                    <a:pt x="2052" y="2321"/>
                  </a:lnTo>
                  <a:lnTo>
                    <a:pt x="2049" y="2302"/>
                  </a:lnTo>
                  <a:lnTo>
                    <a:pt x="2045" y="2284"/>
                  </a:lnTo>
                  <a:lnTo>
                    <a:pt x="2042" y="2265"/>
                  </a:lnTo>
                  <a:lnTo>
                    <a:pt x="2042" y="2246"/>
                  </a:lnTo>
                  <a:lnTo>
                    <a:pt x="2038" y="2232"/>
                  </a:lnTo>
                  <a:lnTo>
                    <a:pt x="2036" y="2216"/>
                  </a:lnTo>
                  <a:lnTo>
                    <a:pt x="2033" y="2201"/>
                  </a:lnTo>
                  <a:lnTo>
                    <a:pt x="2030" y="2185"/>
                  </a:lnTo>
                  <a:lnTo>
                    <a:pt x="2030" y="2179"/>
                  </a:lnTo>
                  <a:lnTo>
                    <a:pt x="2030" y="2173"/>
                  </a:lnTo>
                  <a:lnTo>
                    <a:pt x="2030" y="2167"/>
                  </a:lnTo>
                  <a:lnTo>
                    <a:pt x="2032" y="2162"/>
                  </a:lnTo>
                  <a:lnTo>
                    <a:pt x="2030" y="2157"/>
                  </a:lnTo>
                  <a:lnTo>
                    <a:pt x="2030" y="2151"/>
                  </a:lnTo>
                  <a:lnTo>
                    <a:pt x="2030" y="2144"/>
                  </a:lnTo>
                  <a:lnTo>
                    <a:pt x="2029" y="2138"/>
                  </a:lnTo>
                  <a:lnTo>
                    <a:pt x="2032" y="2132"/>
                  </a:lnTo>
                  <a:lnTo>
                    <a:pt x="2032" y="2126"/>
                  </a:lnTo>
                  <a:lnTo>
                    <a:pt x="2030" y="2121"/>
                  </a:lnTo>
                  <a:lnTo>
                    <a:pt x="2029" y="2115"/>
                  </a:lnTo>
                  <a:lnTo>
                    <a:pt x="2026" y="2105"/>
                  </a:lnTo>
                  <a:lnTo>
                    <a:pt x="2025" y="2094"/>
                  </a:lnTo>
                  <a:lnTo>
                    <a:pt x="2022" y="2086"/>
                  </a:lnTo>
                  <a:lnTo>
                    <a:pt x="2017" y="2075"/>
                  </a:lnTo>
                  <a:lnTo>
                    <a:pt x="2017" y="2068"/>
                  </a:lnTo>
                  <a:lnTo>
                    <a:pt x="2017" y="2059"/>
                  </a:lnTo>
                  <a:lnTo>
                    <a:pt x="2017" y="2050"/>
                  </a:lnTo>
                  <a:lnTo>
                    <a:pt x="2014" y="2043"/>
                  </a:lnTo>
                  <a:lnTo>
                    <a:pt x="2013" y="2042"/>
                  </a:lnTo>
                  <a:lnTo>
                    <a:pt x="2017" y="2039"/>
                  </a:lnTo>
                  <a:lnTo>
                    <a:pt x="2022" y="2039"/>
                  </a:lnTo>
                  <a:lnTo>
                    <a:pt x="2025" y="2037"/>
                  </a:lnTo>
                  <a:lnTo>
                    <a:pt x="2026" y="2034"/>
                  </a:lnTo>
                  <a:lnTo>
                    <a:pt x="2025" y="2031"/>
                  </a:lnTo>
                  <a:lnTo>
                    <a:pt x="2026" y="2029"/>
                  </a:lnTo>
                  <a:lnTo>
                    <a:pt x="2026" y="2027"/>
                  </a:lnTo>
                  <a:lnTo>
                    <a:pt x="2026" y="2024"/>
                  </a:lnTo>
                  <a:lnTo>
                    <a:pt x="2026" y="2018"/>
                  </a:lnTo>
                  <a:lnTo>
                    <a:pt x="2025" y="2012"/>
                  </a:lnTo>
                  <a:lnTo>
                    <a:pt x="2022" y="2008"/>
                  </a:lnTo>
                  <a:lnTo>
                    <a:pt x="2017" y="2004"/>
                  </a:lnTo>
                  <a:lnTo>
                    <a:pt x="2020" y="1998"/>
                  </a:lnTo>
                  <a:lnTo>
                    <a:pt x="2025" y="1994"/>
                  </a:lnTo>
                  <a:lnTo>
                    <a:pt x="2028" y="1988"/>
                  </a:lnTo>
                  <a:lnTo>
                    <a:pt x="2026" y="1980"/>
                  </a:lnTo>
                  <a:lnTo>
                    <a:pt x="2019" y="1973"/>
                  </a:lnTo>
                  <a:lnTo>
                    <a:pt x="2013" y="1966"/>
                  </a:lnTo>
                  <a:lnTo>
                    <a:pt x="2006" y="1960"/>
                  </a:lnTo>
                  <a:lnTo>
                    <a:pt x="1998" y="1954"/>
                  </a:lnTo>
                  <a:lnTo>
                    <a:pt x="1993" y="1945"/>
                  </a:lnTo>
                  <a:lnTo>
                    <a:pt x="1987" y="1937"/>
                  </a:lnTo>
                  <a:lnTo>
                    <a:pt x="1982" y="1928"/>
                  </a:lnTo>
                  <a:lnTo>
                    <a:pt x="1979" y="1918"/>
                  </a:lnTo>
                  <a:lnTo>
                    <a:pt x="1975" y="1912"/>
                  </a:lnTo>
                  <a:lnTo>
                    <a:pt x="1972" y="1906"/>
                  </a:lnTo>
                  <a:lnTo>
                    <a:pt x="1969" y="1899"/>
                  </a:lnTo>
                  <a:lnTo>
                    <a:pt x="1968" y="1893"/>
                  </a:lnTo>
                  <a:lnTo>
                    <a:pt x="1966" y="1890"/>
                  </a:lnTo>
                  <a:lnTo>
                    <a:pt x="1965" y="1885"/>
                  </a:lnTo>
                  <a:lnTo>
                    <a:pt x="1963" y="1882"/>
                  </a:lnTo>
                  <a:lnTo>
                    <a:pt x="1960" y="1880"/>
                  </a:lnTo>
                  <a:lnTo>
                    <a:pt x="1962" y="1878"/>
                  </a:lnTo>
                  <a:lnTo>
                    <a:pt x="1960" y="1877"/>
                  </a:lnTo>
                  <a:lnTo>
                    <a:pt x="1960" y="1875"/>
                  </a:lnTo>
                  <a:lnTo>
                    <a:pt x="1960" y="1874"/>
                  </a:lnTo>
                  <a:lnTo>
                    <a:pt x="1959" y="1874"/>
                  </a:lnTo>
                  <a:lnTo>
                    <a:pt x="1957" y="1872"/>
                  </a:lnTo>
                  <a:lnTo>
                    <a:pt x="1956" y="1871"/>
                  </a:lnTo>
                  <a:lnTo>
                    <a:pt x="1955" y="1869"/>
                  </a:lnTo>
                  <a:lnTo>
                    <a:pt x="1955" y="1866"/>
                  </a:lnTo>
                  <a:lnTo>
                    <a:pt x="1956" y="1863"/>
                  </a:lnTo>
                  <a:lnTo>
                    <a:pt x="1956" y="1862"/>
                  </a:lnTo>
                  <a:lnTo>
                    <a:pt x="1955" y="1861"/>
                  </a:lnTo>
                  <a:lnTo>
                    <a:pt x="1953" y="1861"/>
                  </a:lnTo>
                  <a:lnTo>
                    <a:pt x="1953" y="1859"/>
                  </a:lnTo>
                  <a:lnTo>
                    <a:pt x="1952" y="1859"/>
                  </a:lnTo>
                  <a:lnTo>
                    <a:pt x="1952" y="1861"/>
                  </a:lnTo>
                  <a:lnTo>
                    <a:pt x="1950" y="1861"/>
                  </a:lnTo>
                  <a:lnTo>
                    <a:pt x="1950" y="1861"/>
                  </a:lnTo>
                  <a:lnTo>
                    <a:pt x="1950" y="1861"/>
                  </a:lnTo>
                  <a:lnTo>
                    <a:pt x="1949" y="1861"/>
                  </a:lnTo>
                  <a:lnTo>
                    <a:pt x="1949" y="1861"/>
                  </a:lnTo>
                  <a:lnTo>
                    <a:pt x="1949" y="1859"/>
                  </a:lnTo>
                  <a:lnTo>
                    <a:pt x="1950" y="1858"/>
                  </a:lnTo>
                  <a:lnTo>
                    <a:pt x="1950" y="1856"/>
                  </a:lnTo>
                  <a:lnTo>
                    <a:pt x="1952" y="1856"/>
                  </a:lnTo>
                  <a:lnTo>
                    <a:pt x="1952" y="1856"/>
                  </a:lnTo>
                  <a:lnTo>
                    <a:pt x="1952" y="1855"/>
                  </a:lnTo>
                  <a:lnTo>
                    <a:pt x="1953" y="1853"/>
                  </a:lnTo>
                  <a:lnTo>
                    <a:pt x="1952" y="1850"/>
                  </a:lnTo>
                  <a:lnTo>
                    <a:pt x="1949" y="1847"/>
                  </a:lnTo>
                  <a:lnTo>
                    <a:pt x="1946" y="1844"/>
                  </a:lnTo>
                  <a:lnTo>
                    <a:pt x="1947" y="1840"/>
                  </a:lnTo>
                  <a:lnTo>
                    <a:pt x="1946" y="1842"/>
                  </a:lnTo>
                  <a:lnTo>
                    <a:pt x="1944" y="1840"/>
                  </a:lnTo>
                  <a:lnTo>
                    <a:pt x="1944" y="1839"/>
                  </a:lnTo>
                  <a:lnTo>
                    <a:pt x="1944" y="1836"/>
                  </a:lnTo>
                  <a:lnTo>
                    <a:pt x="1943" y="1836"/>
                  </a:lnTo>
                  <a:lnTo>
                    <a:pt x="1943" y="1834"/>
                  </a:lnTo>
                  <a:lnTo>
                    <a:pt x="1941" y="1833"/>
                  </a:lnTo>
                  <a:lnTo>
                    <a:pt x="1940" y="1831"/>
                  </a:lnTo>
                  <a:lnTo>
                    <a:pt x="1937" y="1831"/>
                  </a:lnTo>
                  <a:lnTo>
                    <a:pt x="1937" y="1830"/>
                  </a:lnTo>
                  <a:lnTo>
                    <a:pt x="1938" y="1830"/>
                  </a:lnTo>
                  <a:lnTo>
                    <a:pt x="1940" y="1830"/>
                  </a:lnTo>
                  <a:lnTo>
                    <a:pt x="1940" y="1827"/>
                  </a:lnTo>
                  <a:lnTo>
                    <a:pt x="1938" y="1827"/>
                  </a:lnTo>
                  <a:lnTo>
                    <a:pt x="1937" y="1825"/>
                  </a:lnTo>
                  <a:lnTo>
                    <a:pt x="1936" y="1823"/>
                  </a:lnTo>
                  <a:lnTo>
                    <a:pt x="1934" y="1821"/>
                  </a:lnTo>
                  <a:lnTo>
                    <a:pt x="1934" y="1820"/>
                  </a:lnTo>
                  <a:lnTo>
                    <a:pt x="1934" y="1818"/>
                  </a:lnTo>
                  <a:lnTo>
                    <a:pt x="1933" y="1817"/>
                  </a:lnTo>
                  <a:lnTo>
                    <a:pt x="1933" y="1815"/>
                  </a:lnTo>
                  <a:lnTo>
                    <a:pt x="1930" y="1814"/>
                  </a:lnTo>
                  <a:lnTo>
                    <a:pt x="1930" y="1815"/>
                  </a:lnTo>
                  <a:lnTo>
                    <a:pt x="1930" y="1815"/>
                  </a:lnTo>
                  <a:lnTo>
                    <a:pt x="1930" y="1815"/>
                  </a:lnTo>
                  <a:lnTo>
                    <a:pt x="1928" y="1815"/>
                  </a:lnTo>
                  <a:lnTo>
                    <a:pt x="1927" y="1812"/>
                  </a:lnTo>
                  <a:lnTo>
                    <a:pt x="1927" y="1809"/>
                  </a:lnTo>
                  <a:lnTo>
                    <a:pt x="1927" y="1806"/>
                  </a:lnTo>
                  <a:lnTo>
                    <a:pt x="1925" y="1804"/>
                  </a:lnTo>
                  <a:lnTo>
                    <a:pt x="1925" y="1799"/>
                  </a:lnTo>
                  <a:lnTo>
                    <a:pt x="1922" y="1795"/>
                  </a:lnTo>
                  <a:lnTo>
                    <a:pt x="1921" y="1792"/>
                  </a:lnTo>
                  <a:lnTo>
                    <a:pt x="1919" y="1787"/>
                  </a:lnTo>
                  <a:lnTo>
                    <a:pt x="1918" y="1783"/>
                  </a:lnTo>
                  <a:lnTo>
                    <a:pt x="1917" y="1779"/>
                  </a:lnTo>
                  <a:lnTo>
                    <a:pt x="1917" y="1774"/>
                  </a:lnTo>
                  <a:lnTo>
                    <a:pt x="1917" y="1768"/>
                  </a:lnTo>
                  <a:lnTo>
                    <a:pt x="1917" y="1764"/>
                  </a:lnTo>
                  <a:lnTo>
                    <a:pt x="1917" y="1760"/>
                  </a:lnTo>
                  <a:lnTo>
                    <a:pt x="1919" y="1757"/>
                  </a:lnTo>
                  <a:lnTo>
                    <a:pt x="1922" y="1755"/>
                  </a:lnTo>
                  <a:lnTo>
                    <a:pt x="1921" y="1745"/>
                  </a:lnTo>
                  <a:lnTo>
                    <a:pt x="1918" y="1735"/>
                  </a:lnTo>
                  <a:lnTo>
                    <a:pt x="1915" y="1726"/>
                  </a:lnTo>
                  <a:lnTo>
                    <a:pt x="1914" y="1716"/>
                  </a:lnTo>
                  <a:lnTo>
                    <a:pt x="1914" y="1711"/>
                  </a:lnTo>
                  <a:lnTo>
                    <a:pt x="1914" y="1709"/>
                  </a:lnTo>
                  <a:lnTo>
                    <a:pt x="1912" y="1704"/>
                  </a:lnTo>
                  <a:lnTo>
                    <a:pt x="1909" y="1701"/>
                  </a:lnTo>
                  <a:lnTo>
                    <a:pt x="1911" y="1700"/>
                  </a:lnTo>
                  <a:lnTo>
                    <a:pt x="1909" y="1697"/>
                  </a:lnTo>
                  <a:lnTo>
                    <a:pt x="1908" y="1695"/>
                  </a:lnTo>
                  <a:lnTo>
                    <a:pt x="1906" y="1694"/>
                  </a:lnTo>
                  <a:lnTo>
                    <a:pt x="1905" y="1691"/>
                  </a:lnTo>
                  <a:lnTo>
                    <a:pt x="1903" y="1687"/>
                  </a:lnTo>
                  <a:lnTo>
                    <a:pt x="1902" y="1684"/>
                  </a:lnTo>
                  <a:lnTo>
                    <a:pt x="1899" y="1682"/>
                  </a:lnTo>
                  <a:lnTo>
                    <a:pt x="1898" y="1678"/>
                  </a:lnTo>
                  <a:lnTo>
                    <a:pt x="1896" y="1672"/>
                  </a:lnTo>
                  <a:lnTo>
                    <a:pt x="1895" y="1666"/>
                  </a:lnTo>
                  <a:lnTo>
                    <a:pt x="1896" y="1660"/>
                  </a:lnTo>
                  <a:lnTo>
                    <a:pt x="1901" y="1655"/>
                  </a:lnTo>
                  <a:lnTo>
                    <a:pt x="1901" y="1647"/>
                  </a:lnTo>
                  <a:lnTo>
                    <a:pt x="1898" y="1638"/>
                  </a:lnTo>
                  <a:lnTo>
                    <a:pt x="1896" y="1631"/>
                  </a:lnTo>
                  <a:lnTo>
                    <a:pt x="1896" y="1621"/>
                  </a:lnTo>
                  <a:lnTo>
                    <a:pt x="1893" y="1612"/>
                  </a:lnTo>
                  <a:lnTo>
                    <a:pt x="1890" y="1603"/>
                  </a:lnTo>
                  <a:lnTo>
                    <a:pt x="1886" y="1596"/>
                  </a:lnTo>
                  <a:lnTo>
                    <a:pt x="1883" y="1589"/>
                  </a:lnTo>
                  <a:lnTo>
                    <a:pt x="1882" y="1580"/>
                  </a:lnTo>
                  <a:lnTo>
                    <a:pt x="1880" y="1573"/>
                  </a:lnTo>
                  <a:lnTo>
                    <a:pt x="1877" y="1564"/>
                  </a:lnTo>
                  <a:lnTo>
                    <a:pt x="1876" y="1557"/>
                  </a:lnTo>
                  <a:lnTo>
                    <a:pt x="1874" y="1549"/>
                  </a:lnTo>
                  <a:lnTo>
                    <a:pt x="1871" y="1542"/>
                  </a:lnTo>
                  <a:lnTo>
                    <a:pt x="1870" y="1533"/>
                  </a:lnTo>
                  <a:lnTo>
                    <a:pt x="1868" y="1530"/>
                  </a:lnTo>
                  <a:lnTo>
                    <a:pt x="1868" y="1529"/>
                  </a:lnTo>
                  <a:lnTo>
                    <a:pt x="1867" y="1526"/>
                  </a:lnTo>
                  <a:lnTo>
                    <a:pt x="1867" y="1523"/>
                  </a:lnTo>
                  <a:lnTo>
                    <a:pt x="1868" y="1524"/>
                  </a:lnTo>
                  <a:lnTo>
                    <a:pt x="1871" y="1524"/>
                  </a:lnTo>
                  <a:lnTo>
                    <a:pt x="1873" y="1524"/>
                  </a:lnTo>
                  <a:lnTo>
                    <a:pt x="1874" y="1523"/>
                  </a:lnTo>
                  <a:lnTo>
                    <a:pt x="1877" y="1520"/>
                  </a:lnTo>
                  <a:lnTo>
                    <a:pt x="1876" y="1516"/>
                  </a:lnTo>
                  <a:lnTo>
                    <a:pt x="1873" y="1511"/>
                  </a:lnTo>
                  <a:lnTo>
                    <a:pt x="1871" y="1507"/>
                  </a:lnTo>
                  <a:lnTo>
                    <a:pt x="1870" y="1503"/>
                  </a:lnTo>
                  <a:lnTo>
                    <a:pt x="1868" y="1498"/>
                  </a:lnTo>
                  <a:lnTo>
                    <a:pt x="1868" y="1494"/>
                  </a:lnTo>
                  <a:lnTo>
                    <a:pt x="1868" y="1489"/>
                  </a:lnTo>
                  <a:lnTo>
                    <a:pt x="1863" y="1482"/>
                  </a:lnTo>
                  <a:lnTo>
                    <a:pt x="1857" y="1473"/>
                  </a:lnTo>
                  <a:lnTo>
                    <a:pt x="1849" y="1465"/>
                  </a:lnTo>
                  <a:lnTo>
                    <a:pt x="1844" y="1457"/>
                  </a:lnTo>
                  <a:lnTo>
                    <a:pt x="1836" y="1444"/>
                  </a:lnTo>
                  <a:lnTo>
                    <a:pt x="1830" y="1428"/>
                  </a:lnTo>
                  <a:lnTo>
                    <a:pt x="1825" y="1413"/>
                  </a:lnTo>
                  <a:lnTo>
                    <a:pt x="1817" y="1400"/>
                  </a:lnTo>
                  <a:lnTo>
                    <a:pt x="1814" y="1391"/>
                  </a:lnTo>
                  <a:lnTo>
                    <a:pt x="1808" y="1384"/>
                  </a:lnTo>
                  <a:lnTo>
                    <a:pt x="1804" y="1378"/>
                  </a:lnTo>
                  <a:lnTo>
                    <a:pt x="1801" y="1370"/>
                  </a:lnTo>
                  <a:lnTo>
                    <a:pt x="1792" y="1356"/>
                  </a:lnTo>
                  <a:lnTo>
                    <a:pt x="1784" y="1345"/>
                  </a:lnTo>
                  <a:lnTo>
                    <a:pt x="1773" y="1335"/>
                  </a:lnTo>
                  <a:lnTo>
                    <a:pt x="1766" y="1321"/>
                  </a:lnTo>
                  <a:lnTo>
                    <a:pt x="1757" y="1313"/>
                  </a:lnTo>
                  <a:lnTo>
                    <a:pt x="1749" y="1302"/>
                  </a:lnTo>
                  <a:lnTo>
                    <a:pt x="1738" y="1295"/>
                  </a:lnTo>
                  <a:lnTo>
                    <a:pt x="1727" y="1288"/>
                  </a:lnTo>
                  <a:lnTo>
                    <a:pt x="1716" y="1276"/>
                  </a:lnTo>
                  <a:lnTo>
                    <a:pt x="1708" y="1264"/>
                  </a:lnTo>
                  <a:lnTo>
                    <a:pt x="1699" y="1253"/>
                  </a:lnTo>
                  <a:lnTo>
                    <a:pt x="1690" y="1241"/>
                  </a:lnTo>
                  <a:lnTo>
                    <a:pt x="1683" y="1234"/>
                  </a:lnTo>
                  <a:lnTo>
                    <a:pt x="1676" y="1226"/>
                  </a:lnTo>
                  <a:lnTo>
                    <a:pt x="1668" y="1219"/>
                  </a:lnTo>
                  <a:lnTo>
                    <a:pt x="1662" y="1212"/>
                  </a:lnTo>
                  <a:lnTo>
                    <a:pt x="1655" y="1203"/>
                  </a:lnTo>
                  <a:lnTo>
                    <a:pt x="1648" y="1196"/>
                  </a:lnTo>
                  <a:lnTo>
                    <a:pt x="1641" y="1188"/>
                  </a:lnTo>
                  <a:lnTo>
                    <a:pt x="1632" y="1183"/>
                  </a:lnTo>
                  <a:lnTo>
                    <a:pt x="1627" y="1178"/>
                  </a:lnTo>
                  <a:lnTo>
                    <a:pt x="1623" y="1174"/>
                  </a:lnTo>
                  <a:lnTo>
                    <a:pt x="1620" y="1169"/>
                  </a:lnTo>
                  <a:lnTo>
                    <a:pt x="1620" y="1162"/>
                  </a:lnTo>
                  <a:lnTo>
                    <a:pt x="1617" y="1155"/>
                  </a:lnTo>
                  <a:lnTo>
                    <a:pt x="1610" y="1150"/>
                  </a:lnTo>
                  <a:lnTo>
                    <a:pt x="1603" y="1147"/>
                  </a:lnTo>
                  <a:lnTo>
                    <a:pt x="1595" y="1146"/>
                  </a:lnTo>
                  <a:lnTo>
                    <a:pt x="1591" y="1146"/>
                  </a:lnTo>
                  <a:lnTo>
                    <a:pt x="1588" y="1145"/>
                  </a:lnTo>
                  <a:lnTo>
                    <a:pt x="1585" y="1143"/>
                  </a:lnTo>
                  <a:lnTo>
                    <a:pt x="1582" y="1140"/>
                  </a:lnTo>
                  <a:lnTo>
                    <a:pt x="1578" y="1139"/>
                  </a:lnTo>
                  <a:lnTo>
                    <a:pt x="1572" y="1139"/>
                  </a:lnTo>
                  <a:lnTo>
                    <a:pt x="1568" y="1137"/>
                  </a:lnTo>
                  <a:lnTo>
                    <a:pt x="1563" y="1134"/>
                  </a:lnTo>
                  <a:lnTo>
                    <a:pt x="1543" y="1131"/>
                  </a:lnTo>
                  <a:lnTo>
                    <a:pt x="1537" y="1126"/>
                  </a:lnTo>
                  <a:lnTo>
                    <a:pt x="1531" y="1121"/>
                  </a:lnTo>
                  <a:lnTo>
                    <a:pt x="1524" y="1117"/>
                  </a:lnTo>
                  <a:lnTo>
                    <a:pt x="1516" y="1114"/>
                  </a:lnTo>
                  <a:lnTo>
                    <a:pt x="1512" y="1108"/>
                  </a:lnTo>
                  <a:lnTo>
                    <a:pt x="1506" y="1104"/>
                  </a:lnTo>
                  <a:lnTo>
                    <a:pt x="1500" y="1099"/>
                  </a:lnTo>
                  <a:lnTo>
                    <a:pt x="1497" y="1092"/>
                  </a:lnTo>
                  <a:lnTo>
                    <a:pt x="1493" y="1092"/>
                  </a:lnTo>
                  <a:lnTo>
                    <a:pt x="1492" y="1090"/>
                  </a:lnTo>
                  <a:lnTo>
                    <a:pt x="1490" y="1088"/>
                  </a:lnTo>
                  <a:lnTo>
                    <a:pt x="1487" y="1086"/>
                  </a:lnTo>
                  <a:lnTo>
                    <a:pt x="1484" y="1085"/>
                  </a:lnTo>
                  <a:lnTo>
                    <a:pt x="1483" y="1082"/>
                  </a:lnTo>
                  <a:lnTo>
                    <a:pt x="1481" y="1080"/>
                  </a:lnTo>
                  <a:lnTo>
                    <a:pt x="1478" y="1079"/>
                  </a:lnTo>
                  <a:lnTo>
                    <a:pt x="1477" y="1079"/>
                  </a:lnTo>
                  <a:lnTo>
                    <a:pt x="1474" y="1076"/>
                  </a:lnTo>
                  <a:lnTo>
                    <a:pt x="1471" y="1074"/>
                  </a:lnTo>
                  <a:lnTo>
                    <a:pt x="1468" y="1073"/>
                  </a:lnTo>
                  <a:lnTo>
                    <a:pt x="1464" y="1072"/>
                  </a:lnTo>
                  <a:lnTo>
                    <a:pt x="1459" y="1072"/>
                  </a:lnTo>
                  <a:lnTo>
                    <a:pt x="1455" y="1070"/>
                  </a:lnTo>
                  <a:lnTo>
                    <a:pt x="1452" y="1066"/>
                  </a:lnTo>
                  <a:lnTo>
                    <a:pt x="1448" y="1045"/>
                  </a:lnTo>
                  <a:lnTo>
                    <a:pt x="1442" y="1026"/>
                  </a:lnTo>
                  <a:lnTo>
                    <a:pt x="1436" y="1006"/>
                  </a:lnTo>
                  <a:lnTo>
                    <a:pt x="1429" y="987"/>
                  </a:lnTo>
                  <a:lnTo>
                    <a:pt x="1427" y="985"/>
                  </a:lnTo>
                  <a:lnTo>
                    <a:pt x="1427" y="984"/>
                  </a:lnTo>
                  <a:lnTo>
                    <a:pt x="1426" y="981"/>
                  </a:lnTo>
                  <a:lnTo>
                    <a:pt x="1426" y="978"/>
                  </a:lnTo>
                  <a:lnTo>
                    <a:pt x="1429" y="977"/>
                  </a:lnTo>
                  <a:lnTo>
                    <a:pt x="1430" y="977"/>
                  </a:lnTo>
                  <a:lnTo>
                    <a:pt x="1433" y="975"/>
                  </a:lnTo>
                  <a:lnTo>
                    <a:pt x="1433" y="974"/>
                  </a:lnTo>
                  <a:lnTo>
                    <a:pt x="1433" y="965"/>
                  </a:lnTo>
                  <a:lnTo>
                    <a:pt x="1433" y="956"/>
                  </a:lnTo>
                  <a:lnTo>
                    <a:pt x="1432" y="949"/>
                  </a:lnTo>
                  <a:lnTo>
                    <a:pt x="1426" y="943"/>
                  </a:lnTo>
                  <a:lnTo>
                    <a:pt x="1419" y="939"/>
                  </a:lnTo>
                  <a:lnTo>
                    <a:pt x="1414" y="933"/>
                  </a:lnTo>
                  <a:lnTo>
                    <a:pt x="1410" y="927"/>
                  </a:lnTo>
                  <a:lnTo>
                    <a:pt x="1407" y="921"/>
                  </a:lnTo>
                  <a:lnTo>
                    <a:pt x="1407" y="917"/>
                  </a:lnTo>
                  <a:lnTo>
                    <a:pt x="1404" y="911"/>
                  </a:lnTo>
                  <a:lnTo>
                    <a:pt x="1401" y="906"/>
                  </a:lnTo>
                  <a:lnTo>
                    <a:pt x="1398" y="901"/>
                  </a:lnTo>
                  <a:lnTo>
                    <a:pt x="1397" y="895"/>
                  </a:lnTo>
                  <a:lnTo>
                    <a:pt x="1392" y="887"/>
                  </a:lnTo>
                  <a:lnTo>
                    <a:pt x="1389" y="882"/>
                  </a:lnTo>
                  <a:lnTo>
                    <a:pt x="1386" y="874"/>
                  </a:lnTo>
                  <a:lnTo>
                    <a:pt x="1385" y="867"/>
                  </a:lnTo>
                  <a:lnTo>
                    <a:pt x="1375" y="855"/>
                  </a:lnTo>
                  <a:lnTo>
                    <a:pt x="1366" y="842"/>
                  </a:lnTo>
                  <a:lnTo>
                    <a:pt x="1360" y="829"/>
                  </a:lnTo>
                  <a:lnTo>
                    <a:pt x="1354" y="816"/>
                  </a:lnTo>
                  <a:lnTo>
                    <a:pt x="1338" y="798"/>
                  </a:lnTo>
                  <a:lnTo>
                    <a:pt x="1341" y="792"/>
                  </a:lnTo>
                  <a:lnTo>
                    <a:pt x="1346" y="787"/>
                  </a:lnTo>
                  <a:lnTo>
                    <a:pt x="1348" y="779"/>
                  </a:lnTo>
                  <a:lnTo>
                    <a:pt x="1347" y="772"/>
                  </a:lnTo>
                  <a:lnTo>
                    <a:pt x="1346" y="769"/>
                  </a:lnTo>
                  <a:lnTo>
                    <a:pt x="1343" y="768"/>
                  </a:lnTo>
                  <a:lnTo>
                    <a:pt x="1338" y="768"/>
                  </a:lnTo>
                  <a:lnTo>
                    <a:pt x="1335" y="768"/>
                  </a:lnTo>
                  <a:lnTo>
                    <a:pt x="1331" y="769"/>
                  </a:lnTo>
                  <a:lnTo>
                    <a:pt x="1328" y="766"/>
                  </a:lnTo>
                  <a:lnTo>
                    <a:pt x="1327" y="762"/>
                  </a:lnTo>
                  <a:lnTo>
                    <a:pt x="1324" y="759"/>
                  </a:lnTo>
                  <a:lnTo>
                    <a:pt x="1315" y="749"/>
                  </a:lnTo>
                  <a:lnTo>
                    <a:pt x="1305" y="737"/>
                  </a:lnTo>
                  <a:lnTo>
                    <a:pt x="1293" y="727"/>
                  </a:lnTo>
                  <a:lnTo>
                    <a:pt x="1281" y="716"/>
                  </a:lnTo>
                  <a:lnTo>
                    <a:pt x="1273" y="706"/>
                  </a:lnTo>
                  <a:lnTo>
                    <a:pt x="1264" y="697"/>
                  </a:lnTo>
                  <a:lnTo>
                    <a:pt x="1255" y="687"/>
                  </a:lnTo>
                  <a:lnTo>
                    <a:pt x="1248" y="677"/>
                  </a:lnTo>
                  <a:lnTo>
                    <a:pt x="1246" y="676"/>
                  </a:lnTo>
                  <a:lnTo>
                    <a:pt x="1245" y="673"/>
                  </a:lnTo>
                  <a:lnTo>
                    <a:pt x="1243" y="671"/>
                  </a:lnTo>
                  <a:lnTo>
                    <a:pt x="1240" y="671"/>
                  </a:lnTo>
                  <a:lnTo>
                    <a:pt x="1239" y="667"/>
                  </a:lnTo>
                  <a:lnTo>
                    <a:pt x="1236" y="665"/>
                  </a:lnTo>
                  <a:lnTo>
                    <a:pt x="1233" y="662"/>
                  </a:lnTo>
                  <a:lnTo>
                    <a:pt x="1232" y="659"/>
                  </a:lnTo>
                  <a:lnTo>
                    <a:pt x="1226" y="654"/>
                  </a:lnTo>
                  <a:lnTo>
                    <a:pt x="1221" y="648"/>
                  </a:lnTo>
                  <a:lnTo>
                    <a:pt x="1217" y="643"/>
                  </a:lnTo>
                  <a:lnTo>
                    <a:pt x="1214" y="638"/>
                  </a:lnTo>
                  <a:lnTo>
                    <a:pt x="1213" y="635"/>
                  </a:lnTo>
                  <a:lnTo>
                    <a:pt x="1211" y="633"/>
                  </a:lnTo>
                  <a:lnTo>
                    <a:pt x="1208" y="630"/>
                  </a:lnTo>
                  <a:lnTo>
                    <a:pt x="1207" y="629"/>
                  </a:lnTo>
                  <a:lnTo>
                    <a:pt x="1205" y="627"/>
                  </a:lnTo>
                  <a:lnTo>
                    <a:pt x="1204" y="624"/>
                  </a:lnTo>
                  <a:lnTo>
                    <a:pt x="1204" y="623"/>
                  </a:lnTo>
                  <a:lnTo>
                    <a:pt x="1201" y="621"/>
                  </a:lnTo>
                  <a:lnTo>
                    <a:pt x="1195" y="610"/>
                  </a:lnTo>
                  <a:lnTo>
                    <a:pt x="1188" y="600"/>
                  </a:lnTo>
                  <a:lnTo>
                    <a:pt x="1178" y="589"/>
                  </a:lnTo>
                  <a:lnTo>
                    <a:pt x="1169" y="581"/>
                  </a:lnTo>
                  <a:lnTo>
                    <a:pt x="1164" y="576"/>
                  </a:lnTo>
                  <a:lnTo>
                    <a:pt x="1162" y="573"/>
                  </a:lnTo>
                  <a:lnTo>
                    <a:pt x="1159" y="569"/>
                  </a:lnTo>
                  <a:lnTo>
                    <a:pt x="1154" y="566"/>
                  </a:lnTo>
                  <a:lnTo>
                    <a:pt x="1150" y="563"/>
                  </a:lnTo>
                  <a:lnTo>
                    <a:pt x="1145" y="559"/>
                  </a:lnTo>
                  <a:lnTo>
                    <a:pt x="1141" y="556"/>
                  </a:lnTo>
                  <a:lnTo>
                    <a:pt x="1135" y="553"/>
                  </a:lnTo>
                  <a:lnTo>
                    <a:pt x="1128" y="548"/>
                  </a:lnTo>
                  <a:lnTo>
                    <a:pt x="1121" y="544"/>
                  </a:lnTo>
                  <a:lnTo>
                    <a:pt x="1113" y="540"/>
                  </a:lnTo>
                  <a:lnTo>
                    <a:pt x="1105" y="537"/>
                  </a:lnTo>
                  <a:lnTo>
                    <a:pt x="1105" y="538"/>
                  </a:lnTo>
                  <a:lnTo>
                    <a:pt x="1105" y="540"/>
                  </a:lnTo>
                  <a:lnTo>
                    <a:pt x="1103" y="540"/>
                  </a:lnTo>
                  <a:lnTo>
                    <a:pt x="1102" y="538"/>
                  </a:lnTo>
                  <a:lnTo>
                    <a:pt x="1100" y="538"/>
                  </a:lnTo>
                  <a:lnTo>
                    <a:pt x="1099" y="537"/>
                  </a:lnTo>
                  <a:lnTo>
                    <a:pt x="1096" y="537"/>
                  </a:lnTo>
                  <a:lnTo>
                    <a:pt x="1094" y="535"/>
                  </a:lnTo>
                  <a:lnTo>
                    <a:pt x="1091" y="534"/>
                  </a:lnTo>
                  <a:lnTo>
                    <a:pt x="1087" y="535"/>
                  </a:lnTo>
                  <a:lnTo>
                    <a:pt x="1083" y="535"/>
                  </a:lnTo>
                  <a:lnTo>
                    <a:pt x="1080" y="532"/>
                  </a:lnTo>
                  <a:lnTo>
                    <a:pt x="1080" y="528"/>
                  </a:lnTo>
                  <a:lnTo>
                    <a:pt x="1078" y="526"/>
                  </a:lnTo>
                  <a:lnTo>
                    <a:pt x="1075" y="524"/>
                  </a:lnTo>
                  <a:lnTo>
                    <a:pt x="1074" y="521"/>
                  </a:lnTo>
                  <a:lnTo>
                    <a:pt x="1071" y="521"/>
                  </a:lnTo>
                  <a:lnTo>
                    <a:pt x="1070" y="521"/>
                  </a:lnTo>
                  <a:lnTo>
                    <a:pt x="1067" y="521"/>
                  </a:lnTo>
                  <a:lnTo>
                    <a:pt x="1064" y="521"/>
                  </a:lnTo>
                  <a:lnTo>
                    <a:pt x="1055" y="519"/>
                  </a:lnTo>
                  <a:lnTo>
                    <a:pt x="1048" y="518"/>
                  </a:lnTo>
                  <a:lnTo>
                    <a:pt x="1039" y="515"/>
                  </a:lnTo>
                  <a:lnTo>
                    <a:pt x="1030" y="512"/>
                  </a:lnTo>
                  <a:lnTo>
                    <a:pt x="1023" y="509"/>
                  </a:lnTo>
                  <a:lnTo>
                    <a:pt x="1014" y="506"/>
                  </a:lnTo>
                  <a:lnTo>
                    <a:pt x="1007" y="503"/>
                  </a:lnTo>
                  <a:lnTo>
                    <a:pt x="999" y="500"/>
                  </a:lnTo>
                  <a:lnTo>
                    <a:pt x="992" y="496"/>
                  </a:lnTo>
                  <a:lnTo>
                    <a:pt x="986" y="491"/>
                  </a:lnTo>
                  <a:lnTo>
                    <a:pt x="980" y="486"/>
                  </a:lnTo>
                  <a:lnTo>
                    <a:pt x="975" y="480"/>
                  </a:lnTo>
                  <a:lnTo>
                    <a:pt x="972" y="477"/>
                  </a:lnTo>
                  <a:lnTo>
                    <a:pt x="969" y="474"/>
                  </a:lnTo>
                  <a:lnTo>
                    <a:pt x="966" y="469"/>
                  </a:lnTo>
                  <a:lnTo>
                    <a:pt x="963" y="465"/>
                  </a:lnTo>
                  <a:lnTo>
                    <a:pt x="956" y="459"/>
                  </a:lnTo>
                  <a:lnTo>
                    <a:pt x="950" y="453"/>
                  </a:lnTo>
                  <a:lnTo>
                    <a:pt x="942" y="446"/>
                  </a:lnTo>
                  <a:lnTo>
                    <a:pt x="937" y="440"/>
                  </a:lnTo>
                  <a:lnTo>
                    <a:pt x="929" y="433"/>
                  </a:lnTo>
                  <a:lnTo>
                    <a:pt x="923" y="427"/>
                  </a:lnTo>
                  <a:lnTo>
                    <a:pt x="918" y="420"/>
                  </a:lnTo>
                  <a:lnTo>
                    <a:pt x="912" y="414"/>
                  </a:lnTo>
                  <a:lnTo>
                    <a:pt x="909" y="410"/>
                  </a:lnTo>
                  <a:lnTo>
                    <a:pt x="906" y="407"/>
                  </a:lnTo>
                  <a:lnTo>
                    <a:pt x="902" y="405"/>
                  </a:lnTo>
                  <a:lnTo>
                    <a:pt x="897" y="401"/>
                  </a:lnTo>
                  <a:lnTo>
                    <a:pt x="893" y="396"/>
                  </a:lnTo>
                  <a:lnTo>
                    <a:pt x="890" y="391"/>
                  </a:lnTo>
                  <a:lnTo>
                    <a:pt x="885" y="385"/>
                  </a:lnTo>
                  <a:lnTo>
                    <a:pt x="881" y="380"/>
                  </a:lnTo>
                  <a:lnTo>
                    <a:pt x="872" y="367"/>
                  </a:lnTo>
                  <a:lnTo>
                    <a:pt x="864" y="354"/>
                  </a:lnTo>
                  <a:lnTo>
                    <a:pt x="855" y="341"/>
                  </a:lnTo>
                  <a:lnTo>
                    <a:pt x="848" y="326"/>
                  </a:lnTo>
                  <a:lnTo>
                    <a:pt x="842" y="316"/>
                  </a:lnTo>
                  <a:lnTo>
                    <a:pt x="837" y="307"/>
                  </a:lnTo>
                  <a:lnTo>
                    <a:pt x="833" y="297"/>
                  </a:lnTo>
                  <a:lnTo>
                    <a:pt x="827" y="288"/>
                  </a:lnTo>
                  <a:lnTo>
                    <a:pt x="821" y="272"/>
                  </a:lnTo>
                  <a:lnTo>
                    <a:pt x="812" y="256"/>
                  </a:lnTo>
                  <a:lnTo>
                    <a:pt x="805" y="242"/>
                  </a:lnTo>
                  <a:lnTo>
                    <a:pt x="801" y="224"/>
                  </a:lnTo>
                  <a:lnTo>
                    <a:pt x="802" y="223"/>
                  </a:lnTo>
                  <a:lnTo>
                    <a:pt x="805" y="221"/>
                  </a:lnTo>
                  <a:lnTo>
                    <a:pt x="807" y="220"/>
                  </a:lnTo>
                  <a:lnTo>
                    <a:pt x="808" y="217"/>
                  </a:lnTo>
                  <a:lnTo>
                    <a:pt x="807" y="211"/>
                  </a:lnTo>
                  <a:lnTo>
                    <a:pt x="811" y="208"/>
                  </a:lnTo>
                  <a:lnTo>
                    <a:pt x="815" y="205"/>
                  </a:lnTo>
                  <a:lnTo>
                    <a:pt x="818" y="201"/>
                  </a:lnTo>
                  <a:lnTo>
                    <a:pt x="818" y="198"/>
                  </a:lnTo>
                  <a:lnTo>
                    <a:pt x="818" y="195"/>
                  </a:lnTo>
                  <a:lnTo>
                    <a:pt x="818" y="193"/>
                  </a:lnTo>
                  <a:lnTo>
                    <a:pt x="817" y="190"/>
                  </a:lnTo>
                  <a:lnTo>
                    <a:pt x="811" y="187"/>
                  </a:lnTo>
                  <a:lnTo>
                    <a:pt x="807" y="185"/>
                  </a:lnTo>
                  <a:lnTo>
                    <a:pt x="801" y="180"/>
                  </a:lnTo>
                  <a:lnTo>
                    <a:pt x="795" y="176"/>
                  </a:lnTo>
                  <a:lnTo>
                    <a:pt x="798" y="171"/>
                  </a:lnTo>
                  <a:lnTo>
                    <a:pt x="798" y="166"/>
                  </a:lnTo>
                  <a:lnTo>
                    <a:pt x="795" y="161"/>
                  </a:lnTo>
                  <a:lnTo>
                    <a:pt x="793" y="157"/>
                  </a:lnTo>
                  <a:lnTo>
                    <a:pt x="783" y="148"/>
                  </a:lnTo>
                  <a:lnTo>
                    <a:pt x="776" y="138"/>
                  </a:lnTo>
                  <a:lnTo>
                    <a:pt x="769" y="128"/>
                  </a:lnTo>
                  <a:lnTo>
                    <a:pt x="761" y="117"/>
                  </a:lnTo>
                  <a:lnTo>
                    <a:pt x="760" y="113"/>
                  </a:lnTo>
                  <a:lnTo>
                    <a:pt x="757" y="110"/>
                  </a:lnTo>
                  <a:lnTo>
                    <a:pt x="753" y="106"/>
                  </a:lnTo>
                  <a:lnTo>
                    <a:pt x="750" y="101"/>
                  </a:lnTo>
                  <a:lnTo>
                    <a:pt x="744" y="95"/>
                  </a:lnTo>
                  <a:lnTo>
                    <a:pt x="738" y="88"/>
                  </a:lnTo>
                  <a:lnTo>
                    <a:pt x="734" y="82"/>
                  </a:lnTo>
                  <a:lnTo>
                    <a:pt x="728" y="76"/>
                  </a:lnTo>
                  <a:lnTo>
                    <a:pt x="722" y="69"/>
                  </a:lnTo>
                  <a:lnTo>
                    <a:pt x="715" y="63"/>
                  </a:lnTo>
                  <a:lnTo>
                    <a:pt x="709" y="57"/>
                  </a:lnTo>
                  <a:lnTo>
                    <a:pt x="701" y="52"/>
                  </a:lnTo>
                  <a:lnTo>
                    <a:pt x="696" y="47"/>
                  </a:lnTo>
                  <a:lnTo>
                    <a:pt x="690" y="43"/>
                  </a:lnTo>
                  <a:lnTo>
                    <a:pt x="682" y="38"/>
                  </a:lnTo>
                  <a:lnTo>
                    <a:pt x="677" y="34"/>
                  </a:lnTo>
                  <a:lnTo>
                    <a:pt x="671" y="31"/>
                  </a:lnTo>
                  <a:lnTo>
                    <a:pt x="664" y="27"/>
                  </a:lnTo>
                  <a:lnTo>
                    <a:pt x="658" y="22"/>
                  </a:lnTo>
                  <a:lnTo>
                    <a:pt x="652" y="18"/>
                  </a:lnTo>
                  <a:lnTo>
                    <a:pt x="647" y="15"/>
                  </a:lnTo>
                  <a:lnTo>
                    <a:pt x="642" y="11"/>
                  </a:lnTo>
                  <a:lnTo>
                    <a:pt x="637" y="8"/>
                  </a:lnTo>
                  <a:lnTo>
                    <a:pt x="631" y="5"/>
                  </a:lnTo>
                  <a:lnTo>
                    <a:pt x="626" y="3"/>
                  </a:lnTo>
                  <a:lnTo>
                    <a:pt x="620" y="2"/>
                  </a:lnTo>
                  <a:lnTo>
                    <a:pt x="614" y="0"/>
                  </a:lnTo>
                  <a:lnTo>
                    <a:pt x="608" y="0"/>
                  </a:lnTo>
                  <a:lnTo>
                    <a:pt x="607" y="0"/>
                  </a:lnTo>
                  <a:lnTo>
                    <a:pt x="607" y="0"/>
                  </a:lnTo>
                  <a:lnTo>
                    <a:pt x="605" y="0"/>
                  </a:lnTo>
                  <a:lnTo>
                    <a:pt x="604" y="2"/>
                  </a:lnTo>
                  <a:lnTo>
                    <a:pt x="588" y="0"/>
                  </a:lnTo>
                  <a:lnTo>
                    <a:pt x="580" y="0"/>
                  </a:lnTo>
                  <a:lnTo>
                    <a:pt x="573" y="0"/>
                  </a:lnTo>
                  <a:lnTo>
                    <a:pt x="567" y="0"/>
                  </a:lnTo>
                  <a:lnTo>
                    <a:pt x="560" y="2"/>
                  </a:lnTo>
                  <a:lnTo>
                    <a:pt x="554" y="2"/>
                  </a:lnTo>
                  <a:lnTo>
                    <a:pt x="547" y="3"/>
                  </a:lnTo>
                  <a:lnTo>
                    <a:pt x="541" y="5"/>
                  </a:lnTo>
                  <a:lnTo>
                    <a:pt x="534" y="8"/>
                  </a:lnTo>
                  <a:lnTo>
                    <a:pt x="523" y="14"/>
                  </a:lnTo>
                  <a:lnTo>
                    <a:pt x="515" y="19"/>
                  </a:lnTo>
                  <a:lnTo>
                    <a:pt x="506" y="27"/>
                  </a:lnTo>
                  <a:lnTo>
                    <a:pt x="497" y="34"/>
                  </a:lnTo>
                  <a:lnTo>
                    <a:pt x="490" y="41"/>
                  </a:lnTo>
                  <a:lnTo>
                    <a:pt x="481" y="49"/>
                  </a:lnTo>
                  <a:lnTo>
                    <a:pt x="472" y="55"/>
                  </a:lnTo>
                  <a:lnTo>
                    <a:pt x="461" y="56"/>
                  </a:lnTo>
                  <a:lnTo>
                    <a:pt x="456" y="59"/>
                  </a:lnTo>
                  <a:lnTo>
                    <a:pt x="452" y="60"/>
                  </a:lnTo>
                  <a:lnTo>
                    <a:pt x="446" y="62"/>
                  </a:lnTo>
                  <a:lnTo>
                    <a:pt x="442" y="65"/>
                  </a:lnTo>
                  <a:lnTo>
                    <a:pt x="439" y="65"/>
                  </a:lnTo>
                  <a:lnTo>
                    <a:pt x="437" y="66"/>
                  </a:lnTo>
                  <a:lnTo>
                    <a:pt x="434" y="68"/>
                  </a:lnTo>
                  <a:lnTo>
                    <a:pt x="433" y="69"/>
                  </a:lnTo>
                  <a:lnTo>
                    <a:pt x="414" y="76"/>
                  </a:lnTo>
                  <a:lnTo>
                    <a:pt x="408" y="82"/>
                  </a:lnTo>
                  <a:lnTo>
                    <a:pt x="401" y="88"/>
                  </a:lnTo>
                  <a:lnTo>
                    <a:pt x="393" y="94"/>
                  </a:lnTo>
                  <a:lnTo>
                    <a:pt x="387" y="100"/>
                  </a:lnTo>
                  <a:lnTo>
                    <a:pt x="380" y="106"/>
                  </a:lnTo>
                  <a:lnTo>
                    <a:pt x="373" y="112"/>
                  </a:lnTo>
                  <a:lnTo>
                    <a:pt x="367" y="117"/>
                  </a:lnTo>
                  <a:lnTo>
                    <a:pt x="361" y="125"/>
                  </a:lnTo>
                  <a:lnTo>
                    <a:pt x="350" y="138"/>
                  </a:lnTo>
                  <a:lnTo>
                    <a:pt x="339" y="151"/>
                  </a:lnTo>
                  <a:lnTo>
                    <a:pt x="329" y="164"/>
                  </a:lnTo>
                  <a:lnTo>
                    <a:pt x="322" y="179"/>
                  </a:lnTo>
                  <a:lnTo>
                    <a:pt x="313" y="189"/>
                  </a:lnTo>
                  <a:lnTo>
                    <a:pt x="307" y="201"/>
                  </a:lnTo>
                  <a:lnTo>
                    <a:pt x="300" y="211"/>
                  </a:lnTo>
                  <a:lnTo>
                    <a:pt x="291" y="221"/>
                  </a:lnTo>
                  <a:lnTo>
                    <a:pt x="290" y="224"/>
                  </a:lnTo>
                  <a:lnTo>
                    <a:pt x="288" y="228"/>
                  </a:lnTo>
                  <a:lnTo>
                    <a:pt x="288" y="231"/>
                  </a:lnTo>
                  <a:lnTo>
                    <a:pt x="285" y="234"/>
                  </a:lnTo>
                  <a:lnTo>
                    <a:pt x="279" y="237"/>
                  </a:lnTo>
                  <a:lnTo>
                    <a:pt x="275" y="240"/>
                  </a:lnTo>
                  <a:lnTo>
                    <a:pt x="269" y="242"/>
                  </a:lnTo>
                  <a:lnTo>
                    <a:pt x="263" y="243"/>
                  </a:lnTo>
                  <a:lnTo>
                    <a:pt x="257" y="244"/>
                  </a:lnTo>
                  <a:lnTo>
                    <a:pt x="252" y="247"/>
                  </a:lnTo>
                  <a:lnTo>
                    <a:pt x="247" y="250"/>
                  </a:lnTo>
                  <a:lnTo>
                    <a:pt x="241" y="253"/>
                  </a:lnTo>
                  <a:lnTo>
                    <a:pt x="237" y="255"/>
                  </a:lnTo>
                  <a:lnTo>
                    <a:pt x="233" y="258"/>
                  </a:lnTo>
                  <a:lnTo>
                    <a:pt x="230" y="261"/>
                  </a:lnTo>
                  <a:lnTo>
                    <a:pt x="225" y="262"/>
                  </a:lnTo>
                  <a:lnTo>
                    <a:pt x="217" y="271"/>
                  </a:lnTo>
                  <a:lnTo>
                    <a:pt x="209" y="280"/>
                  </a:lnTo>
                  <a:lnTo>
                    <a:pt x="202" y="290"/>
                  </a:lnTo>
                  <a:lnTo>
                    <a:pt x="199" y="301"/>
                  </a:lnTo>
                  <a:lnTo>
                    <a:pt x="196" y="310"/>
                  </a:lnTo>
                  <a:lnTo>
                    <a:pt x="198" y="319"/>
                  </a:lnTo>
                  <a:lnTo>
                    <a:pt x="199" y="328"/>
                  </a:lnTo>
                  <a:lnTo>
                    <a:pt x="199" y="337"/>
                  </a:lnTo>
                  <a:lnTo>
                    <a:pt x="198" y="344"/>
                  </a:lnTo>
                  <a:lnTo>
                    <a:pt x="196" y="351"/>
                  </a:lnTo>
                  <a:lnTo>
                    <a:pt x="195" y="360"/>
                  </a:lnTo>
                  <a:lnTo>
                    <a:pt x="190" y="367"/>
                  </a:lnTo>
                  <a:lnTo>
                    <a:pt x="184" y="376"/>
                  </a:lnTo>
                  <a:lnTo>
                    <a:pt x="182" y="385"/>
                  </a:lnTo>
                  <a:lnTo>
                    <a:pt x="177" y="394"/>
                  </a:lnTo>
                  <a:lnTo>
                    <a:pt x="168" y="399"/>
                  </a:lnTo>
                  <a:lnTo>
                    <a:pt x="163" y="404"/>
                  </a:lnTo>
                  <a:lnTo>
                    <a:pt x="158" y="410"/>
                  </a:lnTo>
                  <a:lnTo>
                    <a:pt x="154" y="414"/>
                  </a:lnTo>
                  <a:lnTo>
                    <a:pt x="151" y="420"/>
                  </a:lnTo>
                  <a:lnTo>
                    <a:pt x="149" y="439"/>
                  </a:lnTo>
                  <a:lnTo>
                    <a:pt x="152" y="445"/>
                  </a:lnTo>
                  <a:lnTo>
                    <a:pt x="155" y="452"/>
                  </a:lnTo>
                  <a:lnTo>
                    <a:pt x="158" y="456"/>
                  </a:lnTo>
                  <a:lnTo>
                    <a:pt x="164" y="461"/>
                  </a:lnTo>
                  <a:lnTo>
                    <a:pt x="163" y="464"/>
                  </a:lnTo>
                  <a:lnTo>
                    <a:pt x="160" y="467"/>
                  </a:lnTo>
                  <a:lnTo>
                    <a:pt x="157" y="469"/>
                  </a:lnTo>
                  <a:lnTo>
                    <a:pt x="154" y="471"/>
                  </a:lnTo>
                  <a:lnTo>
                    <a:pt x="148" y="478"/>
                  </a:lnTo>
                  <a:lnTo>
                    <a:pt x="141" y="486"/>
                  </a:lnTo>
                  <a:lnTo>
                    <a:pt x="136" y="494"/>
                  </a:lnTo>
                  <a:lnTo>
                    <a:pt x="132" y="502"/>
                  </a:lnTo>
                  <a:lnTo>
                    <a:pt x="126" y="509"/>
                  </a:lnTo>
                  <a:lnTo>
                    <a:pt x="120" y="516"/>
                  </a:lnTo>
                  <a:lnTo>
                    <a:pt x="113" y="522"/>
                  </a:lnTo>
                  <a:lnTo>
                    <a:pt x="111" y="531"/>
                  </a:lnTo>
                  <a:lnTo>
                    <a:pt x="111" y="534"/>
                  </a:lnTo>
                  <a:lnTo>
                    <a:pt x="113" y="537"/>
                  </a:lnTo>
                  <a:lnTo>
                    <a:pt x="114" y="541"/>
                  </a:lnTo>
                  <a:lnTo>
                    <a:pt x="114" y="544"/>
                  </a:lnTo>
                  <a:lnTo>
                    <a:pt x="116" y="548"/>
                  </a:lnTo>
                  <a:lnTo>
                    <a:pt x="113" y="551"/>
                  </a:lnTo>
                  <a:lnTo>
                    <a:pt x="109" y="556"/>
                  </a:lnTo>
                  <a:lnTo>
                    <a:pt x="106" y="560"/>
                  </a:lnTo>
                  <a:lnTo>
                    <a:pt x="104" y="567"/>
                  </a:lnTo>
                  <a:lnTo>
                    <a:pt x="104" y="575"/>
                  </a:lnTo>
                  <a:lnTo>
                    <a:pt x="104" y="582"/>
                  </a:lnTo>
                  <a:lnTo>
                    <a:pt x="106" y="589"/>
                  </a:lnTo>
                  <a:lnTo>
                    <a:pt x="110" y="595"/>
                  </a:lnTo>
                  <a:lnTo>
                    <a:pt x="113" y="601"/>
                  </a:lnTo>
                  <a:lnTo>
                    <a:pt x="116" y="607"/>
                  </a:lnTo>
                  <a:lnTo>
                    <a:pt x="120" y="613"/>
                  </a:lnTo>
                  <a:lnTo>
                    <a:pt x="126" y="621"/>
                  </a:lnTo>
                  <a:lnTo>
                    <a:pt x="133" y="630"/>
                  </a:lnTo>
                  <a:lnTo>
                    <a:pt x="139" y="639"/>
                  </a:lnTo>
                  <a:lnTo>
                    <a:pt x="145" y="649"/>
                  </a:lnTo>
                  <a:lnTo>
                    <a:pt x="161" y="665"/>
                  </a:lnTo>
                  <a:lnTo>
                    <a:pt x="163" y="670"/>
                  </a:lnTo>
                  <a:lnTo>
                    <a:pt x="165" y="674"/>
                  </a:lnTo>
                  <a:lnTo>
                    <a:pt x="168" y="678"/>
                  </a:lnTo>
                  <a:lnTo>
                    <a:pt x="168" y="683"/>
                  </a:lnTo>
                  <a:lnTo>
                    <a:pt x="170" y="687"/>
                  </a:lnTo>
                  <a:lnTo>
                    <a:pt x="173" y="690"/>
                  </a:lnTo>
                  <a:lnTo>
                    <a:pt x="176" y="695"/>
                  </a:lnTo>
                  <a:lnTo>
                    <a:pt x="177" y="699"/>
                  </a:lnTo>
                  <a:lnTo>
                    <a:pt x="179" y="700"/>
                  </a:lnTo>
                  <a:lnTo>
                    <a:pt x="180" y="702"/>
                  </a:lnTo>
                  <a:lnTo>
                    <a:pt x="182" y="702"/>
                  </a:lnTo>
                  <a:lnTo>
                    <a:pt x="182" y="702"/>
                  </a:lnTo>
                  <a:lnTo>
                    <a:pt x="182" y="703"/>
                  </a:lnTo>
                  <a:lnTo>
                    <a:pt x="180" y="706"/>
                  </a:lnTo>
                  <a:lnTo>
                    <a:pt x="180" y="708"/>
                  </a:lnTo>
                  <a:lnTo>
                    <a:pt x="180" y="711"/>
                  </a:lnTo>
                  <a:lnTo>
                    <a:pt x="183" y="714"/>
                  </a:lnTo>
                  <a:lnTo>
                    <a:pt x="186" y="715"/>
                  </a:lnTo>
                  <a:lnTo>
                    <a:pt x="189" y="716"/>
                  </a:lnTo>
                  <a:lnTo>
                    <a:pt x="189" y="719"/>
                  </a:lnTo>
                  <a:lnTo>
                    <a:pt x="187" y="719"/>
                  </a:lnTo>
                  <a:lnTo>
                    <a:pt x="186" y="721"/>
                  </a:lnTo>
                  <a:lnTo>
                    <a:pt x="184" y="722"/>
                  </a:lnTo>
                  <a:lnTo>
                    <a:pt x="183" y="724"/>
                  </a:lnTo>
                  <a:lnTo>
                    <a:pt x="186" y="731"/>
                  </a:lnTo>
                  <a:lnTo>
                    <a:pt x="182" y="735"/>
                  </a:lnTo>
                  <a:lnTo>
                    <a:pt x="174" y="740"/>
                  </a:lnTo>
                  <a:lnTo>
                    <a:pt x="168" y="744"/>
                  </a:lnTo>
                  <a:lnTo>
                    <a:pt x="161" y="750"/>
                  </a:lnTo>
                  <a:lnTo>
                    <a:pt x="154" y="756"/>
                  </a:lnTo>
                  <a:lnTo>
                    <a:pt x="145" y="760"/>
                  </a:lnTo>
                  <a:lnTo>
                    <a:pt x="138" y="768"/>
                  </a:lnTo>
                  <a:lnTo>
                    <a:pt x="132" y="770"/>
                  </a:lnTo>
                  <a:lnTo>
                    <a:pt x="126" y="776"/>
                  </a:lnTo>
                  <a:lnTo>
                    <a:pt x="122" y="782"/>
                  </a:lnTo>
                  <a:lnTo>
                    <a:pt x="117" y="788"/>
                  </a:lnTo>
                  <a:lnTo>
                    <a:pt x="113" y="797"/>
                  </a:lnTo>
                  <a:lnTo>
                    <a:pt x="109" y="804"/>
                  </a:lnTo>
                  <a:lnTo>
                    <a:pt x="103" y="813"/>
                  </a:lnTo>
                  <a:lnTo>
                    <a:pt x="100" y="822"/>
                  </a:lnTo>
                  <a:lnTo>
                    <a:pt x="97" y="829"/>
                  </a:lnTo>
                  <a:lnTo>
                    <a:pt x="94" y="836"/>
                  </a:lnTo>
                  <a:lnTo>
                    <a:pt x="90" y="842"/>
                  </a:lnTo>
                  <a:lnTo>
                    <a:pt x="82" y="845"/>
                  </a:lnTo>
                  <a:lnTo>
                    <a:pt x="79" y="849"/>
                  </a:lnTo>
                  <a:lnTo>
                    <a:pt x="76" y="852"/>
                  </a:lnTo>
                  <a:lnTo>
                    <a:pt x="73" y="855"/>
                  </a:lnTo>
                  <a:lnTo>
                    <a:pt x="69" y="857"/>
                  </a:lnTo>
                  <a:lnTo>
                    <a:pt x="68" y="860"/>
                  </a:lnTo>
                  <a:lnTo>
                    <a:pt x="66" y="863"/>
                  </a:lnTo>
                  <a:lnTo>
                    <a:pt x="65" y="864"/>
                  </a:lnTo>
                  <a:lnTo>
                    <a:pt x="62" y="865"/>
                  </a:lnTo>
                  <a:lnTo>
                    <a:pt x="60" y="870"/>
                  </a:lnTo>
                  <a:lnTo>
                    <a:pt x="59" y="873"/>
                  </a:lnTo>
                  <a:lnTo>
                    <a:pt x="56" y="877"/>
                  </a:lnTo>
                  <a:lnTo>
                    <a:pt x="53" y="882"/>
                  </a:lnTo>
                  <a:lnTo>
                    <a:pt x="50" y="884"/>
                  </a:lnTo>
                  <a:lnTo>
                    <a:pt x="47" y="887"/>
                  </a:lnTo>
                  <a:lnTo>
                    <a:pt x="44" y="892"/>
                  </a:lnTo>
                  <a:lnTo>
                    <a:pt x="40" y="895"/>
                  </a:lnTo>
                  <a:lnTo>
                    <a:pt x="40" y="903"/>
                  </a:lnTo>
                  <a:lnTo>
                    <a:pt x="38" y="911"/>
                  </a:lnTo>
                  <a:lnTo>
                    <a:pt x="37" y="920"/>
                  </a:lnTo>
                  <a:lnTo>
                    <a:pt x="34" y="928"/>
                  </a:lnTo>
                  <a:lnTo>
                    <a:pt x="34" y="931"/>
                  </a:lnTo>
                  <a:lnTo>
                    <a:pt x="34" y="936"/>
                  </a:lnTo>
                  <a:lnTo>
                    <a:pt x="33" y="940"/>
                  </a:lnTo>
                  <a:lnTo>
                    <a:pt x="33" y="943"/>
                  </a:lnTo>
                  <a:lnTo>
                    <a:pt x="27" y="949"/>
                  </a:lnTo>
                  <a:lnTo>
                    <a:pt x="22" y="955"/>
                  </a:lnTo>
                  <a:lnTo>
                    <a:pt x="18" y="962"/>
                  </a:lnTo>
                  <a:lnTo>
                    <a:pt x="14" y="969"/>
                  </a:lnTo>
                  <a:lnTo>
                    <a:pt x="12" y="977"/>
                  </a:lnTo>
                  <a:lnTo>
                    <a:pt x="12" y="985"/>
                  </a:lnTo>
                  <a:lnTo>
                    <a:pt x="14" y="994"/>
                  </a:lnTo>
                  <a:lnTo>
                    <a:pt x="17" y="1001"/>
                  </a:lnTo>
                  <a:lnTo>
                    <a:pt x="17" y="1009"/>
                  </a:lnTo>
                  <a:lnTo>
                    <a:pt x="15" y="1017"/>
                  </a:lnTo>
                  <a:lnTo>
                    <a:pt x="15" y="1023"/>
                  </a:lnTo>
                  <a:lnTo>
                    <a:pt x="24" y="1026"/>
                  </a:lnTo>
                  <a:lnTo>
                    <a:pt x="25" y="1032"/>
                  </a:lnTo>
                  <a:lnTo>
                    <a:pt x="27" y="1039"/>
                  </a:lnTo>
                  <a:lnTo>
                    <a:pt x="27" y="1045"/>
                  </a:lnTo>
                  <a:lnTo>
                    <a:pt x="28" y="1053"/>
                  </a:lnTo>
                  <a:lnTo>
                    <a:pt x="24" y="1055"/>
                  </a:lnTo>
                  <a:lnTo>
                    <a:pt x="18" y="1055"/>
                  </a:lnTo>
                  <a:lnTo>
                    <a:pt x="14" y="1055"/>
                  </a:lnTo>
                  <a:lnTo>
                    <a:pt x="11" y="1058"/>
                  </a:lnTo>
                  <a:lnTo>
                    <a:pt x="14" y="1064"/>
                  </a:lnTo>
                  <a:lnTo>
                    <a:pt x="17" y="1070"/>
                  </a:lnTo>
                  <a:lnTo>
                    <a:pt x="18" y="1076"/>
                  </a:lnTo>
                  <a:lnTo>
                    <a:pt x="19" y="1082"/>
                  </a:lnTo>
                  <a:lnTo>
                    <a:pt x="12" y="1086"/>
                  </a:lnTo>
                  <a:lnTo>
                    <a:pt x="6" y="1090"/>
                  </a:lnTo>
                  <a:lnTo>
                    <a:pt x="2" y="1096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91600" y="5320440"/>
              <a:ext cx="36720" cy="77400"/>
            </a:xfrm>
            <a:custGeom>
              <a:avLst/>
              <a:gdLst/>
              <a:ahLst/>
              <a:rect l="l" t="t" r="r" b="b"/>
              <a:pathLst>
                <a:path w="86" h="183">
                  <a:moveTo>
                    <a:pt x="0" y="134"/>
                  </a:moveTo>
                  <a:lnTo>
                    <a:pt x="3" y="133"/>
                  </a:lnTo>
                  <a:lnTo>
                    <a:pt x="6" y="130"/>
                  </a:lnTo>
                  <a:lnTo>
                    <a:pt x="7" y="127"/>
                  </a:lnTo>
                  <a:lnTo>
                    <a:pt x="9" y="124"/>
                  </a:lnTo>
                  <a:lnTo>
                    <a:pt x="16" y="124"/>
                  </a:lnTo>
                  <a:lnTo>
                    <a:pt x="19" y="120"/>
                  </a:lnTo>
                  <a:lnTo>
                    <a:pt x="19" y="115"/>
                  </a:lnTo>
                  <a:lnTo>
                    <a:pt x="17" y="111"/>
                  </a:lnTo>
                  <a:lnTo>
                    <a:pt x="16" y="107"/>
                  </a:lnTo>
                  <a:lnTo>
                    <a:pt x="17" y="102"/>
                  </a:lnTo>
                  <a:lnTo>
                    <a:pt x="16" y="98"/>
                  </a:lnTo>
                  <a:lnTo>
                    <a:pt x="17" y="94"/>
                  </a:lnTo>
                  <a:lnTo>
                    <a:pt x="20" y="92"/>
                  </a:lnTo>
                  <a:lnTo>
                    <a:pt x="20" y="82"/>
                  </a:lnTo>
                  <a:lnTo>
                    <a:pt x="20" y="72"/>
                  </a:lnTo>
                  <a:lnTo>
                    <a:pt x="20" y="61"/>
                  </a:lnTo>
                  <a:lnTo>
                    <a:pt x="20" y="51"/>
                  </a:lnTo>
                  <a:lnTo>
                    <a:pt x="22" y="47"/>
                  </a:lnTo>
                  <a:lnTo>
                    <a:pt x="23" y="42"/>
                  </a:lnTo>
                  <a:lnTo>
                    <a:pt x="23" y="37"/>
                  </a:lnTo>
                  <a:lnTo>
                    <a:pt x="25" y="32"/>
                  </a:lnTo>
                  <a:lnTo>
                    <a:pt x="25" y="23"/>
                  </a:lnTo>
                  <a:lnTo>
                    <a:pt x="26" y="15"/>
                  </a:lnTo>
                  <a:lnTo>
                    <a:pt x="29" y="6"/>
                  </a:lnTo>
                  <a:lnTo>
                    <a:pt x="35" y="0"/>
                  </a:lnTo>
                  <a:lnTo>
                    <a:pt x="38" y="9"/>
                  </a:lnTo>
                  <a:lnTo>
                    <a:pt x="42" y="15"/>
                  </a:lnTo>
                  <a:lnTo>
                    <a:pt x="47" y="22"/>
                  </a:lnTo>
                  <a:lnTo>
                    <a:pt x="49" y="31"/>
                  </a:lnTo>
                  <a:lnTo>
                    <a:pt x="52" y="35"/>
                  </a:lnTo>
                  <a:lnTo>
                    <a:pt x="57" y="39"/>
                  </a:lnTo>
                  <a:lnTo>
                    <a:pt x="60" y="44"/>
                  </a:lnTo>
                  <a:lnTo>
                    <a:pt x="63" y="50"/>
                  </a:lnTo>
                  <a:lnTo>
                    <a:pt x="66" y="57"/>
                  </a:lnTo>
                  <a:lnTo>
                    <a:pt x="68" y="63"/>
                  </a:lnTo>
                  <a:lnTo>
                    <a:pt x="71" y="70"/>
                  </a:lnTo>
                  <a:lnTo>
                    <a:pt x="74" y="77"/>
                  </a:lnTo>
                  <a:lnTo>
                    <a:pt x="76" y="91"/>
                  </a:lnTo>
                  <a:lnTo>
                    <a:pt x="79" y="102"/>
                  </a:lnTo>
                  <a:lnTo>
                    <a:pt x="82" y="113"/>
                  </a:lnTo>
                  <a:lnTo>
                    <a:pt x="86" y="124"/>
                  </a:lnTo>
                  <a:lnTo>
                    <a:pt x="86" y="129"/>
                  </a:lnTo>
                  <a:lnTo>
                    <a:pt x="83" y="132"/>
                  </a:lnTo>
                  <a:lnTo>
                    <a:pt x="79" y="133"/>
                  </a:lnTo>
                  <a:lnTo>
                    <a:pt x="74" y="134"/>
                  </a:lnTo>
                  <a:lnTo>
                    <a:pt x="71" y="140"/>
                  </a:lnTo>
                  <a:lnTo>
                    <a:pt x="67" y="145"/>
                  </a:lnTo>
                  <a:lnTo>
                    <a:pt x="64" y="149"/>
                  </a:lnTo>
                  <a:lnTo>
                    <a:pt x="60" y="153"/>
                  </a:lnTo>
                  <a:lnTo>
                    <a:pt x="55" y="161"/>
                  </a:lnTo>
                  <a:lnTo>
                    <a:pt x="48" y="164"/>
                  </a:lnTo>
                  <a:lnTo>
                    <a:pt x="41" y="165"/>
                  </a:lnTo>
                  <a:lnTo>
                    <a:pt x="36" y="171"/>
                  </a:lnTo>
                  <a:lnTo>
                    <a:pt x="29" y="174"/>
                  </a:lnTo>
                  <a:lnTo>
                    <a:pt x="23" y="177"/>
                  </a:lnTo>
                  <a:lnTo>
                    <a:pt x="16" y="181"/>
                  </a:lnTo>
                  <a:lnTo>
                    <a:pt x="9" y="183"/>
                  </a:lnTo>
                  <a:lnTo>
                    <a:pt x="7" y="170"/>
                  </a:lnTo>
                  <a:lnTo>
                    <a:pt x="7" y="167"/>
                  </a:lnTo>
                  <a:lnTo>
                    <a:pt x="9" y="165"/>
                  </a:lnTo>
                  <a:lnTo>
                    <a:pt x="9" y="162"/>
                  </a:lnTo>
                  <a:lnTo>
                    <a:pt x="7" y="161"/>
                  </a:lnTo>
                  <a:lnTo>
                    <a:pt x="7" y="153"/>
                  </a:lnTo>
                  <a:lnTo>
                    <a:pt x="4" y="148"/>
                  </a:lnTo>
                  <a:lnTo>
                    <a:pt x="1" y="140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115840" y="4444560"/>
              <a:ext cx="142200" cy="43200"/>
            </a:xfrm>
            <a:custGeom>
              <a:avLst/>
              <a:gdLst/>
              <a:ahLst/>
              <a:rect l="l" t="t" r="r" b="b"/>
              <a:pathLst>
                <a:path w="335" h="101">
                  <a:moveTo>
                    <a:pt x="135" y="2"/>
                  </a:moveTo>
                  <a:lnTo>
                    <a:pt x="126" y="3"/>
                  </a:lnTo>
                  <a:lnTo>
                    <a:pt x="119" y="6"/>
                  </a:lnTo>
                  <a:lnTo>
                    <a:pt x="110" y="11"/>
                  </a:lnTo>
                  <a:lnTo>
                    <a:pt x="103" y="15"/>
                  </a:lnTo>
                  <a:lnTo>
                    <a:pt x="97" y="21"/>
                  </a:lnTo>
                  <a:lnTo>
                    <a:pt x="88" y="22"/>
                  </a:lnTo>
                  <a:lnTo>
                    <a:pt x="81" y="21"/>
                  </a:lnTo>
                  <a:lnTo>
                    <a:pt x="72" y="18"/>
                  </a:lnTo>
                  <a:lnTo>
                    <a:pt x="65" y="21"/>
                  </a:lnTo>
                  <a:lnTo>
                    <a:pt x="59" y="24"/>
                  </a:lnTo>
                  <a:lnTo>
                    <a:pt x="52" y="27"/>
                  </a:lnTo>
                  <a:lnTo>
                    <a:pt x="44" y="30"/>
                  </a:lnTo>
                  <a:lnTo>
                    <a:pt x="41" y="31"/>
                  </a:lnTo>
                  <a:lnTo>
                    <a:pt x="38" y="33"/>
                  </a:lnTo>
                  <a:lnTo>
                    <a:pt x="34" y="34"/>
                  </a:lnTo>
                  <a:lnTo>
                    <a:pt x="31" y="35"/>
                  </a:lnTo>
                  <a:lnTo>
                    <a:pt x="28" y="38"/>
                  </a:lnTo>
                  <a:lnTo>
                    <a:pt x="25" y="41"/>
                  </a:lnTo>
                  <a:lnTo>
                    <a:pt x="21" y="44"/>
                  </a:lnTo>
                  <a:lnTo>
                    <a:pt x="18" y="47"/>
                  </a:lnTo>
                  <a:lnTo>
                    <a:pt x="11" y="54"/>
                  </a:lnTo>
                  <a:lnTo>
                    <a:pt x="6" y="63"/>
                  </a:lnTo>
                  <a:lnTo>
                    <a:pt x="3" y="72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2" y="91"/>
                  </a:lnTo>
                  <a:lnTo>
                    <a:pt x="2" y="97"/>
                  </a:lnTo>
                  <a:lnTo>
                    <a:pt x="2" y="101"/>
                  </a:lnTo>
                  <a:lnTo>
                    <a:pt x="5" y="101"/>
                  </a:lnTo>
                  <a:lnTo>
                    <a:pt x="8" y="95"/>
                  </a:lnTo>
                  <a:lnTo>
                    <a:pt x="9" y="90"/>
                  </a:lnTo>
                  <a:lnTo>
                    <a:pt x="12" y="84"/>
                  </a:lnTo>
                  <a:lnTo>
                    <a:pt x="18" y="81"/>
                  </a:lnTo>
                  <a:lnTo>
                    <a:pt x="22" y="69"/>
                  </a:lnTo>
                  <a:lnTo>
                    <a:pt x="30" y="63"/>
                  </a:lnTo>
                  <a:lnTo>
                    <a:pt x="37" y="59"/>
                  </a:lnTo>
                  <a:lnTo>
                    <a:pt x="46" y="54"/>
                  </a:lnTo>
                  <a:lnTo>
                    <a:pt x="53" y="52"/>
                  </a:lnTo>
                  <a:lnTo>
                    <a:pt x="59" y="54"/>
                  </a:lnTo>
                  <a:lnTo>
                    <a:pt x="66" y="56"/>
                  </a:lnTo>
                  <a:lnTo>
                    <a:pt x="72" y="57"/>
                  </a:lnTo>
                  <a:lnTo>
                    <a:pt x="78" y="62"/>
                  </a:lnTo>
                  <a:lnTo>
                    <a:pt x="79" y="65"/>
                  </a:lnTo>
                  <a:lnTo>
                    <a:pt x="82" y="66"/>
                  </a:lnTo>
                  <a:lnTo>
                    <a:pt x="85" y="68"/>
                  </a:lnTo>
                  <a:lnTo>
                    <a:pt x="88" y="66"/>
                  </a:lnTo>
                  <a:lnTo>
                    <a:pt x="114" y="60"/>
                  </a:lnTo>
                  <a:lnTo>
                    <a:pt x="122" y="60"/>
                  </a:lnTo>
                  <a:lnTo>
                    <a:pt x="129" y="59"/>
                  </a:lnTo>
                  <a:lnTo>
                    <a:pt x="135" y="59"/>
                  </a:lnTo>
                  <a:lnTo>
                    <a:pt x="142" y="60"/>
                  </a:lnTo>
                  <a:lnTo>
                    <a:pt x="149" y="60"/>
                  </a:lnTo>
                  <a:lnTo>
                    <a:pt x="157" y="62"/>
                  </a:lnTo>
                  <a:lnTo>
                    <a:pt x="164" y="63"/>
                  </a:lnTo>
                  <a:lnTo>
                    <a:pt x="171" y="60"/>
                  </a:lnTo>
                  <a:lnTo>
                    <a:pt x="177" y="63"/>
                  </a:lnTo>
                  <a:lnTo>
                    <a:pt x="184" y="66"/>
                  </a:lnTo>
                  <a:lnTo>
                    <a:pt x="190" y="66"/>
                  </a:lnTo>
                  <a:lnTo>
                    <a:pt x="198" y="65"/>
                  </a:lnTo>
                  <a:lnTo>
                    <a:pt x="199" y="66"/>
                  </a:lnTo>
                  <a:lnTo>
                    <a:pt x="202" y="68"/>
                  </a:lnTo>
                  <a:lnTo>
                    <a:pt x="203" y="68"/>
                  </a:lnTo>
                  <a:lnTo>
                    <a:pt x="205" y="66"/>
                  </a:lnTo>
                  <a:lnTo>
                    <a:pt x="208" y="65"/>
                  </a:lnTo>
                  <a:lnTo>
                    <a:pt x="211" y="65"/>
                  </a:lnTo>
                  <a:lnTo>
                    <a:pt x="212" y="65"/>
                  </a:lnTo>
                  <a:lnTo>
                    <a:pt x="215" y="65"/>
                  </a:lnTo>
                  <a:lnTo>
                    <a:pt x="220" y="69"/>
                  </a:lnTo>
                  <a:lnTo>
                    <a:pt x="225" y="72"/>
                  </a:lnTo>
                  <a:lnTo>
                    <a:pt x="231" y="73"/>
                  </a:lnTo>
                  <a:lnTo>
                    <a:pt x="237" y="73"/>
                  </a:lnTo>
                  <a:lnTo>
                    <a:pt x="241" y="75"/>
                  </a:lnTo>
                  <a:lnTo>
                    <a:pt x="246" y="76"/>
                  </a:lnTo>
                  <a:lnTo>
                    <a:pt x="250" y="79"/>
                  </a:lnTo>
                  <a:lnTo>
                    <a:pt x="256" y="79"/>
                  </a:lnTo>
                  <a:lnTo>
                    <a:pt x="262" y="75"/>
                  </a:lnTo>
                  <a:lnTo>
                    <a:pt x="269" y="73"/>
                  </a:lnTo>
                  <a:lnTo>
                    <a:pt x="275" y="75"/>
                  </a:lnTo>
                  <a:lnTo>
                    <a:pt x="282" y="76"/>
                  </a:lnTo>
                  <a:lnTo>
                    <a:pt x="287" y="78"/>
                  </a:lnTo>
                  <a:lnTo>
                    <a:pt x="291" y="82"/>
                  </a:lnTo>
                  <a:lnTo>
                    <a:pt x="295" y="84"/>
                  </a:lnTo>
                  <a:lnTo>
                    <a:pt x="301" y="84"/>
                  </a:lnTo>
                  <a:lnTo>
                    <a:pt x="304" y="82"/>
                  </a:lnTo>
                  <a:lnTo>
                    <a:pt x="309" y="82"/>
                  </a:lnTo>
                  <a:lnTo>
                    <a:pt x="313" y="84"/>
                  </a:lnTo>
                  <a:lnTo>
                    <a:pt x="316" y="85"/>
                  </a:lnTo>
                  <a:lnTo>
                    <a:pt x="333" y="87"/>
                  </a:lnTo>
                  <a:lnTo>
                    <a:pt x="335" y="82"/>
                  </a:lnTo>
                  <a:lnTo>
                    <a:pt x="335" y="75"/>
                  </a:lnTo>
                  <a:lnTo>
                    <a:pt x="335" y="69"/>
                  </a:lnTo>
                  <a:lnTo>
                    <a:pt x="333" y="65"/>
                  </a:lnTo>
                  <a:lnTo>
                    <a:pt x="329" y="56"/>
                  </a:lnTo>
                  <a:lnTo>
                    <a:pt x="325" y="47"/>
                  </a:lnTo>
                  <a:lnTo>
                    <a:pt x="317" y="40"/>
                  </a:lnTo>
                  <a:lnTo>
                    <a:pt x="309" y="35"/>
                  </a:lnTo>
                  <a:lnTo>
                    <a:pt x="304" y="33"/>
                  </a:lnTo>
                  <a:lnTo>
                    <a:pt x="298" y="30"/>
                  </a:lnTo>
                  <a:lnTo>
                    <a:pt x="293" y="25"/>
                  </a:lnTo>
                  <a:lnTo>
                    <a:pt x="290" y="21"/>
                  </a:lnTo>
                  <a:lnTo>
                    <a:pt x="281" y="18"/>
                  </a:lnTo>
                  <a:lnTo>
                    <a:pt x="272" y="15"/>
                  </a:lnTo>
                  <a:lnTo>
                    <a:pt x="263" y="12"/>
                  </a:lnTo>
                  <a:lnTo>
                    <a:pt x="255" y="12"/>
                  </a:lnTo>
                  <a:lnTo>
                    <a:pt x="252" y="11"/>
                  </a:lnTo>
                  <a:lnTo>
                    <a:pt x="250" y="11"/>
                  </a:lnTo>
                  <a:lnTo>
                    <a:pt x="247" y="11"/>
                  </a:lnTo>
                  <a:lnTo>
                    <a:pt x="244" y="9"/>
                  </a:lnTo>
                  <a:lnTo>
                    <a:pt x="237" y="8"/>
                  </a:lnTo>
                  <a:lnTo>
                    <a:pt x="231" y="8"/>
                  </a:lnTo>
                  <a:lnTo>
                    <a:pt x="224" y="9"/>
                  </a:lnTo>
                  <a:lnTo>
                    <a:pt x="218" y="9"/>
                  </a:lnTo>
                  <a:lnTo>
                    <a:pt x="211" y="9"/>
                  </a:lnTo>
                  <a:lnTo>
                    <a:pt x="205" y="9"/>
                  </a:lnTo>
                  <a:lnTo>
                    <a:pt x="198" y="6"/>
                  </a:lnTo>
                  <a:lnTo>
                    <a:pt x="192" y="3"/>
                  </a:lnTo>
                  <a:lnTo>
                    <a:pt x="184" y="3"/>
                  </a:lnTo>
                  <a:lnTo>
                    <a:pt x="179" y="5"/>
                  </a:lnTo>
                  <a:lnTo>
                    <a:pt x="173" y="6"/>
                  </a:lnTo>
                  <a:lnTo>
                    <a:pt x="167" y="11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57" y="11"/>
                  </a:lnTo>
                  <a:lnTo>
                    <a:pt x="154" y="9"/>
                  </a:lnTo>
                  <a:lnTo>
                    <a:pt x="151" y="6"/>
                  </a:lnTo>
                  <a:lnTo>
                    <a:pt x="149" y="3"/>
                  </a:lnTo>
                  <a:lnTo>
                    <a:pt x="147" y="2"/>
                  </a:lnTo>
                  <a:lnTo>
                    <a:pt x="142" y="3"/>
                  </a:lnTo>
                  <a:lnTo>
                    <a:pt x="142" y="0"/>
                  </a:lnTo>
                  <a:lnTo>
                    <a:pt x="139" y="0"/>
                  </a:lnTo>
                  <a:lnTo>
                    <a:pt x="138" y="0"/>
                  </a:lnTo>
                  <a:lnTo>
                    <a:pt x="135" y="2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291160" y="4481280"/>
              <a:ext cx="47160" cy="63360"/>
            </a:xfrm>
            <a:custGeom>
              <a:avLst/>
              <a:gdLst/>
              <a:ahLst/>
              <a:rect l="l" t="t" r="r" b="b"/>
              <a:pathLst>
                <a:path w="112" h="149">
                  <a:moveTo>
                    <a:pt x="41" y="7"/>
                  </a:moveTo>
                  <a:lnTo>
                    <a:pt x="38" y="8"/>
                  </a:lnTo>
                  <a:lnTo>
                    <a:pt x="35" y="10"/>
                  </a:lnTo>
                  <a:lnTo>
                    <a:pt x="33" y="13"/>
                  </a:lnTo>
                  <a:lnTo>
                    <a:pt x="30" y="13"/>
                  </a:lnTo>
                  <a:lnTo>
                    <a:pt x="29" y="16"/>
                  </a:lnTo>
                  <a:lnTo>
                    <a:pt x="26" y="16"/>
                  </a:lnTo>
                  <a:lnTo>
                    <a:pt x="23" y="14"/>
                  </a:lnTo>
                  <a:lnTo>
                    <a:pt x="20" y="16"/>
                  </a:lnTo>
                  <a:lnTo>
                    <a:pt x="19" y="22"/>
                  </a:lnTo>
                  <a:lnTo>
                    <a:pt x="17" y="26"/>
                  </a:lnTo>
                  <a:lnTo>
                    <a:pt x="14" y="32"/>
                  </a:lnTo>
                  <a:lnTo>
                    <a:pt x="13" y="38"/>
                  </a:lnTo>
                  <a:lnTo>
                    <a:pt x="11" y="71"/>
                  </a:lnTo>
                  <a:lnTo>
                    <a:pt x="10" y="73"/>
                  </a:lnTo>
                  <a:lnTo>
                    <a:pt x="9" y="74"/>
                  </a:lnTo>
                  <a:lnTo>
                    <a:pt x="6" y="74"/>
                  </a:lnTo>
                  <a:lnTo>
                    <a:pt x="4" y="73"/>
                  </a:lnTo>
                  <a:lnTo>
                    <a:pt x="1" y="70"/>
                  </a:lnTo>
                  <a:lnTo>
                    <a:pt x="0" y="74"/>
                  </a:lnTo>
                  <a:lnTo>
                    <a:pt x="0" y="80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3" y="93"/>
                  </a:lnTo>
                  <a:lnTo>
                    <a:pt x="4" y="96"/>
                  </a:lnTo>
                  <a:lnTo>
                    <a:pt x="6" y="99"/>
                  </a:lnTo>
                  <a:lnTo>
                    <a:pt x="7" y="102"/>
                  </a:lnTo>
                  <a:lnTo>
                    <a:pt x="16" y="106"/>
                  </a:lnTo>
                  <a:lnTo>
                    <a:pt x="25" y="118"/>
                  </a:lnTo>
                  <a:lnTo>
                    <a:pt x="33" y="128"/>
                  </a:lnTo>
                  <a:lnTo>
                    <a:pt x="42" y="137"/>
                  </a:lnTo>
                  <a:lnTo>
                    <a:pt x="54" y="144"/>
                  </a:lnTo>
                  <a:lnTo>
                    <a:pt x="61" y="146"/>
                  </a:lnTo>
                  <a:lnTo>
                    <a:pt x="68" y="147"/>
                  </a:lnTo>
                  <a:lnTo>
                    <a:pt x="76" y="149"/>
                  </a:lnTo>
                  <a:lnTo>
                    <a:pt x="84" y="149"/>
                  </a:lnTo>
                  <a:lnTo>
                    <a:pt x="90" y="147"/>
                  </a:lnTo>
                  <a:lnTo>
                    <a:pt x="98" y="146"/>
                  </a:lnTo>
                  <a:lnTo>
                    <a:pt x="103" y="141"/>
                  </a:lnTo>
                  <a:lnTo>
                    <a:pt x="109" y="136"/>
                  </a:lnTo>
                  <a:lnTo>
                    <a:pt x="112" y="119"/>
                  </a:lnTo>
                  <a:lnTo>
                    <a:pt x="111" y="103"/>
                  </a:lnTo>
                  <a:lnTo>
                    <a:pt x="106" y="86"/>
                  </a:lnTo>
                  <a:lnTo>
                    <a:pt x="105" y="68"/>
                  </a:lnTo>
                  <a:lnTo>
                    <a:pt x="103" y="62"/>
                  </a:lnTo>
                  <a:lnTo>
                    <a:pt x="102" y="54"/>
                  </a:lnTo>
                  <a:lnTo>
                    <a:pt x="102" y="46"/>
                  </a:lnTo>
                  <a:lnTo>
                    <a:pt x="102" y="41"/>
                  </a:lnTo>
                  <a:lnTo>
                    <a:pt x="102" y="35"/>
                  </a:lnTo>
                  <a:lnTo>
                    <a:pt x="102" y="29"/>
                  </a:lnTo>
                  <a:lnTo>
                    <a:pt x="101" y="23"/>
                  </a:lnTo>
                  <a:lnTo>
                    <a:pt x="101" y="17"/>
                  </a:lnTo>
                  <a:lnTo>
                    <a:pt x="98" y="5"/>
                  </a:lnTo>
                  <a:lnTo>
                    <a:pt x="92" y="4"/>
                  </a:lnTo>
                  <a:lnTo>
                    <a:pt x="86" y="4"/>
                  </a:lnTo>
                  <a:lnTo>
                    <a:pt x="79" y="3"/>
                  </a:lnTo>
                  <a:lnTo>
                    <a:pt x="74" y="0"/>
                  </a:lnTo>
                  <a:lnTo>
                    <a:pt x="65" y="3"/>
                  </a:lnTo>
                  <a:lnTo>
                    <a:pt x="58" y="4"/>
                  </a:lnTo>
                  <a:lnTo>
                    <a:pt x="49" y="5"/>
                  </a:lnTo>
                  <a:lnTo>
                    <a:pt x="41" y="7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305200" y="4490280"/>
              <a:ext cx="21600" cy="187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30" y="3"/>
                  </a:moveTo>
                  <a:lnTo>
                    <a:pt x="30" y="5"/>
                  </a:lnTo>
                  <a:lnTo>
                    <a:pt x="28" y="8"/>
                  </a:lnTo>
                  <a:lnTo>
                    <a:pt x="25" y="10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5" y="11"/>
                  </a:lnTo>
                  <a:lnTo>
                    <a:pt x="14" y="19"/>
                  </a:lnTo>
                  <a:lnTo>
                    <a:pt x="9" y="24"/>
                  </a:lnTo>
                  <a:lnTo>
                    <a:pt x="3" y="30"/>
                  </a:lnTo>
                  <a:lnTo>
                    <a:pt x="0" y="38"/>
                  </a:lnTo>
                  <a:lnTo>
                    <a:pt x="2" y="42"/>
                  </a:lnTo>
                  <a:lnTo>
                    <a:pt x="3" y="43"/>
                  </a:lnTo>
                  <a:lnTo>
                    <a:pt x="8" y="46"/>
                  </a:lnTo>
                  <a:lnTo>
                    <a:pt x="11" y="46"/>
                  </a:lnTo>
                  <a:lnTo>
                    <a:pt x="12" y="46"/>
                  </a:lnTo>
                  <a:lnTo>
                    <a:pt x="14" y="43"/>
                  </a:lnTo>
                  <a:lnTo>
                    <a:pt x="15" y="42"/>
                  </a:lnTo>
                  <a:lnTo>
                    <a:pt x="16" y="41"/>
                  </a:lnTo>
                  <a:lnTo>
                    <a:pt x="19" y="42"/>
                  </a:lnTo>
                  <a:lnTo>
                    <a:pt x="22" y="45"/>
                  </a:lnTo>
                  <a:lnTo>
                    <a:pt x="25" y="46"/>
                  </a:lnTo>
                  <a:lnTo>
                    <a:pt x="28" y="46"/>
                  </a:lnTo>
                  <a:lnTo>
                    <a:pt x="30" y="43"/>
                  </a:lnTo>
                  <a:lnTo>
                    <a:pt x="31" y="41"/>
                  </a:lnTo>
                  <a:lnTo>
                    <a:pt x="32" y="38"/>
                  </a:lnTo>
                  <a:lnTo>
                    <a:pt x="34" y="35"/>
                  </a:lnTo>
                  <a:lnTo>
                    <a:pt x="34" y="30"/>
                  </a:lnTo>
                  <a:lnTo>
                    <a:pt x="35" y="27"/>
                  </a:lnTo>
                  <a:lnTo>
                    <a:pt x="35" y="23"/>
                  </a:lnTo>
                  <a:lnTo>
                    <a:pt x="37" y="20"/>
                  </a:lnTo>
                  <a:lnTo>
                    <a:pt x="41" y="20"/>
                  </a:lnTo>
                  <a:lnTo>
                    <a:pt x="46" y="19"/>
                  </a:lnTo>
                  <a:lnTo>
                    <a:pt x="47" y="14"/>
                  </a:lnTo>
                  <a:lnTo>
                    <a:pt x="50" y="11"/>
                  </a:lnTo>
                  <a:lnTo>
                    <a:pt x="50" y="8"/>
                  </a:lnTo>
                  <a:lnTo>
                    <a:pt x="50" y="5"/>
                  </a:lnTo>
                  <a:lnTo>
                    <a:pt x="49" y="4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106840" y="4491720"/>
              <a:ext cx="147600" cy="30240"/>
            </a:xfrm>
            <a:custGeom>
              <a:avLst/>
              <a:gdLst/>
              <a:ahLst/>
              <a:rect l="l" t="t" r="r" b="b"/>
              <a:pathLst>
                <a:path w="349" h="74">
                  <a:moveTo>
                    <a:pt x="312" y="10"/>
                  </a:moveTo>
                  <a:lnTo>
                    <a:pt x="311" y="14"/>
                  </a:lnTo>
                  <a:lnTo>
                    <a:pt x="308" y="16"/>
                  </a:lnTo>
                  <a:lnTo>
                    <a:pt x="305" y="17"/>
                  </a:lnTo>
                  <a:lnTo>
                    <a:pt x="303" y="21"/>
                  </a:lnTo>
                  <a:lnTo>
                    <a:pt x="296" y="26"/>
                  </a:lnTo>
                  <a:lnTo>
                    <a:pt x="289" y="26"/>
                  </a:lnTo>
                  <a:lnTo>
                    <a:pt x="280" y="26"/>
                  </a:lnTo>
                  <a:lnTo>
                    <a:pt x="271" y="24"/>
                  </a:lnTo>
                  <a:lnTo>
                    <a:pt x="265" y="27"/>
                  </a:lnTo>
                  <a:lnTo>
                    <a:pt x="260" y="29"/>
                  </a:lnTo>
                  <a:lnTo>
                    <a:pt x="254" y="30"/>
                  </a:lnTo>
                  <a:lnTo>
                    <a:pt x="248" y="30"/>
                  </a:lnTo>
                  <a:lnTo>
                    <a:pt x="242" y="27"/>
                  </a:lnTo>
                  <a:lnTo>
                    <a:pt x="236" y="24"/>
                  </a:lnTo>
                  <a:lnTo>
                    <a:pt x="230" y="20"/>
                  </a:lnTo>
                  <a:lnTo>
                    <a:pt x="224" y="19"/>
                  </a:lnTo>
                  <a:lnTo>
                    <a:pt x="222" y="14"/>
                  </a:lnTo>
                  <a:lnTo>
                    <a:pt x="217" y="11"/>
                  </a:lnTo>
                  <a:lnTo>
                    <a:pt x="214" y="10"/>
                  </a:lnTo>
                  <a:lnTo>
                    <a:pt x="210" y="7"/>
                  </a:lnTo>
                  <a:lnTo>
                    <a:pt x="205" y="8"/>
                  </a:lnTo>
                  <a:lnTo>
                    <a:pt x="201" y="11"/>
                  </a:lnTo>
                  <a:lnTo>
                    <a:pt x="197" y="14"/>
                  </a:lnTo>
                  <a:lnTo>
                    <a:pt x="194" y="19"/>
                  </a:lnTo>
                  <a:lnTo>
                    <a:pt x="189" y="21"/>
                  </a:lnTo>
                  <a:lnTo>
                    <a:pt x="185" y="23"/>
                  </a:lnTo>
                  <a:lnTo>
                    <a:pt x="181" y="24"/>
                  </a:lnTo>
                  <a:lnTo>
                    <a:pt x="176" y="21"/>
                  </a:lnTo>
                  <a:lnTo>
                    <a:pt x="175" y="21"/>
                  </a:lnTo>
                  <a:lnTo>
                    <a:pt x="172" y="21"/>
                  </a:lnTo>
                  <a:lnTo>
                    <a:pt x="170" y="21"/>
                  </a:lnTo>
                  <a:lnTo>
                    <a:pt x="168" y="21"/>
                  </a:lnTo>
                  <a:lnTo>
                    <a:pt x="166" y="24"/>
                  </a:lnTo>
                  <a:lnTo>
                    <a:pt x="163" y="27"/>
                  </a:lnTo>
                  <a:lnTo>
                    <a:pt x="160" y="29"/>
                  </a:lnTo>
                  <a:lnTo>
                    <a:pt x="159" y="30"/>
                  </a:lnTo>
                  <a:lnTo>
                    <a:pt x="156" y="29"/>
                  </a:lnTo>
                  <a:lnTo>
                    <a:pt x="153" y="29"/>
                  </a:lnTo>
                  <a:lnTo>
                    <a:pt x="150" y="29"/>
                  </a:lnTo>
                  <a:lnTo>
                    <a:pt x="147" y="30"/>
                  </a:lnTo>
                  <a:lnTo>
                    <a:pt x="143" y="32"/>
                  </a:lnTo>
                  <a:lnTo>
                    <a:pt x="138" y="30"/>
                  </a:lnTo>
                  <a:lnTo>
                    <a:pt x="132" y="27"/>
                  </a:lnTo>
                  <a:lnTo>
                    <a:pt x="128" y="24"/>
                  </a:lnTo>
                  <a:lnTo>
                    <a:pt x="122" y="24"/>
                  </a:lnTo>
                  <a:lnTo>
                    <a:pt x="116" y="24"/>
                  </a:lnTo>
                  <a:lnTo>
                    <a:pt x="111" y="24"/>
                  </a:lnTo>
                  <a:lnTo>
                    <a:pt x="106" y="24"/>
                  </a:lnTo>
                  <a:lnTo>
                    <a:pt x="100" y="24"/>
                  </a:lnTo>
                  <a:lnTo>
                    <a:pt x="94" y="24"/>
                  </a:lnTo>
                  <a:lnTo>
                    <a:pt x="89" y="26"/>
                  </a:lnTo>
                  <a:lnTo>
                    <a:pt x="84" y="29"/>
                  </a:lnTo>
                  <a:lnTo>
                    <a:pt x="78" y="29"/>
                  </a:lnTo>
                  <a:lnTo>
                    <a:pt x="73" y="29"/>
                  </a:lnTo>
                  <a:lnTo>
                    <a:pt x="67" y="30"/>
                  </a:lnTo>
                  <a:lnTo>
                    <a:pt x="62" y="33"/>
                  </a:lnTo>
                  <a:lnTo>
                    <a:pt x="58" y="35"/>
                  </a:lnTo>
                  <a:lnTo>
                    <a:pt x="54" y="36"/>
                  </a:lnTo>
                  <a:lnTo>
                    <a:pt x="49" y="36"/>
                  </a:lnTo>
                  <a:lnTo>
                    <a:pt x="46" y="39"/>
                  </a:lnTo>
                  <a:lnTo>
                    <a:pt x="39" y="39"/>
                  </a:lnTo>
                  <a:lnTo>
                    <a:pt x="32" y="38"/>
                  </a:lnTo>
                  <a:lnTo>
                    <a:pt x="24" y="39"/>
                  </a:lnTo>
                  <a:lnTo>
                    <a:pt x="19" y="45"/>
                  </a:lnTo>
                  <a:lnTo>
                    <a:pt x="7" y="46"/>
                  </a:lnTo>
                  <a:lnTo>
                    <a:pt x="5" y="49"/>
                  </a:lnTo>
                  <a:lnTo>
                    <a:pt x="4" y="51"/>
                  </a:lnTo>
                  <a:lnTo>
                    <a:pt x="2" y="54"/>
                  </a:lnTo>
                  <a:lnTo>
                    <a:pt x="0" y="57"/>
                  </a:lnTo>
                  <a:lnTo>
                    <a:pt x="1" y="57"/>
                  </a:lnTo>
                  <a:lnTo>
                    <a:pt x="4" y="57"/>
                  </a:lnTo>
                  <a:lnTo>
                    <a:pt x="7" y="57"/>
                  </a:lnTo>
                  <a:lnTo>
                    <a:pt x="8" y="57"/>
                  </a:lnTo>
                  <a:lnTo>
                    <a:pt x="13" y="55"/>
                  </a:lnTo>
                  <a:lnTo>
                    <a:pt x="19" y="54"/>
                  </a:lnTo>
                  <a:lnTo>
                    <a:pt x="24" y="54"/>
                  </a:lnTo>
                  <a:lnTo>
                    <a:pt x="29" y="52"/>
                  </a:lnTo>
                  <a:lnTo>
                    <a:pt x="35" y="54"/>
                  </a:lnTo>
                  <a:lnTo>
                    <a:pt x="40" y="55"/>
                  </a:lnTo>
                  <a:lnTo>
                    <a:pt x="45" y="55"/>
                  </a:lnTo>
                  <a:lnTo>
                    <a:pt x="51" y="54"/>
                  </a:lnTo>
                  <a:lnTo>
                    <a:pt x="57" y="54"/>
                  </a:lnTo>
                  <a:lnTo>
                    <a:pt x="61" y="52"/>
                  </a:lnTo>
                  <a:lnTo>
                    <a:pt x="67" y="51"/>
                  </a:lnTo>
                  <a:lnTo>
                    <a:pt x="73" y="51"/>
                  </a:lnTo>
                  <a:lnTo>
                    <a:pt x="75" y="49"/>
                  </a:lnTo>
                  <a:lnTo>
                    <a:pt x="78" y="49"/>
                  </a:lnTo>
                  <a:lnTo>
                    <a:pt x="80" y="48"/>
                  </a:lnTo>
                  <a:lnTo>
                    <a:pt x="81" y="45"/>
                  </a:lnTo>
                  <a:lnTo>
                    <a:pt x="86" y="45"/>
                  </a:lnTo>
                  <a:lnTo>
                    <a:pt x="90" y="43"/>
                  </a:lnTo>
                  <a:lnTo>
                    <a:pt x="94" y="42"/>
                  </a:lnTo>
                  <a:lnTo>
                    <a:pt x="99" y="40"/>
                  </a:lnTo>
                  <a:lnTo>
                    <a:pt x="124" y="40"/>
                  </a:lnTo>
                  <a:lnTo>
                    <a:pt x="130" y="45"/>
                  </a:lnTo>
                  <a:lnTo>
                    <a:pt x="138" y="48"/>
                  </a:lnTo>
                  <a:lnTo>
                    <a:pt x="146" y="48"/>
                  </a:lnTo>
                  <a:lnTo>
                    <a:pt x="154" y="48"/>
                  </a:lnTo>
                  <a:lnTo>
                    <a:pt x="163" y="48"/>
                  </a:lnTo>
                  <a:lnTo>
                    <a:pt x="172" y="43"/>
                  </a:lnTo>
                  <a:lnTo>
                    <a:pt x="181" y="40"/>
                  </a:lnTo>
                  <a:lnTo>
                    <a:pt x="191" y="45"/>
                  </a:lnTo>
                  <a:lnTo>
                    <a:pt x="194" y="45"/>
                  </a:lnTo>
                  <a:lnTo>
                    <a:pt x="197" y="46"/>
                  </a:lnTo>
                  <a:lnTo>
                    <a:pt x="198" y="48"/>
                  </a:lnTo>
                  <a:lnTo>
                    <a:pt x="201" y="49"/>
                  </a:lnTo>
                  <a:lnTo>
                    <a:pt x="210" y="49"/>
                  </a:lnTo>
                  <a:lnTo>
                    <a:pt x="219" y="49"/>
                  </a:lnTo>
                  <a:lnTo>
                    <a:pt x="227" y="49"/>
                  </a:lnTo>
                  <a:lnTo>
                    <a:pt x="236" y="52"/>
                  </a:lnTo>
                  <a:lnTo>
                    <a:pt x="242" y="57"/>
                  </a:lnTo>
                  <a:lnTo>
                    <a:pt x="249" y="61"/>
                  </a:lnTo>
                  <a:lnTo>
                    <a:pt x="255" y="62"/>
                  </a:lnTo>
                  <a:lnTo>
                    <a:pt x="262" y="65"/>
                  </a:lnTo>
                  <a:lnTo>
                    <a:pt x="268" y="67"/>
                  </a:lnTo>
                  <a:lnTo>
                    <a:pt x="276" y="68"/>
                  </a:lnTo>
                  <a:lnTo>
                    <a:pt x="283" y="70"/>
                  </a:lnTo>
                  <a:lnTo>
                    <a:pt x="290" y="70"/>
                  </a:lnTo>
                  <a:lnTo>
                    <a:pt x="296" y="71"/>
                  </a:lnTo>
                  <a:lnTo>
                    <a:pt x="302" y="74"/>
                  </a:lnTo>
                  <a:lnTo>
                    <a:pt x="308" y="74"/>
                  </a:lnTo>
                  <a:lnTo>
                    <a:pt x="311" y="70"/>
                  </a:lnTo>
                  <a:lnTo>
                    <a:pt x="314" y="67"/>
                  </a:lnTo>
                  <a:lnTo>
                    <a:pt x="315" y="61"/>
                  </a:lnTo>
                  <a:lnTo>
                    <a:pt x="316" y="58"/>
                  </a:lnTo>
                  <a:lnTo>
                    <a:pt x="322" y="57"/>
                  </a:lnTo>
                  <a:lnTo>
                    <a:pt x="330" y="57"/>
                  </a:lnTo>
                  <a:lnTo>
                    <a:pt x="337" y="51"/>
                  </a:lnTo>
                  <a:lnTo>
                    <a:pt x="341" y="43"/>
                  </a:lnTo>
                  <a:lnTo>
                    <a:pt x="346" y="38"/>
                  </a:lnTo>
                  <a:lnTo>
                    <a:pt x="347" y="32"/>
                  </a:lnTo>
                  <a:lnTo>
                    <a:pt x="347" y="26"/>
                  </a:lnTo>
                  <a:lnTo>
                    <a:pt x="347" y="21"/>
                  </a:lnTo>
                  <a:lnTo>
                    <a:pt x="347" y="16"/>
                  </a:lnTo>
                  <a:lnTo>
                    <a:pt x="349" y="11"/>
                  </a:lnTo>
                  <a:lnTo>
                    <a:pt x="346" y="8"/>
                  </a:lnTo>
                  <a:lnTo>
                    <a:pt x="343" y="5"/>
                  </a:lnTo>
                  <a:lnTo>
                    <a:pt x="340" y="2"/>
                  </a:lnTo>
                  <a:lnTo>
                    <a:pt x="335" y="1"/>
                  </a:lnTo>
                  <a:lnTo>
                    <a:pt x="331" y="0"/>
                  </a:lnTo>
                  <a:lnTo>
                    <a:pt x="327" y="0"/>
                  </a:lnTo>
                  <a:lnTo>
                    <a:pt x="324" y="0"/>
                  </a:lnTo>
                  <a:lnTo>
                    <a:pt x="312" y="1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079840" y="4511880"/>
              <a:ext cx="133200" cy="67320"/>
            </a:xfrm>
            <a:custGeom>
              <a:avLst/>
              <a:gdLst/>
              <a:ahLst/>
              <a:rect l="l" t="t" r="r" b="b"/>
              <a:pathLst>
                <a:path w="315" h="160">
                  <a:moveTo>
                    <a:pt x="138" y="9"/>
                  </a:moveTo>
                  <a:lnTo>
                    <a:pt x="133" y="9"/>
                  </a:lnTo>
                  <a:lnTo>
                    <a:pt x="125" y="11"/>
                  </a:lnTo>
                  <a:lnTo>
                    <a:pt x="120" y="13"/>
                  </a:lnTo>
                  <a:lnTo>
                    <a:pt x="112" y="14"/>
                  </a:lnTo>
                  <a:lnTo>
                    <a:pt x="105" y="14"/>
                  </a:lnTo>
                  <a:lnTo>
                    <a:pt x="99" y="14"/>
                  </a:lnTo>
                  <a:lnTo>
                    <a:pt x="92" y="14"/>
                  </a:lnTo>
                  <a:lnTo>
                    <a:pt x="84" y="11"/>
                  </a:lnTo>
                  <a:lnTo>
                    <a:pt x="68" y="14"/>
                  </a:lnTo>
                  <a:lnTo>
                    <a:pt x="68" y="16"/>
                  </a:lnTo>
                  <a:lnTo>
                    <a:pt x="67" y="16"/>
                  </a:lnTo>
                  <a:lnTo>
                    <a:pt x="65" y="16"/>
                  </a:lnTo>
                  <a:lnTo>
                    <a:pt x="65" y="16"/>
                  </a:lnTo>
                  <a:lnTo>
                    <a:pt x="64" y="14"/>
                  </a:lnTo>
                  <a:lnTo>
                    <a:pt x="63" y="14"/>
                  </a:lnTo>
                  <a:lnTo>
                    <a:pt x="61" y="14"/>
                  </a:lnTo>
                  <a:lnTo>
                    <a:pt x="60" y="14"/>
                  </a:lnTo>
                  <a:lnTo>
                    <a:pt x="52" y="22"/>
                  </a:lnTo>
                  <a:lnTo>
                    <a:pt x="45" y="28"/>
                  </a:lnTo>
                  <a:lnTo>
                    <a:pt x="39" y="35"/>
                  </a:lnTo>
                  <a:lnTo>
                    <a:pt x="38" y="45"/>
                  </a:lnTo>
                  <a:lnTo>
                    <a:pt x="36" y="51"/>
                  </a:lnTo>
                  <a:lnTo>
                    <a:pt x="36" y="57"/>
                  </a:lnTo>
                  <a:lnTo>
                    <a:pt x="38" y="61"/>
                  </a:lnTo>
                  <a:lnTo>
                    <a:pt x="42" y="66"/>
                  </a:lnTo>
                  <a:lnTo>
                    <a:pt x="52" y="70"/>
                  </a:lnTo>
                  <a:lnTo>
                    <a:pt x="63" y="74"/>
                  </a:lnTo>
                  <a:lnTo>
                    <a:pt x="73" y="79"/>
                  </a:lnTo>
                  <a:lnTo>
                    <a:pt x="83" y="83"/>
                  </a:lnTo>
                  <a:lnTo>
                    <a:pt x="84" y="84"/>
                  </a:lnTo>
                  <a:lnTo>
                    <a:pt x="84" y="86"/>
                  </a:lnTo>
                  <a:lnTo>
                    <a:pt x="84" y="87"/>
                  </a:lnTo>
                  <a:lnTo>
                    <a:pt x="84" y="89"/>
                  </a:lnTo>
                  <a:lnTo>
                    <a:pt x="77" y="89"/>
                  </a:lnTo>
                  <a:lnTo>
                    <a:pt x="71" y="86"/>
                  </a:lnTo>
                  <a:lnTo>
                    <a:pt x="65" y="82"/>
                  </a:lnTo>
                  <a:lnTo>
                    <a:pt x="60" y="80"/>
                  </a:lnTo>
                  <a:lnTo>
                    <a:pt x="55" y="80"/>
                  </a:lnTo>
                  <a:lnTo>
                    <a:pt x="51" y="82"/>
                  </a:lnTo>
                  <a:lnTo>
                    <a:pt x="46" y="84"/>
                  </a:lnTo>
                  <a:lnTo>
                    <a:pt x="44" y="87"/>
                  </a:lnTo>
                  <a:lnTo>
                    <a:pt x="30" y="98"/>
                  </a:lnTo>
                  <a:lnTo>
                    <a:pt x="22" y="112"/>
                  </a:lnTo>
                  <a:lnTo>
                    <a:pt x="14" y="128"/>
                  </a:lnTo>
                  <a:lnTo>
                    <a:pt x="1" y="140"/>
                  </a:lnTo>
                  <a:lnTo>
                    <a:pt x="0" y="144"/>
                  </a:lnTo>
                  <a:lnTo>
                    <a:pt x="0" y="147"/>
                  </a:lnTo>
                  <a:lnTo>
                    <a:pt x="1" y="152"/>
                  </a:lnTo>
                  <a:lnTo>
                    <a:pt x="3" y="156"/>
                  </a:lnTo>
                  <a:lnTo>
                    <a:pt x="4" y="156"/>
                  </a:lnTo>
                  <a:lnTo>
                    <a:pt x="6" y="158"/>
                  </a:lnTo>
                  <a:lnTo>
                    <a:pt x="7" y="159"/>
                  </a:lnTo>
                  <a:lnTo>
                    <a:pt x="7" y="160"/>
                  </a:lnTo>
                  <a:lnTo>
                    <a:pt x="13" y="159"/>
                  </a:lnTo>
                  <a:lnTo>
                    <a:pt x="17" y="156"/>
                  </a:lnTo>
                  <a:lnTo>
                    <a:pt x="22" y="153"/>
                  </a:lnTo>
                  <a:lnTo>
                    <a:pt x="26" y="150"/>
                  </a:lnTo>
                  <a:lnTo>
                    <a:pt x="58" y="140"/>
                  </a:lnTo>
                  <a:lnTo>
                    <a:pt x="64" y="139"/>
                  </a:lnTo>
                  <a:lnTo>
                    <a:pt x="68" y="137"/>
                  </a:lnTo>
                  <a:lnTo>
                    <a:pt x="73" y="136"/>
                  </a:lnTo>
                  <a:lnTo>
                    <a:pt x="79" y="134"/>
                  </a:lnTo>
                  <a:lnTo>
                    <a:pt x="86" y="131"/>
                  </a:lnTo>
                  <a:lnTo>
                    <a:pt x="95" y="130"/>
                  </a:lnTo>
                  <a:lnTo>
                    <a:pt x="103" y="130"/>
                  </a:lnTo>
                  <a:lnTo>
                    <a:pt x="111" y="128"/>
                  </a:lnTo>
                  <a:lnTo>
                    <a:pt x="120" y="127"/>
                  </a:lnTo>
                  <a:lnTo>
                    <a:pt x="127" y="127"/>
                  </a:lnTo>
                  <a:lnTo>
                    <a:pt x="136" y="128"/>
                  </a:lnTo>
                  <a:lnTo>
                    <a:pt x="144" y="128"/>
                  </a:lnTo>
                  <a:lnTo>
                    <a:pt x="152" y="130"/>
                  </a:lnTo>
                  <a:lnTo>
                    <a:pt x="160" y="130"/>
                  </a:lnTo>
                  <a:lnTo>
                    <a:pt x="168" y="131"/>
                  </a:lnTo>
                  <a:lnTo>
                    <a:pt x="176" y="133"/>
                  </a:lnTo>
                  <a:lnTo>
                    <a:pt x="181" y="133"/>
                  </a:lnTo>
                  <a:lnTo>
                    <a:pt x="187" y="134"/>
                  </a:lnTo>
                  <a:lnTo>
                    <a:pt x="191" y="134"/>
                  </a:lnTo>
                  <a:lnTo>
                    <a:pt x="195" y="133"/>
                  </a:lnTo>
                  <a:lnTo>
                    <a:pt x="194" y="131"/>
                  </a:lnTo>
                  <a:lnTo>
                    <a:pt x="193" y="131"/>
                  </a:lnTo>
                  <a:lnTo>
                    <a:pt x="190" y="130"/>
                  </a:lnTo>
                  <a:lnTo>
                    <a:pt x="188" y="128"/>
                  </a:lnTo>
                  <a:lnTo>
                    <a:pt x="190" y="125"/>
                  </a:lnTo>
                  <a:lnTo>
                    <a:pt x="190" y="122"/>
                  </a:lnTo>
                  <a:lnTo>
                    <a:pt x="188" y="120"/>
                  </a:lnTo>
                  <a:lnTo>
                    <a:pt x="185" y="117"/>
                  </a:lnTo>
                  <a:lnTo>
                    <a:pt x="181" y="117"/>
                  </a:lnTo>
                  <a:lnTo>
                    <a:pt x="179" y="115"/>
                  </a:lnTo>
                  <a:lnTo>
                    <a:pt x="176" y="114"/>
                  </a:lnTo>
                  <a:lnTo>
                    <a:pt x="174" y="115"/>
                  </a:lnTo>
                  <a:lnTo>
                    <a:pt x="171" y="114"/>
                  </a:lnTo>
                  <a:lnTo>
                    <a:pt x="171" y="111"/>
                  </a:lnTo>
                  <a:lnTo>
                    <a:pt x="171" y="108"/>
                  </a:lnTo>
                  <a:lnTo>
                    <a:pt x="169" y="106"/>
                  </a:lnTo>
                  <a:lnTo>
                    <a:pt x="169" y="105"/>
                  </a:lnTo>
                  <a:lnTo>
                    <a:pt x="168" y="103"/>
                  </a:lnTo>
                  <a:lnTo>
                    <a:pt x="166" y="101"/>
                  </a:lnTo>
                  <a:lnTo>
                    <a:pt x="168" y="101"/>
                  </a:lnTo>
                  <a:lnTo>
                    <a:pt x="171" y="101"/>
                  </a:lnTo>
                  <a:lnTo>
                    <a:pt x="174" y="103"/>
                  </a:lnTo>
                  <a:lnTo>
                    <a:pt x="176" y="103"/>
                  </a:lnTo>
                  <a:lnTo>
                    <a:pt x="179" y="102"/>
                  </a:lnTo>
                  <a:lnTo>
                    <a:pt x="182" y="103"/>
                  </a:lnTo>
                  <a:lnTo>
                    <a:pt x="185" y="105"/>
                  </a:lnTo>
                  <a:lnTo>
                    <a:pt x="188" y="106"/>
                  </a:lnTo>
                  <a:lnTo>
                    <a:pt x="191" y="106"/>
                  </a:lnTo>
                  <a:lnTo>
                    <a:pt x="193" y="109"/>
                  </a:lnTo>
                  <a:lnTo>
                    <a:pt x="194" y="112"/>
                  </a:lnTo>
                  <a:lnTo>
                    <a:pt x="194" y="115"/>
                  </a:lnTo>
                  <a:lnTo>
                    <a:pt x="195" y="118"/>
                  </a:lnTo>
                  <a:lnTo>
                    <a:pt x="197" y="118"/>
                  </a:lnTo>
                  <a:lnTo>
                    <a:pt x="200" y="117"/>
                  </a:lnTo>
                  <a:lnTo>
                    <a:pt x="201" y="117"/>
                  </a:lnTo>
                  <a:lnTo>
                    <a:pt x="203" y="118"/>
                  </a:lnTo>
                  <a:lnTo>
                    <a:pt x="206" y="121"/>
                  </a:lnTo>
                  <a:lnTo>
                    <a:pt x="212" y="121"/>
                  </a:lnTo>
                  <a:lnTo>
                    <a:pt x="216" y="121"/>
                  </a:lnTo>
                  <a:lnTo>
                    <a:pt x="217" y="124"/>
                  </a:lnTo>
                  <a:lnTo>
                    <a:pt x="223" y="128"/>
                  </a:lnTo>
                  <a:lnTo>
                    <a:pt x="223" y="127"/>
                  </a:lnTo>
                  <a:lnTo>
                    <a:pt x="225" y="124"/>
                  </a:lnTo>
                  <a:lnTo>
                    <a:pt x="226" y="122"/>
                  </a:lnTo>
                  <a:lnTo>
                    <a:pt x="228" y="122"/>
                  </a:lnTo>
                  <a:lnTo>
                    <a:pt x="231" y="124"/>
                  </a:lnTo>
                  <a:lnTo>
                    <a:pt x="233" y="125"/>
                  </a:lnTo>
                  <a:lnTo>
                    <a:pt x="235" y="127"/>
                  </a:lnTo>
                  <a:lnTo>
                    <a:pt x="238" y="128"/>
                  </a:lnTo>
                  <a:lnTo>
                    <a:pt x="238" y="130"/>
                  </a:lnTo>
                  <a:lnTo>
                    <a:pt x="239" y="133"/>
                  </a:lnTo>
                  <a:lnTo>
                    <a:pt x="241" y="136"/>
                  </a:lnTo>
                  <a:lnTo>
                    <a:pt x="244" y="137"/>
                  </a:lnTo>
                  <a:lnTo>
                    <a:pt x="245" y="137"/>
                  </a:lnTo>
                  <a:lnTo>
                    <a:pt x="247" y="139"/>
                  </a:lnTo>
                  <a:lnTo>
                    <a:pt x="247" y="140"/>
                  </a:lnTo>
                  <a:lnTo>
                    <a:pt x="247" y="141"/>
                  </a:lnTo>
                  <a:lnTo>
                    <a:pt x="251" y="141"/>
                  </a:lnTo>
                  <a:lnTo>
                    <a:pt x="254" y="140"/>
                  </a:lnTo>
                  <a:lnTo>
                    <a:pt x="255" y="140"/>
                  </a:lnTo>
                  <a:lnTo>
                    <a:pt x="260" y="140"/>
                  </a:lnTo>
                  <a:lnTo>
                    <a:pt x="261" y="137"/>
                  </a:lnTo>
                  <a:lnTo>
                    <a:pt x="264" y="136"/>
                  </a:lnTo>
                  <a:lnTo>
                    <a:pt x="267" y="136"/>
                  </a:lnTo>
                  <a:lnTo>
                    <a:pt x="270" y="137"/>
                  </a:lnTo>
                  <a:lnTo>
                    <a:pt x="274" y="143"/>
                  </a:lnTo>
                  <a:lnTo>
                    <a:pt x="279" y="146"/>
                  </a:lnTo>
                  <a:lnTo>
                    <a:pt x="283" y="149"/>
                  </a:lnTo>
                  <a:lnTo>
                    <a:pt x="287" y="153"/>
                  </a:lnTo>
                  <a:lnTo>
                    <a:pt x="287" y="155"/>
                  </a:lnTo>
                  <a:lnTo>
                    <a:pt x="289" y="158"/>
                  </a:lnTo>
                  <a:lnTo>
                    <a:pt x="290" y="159"/>
                  </a:lnTo>
                  <a:lnTo>
                    <a:pt x="292" y="160"/>
                  </a:lnTo>
                  <a:lnTo>
                    <a:pt x="295" y="160"/>
                  </a:lnTo>
                  <a:lnTo>
                    <a:pt x="296" y="159"/>
                  </a:lnTo>
                  <a:lnTo>
                    <a:pt x="298" y="156"/>
                  </a:lnTo>
                  <a:lnTo>
                    <a:pt x="299" y="155"/>
                  </a:lnTo>
                  <a:lnTo>
                    <a:pt x="301" y="147"/>
                  </a:lnTo>
                  <a:lnTo>
                    <a:pt x="305" y="141"/>
                  </a:lnTo>
                  <a:lnTo>
                    <a:pt x="311" y="136"/>
                  </a:lnTo>
                  <a:lnTo>
                    <a:pt x="315" y="130"/>
                  </a:lnTo>
                  <a:lnTo>
                    <a:pt x="314" y="124"/>
                  </a:lnTo>
                  <a:lnTo>
                    <a:pt x="309" y="120"/>
                  </a:lnTo>
                  <a:lnTo>
                    <a:pt x="305" y="114"/>
                  </a:lnTo>
                  <a:lnTo>
                    <a:pt x="301" y="109"/>
                  </a:lnTo>
                  <a:lnTo>
                    <a:pt x="301" y="101"/>
                  </a:lnTo>
                  <a:lnTo>
                    <a:pt x="298" y="101"/>
                  </a:lnTo>
                  <a:lnTo>
                    <a:pt x="295" y="101"/>
                  </a:lnTo>
                  <a:lnTo>
                    <a:pt x="292" y="99"/>
                  </a:lnTo>
                  <a:lnTo>
                    <a:pt x="289" y="96"/>
                  </a:lnTo>
                  <a:lnTo>
                    <a:pt x="289" y="90"/>
                  </a:lnTo>
                  <a:lnTo>
                    <a:pt x="289" y="84"/>
                  </a:lnTo>
                  <a:lnTo>
                    <a:pt x="287" y="79"/>
                  </a:lnTo>
                  <a:lnTo>
                    <a:pt x="287" y="73"/>
                  </a:lnTo>
                  <a:lnTo>
                    <a:pt x="285" y="71"/>
                  </a:lnTo>
                  <a:lnTo>
                    <a:pt x="280" y="70"/>
                  </a:lnTo>
                  <a:lnTo>
                    <a:pt x="276" y="68"/>
                  </a:lnTo>
                  <a:lnTo>
                    <a:pt x="273" y="67"/>
                  </a:lnTo>
                  <a:lnTo>
                    <a:pt x="264" y="67"/>
                  </a:lnTo>
                  <a:lnTo>
                    <a:pt x="257" y="71"/>
                  </a:lnTo>
                  <a:lnTo>
                    <a:pt x="249" y="76"/>
                  </a:lnTo>
                  <a:lnTo>
                    <a:pt x="241" y="79"/>
                  </a:lnTo>
                  <a:lnTo>
                    <a:pt x="225" y="76"/>
                  </a:lnTo>
                  <a:lnTo>
                    <a:pt x="217" y="79"/>
                  </a:lnTo>
                  <a:lnTo>
                    <a:pt x="209" y="82"/>
                  </a:lnTo>
                  <a:lnTo>
                    <a:pt x="201" y="83"/>
                  </a:lnTo>
                  <a:lnTo>
                    <a:pt x="193" y="80"/>
                  </a:lnTo>
                  <a:lnTo>
                    <a:pt x="190" y="80"/>
                  </a:lnTo>
                  <a:lnTo>
                    <a:pt x="188" y="80"/>
                  </a:lnTo>
                  <a:lnTo>
                    <a:pt x="185" y="80"/>
                  </a:lnTo>
                  <a:lnTo>
                    <a:pt x="182" y="80"/>
                  </a:lnTo>
                  <a:lnTo>
                    <a:pt x="179" y="77"/>
                  </a:lnTo>
                  <a:lnTo>
                    <a:pt x="175" y="76"/>
                  </a:lnTo>
                  <a:lnTo>
                    <a:pt x="171" y="73"/>
                  </a:lnTo>
                  <a:lnTo>
                    <a:pt x="171" y="68"/>
                  </a:lnTo>
                  <a:lnTo>
                    <a:pt x="178" y="66"/>
                  </a:lnTo>
                  <a:lnTo>
                    <a:pt x="184" y="63"/>
                  </a:lnTo>
                  <a:lnTo>
                    <a:pt x="191" y="60"/>
                  </a:lnTo>
                  <a:lnTo>
                    <a:pt x="195" y="55"/>
                  </a:lnTo>
                  <a:lnTo>
                    <a:pt x="201" y="52"/>
                  </a:lnTo>
                  <a:lnTo>
                    <a:pt x="206" y="49"/>
                  </a:lnTo>
                  <a:lnTo>
                    <a:pt x="210" y="47"/>
                  </a:lnTo>
                  <a:lnTo>
                    <a:pt x="210" y="41"/>
                  </a:lnTo>
                  <a:lnTo>
                    <a:pt x="210" y="38"/>
                  </a:lnTo>
                  <a:lnTo>
                    <a:pt x="212" y="33"/>
                  </a:lnTo>
                  <a:lnTo>
                    <a:pt x="210" y="29"/>
                  </a:lnTo>
                  <a:lnTo>
                    <a:pt x="209" y="25"/>
                  </a:lnTo>
                  <a:lnTo>
                    <a:pt x="204" y="22"/>
                  </a:lnTo>
                  <a:lnTo>
                    <a:pt x="200" y="17"/>
                  </a:lnTo>
                  <a:lnTo>
                    <a:pt x="198" y="13"/>
                  </a:lnTo>
                  <a:lnTo>
                    <a:pt x="197" y="7"/>
                  </a:lnTo>
                  <a:lnTo>
                    <a:pt x="191" y="4"/>
                  </a:lnTo>
                  <a:lnTo>
                    <a:pt x="184" y="3"/>
                  </a:lnTo>
                  <a:lnTo>
                    <a:pt x="176" y="3"/>
                  </a:lnTo>
                  <a:lnTo>
                    <a:pt x="169" y="0"/>
                  </a:lnTo>
                  <a:lnTo>
                    <a:pt x="160" y="1"/>
                  </a:lnTo>
                  <a:lnTo>
                    <a:pt x="153" y="3"/>
                  </a:lnTo>
                  <a:lnTo>
                    <a:pt x="146" y="6"/>
                  </a:lnTo>
                  <a:lnTo>
                    <a:pt x="138" y="9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301600" y="4512960"/>
              <a:ext cx="28800" cy="17640"/>
            </a:xfrm>
            <a:custGeom>
              <a:avLst/>
              <a:gdLst/>
              <a:ahLst/>
              <a:rect l="l" t="t" r="r" b="b"/>
              <a:pathLst>
                <a:path w="69" h="42">
                  <a:moveTo>
                    <a:pt x="35" y="1"/>
                  </a:moveTo>
                  <a:lnTo>
                    <a:pt x="26" y="7"/>
                  </a:lnTo>
                  <a:lnTo>
                    <a:pt x="21" y="6"/>
                  </a:lnTo>
                  <a:lnTo>
                    <a:pt x="15" y="3"/>
                  </a:lnTo>
                  <a:lnTo>
                    <a:pt x="9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7" y="10"/>
                  </a:lnTo>
                  <a:lnTo>
                    <a:pt x="13" y="13"/>
                  </a:lnTo>
                  <a:lnTo>
                    <a:pt x="19" y="17"/>
                  </a:lnTo>
                  <a:lnTo>
                    <a:pt x="25" y="19"/>
                  </a:lnTo>
                  <a:lnTo>
                    <a:pt x="26" y="23"/>
                  </a:lnTo>
                  <a:lnTo>
                    <a:pt x="28" y="29"/>
                  </a:lnTo>
                  <a:lnTo>
                    <a:pt x="31" y="33"/>
                  </a:lnTo>
                  <a:lnTo>
                    <a:pt x="37" y="32"/>
                  </a:lnTo>
                  <a:lnTo>
                    <a:pt x="40" y="29"/>
                  </a:lnTo>
                  <a:lnTo>
                    <a:pt x="41" y="33"/>
                  </a:lnTo>
                  <a:lnTo>
                    <a:pt x="44" y="35"/>
                  </a:lnTo>
                  <a:lnTo>
                    <a:pt x="47" y="36"/>
                  </a:lnTo>
                  <a:lnTo>
                    <a:pt x="51" y="38"/>
                  </a:lnTo>
                  <a:lnTo>
                    <a:pt x="56" y="36"/>
                  </a:lnTo>
                  <a:lnTo>
                    <a:pt x="59" y="38"/>
                  </a:lnTo>
                  <a:lnTo>
                    <a:pt x="61" y="39"/>
                  </a:lnTo>
                  <a:lnTo>
                    <a:pt x="64" y="42"/>
                  </a:lnTo>
                  <a:lnTo>
                    <a:pt x="66" y="42"/>
                  </a:lnTo>
                  <a:lnTo>
                    <a:pt x="67" y="42"/>
                  </a:lnTo>
                  <a:lnTo>
                    <a:pt x="69" y="42"/>
                  </a:lnTo>
                  <a:lnTo>
                    <a:pt x="69" y="41"/>
                  </a:lnTo>
                  <a:lnTo>
                    <a:pt x="66" y="29"/>
                  </a:lnTo>
                  <a:lnTo>
                    <a:pt x="61" y="17"/>
                  </a:lnTo>
                  <a:lnTo>
                    <a:pt x="56" y="8"/>
                  </a:lnTo>
                  <a:lnTo>
                    <a:pt x="47" y="0"/>
                  </a:lnTo>
                  <a:lnTo>
                    <a:pt x="44" y="1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5" y="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104320" y="4518360"/>
              <a:ext cx="50760" cy="20160"/>
            </a:xfrm>
            <a:custGeom>
              <a:avLst/>
              <a:gdLst/>
              <a:ahLst/>
              <a:rect l="l" t="t" r="r" b="b"/>
              <a:pathLst>
                <a:path w="121" h="47">
                  <a:moveTo>
                    <a:pt x="92" y="13"/>
                  </a:moveTo>
                  <a:lnTo>
                    <a:pt x="87" y="13"/>
                  </a:lnTo>
                  <a:lnTo>
                    <a:pt x="84" y="13"/>
                  </a:lnTo>
                  <a:lnTo>
                    <a:pt x="80" y="12"/>
                  </a:lnTo>
                  <a:lnTo>
                    <a:pt x="76" y="13"/>
                  </a:lnTo>
                  <a:lnTo>
                    <a:pt x="74" y="18"/>
                  </a:lnTo>
                  <a:lnTo>
                    <a:pt x="70" y="21"/>
                  </a:lnTo>
                  <a:lnTo>
                    <a:pt x="65" y="21"/>
                  </a:lnTo>
                  <a:lnTo>
                    <a:pt x="61" y="24"/>
                  </a:lnTo>
                  <a:lnTo>
                    <a:pt x="55" y="21"/>
                  </a:lnTo>
                  <a:lnTo>
                    <a:pt x="49" y="22"/>
                  </a:lnTo>
                  <a:lnTo>
                    <a:pt x="44" y="22"/>
                  </a:lnTo>
                  <a:lnTo>
                    <a:pt x="38" y="22"/>
                  </a:lnTo>
                  <a:lnTo>
                    <a:pt x="33" y="19"/>
                  </a:lnTo>
                  <a:lnTo>
                    <a:pt x="26" y="19"/>
                  </a:lnTo>
                  <a:lnTo>
                    <a:pt x="20" y="19"/>
                  </a:lnTo>
                  <a:lnTo>
                    <a:pt x="14" y="19"/>
                  </a:lnTo>
                  <a:lnTo>
                    <a:pt x="16" y="18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2" y="12"/>
                  </a:lnTo>
                  <a:lnTo>
                    <a:pt x="19" y="11"/>
                  </a:lnTo>
                  <a:lnTo>
                    <a:pt x="14" y="13"/>
                  </a:lnTo>
                  <a:lnTo>
                    <a:pt x="10" y="16"/>
                  </a:lnTo>
                  <a:lnTo>
                    <a:pt x="4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1" y="35"/>
                  </a:lnTo>
                  <a:lnTo>
                    <a:pt x="3" y="40"/>
                  </a:lnTo>
                  <a:lnTo>
                    <a:pt x="4" y="40"/>
                  </a:lnTo>
                  <a:lnTo>
                    <a:pt x="6" y="40"/>
                  </a:lnTo>
                  <a:lnTo>
                    <a:pt x="7" y="40"/>
                  </a:lnTo>
                  <a:lnTo>
                    <a:pt x="8" y="40"/>
                  </a:lnTo>
                  <a:lnTo>
                    <a:pt x="10" y="41"/>
                  </a:lnTo>
                  <a:lnTo>
                    <a:pt x="11" y="43"/>
                  </a:lnTo>
                  <a:lnTo>
                    <a:pt x="13" y="43"/>
                  </a:lnTo>
                  <a:lnTo>
                    <a:pt x="14" y="41"/>
                  </a:lnTo>
                  <a:lnTo>
                    <a:pt x="13" y="40"/>
                  </a:lnTo>
                  <a:lnTo>
                    <a:pt x="11" y="37"/>
                  </a:lnTo>
                  <a:lnTo>
                    <a:pt x="10" y="35"/>
                  </a:lnTo>
                  <a:lnTo>
                    <a:pt x="10" y="32"/>
                  </a:lnTo>
                  <a:lnTo>
                    <a:pt x="13" y="31"/>
                  </a:lnTo>
                  <a:lnTo>
                    <a:pt x="16" y="31"/>
                  </a:lnTo>
                  <a:lnTo>
                    <a:pt x="17" y="32"/>
                  </a:lnTo>
                  <a:lnTo>
                    <a:pt x="20" y="34"/>
                  </a:lnTo>
                  <a:lnTo>
                    <a:pt x="26" y="32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5"/>
                  </a:lnTo>
                  <a:lnTo>
                    <a:pt x="48" y="37"/>
                  </a:lnTo>
                  <a:lnTo>
                    <a:pt x="52" y="37"/>
                  </a:lnTo>
                  <a:lnTo>
                    <a:pt x="57" y="37"/>
                  </a:lnTo>
                  <a:lnTo>
                    <a:pt x="61" y="37"/>
                  </a:lnTo>
                  <a:lnTo>
                    <a:pt x="63" y="35"/>
                  </a:lnTo>
                  <a:lnTo>
                    <a:pt x="65" y="34"/>
                  </a:lnTo>
                  <a:lnTo>
                    <a:pt x="67" y="34"/>
                  </a:lnTo>
                  <a:lnTo>
                    <a:pt x="68" y="37"/>
                  </a:lnTo>
                  <a:lnTo>
                    <a:pt x="70" y="38"/>
                  </a:lnTo>
                  <a:lnTo>
                    <a:pt x="70" y="41"/>
                  </a:lnTo>
                  <a:lnTo>
                    <a:pt x="70" y="46"/>
                  </a:lnTo>
                  <a:lnTo>
                    <a:pt x="73" y="47"/>
                  </a:lnTo>
                  <a:lnTo>
                    <a:pt x="81" y="44"/>
                  </a:lnTo>
                  <a:lnTo>
                    <a:pt x="89" y="43"/>
                  </a:lnTo>
                  <a:lnTo>
                    <a:pt x="96" y="40"/>
                  </a:lnTo>
                  <a:lnTo>
                    <a:pt x="103" y="34"/>
                  </a:lnTo>
                  <a:lnTo>
                    <a:pt x="106" y="32"/>
                  </a:lnTo>
                  <a:lnTo>
                    <a:pt x="109" y="31"/>
                  </a:lnTo>
                  <a:lnTo>
                    <a:pt x="112" y="28"/>
                  </a:lnTo>
                  <a:lnTo>
                    <a:pt x="117" y="28"/>
                  </a:lnTo>
                  <a:lnTo>
                    <a:pt x="119" y="22"/>
                  </a:lnTo>
                  <a:lnTo>
                    <a:pt x="121" y="16"/>
                  </a:lnTo>
                  <a:lnTo>
                    <a:pt x="121" y="11"/>
                  </a:lnTo>
                  <a:lnTo>
                    <a:pt x="119" y="5"/>
                  </a:lnTo>
                  <a:lnTo>
                    <a:pt x="115" y="5"/>
                  </a:lnTo>
                  <a:lnTo>
                    <a:pt x="111" y="6"/>
                  </a:lnTo>
                  <a:lnTo>
                    <a:pt x="106" y="6"/>
                  </a:lnTo>
                  <a:lnTo>
                    <a:pt x="103" y="2"/>
                  </a:lnTo>
                  <a:lnTo>
                    <a:pt x="102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6" y="0"/>
                  </a:lnTo>
                  <a:lnTo>
                    <a:pt x="95" y="3"/>
                  </a:lnTo>
                  <a:lnTo>
                    <a:pt x="93" y="6"/>
                  </a:lnTo>
                  <a:lnTo>
                    <a:pt x="93" y="11"/>
                  </a:lnTo>
                  <a:lnTo>
                    <a:pt x="92" y="1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0960" y="4547520"/>
              <a:ext cx="16200" cy="1116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13" y="4"/>
                  </a:moveTo>
                  <a:lnTo>
                    <a:pt x="8" y="9"/>
                  </a:lnTo>
                  <a:lnTo>
                    <a:pt x="5" y="13"/>
                  </a:lnTo>
                  <a:lnTo>
                    <a:pt x="1" y="17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7" y="25"/>
                  </a:lnTo>
                  <a:lnTo>
                    <a:pt x="8" y="23"/>
                  </a:lnTo>
                  <a:lnTo>
                    <a:pt x="10" y="20"/>
                  </a:lnTo>
                  <a:lnTo>
                    <a:pt x="13" y="20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23" y="22"/>
                  </a:lnTo>
                  <a:lnTo>
                    <a:pt x="26" y="23"/>
                  </a:lnTo>
                  <a:lnTo>
                    <a:pt x="30" y="25"/>
                  </a:lnTo>
                  <a:lnTo>
                    <a:pt x="33" y="20"/>
                  </a:lnTo>
                  <a:lnTo>
                    <a:pt x="36" y="19"/>
                  </a:lnTo>
                  <a:lnTo>
                    <a:pt x="40" y="16"/>
                  </a:lnTo>
                  <a:lnTo>
                    <a:pt x="40" y="13"/>
                  </a:lnTo>
                  <a:lnTo>
                    <a:pt x="30" y="9"/>
                  </a:lnTo>
                  <a:lnTo>
                    <a:pt x="27" y="6"/>
                  </a:lnTo>
                  <a:lnTo>
                    <a:pt x="27" y="3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20" y="3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076240" y="4569120"/>
              <a:ext cx="93960" cy="83520"/>
            </a:xfrm>
            <a:custGeom>
              <a:avLst/>
              <a:gdLst/>
              <a:ahLst/>
              <a:rect l="l" t="t" r="r" b="b"/>
              <a:pathLst>
                <a:path w="222" h="197">
                  <a:moveTo>
                    <a:pt x="91" y="5"/>
                  </a:moveTo>
                  <a:lnTo>
                    <a:pt x="81" y="8"/>
                  </a:lnTo>
                  <a:lnTo>
                    <a:pt x="72" y="11"/>
                  </a:lnTo>
                  <a:lnTo>
                    <a:pt x="62" y="14"/>
                  </a:lnTo>
                  <a:lnTo>
                    <a:pt x="52" y="17"/>
                  </a:lnTo>
                  <a:lnTo>
                    <a:pt x="46" y="20"/>
                  </a:lnTo>
                  <a:lnTo>
                    <a:pt x="40" y="22"/>
                  </a:lnTo>
                  <a:lnTo>
                    <a:pt x="34" y="24"/>
                  </a:lnTo>
                  <a:lnTo>
                    <a:pt x="30" y="27"/>
                  </a:lnTo>
                  <a:lnTo>
                    <a:pt x="24" y="30"/>
                  </a:lnTo>
                  <a:lnTo>
                    <a:pt x="18" y="33"/>
                  </a:lnTo>
                  <a:lnTo>
                    <a:pt x="12" y="36"/>
                  </a:lnTo>
                  <a:lnTo>
                    <a:pt x="6" y="39"/>
                  </a:lnTo>
                  <a:lnTo>
                    <a:pt x="3" y="43"/>
                  </a:lnTo>
                  <a:lnTo>
                    <a:pt x="2" y="49"/>
                  </a:lnTo>
                  <a:lnTo>
                    <a:pt x="2" y="54"/>
                  </a:lnTo>
                  <a:lnTo>
                    <a:pt x="0" y="60"/>
                  </a:lnTo>
                  <a:lnTo>
                    <a:pt x="8" y="77"/>
                  </a:lnTo>
                  <a:lnTo>
                    <a:pt x="18" y="93"/>
                  </a:lnTo>
                  <a:lnTo>
                    <a:pt x="28" y="108"/>
                  </a:lnTo>
                  <a:lnTo>
                    <a:pt x="40" y="124"/>
                  </a:lnTo>
                  <a:lnTo>
                    <a:pt x="44" y="130"/>
                  </a:lnTo>
                  <a:lnTo>
                    <a:pt x="49" y="134"/>
                  </a:lnTo>
                  <a:lnTo>
                    <a:pt x="53" y="138"/>
                  </a:lnTo>
                  <a:lnTo>
                    <a:pt x="57" y="141"/>
                  </a:lnTo>
                  <a:lnTo>
                    <a:pt x="59" y="149"/>
                  </a:lnTo>
                  <a:lnTo>
                    <a:pt x="63" y="155"/>
                  </a:lnTo>
                  <a:lnTo>
                    <a:pt x="66" y="160"/>
                  </a:lnTo>
                  <a:lnTo>
                    <a:pt x="68" y="168"/>
                  </a:lnTo>
                  <a:lnTo>
                    <a:pt x="72" y="172"/>
                  </a:lnTo>
                  <a:lnTo>
                    <a:pt x="78" y="175"/>
                  </a:lnTo>
                  <a:lnTo>
                    <a:pt x="84" y="178"/>
                  </a:lnTo>
                  <a:lnTo>
                    <a:pt x="90" y="181"/>
                  </a:lnTo>
                  <a:lnTo>
                    <a:pt x="90" y="182"/>
                  </a:lnTo>
                  <a:lnTo>
                    <a:pt x="91" y="184"/>
                  </a:lnTo>
                  <a:lnTo>
                    <a:pt x="91" y="185"/>
                  </a:lnTo>
                  <a:lnTo>
                    <a:pt x="91" y="187"/>
                  </a:lnTo>
                  <a:lnTo>
                    <a:pt x="94" y="190"/>
                  </a:lnTo>
                  <a:lnTo>
                    <a:pt x="97" y="193"/>
                  </a:lnTo>
                  <a:lnTo>
                    <a:pt x="100" y="195"/>
                  </a:lnTo>
                  <a:lnTo>
                    <a:pt x="106" y="197"/>
                  </a:lnTo>
                  <a:lnTo>
                    <a:pt x="109" y="195"/>
                  </a:lnTo>
                  <a:lnTo>
                    <a:pt x="113" y="195"/>
                  </a:lnTo>
                  <a:lnTo>
                    <a:pt x="116" y="197"/>
                  </a:lnTo>
                  <a:lnTo>
                    <a:pt x="120" y="197"/>
                  </a:lnTo>
                  <a:lnTo>
                    <a:pt x="110" y="185"/>
                  </a:lnTo>
                  <a:lnTo>
                    <a:pt x="100" y="174"/>
                  </a:lnTo>
                  <a:lnTo>
                    <a:pt x="90" y="160"/>
                  </a:lnTo>
                  <a:lnTo>
                    <a:pt x="79" y="149"/>
                  </a:lnTo>
                  <a:lnTo>
                    <a:pt x="72" y="143"/>
                  </a:lnTo>
                  <a:lnTo>
                    <a:pt x="68" y="137"/>
                  </a:lnTo>
                  <a:lnTo>
                    <a:pt x="63" y="128"/>
                  </a:lnTo>
                  <a:lnTo>
                    <a:pt x="60" y="121"/>
                  </a:lnTo>
                  <a:lnTo>
                    <a:pt x="54" y="115"/>
                  </a:lnTo>
                  <a:lnTo>
                    <a:pt x="47" y="111"/>
                  </a:lnTo>
                  <a:lnTo>
                    <a:pt x="40" y="105"/>
                  </a:lnTo>
                  <a:lnTo>
                    <a:pt x="36" y="98"/>
                  </a:lnTo>
                  <a:lnTo>
                    <a:pt x="31" y="90"/>
                  </a:lnTo>
                  <a:lnTo>
                    <a:pt x="28" y="84"/>
                  </a:lnTo>
                  <a:lnTo>
                    <a:pt x="24" y="77"/>
                  </a:lnTo>
                  <a:lnTo>
                    <a:pt x="18" y="71"/>
                  </a:lnTo>
                  <a:lnTo>
                    <a:pt x="17" y="67"/>
                  </a:lnTo>
                  <a:lnTo>
                    <a:pt x="17" y="62"/>
                  </a:lnTo>
                  <a:lnTo>
                    <a:pt x="19" y="60"/>
                  </a:lnTo>
                  <a:lnTo>
                    <a:pt x="22" y="55"/>
                  </a:lnTo>
                  <a:lnTo>
                    <a:pt x="31" y="49"/>
                  </a:lnTo>
                  <a:lnTo>
                    <a:pt x="43" y="48"/>
                  </a:lnTo>
                  <a:lnTo>
                    <a:pt x="53" y="46"/>
                  </a:lnTo>
                  <a:lnTo>
                    <a:pt x="62" y="45"/>
                  </a:lnTo>
                  <a:lnTo>
                    <a:pt x="68" y="43"/>
                  </a:lnTo>
                  <a:lnTo>
                    <a:pt x="73" y="41"/>
                  </a:lnTo>
                  <a:lnTo>
                    <a:pt x="78" y="38"/>
                  </a:lnTo>
                  <a:lnTo>
                    <a:pt x="84" y="36"/>
                  </a:lnTo>
                  <a:lnTo>
                    <a:pt x="90" y="35"/>
                  </a:lnTo>
                  <a:lnTo>
                    <a:pt x="95" y="33"/>
                  </a:lnTo>
                  <a:lnTo>
                    <a:pt x="101" y="32"/>
                  </a:lnTo>
                  <a:lnTo>
                    <a:pt x="107" y="29"/>
                  </a:lnTo>
                  <a:lnTo>
                    <a:pt x="113" y="27"/>
                  </a:lnTo>
                  <a:lnTo>
                    <a:pt x="119" y="26"/>
                  </a:lnTo>
                  <a:lnTo>
                    <a:pt x="125" y="26"/>
                  </a:lnTo>
                  <a:lnTo>
                    <a:pt x="130" y="27"/>
                  </a:lnTo>
                  <a:lnTo>
                    <a:pt x="139" y="32"/>
                  </a:lnTo>
                  <a:lnTo>
                    <a:pt x="148" y="35"/>
                  </a:lnTo>
                  <a:lnTo>
                    <a:pt x="155" y="36"/>
                  </a:lnTo>
                  <a:lnTo>
                    <a:pt x="164" y="38"/>
                  </a:lnTo>
                  <a:lnTo>
                    <a:pt x="167" y="36"/>
                  </a:lnTo>
                  <a:lnTo>
                    <a:pt x="171" y="38"/>
                  </a:lnTo>
                  <a:lnTo>
                    <a:pt x="174" y="39"/>
                  </a:lnTo>
                  <a:lnTo>
                    <a:pt x="179" y="39"/>
                  </a:lnTo>
                  <a:lnTo>
                    <a:pt x="192" y="38"/>
                  </a:lnTo>
                  <a:lnTo>
                    <a:pt x="199" y="32"/>
                  </a:lnTo>
                  <a:lnTo>
                    <a:pt x="206" y="27"/>
                  </a:lnTo>
                  <a:lnTo>
                    <a:pt x="214" y="24"/>
                  </a:lnTo>
                  <a:lnTo>
                    <a:pt x="221" y="22"/>
                  </a:lnTo>
                  <a:lnTo>
                    <a:pt x="221" y="19"/>
                  </a:lnTo>
                  <a:lnTo>
                    <a:pt x="222" y="16"/>
                  </a:lnTo>
                  <a:lnTo>
                    <a:pt x="222" y="14"/>
                  </a:lnTo>
                  <a:lnTo>
                    <a:pt x="221" y="11"/>
                  </a:lnTo>
                  <a:lnTo>
                    <a:pt x="220" y="13"/>
                  </a:lnTo>
                  <a:lnTo>
                    <a:pt x="220" y="13"/>
                  </a:lnTo>
                  <a:lnTo>
                    <a:pt x="220" y="13"/>
                  </a:lnTo>
                  <a:lnTo>
                    <a:pt x="218" y="11"/>
                  </a:lnTo>
                  <a:lnTo>
                    <a:pt x="217" y="11"/>
                  </a:lnTo>
                  <a:lnTo>
                    <a:pt x="217" y="10"/>
                  </a:lnTo>
                  <a:lnTo>
                    <a:pt x="217" y="10"/>
                  </a:lnTo>
                  <a:lnTo>
                    <a:pt x="218" y="10"/>
                  </a:lnTo>
                  <a:lnTo>
                    <a:pt x="209" y="5"/>
                  </a:lnTo>
                  <a:lnTo>
                    <a:pt x="201" y="4"/>
                  </a:lnTo>
                  <a:lnTo>
                    <a:pt x="190" y="4"/>
                  </a:lnTo>
                  <a:lnTo>
                    <a:pt x="182" y="3"/>
                  </a:lnTo>
                  <a:lnTo>
                    <a:pt x="173" y="1"/>
                  </a:lnTo>
                  <a:lnTo>
                    <a:pt x="165" y="1"/>
                  </a:lnTo>
                  <a:lnTo>
                    <a:pt x="157" y="1"/>
                  </a:lnTo>
                  <a:lnTo>
                    <a:pt x="148" y="0"/>
                  </a:lnTo>
                  <a:lnTo>
                    <a:pt x="139" y="0"/>
                  </a:lnTo>
                  <a:lnTo>
                    <a:pt x="130" y="0"/>
                  </a:lnTo>
                  <a:lnTo>
                    <a:pt x="123" y="1"/>
                  </a:lnTo>
                  <a:lnTo>
                    <a:pt x="114" y="1"/>
                  </a:lnTo>
                  <a:lnTo>
                    <a:pt x="91" y="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535240" y="4926240"/>
              <a:ext cx="146160" cy="261360"/>
            </a:xfrm>
            <a:custGeom>
              <a:avLst/>
              <a:gdLst/>
              <a:ahLst/>
              <a:rect l="l" t="t" r="r" b="b"/>
              <a:pathLst>
                <a:path w="346" h="618">
                  <a:moveTo>
                    <a:pt x="0" y="618"/>
                  </a:moveTo>
                  <a:lnTo>
                    <a:pt x="5" y="618"/>
                  </a:lnTo>
                  <a:lnTo>
                    <a:pt x="10" y="618"/>
                  </a:lnTo>
                  <a:lnTo>
                    <a:pt x="15" y="617"/>
                  </a:lnTo>
                  <a:lnTo>
                    <a:pt x="18" y="614"/>
                  </a:lnTo>
                  <a:lnTo>
                    <a:pt x="29" y="610"/>
                  </a:lnTo>
                  <a:lnTo>
                    <a:pt x="40" y="604"/>
                  </a:lnTo>
                  <a:lnTo>
                    <a:pt x="50" y="599"/>
                  </a:lnTo>
                  <a:lnTo>
                    <a:pt x="60" y="596"/>
                  </a:lnTo>
                  <a:lnTo>
                    <a:pt x="67" y="593"/>
                  </a:lnTo>
                  <a:lnTo>
                    <a:pt x="73" y="589"/>
                  </a:lnTo>
                  <a:lnTo>
                    <a:pt x="79" y="585"/>
                  </a:lnTo>
                  <a:lnTo>
                    <a:pt x="83" y="579"/>
                  </a:lnTo>
                  <a:lnTo>
                    <a:pt x="86" y="577"/>
                  </a:lnTo>
                  <a:lnTo>
                    <a:pt x="88" y="576"/>
                  </a:lnTo>
                  <a:lnTo>
                    <a:pt x="91" y="576"/>
                  </a:lnTo>
                  <a:lnTo>
                    <a:pt x="92" y="577"/>
                  </a:lnTo>
                  <a:lnTo>
                    <a:pt x="118" y="551"/>
                  </a:lnTo>
                  <a:lnTo>
                    <a:pt x="129" y="550"/>
                  </a:lnTo>
                  <a:lnTo>
                    <a:pt x="136" y="542"/>
                  </a:lnTo>
                  <a:lnTo>
                    <a:pt x="142" y="535"/>
                  </a:lnTo>
                  <a:lnTo>
                    <a:pt x="149" y="528"/>
                  </a:lnTo>
                  <a:lnTo>
                    <a:pt x="149" y="526"/>
                  </a:lnTo>
                  <a:lnTo>
                    <a:pt x="151" y="525"/>
                  </a:lnTo>
                  <a:lnTo>
                    <a:pt x="154" y="525"/>
                  </a:lnTo>
                  <a:lnTo>
                    <a:pt x="155" y="525"/>
                  </a:lnTo>
                  <a:lnTo>
                    <a:pt x="161" y="525"/>
                  </a:lnTo>
                  <a:lnTo>
                    <a:pt x="167" y="520"/>
                  </a:lnTo>
                  <a:lnTo>
                    <a:pt x="170" y="515"/>
                  </a:lnTo>
                  <a:lnTo>
                    <a:pt x="174" y="510"/>
                  </a:lnTo>
                  <a:lnTo>
                    <a:pt x="178" y="509"/>
                  </a:lnTo>
                  <a:lnTo>
                    <a:pt x="183" y="509"/>
                  </a:lnTo>
                  <a:lnTo>
                    <a:pt x="186" y="509"/>
                  </a:lnTo>
                  <a:lnTo>
                    <a:pt x="190" y="507"/>
                  </a:lnTo>
                  <a:lnTo>
                    <a:pt x="194" y="503"/>
                  </a:lnTo>
                  <a:lnTo>
                    <a:pt x="197" y="497"/>
                  </a:lnTo>
                  <a:lnTo>
                    <a:pt x="200" y="493"/>
                  </a:lnTo>
                  <a:lnTo>
                    <a:pt x="205" y="488"/>
                  </a:lnTo>
                  <a:lnTo>
                    <a:pt x="212" y="477"/>
                  </a:lnTo>
                  <a:lnTo>
                    <a:pt x="218" y="465"/>
                  </a:lnTo>
                  <a:lnTo>
                    <a:pt x="224" y="452"/>
                  </a:lnTo>
                  <a:lnTo>
                    <a:pt x="229" y="439"/>
                  </a:lnTo>
                  <a:lnTo>
                    <a:pt x="234" y="434"/>
                  </a:lnTo>
                  <a:lnTo>
                    <a:pt x="238" y="428"/>
                  </a:lnTo>
                  <a:lnTo>
                    <a:pt x="241" y="422"/>
                  </a:lnTo>
                  <a:lnTo>
                    <a:pt x="243" y="417"/>
                  </a:lnTo>
                  <a:lnTo>
                    <a:pt x="248" y="406"/>
                  </a:lnTo>
                  <a:lnTo>
                    <a:pt x="253" y="396"/>
                  </a:lnTo>
                  <a:lnTo>
                    <a:pt x="257" y="384"/>
                  </a:lnTo>
                  <a:lnTo>
                    <a:pt x="257" y="373"/>
                  </a:lnTo>
                  <a:lnTo>
                    <a:pt x="260" y="361"/>
                  </a:lnTo>
                  <a:lnTo>
                    <a:pt x="265" y="351"/>
                  </a:lnTo>
                  <a:lnTo>
                    <a:pt x="269" y="339"/>
                  </a:lnTo>
                  <a:lnTo>
                    <a:pt x="272" y="329"/>
                  </a:lnTo>
                  <a:lnTo>
                    <a:pt x="275" y="327"/>
                  </a:lnTo>
                  <a:lnTo>
                    <a:pt x="276" y="326"/>
                  </a:lnTo>
                  <a:lnTo>
                    <a:pt x="276" y="325"/>
                  </a:lnTo>
                  <a:lnTo>
                    <a:pt x="279" y="325"/>
                  </a:lnTo>
                  <a:lnTo>
                    <a:pt x="281" y="320"/>
                  </a:lnTo>
                  <a:lnTo>
                    <a:pt x="284" y="317"/>
                  </a:lnTo>
                  <a:lnTo>
                    <a:pt x="286" y="314"/>
                  </a:lnTo>
                  <a:lnTo>
                    <a:pt x="289" y="310"/>
                  </a:lnTo>
                  <a:lnTo>
                    <a:pt x="288" y="310"/>
                  </a:lnTo>
                  <a:lnTo>
                    <a:pt x="291" y="307"/>
                  </a:lnTo>
                  <a:lnTo>
                    <a:pt x="292" y="303"/>
                  </a:lnTo>
                  <a:lnTo>
                    <a:pt x="294" y="300"/>
                  </a:lnTo>
                  <a:lnTo>
                    <a:pt x="297" y="295"/>
                  </a:lnTo>
                  <a:lnTo>
                    <a:pt x="297" y="290"/>
                  </a:lnTo>
                  <a:lnTo>
                    <a:pt x="298" y="285"/>
                  </a:lnTo>
                  <a:lnTo>
                    <a:pt x="301" y="281"/>
                  </a:lnTo>
                  <a:lnTo>
                    <a:pt x="302" y="275"/>
                  </a:lnTo>
                  <a:lnTo>
                    <a:pt x="305" y="259"/>
                  </a:lnTo>
                  <a:lnTo>
                    <a:pt x="308" y="243"/>
                  </a:lnTo>
                  <a:lnTo>
                    <a:pt x="311" y="228"/>
                  </a:lnTo>
                  <a:lnTo>
                    <a:pt x="316" y="212"/>
                  </a:lnTo>
                  <a:lnTo>
                    <a:pt x="316" y="211"/>
                  </a:lnTo>
                  <a:lnTo>
                    <a:pt x="316" y="209"/>
                  </a:lnTo>
                  <a:lnTo>
                    <a:pt x="317" y="208"/>
                  </a:lnTo>
                  <a:lnTo>
                    <a:pt x="317" y="206"/>
                  </a:lnTo>
                  <a:lnTo>
                    <a:pt x="317" y="205"/>
                  </a:lnTo>
                  <a:lnTo>
                    <a:pt x="317" y="203"/>
                  </a:lnTo>
                  <a:lnTo>
                    <a:pt x="317" y="203"/>
                  </a:lnTo>
                  <a:lnTo>
                    <a:pt x="317" y="202"/>
                  </a:lnTo>
                  <a:lnTo>
                    <a:pt x="317" y="202"/>
                  </a:lnTo>
                  <a:lnTo>
                    <a:pt x="319" y="202"/>
                  </a:lnTo>
                  <a:lnTo>
                    <a:pt x="319" y="200"/>
                  </a:lnTo>
                  <a:lnTo>
                    <a:pt x="319" y="199"/>
                  </a:lnTo>
                  <a:lnTo>
                    <a:pt x="320" y="199"/>
                  </a:lnTo>
                  <a:lnTo>
                    <a:pt x="320" y="196"/>
                  </a:lnTo>
                  <a:lnTo>
                    <a:pt x="321" y="192"/>
                  </a:lnTo>
                  <a:lnTo>
                    <a:pt x="323" y="189"/>
                  </a:lnTo>
                  <a:lnTo>
                    <a:pt x="323" y="186"/>
                  </a:lnTo>
                  <a:lnTo>
                    <a:pt x="327" y="174"/>
                  </a:lnTo>
                  <a:lnTo>
                    <a:pt x="329" y="161"/>
                  </a:lnTo>
                  <a:lnTo>
                    <a:pt x="330" y="148"/>
                  </a:lnTo>
                  <a:lnTo>
                    <a:pt x="329" y="135"/>
                  </a:lnTo>
                  <a:lnTo>
                    <a:pt x="329" y="129"/>
                  </a:lnTo>
                  <a:lnTo>
                    <a:pt x="329" y="123"/>
                  </a:lnTo>
                  <a:lnTo>
                    <a:pt x="330" y="116"/>
                  </a:lnTo>
                  <a:lnTo>
                    <a:pt x="335" y="111"/>
                  </a:lnTo>
                  <a:lnTo>
                    <a:pt x="335" y="108"/>
                  </a:lnTo>
                  <a:lnTo>
                    <a:pt x="335" y="104"/>
                  </a:lnTo>
                  <a:lnTo>
                    <a:pt x="335" y="101"/>
                  </a:lnTo>
                  <a:lnTo>
                    <a:pt x="338" y="100"/>
                  </a:lnTo>
                  <a:lnTo>
                    <a:pt x="340" y="95"/>
                  </a:lnTo>
                  <a:lnTo>
                    <a:pt x="339" y="89"/>
                  </a:lnTo>
                  <a:lnTo>
                    <a:pt x="338" y="85"/>
                  </a:lnTo>
                  <a:lnTo>
                    <a:pt x="336" y="79"/>
                  </a:lnTo>
                  <a:lnTo>
                    <a:pt x="339" y="66"/>
                  </a:lnTo>
                  <a:lnTo>
                    <a:pt x="342" y="53"/>
                  </a:lnTo>
                  <a:lnTo>
                    <a:pt x="345" y="40"/>
                  </a:lnTo>
                  <a:lnTo>
                    <a:pt x="346" y="25"/>
                  </a:lnTo>
                  <a:lnTo>
                    <a:pt x="343" y="21"/>
                  </a:lnTo>
                  <a:lnTo>
                    <a:pt x="338" y="12"/>
                  </a:lnTo>
                  <a:lnTo>
                    <a:pt x="332" y="3"/>
                  </a:lnTo>
                  <a:lnTo>
                    <a:pt x="329" y="0"/>
                  </a:lnTo>
                  <a:lnTo>
                    <a:pt x="327" y="25"/>
                  </a:lnTo>
                  <a:lnTo>
                    <a:pt x="329" y="45"/>
                  </a:lnTo>
                  <a:lnTo>
                    <a:pt x="326" y="63"/>
                  </a:lnTo>
                  <a:lnTo>
                    <a:pt x="320" y="79"/>
                  </a:lnTo>
                  <a:lnTo>
                    <a:pt x="314" y="95"/>
                  </a:lnTo>
                  <a:lnTo>
                    <a:pt x="313" y="110"/>
                  </a:lnTo>
                  <a:lnTo>
                    <a:pt x="313" y="126"/>
                  </a:lnTo>
                  <a:lnTo>
                    <a:pt x="313" y="142"/>
                  </a:lnTo>
                  <a:lnTo>
                    <a:pt x="310" y="159"/>
                  </a:lnTo>
                  <a:lnTo>
                    <a:pt x="301" y="180"/>
                  </a:lnTo>
                  <a:lnTo>
                    <a:pt x="294" y="200"/>
                  </a:lnTo>
                  <a:lnTo>
                    <a:pt x="289" y="218"/>
                  </a:lnTo>
                  <a:lnTo>
                    <a:pt x="289" y="237"/>
                  </a:lnTo>
                  <a:lnTo>
                    <a:pt x="288" y="257"/>
                  </a:lnTo>
                  <a:lnTo>
                    <a:pt x="284" y="276"/>
                  </a:lnTo>
                  <a:lnTo>
                    <a:pt x="278" y="290"/>
                  </a:lnTo>
                  <a:lnTo>
                    <a:pt x="267" y="301"/>
                  </a:lnTo>
                  <a:lnTo>
                    <a:pt x="256" y="320"/>
                  </a:lnTo>
                  <a:lnTo>
                    <a:pt x="246" y="344"/>
                  </a:lnTo>
                  <a:lnTo>
                    <a:pt x="237" y="365"/>
                  </a:lnTo>
                  <a:lnTo>
                    <a:pt x="229" y="390"/>
                  </a:lnTo>
                  <a:lnTo>
                    <a:pt x="221" y="417"/>
                  </a:lnTo>
                  <a:lnTo>
                    <a:pt x="210" y="441"/>
                  </a:lnTo>
                  <a:lnTo>
                    <a:pt x="199" y="459"/>
                  </a:lnTo>
                  <a:lnTo>
                    <a:pt x="192" y="466"/>
                  </a:lnTo>
                  <a:lnTo>
                    <a:pt x="183" y="474"/>
                  </a:lnTo>
                  <a:lnTo>
                    <a:pt x="173" y="481"/>
                  </a:lnTo>
                  <a:lnTo>
                    <a:pt x="161" y="490"/>
                  </a:lnTo>
                  <a:lnTo>
                    <a:pt x="151" y="498"/>
                  </a:lnTo>
                  <a:lnTo>
                    <a:pt x="140" y="506"/>
                  </a:lnTo>
                  <a:lnTo>
                    <a:pt x="132" y="513"/>
                  </a:lnTo>
                  <a:lnTo>
                    <a:pt x="127" y="520"/>
                  </a:lnTo>
                  <a:lnTo>
                    <a:pt x="124" y="526"/>
                  </a:lnTo>
                  <a:lnTo>
                    <a:pt x="120" y="532"/>
                  </a:lnTo>
                  <a:lnTo>
                    <a:pt x="114" y="539"/>
                  </a:lnTo>
                  <a:lnTo>
                    <a:pt x="108" y="545"/>
                  </a:lnTo>
                  <a:lnTo>
                    <a:pt x="101" y="551"/>
                  </a:lnTo>
                  <a:lnTo>
                    <a:pt x="95" y="557"/>
                  </a:lnTo>
                  <a:lnTo>
                    <a:pt x="88" y="560"/>
                  </a:lnTo>
                  <a:lnTo>
                    <a:pt x="82" y="563"/>
                  </a:lnTo>
                  <a:lnTo>
                    <a:pt x="70" y="567"/>
                  </a:lnTo>
                  <a:lnTo>
                    <a:pt x="57" y="572"/>
                  </a:lnTo>
                  <a:lnTo>
                    <a:pt x="45" y="576"/>
                  </a:lnTo>
                  <a:lnTo>
                    <a:pt x="40" y="583"/>
                  </a:lnTo>
                  <a:lnTo>
                    <a:pt x="32" y="591"/>
                  </a:lnTo>
                  <a:lnTo>
                    <a:pt x="22" y="598"/>
                  </a:lnTo>
                  <a:lnTo>
                    <a:pt x="10" y="607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291160" y="4942800"/>
              <a:ext cx="60840" cy="173880"/>
            </a:xfrm>
            <a:custGeom>
              <a:avLst/>
              <a:gdLst/>
              <a:ahLst/>
              <a:rect l="l" t="t" r="r" b="b"/>
              <a:pathLst>
                <a:path w="142" h="412">
                  <a:moveTo>
                    <a:pt x="114" y="19"/>
                  </a:moveTo>
                  <a:lnTo>
                    <a:pt x="108" y="27"/>
                  </a:lnTo>
                  <a:lnTo>
                    <a:pt x="102" y="36"/>
                  </a:lnTo>
                  <a:lnTo>
                    <a:pt x="98" y="45"/>
                  </a:lnTo>
                  <a:lnTo>
                    <a:pt x="91" y="54"/>
                  </a:lnTo>
                  <a:lnTo>
                    <a:pt x="88" y="61"/>
                  </a:lnTo>
                  <a:lnTo>
                    <a:pt x="82" y="65"/>
                  </a:lnTo>
                  <a:lnTo>
                    <a:pt x="78" y="71"/>
                  </a:lnTo>
                  <a:lnTo>
                    <a:pt x="73" y="77"/>
                  </a:lnTo>
                  <a:lnTo>
                    <a:pt x="72" y="84"/>
                  </a:lnTo>
                  <a:lnTo>
                    <a:pt x="70" y="90"/>
                  </a:lnTo>
                  <a:lnTo>
                    <a:pt x="69" y="98"/>
                  </a:lnTo>
                  <a:lnTo>
                    <a:pt x="66" y="103"/>
                  </a:lnTo>
                  <a:lnTo>
                    <a:pt x="62" y="108"/>
                  </a:lnTo>
                  <a:lnTo>
                    <a:pt x="59" y="114"/>
                  </a:lnTo>
                  <a:lnTo>
                    <a:pt x="57" y="121"/>
                  </a:lnTo>
                  <a:lnTo>
                    <a:pt x="54" y="125"/>
                  </a:lnTo>
                  <a:lnTo>
                    <a:pt x="51" y="136"/>
                  </a:lnTo>
                  <a:lnTo>
                    <a:pt x="46" y="143"/>
                  </a:lnTo>
                  <a:lnTo>
                    <a:pt x="38" y="152"/>
                  </a:lnTo>
                  <a:lnTo>
                    <a:pt x="34" y="160"/>
                  </a:lnTo>
                  <a:lnTo>
                    <a:pt x="31" y="166"/>
                  </a:lnTo>
                  <a:lnTo>
                    <a:pt x="29" y="172"/>
                  </a:lnTo>
                  <a:lnTo>
                    <a:pt x="28" y="178"/>
                  </a:lnTo>
                  <a:lnTo>
                    <a:pt x="28" y="184"/>
                  </a:lnTo>
                  <a:lnTo>
                    <a:pt x="27" y="191"/>
                  </a:lnTo>
                  <a:lnTo>
                    <a:pt x="27" y="200"/>
                  </a:lnTo>
                  <a:lnTo>
                    <a:pt x="27" y="209"/>
                  </a:lnTo>
                  <a:lnTo>
                    <a:pt x="25" y="216"/>
                  </a:lnTo>
                  <a:lnTo>
                    <a:pt x="27" y="225"/>
                  </a:lnTo>
                  <a:lnTo>
                    <a:pt x="25" y="234"/>
                  </a:lnTo>
                  <a:lnTo>
                    <a:pt x="24" y="242"/>
                  </a:lnTo>
                  <a:lnTo>
                    <a:pt x="21" y="251"/>
                  </a:lnTo>
                  <a:lnTo>
                    <a:pt x="19" y="258"/>
                  </a:lnTo>
                  <a:lnTo>
                    <a:pt x="18" y="266"/>
                  </a:lnTo>
                  <a:lnTo>
                    <a:pt x="16" y="272"/>
                  </a:lnTo>
                  <a:lnTo>
                    <a:pt x="13" y="277"/>
                  </a:lnTo>
                  <a:lnTo>
                    <a:pt x="12" y="282"/>
                  </a:lnTo>
                  <a:lnTo>
                    <a:pt x="9" y="286"/>
                  </a:lnTo>
                  <a:lnTo>
                    <a:pt x="6" y="290"/>
                  </a:lnTo>
                  <a:lnTo>
                    <a:pt x="5" y="295"/>
                  </a:lnTo>
                  <a:lnTo>
                    <a:pt x="5" y="299"/>
                  </a:lnTo>
                  <a:lnTo>
                    <a:pt x="5" y="304"/>
                  </a:lnTo>
                  <a:lnTo>
                    <a:pt x="3" y="307"/>
                  </a:lnTo>
                  <a:lnTo>
                    <a:pt x="0" y="309"/>
                  </a:lnTo>
                  <a:lnTo>
                    <a:pt x="0" y="315"/>
                  </a:lnTo>
                  <a:lnTo>
                    <a:pt x="0" y="323"/>
                  </a:lnTo>
                  <a:lnTo>
                    <a:pt x="0" y="328"/>
                  </a:lnTo>
                  <a:lnTo>
                    <a:pt x="0" y="336"/>
                  </a:lnTo>
                  <a:lnTo>
                    <a:pt x="2" y="343"/>
                  </a:lnTo>
                  <a:lnTo>
                    <a:pt x="2" y="352"/>
                  </a:lnTo>
                  <a:lnTo>
                    <a:pt x="0" y="361"/>
                  </a:lnTo>
                  <a:lnTo>
                    <a:pt x="0" y="368"/>
                  </a:lnTo>
                  <a:lnTo>
                    <a:pt x="0" y="377"/>
                  </a:lnTo>
                  <a:lnTo>
                    <a:pt x="6" y="387"/>
                  </a:lnTo>
                  <a:lnTo>
                    <a:pt x="12" y="399"/>
                  </a:lnTo>
                  <a:lnTo>
                    <a:pt x="16" y="407"/>
                  </a:lnTo>
                  <a:lnTo>
                    <a:pt x="21" y="412"/>
                  </a:lnTo>
                  <a:lnTo>
                    <a:pt x="19" y="400"/>
                  </a:lnTo>
                  <a:lnTo>
                    <a:pt x="18" y="388"/>
                  </a:lnTo>
                  <a:lnTo>
                    <a:pt x="18" y="375"/>
                  </a:lnTo>
                  <a:lnTo>
                    <a:pt x="18" y="364"/>
                  </a:lnTo>
                  <a:lnTo>
                    <a:pt x="18" y="330"/>
                  </a:lnTo>
                  <a:lnTo>
                    <a:pt x="19" y="327"/>
                  </a:lnTo>
                  <a:lnTo>
                    <a:pt x="21" y="324"/>
                  </a:lnTo>
                  <a:lnTo>
                    <a:pt x="24" y="323"/>
                  </a:lnTo>
                  <a:lnTo>
                    <a:pt x="27" y="321"/>
                  </a:lnTo>
                  <a:lnTo>
                    <a:pt x="29" y="307"/>
                  </a:lnTo>
                  <a:lnTo>
                    <a:pt x="32" y="290"/>
                  </a:lnTo>
                  <a:lnTo>
                    <a:pt x="34" y="274"/>
                  </a:lnTo>
                  <a:lnTo>
                    <a:pt x="35" y="258"/>
                  </a:lnTo>
                  <a:lnTo>
                    <a:pt x="40" y="255"/>
                  </a:lnTo>
                  <a:lnTo>
                    <a:pt x="43" y="250"/>
                  </a:lnTo>
                  <a:lnTo>
                    <a:pt x="43" y="242"/>
                  </a:lnTo>
                  <a:lnTo>
                    <a:pt x="44" y="236"/>
                  </a:lnTo>
                  <a:lnTo>
                    <a:pt x="44" y="223"/>
                  </a:lnTo>
                  <a:lnTo>
                    <a:pt x="46" y="212"/>
                  </a:lnTo>
                  <a:lnTo>
                    <a:pt x="48" y="198"/>
                  </a:lnTo>
                  <a:lnTo>
                    <a:pt x="50" y="187"/>
                  </a:lnTo>
                  <a:lnTo>
                    <a:pt x="51" y="182"/>
                  </a:lnTo>
                  <a:lnTo>
                    <a:pt x="54" y="177"/>
                  </a:lnTo>
                  <a:lnTo>
                    <a:pt x="56" y="172"/>
                  </a:lnTo>
                  <a:lnTo>
                    <a:pt x="57" y="168"/>
                  </a:lnTo>
                  <a:lnTo>
                    <a:pt x="62" y="163"/>
                  </a:lnTo>
                  <a:lnTo>
                    <a:pt x="66" y="160"/>
                  </a:lnTo>
                  <a:lnTo>
                    <a:pt x="70" y="158"/>
                  </a:lnTo>
                  <a:lnTo>
                    <a:pt x="73" y="152"/>
                  </a:lnTo>
                  <a:lnTo>
                    <a:pt x="75" y="144"/>
                  </a:lnTo>
                  <a:lnTo>
                    <a:pt x="79" y="139"/>
                  </a:lnTo>
                  <a:lnTo>
                    <a:pt x="82" y="134"/>
                  </a:lnTo>
                  <a:lnTo>
                    <a:pt x="83" y="127"/>
                  </a:lnTo>
                  <a:lnTo>
                    <a:pt x="86" y="124"/>
                  </a:lnTo>
                  <a:lnTo>
                    <a:pt x="88" y="115"/>
                  </a:lnTo>
                  <a:lnTo>
                    <a:pt x="91" y="106"/>
                  </a:lnTo>
                  <a:lnTo>
                    <a:pt x="92" y="98"/>
                  </a:lnTo>
                  <a:lnTo>
                    <a:pt x="94" y="90"/>
                  </a:lnTo>
                  <a:lnTo>
                    <a:pt x="95" y="87"/>
                  </a:lnTo>
                  <a:lnTo>
                    <a:pt x="97" y="86"/>
                  </a:lnTo>
                  <a:lnTo>
                    <a:pt x="97" y="83"/>
                  </a:lnTo>
                  <a:lnTo>
                    <a:pt x="98" y="82"/>
                  </a:lnTo>
                  <a:lnTo>
                    <a:pt x="107" y="73"/>
                  </a:lnTo>
                  <a:lnTo>
                    <a:pt x="114" y="61"/>
                  </a:lnTo>
                  <a:lnTo>
                    <a:pt x="120" y="51"/>
                  </a:lnTo>
                  <a:lnTo>
                    <a:pt x="127" y="42"/>
                  </a:lnTo>
                  <a:lnTo>
                    <a:pt x="129" y="36"/>
                  </a:lnTo>
                  <a:lnTo>
                    <a:pt x="132" y="30"/>
                  </a:lnTo>
                  <a:lnTo>
                    <a:pt x="135" y="26"/>
                  </a:lnTo>
                  <a:lnTo>
                    <a:pt x="139" y="22"/>
                  </a:lnTo>
                  <a:lnTo>
                    <a:pt x="140" y="17"/>
                  </a:lnTo>
                  <a:lnTo>
                    <a:pt x="142" y="11"/>
                  </a:lnTo>
                  <a:lnTo>
                    <a:pt x="142" y="6"/>
                  </a:lnTo>
                  <a:lnTo>
                    <a:pt x="142" y="0"/>
                  </a:lnTo>
                  <a:lnTo>
                    <a:pt x="135" y="6"/>
                  </a:lnTo>
                  <a:lnTo>
                    <a:pt x="129" y="10"/>
                  </a:lnTo>
                  <a:lnTo>
                    <a:pt x="121" y="14"/>
                  </a:lnTo>
                  <a:lnTo>
                    <a:pt x="114" y="19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202240" y="4951800"/>
              <a:ext cx="63360" cy="137160"/>
            </a:xfrm>
            <a:custGeom>
              <a:avLst/>
              <a:gdLst/>
              <a:ahLst/>
              <a:rect l="l" t="t" r="r" b="b"/>
              <a:pathLst>
                <a:path w="149" h="322">
                  <a:moveTo>
                    <a:pt x="3" y="9"/>
                  </a:moveTo>
                  <a:lnTo>
                    <a:pt x="3" y="16"/>
                  </a:lnTo>
                  <a:lnTo>
                    <a:pt x="1" y="25"/>
                  </a:lnTo>
                  <a:lnTo>
                    <a:pt x="0" y="34"/>
                  </a:lnTo>
                  <a:lnTo>
                    <a:pt x="0" y="42"/>
                  </a:lnTo>
                  <a:lnTo>
                    <a:pt x="15" y="47"/>
                  </a:lnTo>
                  <a:lnTo>
                    <a:pt x="22" y="57"/>
                  </a:lnTo>
                  <a:lnTo>
                    <a:pt x="29" y="69"/>
                  </a:lnTo>
                  <a:lnTo>
                    <a:pt x="35" y="79"/>
                  </a:lnTo>
                  <a:lnTo>
                    <a:pt x="39" y="91"/>
                  </a:lnTo>
                  <a:lnTo>
                    <a:pt x="42" y="105"/>
                  </a:lnTo>
                  <a:lnTo>
                    <a:pt x="47" y="118"/>
                  </a:lnTo>
                  <a:lnTo>
                    <a:pt x="48" y="132"/>
                  </a:lnTo>
                  <a:lnTo>
                    <a:pt x="48" y="146"/>
                  </a:lnTo>
                  <a:lnTo>
                    <a:pt x="53" y="152"/>
                  </a:lnTo>
                  <a:lnTo>
                    <a:pt x="61" y="158"/>
                  </a:lnTo>
                  <a:lnTo>
                    <a:pt x="67" y="162"/>
                  </a:lnTo>
                  <a:lnTo>
                    <a:pt x="69" y="170"/>
                  </a:lnTo>
                  <a:lnTo>
                    <a:pt x="73" y="180"/>
                  </a:lnTo>
                  <a:lnTo>
                    <a:pt x="74" y="192"/>
                  </a:lnTo>
                  <a:lnTo>
                    <a:pt x="74" y="205"/>
                  </a:lnTo>
                  <a:lnTo>
                    <a:pt x="79" y="215"/>
                  </a:lnTo>
                  <a:lnTo>
                    <a:pt x="80" y="219"/>
                  </a:lnTo>
                  <a:lnTo>
                    <a:pt x="82" y="225"/>
                  </a:lnTo>
                  <a:lnTo>
                    <a:pt x="83" y="230"/>
                  </a:lnTo>
                  <a:lnTo>
                    <a:pt x="85" y="235"/>
                  </a:lnTo>
                  <a:lnTo>
                    <a:pt x="89" y="241"/>
                  </a:lnTo>
                  <a:lnTo>
                    <a:pt x="92" y="249"/>
                  </a:lnTo>
                  <a:lnTo>
                    <a:pt x="95" y="254"/>
                  </a:lnTo>
                  <a:lnTo>
                    <a:pt x="98" y="262"/>
                  </a:lnTo>
                  <a:lnTo>
                    <a:pt x="105" y="273"/>
                  </a:lnTo>
                  <a:lnTo>
                    <a:pt x="111" y="285"/>
                  </a:lnTo>
                  <a:lnTo>
                    <a:pt x="117" y="297"/>
                  </a:lnTo>
                  <a:lnTo>
                    <a:pt x="123" y="308"/>
                  </a:lnTo>
                  <a:lnTo>
                    <a:pt x="124" y="311"/>
                  </a:lnTo>
                  <a:lnTo>
                    <a:pt x="128" y="313"/>
                  </a:lnTo>
                  <a:lnTo>
                    <a:pt x="131" y="316"/>
                  </a:lnTo>
                  <a:lnTo>
                    <a:pt x="133" y="319"/>
                  </a:lnTo>
                  <a:lnTo>
                    <a:pt x="136" y="320"/>
                  </a:lnTo>
                  <a:lnTo>
                    <a:pt x="140" y="320"/>
                  </a:lnTo>
                  <a:lnTo>
                    <a:pt x="143" y="320"/>
                  </a:lnTo>
                  <a:lnTo>
                    <a:pt x="146" y="322"/>
                  </a:lnTo>
                  <a:lnTo>
                    <a:pt x="149" y="316"/>
                  </a:lnTo>
                  <a:lnTo>
                    <a:pt x="147" y="311"/>
                  </a:lnTo>
                  <a:lnTo>
                    <a:pt x="143" y="305"/>
                  </a:lnTo>
                  <a:lnTo>
                    <a:pt x="140" y="301"/>
                  </a:lnTo>
                  <a:lnTo>
                    <a:pt x="136" y="291"/>
                  </a:lnTo>
                  <a:lnTo>
                    <a:pt x="131" y="279"/>
                  </a:lnTo>
                  <a:lnTo>
                    <a:pt x="127" y="269"/>
                  </a:lnTo>
                  <a:lnTo>
                    <a:pt x="123" y="259"/>
                  </a:lnTo>
                  <a:lnTo>
                    <a:pt x="115" y="244"/>
                  </a:lnTo>
                  <a:lnTo>
                    <a:pt x="108" y="230"/>
                  </a:lnTo>
                  <a:lnTo>
                    <a:pt x="101" y="215"/>
                  </a:lnTo>
                  <a:lnTo>
                    <a:pt x="95" y="200"/>
                  </a:lnTo>
                  <a:lnTo>
                    <a:pt x="93" y="189"/>
                  </a:lnTo>
                  <a:lnTo>
                    <a:pt x="89" y="178"/>
                  </a:lnTo>
                  <a:lnTo>
                    <a:pt x="83" y="168"/>
                  </a:lnTo>
                  <a:lnTo>
                    <a:pt x="79" y="156"/>
                  </a:lnTo>
                  <a:lnTo>
                    <a:pt x="77" y="152"/>
                  </a:lnTo>
                  <a:lnTo>
                    <a:pt x="76" y="148"/>
                  </a:lnTo>
                  <a:lnTo>
                    <a:pt x="76" y="143"/>
                  </a:lnTo>
                  <a:lnTo>
                    <a:pt x="74" y="137"/>
                  </a:lnTo>
                  <a:lnTo>
                    <a:pt x="70" y="129"/>
                  </a:lnTo>
                  <a:lnTo>
                    <a:pt x="67" y="120"/>
                  </a:lnTo>
                  <a:lnTo>
                    <a:pt x="64" y="111"/>
                  </a:lnTo>
                  <a:lnTo>
                    <a:pt x="63" y="102"/>
                  </a:lnTo>
                  <a:lnTo>
                    <a:pt x="61" y="97"/>
                  </a:lnTo>
                  <a:lnTo>
                    <a:pt x="61" y="91"/>
                  </a:lnTo>
                  <a:lnTo>
                    <a:pt x="60" y="86"/>
                  </a:lnTo>
                  <a:lnTo>
                    <a:pt x="58" y="80"/>
                  </a:lnTo>
                  <a:lnTo>
                    <a:pt x="55" y="69"/>
                  </a:lnTo>
                  <a:lnTo>
                    <a:pt x="48" y="59"/>
                  </a:lnTo>
                  <a:lnTo>
                    <a:pt x="39" y="51"/>
                  </a:lnTo>
                  <a:lnTo>
                    <a:pt x="29" y="42"/>
                  </a:lnTo>
                  <a:lnTo>
                    <a:pt x="26" y="40"/>
                  </a:lnTo>
                  <a:lnTo>
                    <a:pt x="22" y="35"/>
                  </a:lnTo>
                  <a:lnTo>
                    <a:pt x="17" y="32"/>
                  </a:lnTo>
                  <a:lnTo>
                    <a:pt x="15" y="28"/>
                  </a:lnTo>
                  <a:lnTo>
                    <a:pt x="12" y="21"/>
                  </a:lnTo>
                  <a:lnTo>
                    <a:pt x="9" y="13"/>
                  </a:lnTo>
                  <a:lnTo>
                    <a:pt x="4" y="7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740080" y="5361120"/>
              <a:ext cx="200880" cy="77400"/>
            </a:xfrm>
            <a:custGeom>
              <a:avLst/>
              <a:gdLst/>
              <a:ahLst/>
              <a:rect l="l" t="t" r="r" b="b"/>
              <a:pathLst>
                <a:path w="472" h="183">
                  <a:moveTo>
                    <a:pt x="70" y="9"/>
                  </a:moveTo>
                  <a:lnTo>
                    <a:pt x="64" y="13"/>
                  </a:lnTo>
                  <a:lnTo>
                    <a:pt x="61" y="19"/>
                  </a:lnTo>
                  <a:lnTo>
                    <a:pt x="58" y="25"/>
                  </a:lnTo>
                  <a:lnTo>
                    <a:pt x="54" y="29"/>
                  </a:lnTo>
                  <a:lnTo>
                    <a:pt x="47" y="36"/>
                  </a:lnTo>
                  <a:lnTo>
                    <a:pt x="42" y="45"/>
                  </a:lnTo>
                  <a:lnTo>
                    <a:pt x="38" y="55"/>
                  </a:lnTo>
                  <a:lnTo>
                    <a:pt x="32" y="64"/>
                  </a:lnTo>
                  <a:lnTo>
                    <a:pt x="28" y="72"/>
                  </a:lnTo>
                  <a:lnTo>
                    <a:pt x="22" y="79"/>
                  </a:lnTo>
                  <a:lnTo>
                    <a:pt x="15" y="85"/>
                  </a:lnTo>
                  <a:lnTo>
                    <a:pt x="7" y="91"/>
                  </a:lnTo>
                  <a:lnTo>
                    <a:pt x="3" y="101"/>
                  </a:lnTo>
                  <a:lnTo>
                    <a:pt x="0" y="112"/>
                  </a:lnTo>
                  <a:lnTo>
                    <a:pt x="0" y="124"/>
                  </a:lnTo>
                  <a:lnTo>
                    <a:pt x="3" y="134"/>
                  </a:lnTo>
                  <a:lnTo>
                    <a:pt x="13" y="133"/>
                  </a:lnTo>
                  <a:lnTo>
                    <a:pt x="25" y="130"/>
                  </a:lnTo>
                  <a:lnTo>
                    <a:pt x="34" y="124"/>
                  </a:lnTo>
                  <a:lnTo>
                    <a:pt x="42" y="117"/>
                  </a:lnTo>
                  <a:lnTo>
                    <a:pt x="47" y="114"/>
                  </a:lnTo>
                  <a:lnTo>
                    <a:pt x="51" y="111"/>
                  </a:lnTo>
                  <a:lnTo>
                    <a:pt x="56" y="110"/>
                  </a:lnTo>
                  <a:lnTo>
                    <a:pt x="60" y="107"/>
                  </a:lnTo>
                  <a:lnTo>
                    <a:pt x="63" y="104"/>
                  </a:lnTo>
                  <a:lnTo>
                    <a:pt x="67" y="101"/>
                  </a:lnTo>
                  <a:lnTo>
                    <a:pt x="72" y="98"/>
                  </a:lnTo>
                  <a:lnTo>
                    <a:pt x="73" y="93"/>
                  </a:lnTo>
                  <a:lnTo>
                    <a:pt x="73" y="89"/>
                  </a:lnTo>
                  <a:lnTo>
                    <a:pt x="73" y="85"/>
                  </a:lnTo>
                  <a:lnTo>
                    <a:pt x="73" y="82"/>
                  </a:lnTo>
                  <a:lnTo>
                    <a:pt x="76" y="77"/>
                  </a:lnTo>
                  <a:lnTo>
                    <a:pt x="83" y="72"/>
                  </a:lnTo>
                  <a:lnTo>
                    <a:pt x="89" y="64"/>
                  </a:lnTo>
                  <a:lnTo>
                    <a:pt x="96" y="58"/>
                  </a:lnTo>
                  <a:lnTo>
                    <a:pt x="105" y="54"/>
                  </a:lnTo>
                  <a:lnTo>
                    <a:pt x="110" y="55"/>
                  </a:lnTo>
                  <a:lnTo>
                    <a:pt x="113" y="57"/>
                  </a:lnTo>
                  <a:lnTo>
                    <a:pt x="115" y="58"/>
                  </a:lnTo>
                  <a:lnTo>
                    <a:pt x="120" y="60"/>
                  </a:lnTo>
                  <a:lnTo>
                    <a:pt x="126" y="57"/>
                  </a:lnTo>
                  <a:lnTo>
                    <a:pt x="133" y="57"/>
                  </a:lnTo>
                  <a:lnTo>
                    <a:pt x="139" y="54"/>
                  </a:lnTo>
                  <a:lnTo>
                    <a:pt x="143" y="50"/>
                  </a:lnTo>
                  <a:lnTo>
                    <a:pt x="142" y="47"/>
                  </a:lnTo>
                  <a:lnTo>
                    <a:pt x="142" y="42"/>
                  </a:lnTo>
                  <a:lnTo>
                    <a:pt x="142" y="39"/>
                  </a:lnTo>
                  <a:lnTo>
                    <a:pt x="143" y="36"/>
                  </a:lnTo>
                  <a:lnTo>
                    <a:pt x="145" y="36"/>
                  </a:lnTo>
                  <a:lnTo>
                    <a:pt x="146" y="36"/>
                  </a:lnTo>
                  <a:lnTo>
                    <a:pt x="148" y="36"/>
                  </a:lnTo>
                  <a:lnTo>
                    <a:pt x="149" y="36"/>
                  </a:lnTo>
                  <a:lnTo>
                    <a:pt x="152" y="41"/>
                  </a:lnTo>
                  <a:lnTo>
                    <a:pt x="155" y="44"/>
                  </a:lnTo>
                  <a:lnTo>
                    <a:pt x="158" y="48"/>
                  </a:lnTo>
                  <a:lnTo>
                    <a:pt x="161" y="51"/>
                  </a:lnTo>
                  <a:lnTo>
                    <a:pt x="168" y="51"/>
                  </a:lnTo>
                  <a:lnTo>
                    <a:pt x="174" y="51"/>
                  </a:lnTo>
                  <a:lnTo>
                    <a:pt x="181" y="51"/>
                  </a:lnTo>
                  <a:lnTo>
                    <a:pt x="188" y="51"/>
                  </a:lnTo>
                  <a:lnTo>
                    <a:pt x="196" y="48"/>
                  </a:lnTo>
                  <a:lnTo>
                    <a:pt x="200" y="51"/>
                  </a:lnTo>
                  <a:lnTo>
                    <a:pt x="207" y="53"/>
                  </a:lnTo>
                  <a:lnTo>
                    <a:pt x="213" y="51"/>
                  </a:lnTo>
                  <a:lnTo>
                    <a:pt x="218" y="53"/>
                  </a:lnTo>
                  <a:lnTo>
                    <a:pt x="228" y="55"/>
                  </a:lnTo>
                  <a:lnTo>
                    <a:pt x="237" y="63"/>
                  </a:lnTo>
                  <a:lnTo>
                    <a:pt x="244" y="72"/>
                  </a:lnTo>
                  <a:lnTo>
                    <a:pt x="250" y="80"/>
                  </a:lnTo>
                  <a:lnTo>
                    <a:pt x="256" y="88"/>
                  </a:lnTo>
                  <a:lnTo>
                    <a:pt x="264" y="93"/>
                  </a:lnTo>
                  <a:lnTo>
                    <a:pt x="270" y="101"/>
                  </a:lnTo>
                  <a:lnTo>
                    <a:pt x="273" y="110"/>
                  </a:lnTo>
                  <a:lnTo>
                    <a:pt x="275" y="112"/>
                  </a:lnTo>
                  <a:lnTo>
                    <a:pt x="273" y="114"/>
                  </a:lnTo>
                  <a:lnTo>
                    <a:pt x="275" y="115"/>
                  </a:lnTo>
                  <a:lnTo>
                    <a:pt x="276" y="115"/>
                  </a:lnTo>
                  <a:lnTo>
                    <a:pt x="275" y="115"/>
                  </a:lnTo>
                  <a:lnTo>
                    <a:pt x="279" y="123"/>
                  </a:lnTo>
                  <a:lnTo>
                    <a:pt x="285" y="129"/>
                  </a:lnTo>
                  <a:lnTo>
                    <a:pt x="289" y="134"/>
                  </a:lnTo>
                  <a:lnTo>
                    <a:pt x="294" y="140"/>
                  </a:lnTo>
                  <a:lnTo>
                    <a:pt x="301" y="149"/>
                  </a:lnTo>
                  <a:lnTo>
                    <a:pt x="308" y="155"/>
                  </a:lnTo>
                  <a:lnTo>
                    <a:pt x="317" y="159"/>
                  </a:lnTo>
                  <a:lnTo>
                    <a:pt x="326" y="162"/>
                  </a:lnTo>
                  <a:lnTo>
                    <a:pt x="327" y="162"/>
                  </a:lnTo>
                  <a:lnTo>
                    <a:pt x="330" y="162"/>
                  </a:lnTo>
                  <a:lnTo>
                    <a:pt x="333" y="162"/>
                  </a:lnTo>
                  <a:lnTo>
                    <a:pt x="336" y="161"/>
                  </a:lnTo>
                  <a:lnTo>
                    <a:pt x="336" y="159"/>
                  </a:lnTo>
                  <a:lnTo>
                    <a:pt x="336" y="156"/>
                  </a:lnTo>
                  <a:lnTo>
                    <a:pt x="336" y="155"/>
                  </a:lnTo>
                  <a:lnTo>
                    <a:pt x="336" y="152"/>
                  </a:lnTo>
                  <a:lnTo>
                    <a:pt x="336" y="148"/>
                  </a:lnTo>
                  <a:lnTo>
                    <a:pt x="336" y="145"/>
                  </a:lnTo>
                  <a:lnTo>
                    <a:pt x="333" y="142"/>
                  </a:lnTo>
                  <a:lnTo>
                    <a:pt x="330" y="139"/>
                  </a:lnTo>
                  <a:lnTo>
                    <a:pt x="326" y="124"/>
                  </a:lnTo>
                  <a:lnTo>
                    <a:pt x="324" y="108"/>
                  </a:lnTo>
                  <a:lnTo>
                    <a:pt x="323" y="93"/>
                  </a:lnTo>
                  <a:lnTo>
                    <a:pt x="321" y="77"/>
                  </a:lnTo>
                  <a:lnTo>
                    <a:pt x="321" y="76"/>
                  </a:lnTo>
                  <a:lnTo>
                    <a:pt x="323" y="74"/>
                  </a:lnTo>
                  <a:lnTo>
                    <a:pt x="323" y="73"/>
                  </a:lnTo>
                  <a:lnTo>
                    <a:pt x="323" y="72"/>
                  </a:lnTo>
                  <a:lnTo>
                    <a:pt x="326" y="72"/>
                  </a:lnTo>
                  <a:lnTo>
                    <a:pt x="327" y="74"/>
                  </a:lnTo>
                  <a:lnTo>
                    <a:pt x="327" y="80"/>
                  </a:lnTo>
                  <a:lnTo>
                    <a:pt x="329" y="83"/>
                  </a:lnTo>
                  <a:lnTo>
                    <a:pt x="327" y="88"/>
                  </a:lnTo>
                  <a:lnTo>
                    <a:pt x="329" y="92"/>
                  </a:lnTo>
                  <a:lnTo>
                    <a:pt x="330" y="96"/>
                  </a:lnTo>
                  <a:lnTo>
                    <a:pt x="329" y="102"/>
                  </a:lnTo>
                  <a:lnTo>
                    <a:pt x="330" y="105"/>
                  </a:lnTo>
                  <a:lnTo>
                    <a:pt x="332" y="108"/>
                  </a:lnTo>
                  <a:lnTo>
                    <a:pt x="332" y="111"/>
                  </a:lnTo>
                  <a:lnTo>
                    <a:pt x="332" y="114"/>
                  </a:lnTo>
                  <a:lnTo>
                    <a:pt x="334" y="117"/>
                  </a:lnTo>
                  <a:lnTo>
                    <a:pt x="334" y="121"/>
                  </a:lnTo>
                  <a:lnTo>
                    <a:pt x="334" y="126"/>
                  </a:lnTo>
                  <a:lnTo>
                    <a:pt x="337" y="129"/>
                  </a:lnTo>
                  <a:lnTo>
                    <a:pt x="340" y="133"/>
                  </a:lnTo>
                  <a:lnTo>
                    <a:pt x="342" y="137"/>
                  </a:lnTo>
                  <a:lnTo>
                    <a:pt x="345" y="142"/>
                  </a:lnTo>
                  <a:lnTo>
                    <a:pt x="345" y="146"/>
                  </a:lnTo>
                  <a:lnTo>
                    <a:pt x="348" y="148"/>
                  </a:lnTo>
                  <a:lnTo>
                    <a:pt x="351" y="148"/>
                  </a:lnTo>
                  <a:lnTo>
                    <a:pt x="353" y="149"/>
                  </a:lnTo>
                  <a:lnTo>
                    <a:pt x="356" y="152"/>
                  </a:lnTo>
                  <a:lnTo>
                    <a:pt x="361" y="158"/>
                  </a:lnTo>
                  <a:lnTo>
                    <a:pt x="367" y="161"/>
                  </a:lnTo>
                  <a:lnTo>
                    <a:pt x="372" y="164"/>
                  </a:lnTo>
                  <a:lnTo>
                    <a:pt x="378" y="169"/>
                  </a:lnTo>
                  <a:lnTo>
                    <a:pt x="380" y="169"/>
                  </a:lnTo>
                  <a:lnTo>
                    <a:pt x="383" y="171"/>
                  </a:lnTo>
                  <a:lnTo>
                    <a:pt x="384" y="171"/>
                  </a:lnTo>
                  <a:lnTo>
                    <a:pt x="386" y="171"/>
                  </a:lnTo>
                  <a:lnTo>
                    <a:pt x="387" y="164"/>
                  </a:lnTo>
                  <a:lnTo>
                    <a:pt x="387" y="155"/>
                  </a:lnTo>
                  <a:lnTo>
                    <a:pt x="384" y="146"/>
                  </a:lnTo>
                  <a:lnTo>
                    <a:pt x="384" y="139"/>
                  </a:lnTo>
                  <a:lnTo>
                    <a:pt x="383" y="136"/>
                  </a:lnTo>
                  <a:lnTo>
                    <a:pt x="381" y="133"/>
                  </a:lnTo>
                  <a:lnTo>
                    <a:pt x="380" y="129"/>
                  </a:lnTo>
                  <a:lnTo>
                    <a:pt x="378" y="127"/>
                  </a:lnTo>
                  <a:lnTo>
                    <a:pt x="374" y="117"/>
                  </a:lnTo>
                  <a:lnTo>
                    <a:pt x="370" y="108"/>
                  </a:lnTo>
                  <a:lnTo>
                    <a:pt x="365" y="99"/>
                  </a:lnTo>
                  <a:lnTo>
                    <a:pt x="362" y="89"/>
                  </a:lnTo>
                  <a:lnTo>
                    <a:pt x="358" y="85"/>
                  </a:lnTo>
                  <a:lnTo>
                    <a:pt x="355" y="80"/>
                  </a:lnTo>
                  <a:lnTo>
                    <a:pt x="352" y="76"/>
                  </a:lnTo>
                  <a:lnTo>
                    <a:pt x="349" y="72"/>
                  </a:lnTo>
                  <a:lnTo>
                    <a:pt x="349" y="70"/>
                  </a:lnTo>
                  <a:lnTo>
                    <a:pt x="349" y="69"/>
                  </a:lnTo>
                  <a:lnTo>
                    <a:pt x="351" y="67"/>
                  </a:lnTo>
                  <a:lnTo>
                    <a:pt x="352" y="67"/>
                  </a:lnTo>
                  <a:lnTo>
                    <a:pt x="356" y="69"/>
                  </a:lnTo>
                  <a:lnTo>
                    <a:pt x="359" y="72"/>
                  </a:lnTo>
                  <a:lnTo>
                    <a:pt x="361" y="74"/>
                  </a:lnTo>
                  <a:lnTo>
                    <a:pt x="362" y="79"/>
                  </a:lnTo>
                  <a:lnTo>
                    <a:pt x="365" y="83"/>
                  </a:lnTo>
                  <a:lnTo>
                    <a:pt x="368" y="88"/>
                  </a:lnTo>
                  <a:lnTo>
                    <a:pt x="371" y="93"/>
                  </a:lnTo>
                  <a:lnTo>
                    <a:pt x="371" y="99"/>
                  </a:lnTo>
                  <a:lnTo>
                    <a:pt x="375" y="104"/>
                  </a:lnTo>
                  <a:lnTo>
                    <a:pt x="378" y="108"/>
                  </a:lnTo>
                  <a:lnTo>
                    <a:pt x="380" y="112"/>
                  </a:lnTo>
                  <a:lnTo>
                    <a:pt x="383" y="118"/>
                  </a:lnTo>
                  <a:lnTo>
                    <a:pt x="384" y="123"/>
                  </a:lnTo>
                  <a:lnTo>
                    <a:pt x="386" y="129"/>
                  </a:lnTo>
                  <a:lnTo>
                    <a:pt x="387" y="131"/>
                  </a:lnTo>
                  <a:lnTo>
                    <a:pt x="389" y="133"/>
                  </a:lnTo>
                  <a:lnTo>
                    <a:pt x="389" y="137"/>
                  </a:lnTo>
                  <a:lnTo>
                    <a:pt x="389" y="140"/>
                  </a:lnTo>
                  <a:lnTo>
                    <a:pt x="389" y="145"/>
                  </a:lnTo>
                  <a:lnTo>
                    <a:pt x="391" y="148"/>
                  </a:lnTo>
                  <a:lnTo>
                    <a:pt x="391" y="149"/>
                  </a:lnTo>
                  <a:lnTo>
                    <a:pt x="393" y="150"/>
                  </a:lnTo>
                  <a:lnTo>
                    <a:pt x="394" y="153"/>
                  </a:lnTo>
                  <a:lnTo>
                    <a:pt x="394" y="155"/>
                  </a:lnTo>
                  <a:lnTo>
                    <a:pt x="397" y="167"/>
                  </a:lnTo>
                  <a:lnTo>
                    <a:pt x="400" y="168"/>
                  </a:lnTo>
                  <a:lnTo>
                    <a:pt x="405" y="171"/>
                  </a:lnTo>
                  <a:lnTo>
                    <a:pt x="409" y="172"/>
                  </a:lnTo>
                  <a:lnTo>
                    <a:pt x="415" y="174"/>
                  </a:lnTo>
                  <a:lnTo>
                    <a:pt x="419" y="178"/>
                  </a:lnTo>
                  <a:lnTo>
                    <a:pt x="424" y="180"/>
                  </a:lnTo>
                  <a:lnTo>
                    <a:pt x="429" y="183"/>
                  </a:lnTo>
                  <a:lnTo>
                    <a:pt x="434" y="183"/>
                  </a:lnTo>
                  <a:lnTo>
                    <a:pt x="438" y="183"/>
                  </a:lnTo>
                  <a:lnTo>
                    <a:pt x="443" y="181"/>
                  </a:lnTo>
                  <a:lnTo>
                    <a:pt x="445" y="180"/>
                  </a:lnTo>
                  <a:lnTo>
                    <a:pt x="447" y="177"/>
                  </a:lnTo>
                  <a:lnTo>
                    <a:pt x="445" y="172"/>
                  </a:lnTo>
                  <a:lnTo>
                    <a:pt x="444" y="168"/>
                  </a:lnTo>
                  <a:lnTo>
                    <a:pt x="443" y="164"/>
                  </a:lnTo>
                  <a:lnTo>
                    <a:pt x="441" y="159"/>
                  </a:lnTo>
                  <a:lnTo>
                    <a:pt x="441" y="153"/>
                  </a:lnTo>
                  <a:lnTo>
                    <a:pt x="440" y="148"/>
                  </a:lnTo>
                  <a:lnTo>
                    <a:pt x="438" y="143"/>
                  </a:lnTo>
                  <a:lnTo>
                    <a:pt x="438" y="137"/>
                  </a:lnTo>
                  <a:lnTo>
                    <a:pt x="435" y="133"/>
                  </a:lnTo>
                  <a:lnTo>
                    <a:pt x="434" y="129"/>
                  </a:lnTo>
                  <a:lnTo>
                    <a:pt x="432" y="124"/>
                  </a:lnTo>
                  <a:lnTo>
                    <a:pt x="429" y="121"/>
                  </a:lnTo>
                  <a:lnTo>
                    <a:pt x="424" y="111"/>
                  </a:lnTo>
                  <a:lnTo>
                    <a:pt x="419" y="99"/>
                  </a:lnTo>
                  <a:lnTo>
                    <a:pt x="413" y="89"/>
                  </a:lnTo>
                  <a:lnTo>
                    <a:pt x="408" y="80"/>
                  </a:lnTo>
                  <a:lnTo>
                    <a:pt x="408" y="79"/>
                  </a:lnTo>
                  <a:lnTo>
                    <a:pt x="409" y="77"/>
                  </a:lnTo>
                  <a:lnTo>
                    <a:pt x="409" y="76"/>
                  </a:lnTo>
                  <a:lnTo>
                    <a:pt x="410" y="76"/>
                  </a:lnTo>
                  <a:lnTo>
                    <a:pt x="418" y="83"/>
                  </a:lnTo>
                  <a:lnTo>
                    <a:pt x="422" y="91"/>
                  </a:lnTo>
                  <a:lnTo>
                    <a:pt x="425" y="99"/>
                  </a:lnTo>
                  <a:lnTo>
                    <a:pt x="428" y="108"/>
                  </a:lnTo>
                  <a:lnTo>
                    <a:pt x="429" y="111"/>
                  </a:lnTo>
                  <a:lnTo>
                    <a:pt x="432" y="112"/>
                  </a:lnTo>
                  <a:lnTo>
                    <a:pt x="435" y="115"/>
                  </a:lnTo>
                  <a:lnTo>
                    <a:pt x="435" y="118"/>
                  </a:lnTo>
                  <a:lnTo>
                    <a:pt x="438" y="123"/>
                  </a:lnTo>
                  <a:lnTo>
                    <a:pt x="440" y="127"/>
                  </a:lnTo>
                  <a:lnTo>
                    <a:pt x="441" y="131"/>
                  </a:lnTo>
                  <a:lnTo>
                    <a:pt x="444" y="136"/>
                  </a:lnTo>
                  <a:lnTo>
                    <a:pt x="444" y="137"/>
                  </a:lnTo>
                  <a:lnTo>
                    <a:pt x="445" y="139"/>
                  </a:lnTo>
                  <a:lnTo>
                    <a:pt x="445" y="140"/>
                  </a:lnTo>
                  <a:lnTo>
                    <a:pt x="447" y="140"/>
                  </a:lnTo>
                  <a:lnTo>
                    <a:pt x="447" y="145"/>
                  </a:lnTo>
                  <a:lnTo>
                    <a:pt x="448" y="149"/>
                  </a:lnTo>
                  <a:lnTo>
                    <a:pt x="448" y="153"/>
                  </a:lnTo>
                  <a:lnTo>
                    <a:pt x="450" y="156"/>
                  </a:lnTo>
                  <a:lnTo>
                    <a:pt x="456" y="156"/>
                  </a:lnTo>
                  <a:lnTo>
                    <a:pt x="462" y="156"/>
                  </a:lnTo>
                  <a:lnTo>
                    <a:pt x="466" y="158"/>
                  </a:lnTo>
                  <a:lnTo>
                    <a:pt x="470" y="159"/>
                  </a:lnTo>
                  <a:lnTo>
                    <a:pt x="470" y="158"/>
                  </a:lnTo>
                  <a:lnTo>
                    <a:pt x="472" y="153"/>
                  </a:lnTo>
                  <a:lnTo>
                    <a:pt x="472" y="150"/>
                  </a:lnTo>
                  <a:lnTo>
                    <a:pt x="472" y="148"/>
                  </a:lnTo>
                  <a:lnTo>
                    <a:pt x="472" y="142"/>
                  </a:lnTo>
                  <a:lnTo>
                    <a:pt x="469" y="136"/>
                  </a:lnTo>
                  <a:lnTo>
                    <a:pt x="469" y="131"/>
                  </a:lnTo>
                  <a:lnTo>
                    <a:pt x="470" y="126"/>
                  </a:lnTo>
                  <a:lnTo>
                    <a:pt x="469" y="121"/>
                  </a:lnTo>
                  <a:lnTo>
                    <a:pt x="466" y="117"/>
                  </a:lnTo>
                  <a:lnTo>
                    <a:pt x="464" y="112"/>
                  </a:lnTo>
                  <a:lnTo>
                    <a:pt x="464" y="108"/>
                  </a:lnTo>
                  <a:lnTo>
                    <a:pt x="463" y="101"/>
                  </a:lnTo>
                  <a:lnTo>
                    <a:pt x="460" y="95"/>
                  </a:lnTo>
                  <a:lnTo>
                    <a:pt x="456" y="89"/>
                  </a:lnTo>
                  <a:lnTo>
                    <a:pt x="451" y="83"/>
                  </a:lnTo>
                  <a:lnTo>
                    <a:pt x="451" y="82"/>
                  </a:lnTo>
                  <a:lnTo>
                    <a:pt x="451" y="79"/>
                  </a:lnTo>
                  <a:lnTo>
                    <a:pt x="450" y="77"/>
                  </a:lnTo>
                  <a:lnTo>
                    <a:pt x="448" y="76"/>
                  </a:lnTo>
                  <a:lnTo>
                    <a:pt x="445" y="70"/>
                  </a:lnTo>
                  <a:lnTo>
                    <a:pt x="440" y="64"/>
                  </a:lnTo>
                  <a:lnTo>
                    <a:pt x="434" y="61"/>
                  </a:lnTo>
                  <a:lnTo>
                    <a:pt x="428" y="58"/>
                  </a:lnTo>
                  <a:lnTo>
                    <a:pt x="424" y="53"/>
                  </a:lnTo>
                  <a:lnTo>
                    <a:pt x="419" y="48"/>
                  </a:lnTo>
                  <a:lnTo>
                    <a:pt x="415" y="45"/>
                  </a:lnTo>
                  <a:lnTo>
                    <a:pt x="410" y="42"/>
                  </a:lnTo>
                  <a:lnTo>
                    <a:pt x="403" y="44"/>
                  </a:lnTo>
                  <a:lnTo>
                    <a:pt x="397" y="45"/>
                  </a:lnTo>
                  <a:lnTo>
                    <a:pt x="391" y="47"/>
                  </a:lnTo>
                  <a:lnTo>
                    <a:pt x="387" y="53"/>
                  </a:lnTo>
                  <a:lnTo>
                    <a:pt x="383" y="54"/>
                  </a:lnTo>
                  <a:lnTo>
                    <a:pt x="380" y="55"/>
                  </a:lnTo>
                  <a:lnTo>
                    <a:pt x="375" y="55"/>
                  </a:lnTo>
                  <a:lnTo>
                    <a:pt x="371" y="53"/>
                  </a:lnTo>
                  <a:lnTo>
                    <a:pt x="370" y="48"/>
                  </a:lnTo>
                  <a:lnTo>
                    <a:pt x="370" y="44"/>
                  </a:lnTo>
                  <a:lnTo>
                    <a:pt x="370" y="39"/>
                  </a:lnTo>
                  <a:lnTo>
                    <a:pt x="367" y="36"/>
                  </a:lnTo>
                  <a:lnTo>
                    <a:pt x="362" y="36"/>
                  </a:lnTo>
                  <a:lnTo>
                    <a:pt x="358" y="36"/>
                  </a:lnTo>
                  <a:lnTo>
                    <a:pt x="355" y="39"/>
                  </a:lnTo>
                  <a:lnTo>
                    <a:pt x="353" y="42"/>
                  </a:lnTo>
                  <a:lnTo>
                    <a:pt x="353" y="47"/>
                  </a:lnTo>
                  <a:lnTo>
                    <a:pt x="351" y="51"/>
                  </a:lnTo>
                  <a:lnTo>
                    <a:pt x="348" y="54"/>
                  </a:lnTo>
                  <a:lnTo>
                    <a:pt x="343" y="54"/>
                  </a:lnTo>
                  <a:lnTo>
                    <a:pt x="340" y="54"/>
                  </a:lnTo>
                  <a:lnTo>
                    <a:pt x="337" y="54"/>
                  </a:lnTo>
                  <a:lnTo>
                    <a:pt x="333" y="54"/>
                  </a:lnTo>
                  <a:lnTo>
                    <a:pt x="330" y="54"/>
                  </a:lnTo>
                  <a:lnTo>
                    <a:pt x="327" y="54"/>
                  </a:lnTo>
                  <a:lnTo>
                    <a:pt x="324" y="54"/>
                  </a:lnTo>
                  <a:lnTo>
                    <a:pt x="321" y="53"/>
                  </a:lnTo>
                  <a:lnTo>
                    <a:pt x="318" y="53"/>
                  </a:lnTo>
                  <a:lnTo>
                    <a:pt x="302" y="53"/>
                  </a:lnTo>
                  <a:lnTo>
                    <a:pt x="299" y="55"/>
                  </a:lnTo>
                  <a:lnTo>
                    <a:pt x="295" y="60"/>
                  </a:lnTo>
                  <a:lnTo>
                    <a:pt x="291" y="61"/>
                  </a:lnTo>
                  <a:lnTo>
                    <a:pt x="286" y="61"/>
                  </a:lnTo>
                  <a:lnTo>
                    <a:pt x="282" y="58"/>
                  </a:lnTo>
                  <a:lnTo>
                    <a:pt x="280" y="55"/>
                  </a:lnTo>
                  <a:lnTo>
                    <a:pt x="278" y="53"/>
                  </a:lnTo>
                  <a:lnTo>
                    <a:pt x="273" y="50"/>
                  </a:lnTo>
                  <a:lnTo>
                    <a:pt x="270" y="45"/>
                  </a:lnTo>
                  <a:lnTo>
                    <a:pt x="267" y="39"/>
                  </a:lnTo>
                  <a:lnTo>
                    <a:pt x="263" y="35"/>
                  </a:lnTo>
                  <a:lnTo>
                    <a:pt x="259" y="32"/>
                  </a:lnTo>
                  <a:lnTo>
                    <a:pt x="259" y="35"/>
                  </a:lnTo>
                  <a:lnTo>
                    <a:pt x="257" y="36"/>
                  </a:lnTo>
                  <a:lnTo>
                    <a:pt x="256" y="39"/>
                  </a:lnTo>
                  <a:lnTo>
                    <a:pt x="253" y="42"/>
                  </a:lnTo>
                  <a:lnTo>
                    <a:pt x="253" y="42"/>
                  </a:lnTo>
                  <a:lnTo>
                    <a:pt x="235" y="35"/>
                  </a:lnTo>
                  <a:lnTo>
                    <a:pt x="200" y="36"/>
                  </a:lnTo>
                  <a:lnTo>
                    <a:pt x="196" y="41"/>
                  </a:lnTo>
                  <a:lnTo>
                    <a:pt x="190" y="36"/>
                  </a:lnTo>
                  <a:lnTo>
                    <a:pt x="186" y="31"/>
                  </a:lnTo>
                  <a:lnTo>
                    <a:pt x="180" y="26"/>
                  </a:lnTo>
                  <a:lnTo>
                    <a:pt x="175" y="20"/>
                  </a:lnTo>
                  <a:lnTo>
                    <a:pt x="153" y="7"/>
                  </a:lnTo>
                  <a:lnTo>
                    <a:pt x="150" y="9"/>
                  </a:lnTo>
                  <a:lnTo>
                    <a:pt x="149" y="9"/>
                  </a:lnTo>
                  <a:lnTo>
                    <a:pt x="146" y="9"/>
                  </a:lnTo>
                  <a:lnTo>
                    <a:pt x="143" y="10"/>
                  </a:lnTo>
                  <a:lnTo>
                    <a:pt x="140" y="10"/>
                  </a:lnTo>
                  <a:lnTo>
                    <a:pt x="137" y="10"/>
                  </a:lnTo>
                  <a:lnTo>
                    <a:pt x="133" y="10"/>
                  </a:lnTo>
                  <a:lnTo>
                    <a:pt x="130" y="10"/>
                  </a:lnTo>
                  <a:lnTo>
                    <a:pt x="127" y="10"/>
                  </a:lnTo>
                  <a:lnTo>
                    <a:pt x="126" y="10"/>
                  </a:lnTo>
                  <a:lnTo>
                    <a:pt x="124" y="9"/>
                  </a:lnTo>
                  <a:lnTo>
                    <a:pt x="123" y="7"/>
                  </a:lnTo>
                  <a:lnTo>
                    <a:pt x="121" y="6"/>
                  </a:lnTo>
                  <a:lnTo>
                    <a:pt x="120" y="7"/>
                  </a:lnTo>
                  <a:lnTo>
                    <a:pt x="118" y="9"/>
                  </a:lnTo>
                  <a:lnTo>
                    <a:pt x="117" y="9"/>
                  </a:lnTo>
                  <a:lnTo>
                    <a:pt x="113" y="9"/>
                  </a:lnTo>
                  <a:lnTo>
                    <a:pt x="108" y="9"/>
                  </a:lnTo>
                  <a:lnTo>
                    <a:pt x="105" y="7"/>
                  </a:lnTo>
                  <a:lnTo>
                    <a:pt x="102" y="10"/>
                  </a:lnTo>
                  <a:lnTo>
                    <a:pt x="101" y="9"/>
                  </a:lnTo>
                  <a:lnTo>
                    <a:pt x="99" y="12"/>
                  </a:lnTo>
                  <a:lnTo>
                    <a:pt x="98" y="12"/>
                  </a:lnTo>
                  <a:lnTo>
                    <a:pt x="98" y="10"/>
                  </a:lnTo>
                  <a:lnTo>
                    <a:pt x="96" y="10"/>
                  </a:lnTo>
                  <a:lnTo>
                    <a:pt x="95" y="10"/>
                  </a:lnTo>
                  <a:lnTo>
                    <a:pt x="94" y="10"/>
                  </a:lnTo>
                  <a:lnTo>
                    <a:pt x="91" y="10"/>
                  </a:lnTo>
                  <a:lnTo>
                    <a:pt x="89" y="10"/>
                  </a:lnTo>
                  <a:lnTo>
                    <a:pt x="86" y="9"/>
                  </a:lnTo>
                  <a:lnTo>
                    <a:pt x="85" y="9"/>
                  </a:lnTo>
                  <a:lnTo>
                    <a:pt x="83" y="7"/>
                  </a:lnTo>
                  <a:lnTo>
                    <a:pt x="80" y="6"/>
                  </a:lnTo>
                  <a:lnTo>
                    <a:pt x="79" y="3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3" y="1"/>
                  </a:lnTo>
                  <a:lnTo>
                    <a:pt x="73" y="6"/>
                  </a:lnTo>
                  <a:lnTo>
                    <a:pt x="70" y="9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396640" y="5365800"/>
              <a:ext cx="151200" cy="79920"/>
            </a:xfrm>
            <a:custGeom>
              <a:avLst/>
              <a:gdLst/>
              <a:ahLst/>
              <a:rect l="l" t="t" r="r" b="b"/>
              <a:pathLst>
                <a:path w="357" h="189">
                  <a:moveTo>
                    <a:pt x="328" y="9"/>
                  </a:moveTo>
                  <a:lnTo>
                    <a:pt x="327" y="13"/>
                  </a:lnTo>
                  <a:lnTo>
                    <a:pt x="322" y="16"/>
                  </a:lnTo>
                  <a:lnTo>
                    <a:pt x="319" y="18"/>
                  </a:lnTo>
                  <a:lnTo>
                    <a:pt x="315" y="19"/>
                  </a:lnTo>
                  <a:lnTo>
                    <a:pt x="309" y="22"/>
                  </a:lnTo>
                  <a:lnTo>
                    <a:pt x="305" y="24"/>
                  </a:lnTo>
                  <a:lnTo>
                    <a:pt x="299" y="26"/>
                  </a:lnTo>
                  <a:lnTo>
                    <a:pt x="295" y="28"/>
                  </a:lnTo>
                  <a:lnTo>
                    <a:pt x="292" y="26"/>
                  </a:lnTo>
                  <a:lnTo>
                    <a:pt x="290" y="25"/>
                  </a:lnTo>
                  <a:lnTo>
                    <a:pt x="287" y="25"/>
                  </a:lnTo>
                  <a:lnTo>
                    <a:pt x="284" y="25"/>
                  </a:lnTo>
                  <a:lnTo>
                    <a:pt x="277" y="32"/>
                  </a:lnTo>
                  <a:lnTo>
                    <a:pt x="267" y="35"/>
                  </a:lnTo>
                  <a:lnTo>
                    <a:pt x="254" y="35"/>
                  </a:lnTo>
                  <a:lnTo>
                    <a:pt x="243" y="35"/>
                  </a:lnTo>
                  <a:lnTo>
                    <a:pt x="242" y="32"/>
                  </a:lnTo>
                  <a:lnTo>
                    <a:pt x="239" y="31"/>
                  </a:lnTo>
                  <a:lnTo>
                    <a:pt x="236" y="29"/>
                  </a:lnTo>
                  <a:lnTo>
                    <a:pt x="233" y="29"/>
                  </a:lnTo>
                  <a:lnTo>
                    <a:pt x="229" y="32"/>
                  </a:lnTo>
                  <a:lnTo>
                    <a:pt x="224" y="34"/>
                  </a:lnTo>
                  <a:lnTo>
                    <a:pt x="221" y="37"/>
                  </a:lnTo>
                  <a:lnTo>
                    <a:pt x="219" y="40"/>
                  </a:lnTo>
                  <a:lnTo>
                    <a:pt x="217" y="41"/>
                  </a:lnTo>
                  <a:lnTo>
                    <a:pt x="214" y="41"/>
                  </a:lnTo>
                  <a:lnTo>
                    <a:pt x="213" y="41"/>
                  </a:lnTo>
                  <a:lnTo>
                    <a:pt x="210" y="41"/>
                  </a:lnTo>
                  <a:lnTo>
                    <a:pt x="205" y="37"/>
                  </a:lnTo>
                  <a:lnTo>
                    <a:pt x="200" y="34"/>
                  </a:lnTo>
                  <a:lnTo>
                    <a:pt x="192" y="34"/>
                  </a:lnTo>
                  <a:lnTo>
                    <a:pt x="186" y="31"/>
                  </a:lnTo>
                  <a:lnTo>
                    <a:pt x="184" y="32"/>
                  </a:lnTo>
                  <a:lnTo>
                    <a:pt x="182" y="34"/>
                  </a:lnTo>
                  <a:lnTo>
                    <a:pt x="179" y="35"/>
                  </a:lnTo>
                  <a:lnTo>
                    <a:pt x="176" y="35"/>
                  </a:lnTo>
                  <a:lnTo>
                    <a:pt x="170" y="31"/>
                  </a:lnTo>
                  <a:lnTo>
                    <a:pt x="163" y="29"/>
                  </a:lnTo>
                  <a:lnTo>
                    <a:pt x="157" y="28"/>
                  </a:lnTo>
                  <a:lnTo>
                    <a:pt x="150" y="28"/>
                  </a:lnTo>
                  <a:lnTo>
                    <a:pt x="148" y="32"/>
                  </a:lnTo>
                  <a:lnTo>
                    <a:pt x="147" y="37"/>
                  </a:lnTo>
                  <a:lnTo>
                    <a:pt x="144" y="40"/>
                  </a:lnTo>
                  <a:lnTo>
                    <a:pt x="140" y="43"/>
                  </a:lnTo>
                  <a:lnTo>
                    <a:pt x="137" y="43"/>
                  </a:lnTo>
                  <a:lnTo>
                    <a:pt x="134" y="44"/>
                  </a:lnTo>
                  <a:lnTo>
                    <a:pt x="132" y="45"/>
                  </a:lnTo>
                  <a:lnTo>
                    <a:pt x="129" y="47"/>
                  </a:lnTo>
                  <a:lnTo>
                    <a:pt x="119" y="44"/>
                  </a:lnTo>
                  <a:lnTo>
                    <a:pt x="109" y="41"/>
                  </a:lnTo>
                  <a:lnTo>
                    <a:pt x="97" y="40"/>
                  </a:lnTo>
                  <a:lnTo>
                    <a:pt x="89" y="35"/>
                  </a:lnTo>
                  <a:lnTo>
                    <a:pt x="83" y="35"/>
                  </a:lnTo>
                  <a:lnTo>
                    <a:pt x="77" y="35"/>
                  </a:lnTo>
                  <a:lnTo>
                    <a:pt x="73" y="35"/>
                  </a:lnTo>
                  <a:lnTo>
                    <a:pt x="67" y="37"/>
                  </a:lnTo>
                  <a:lnTo>
                    <a:pt x="59" y="47"/>
                  </a:lnTo>
                  <a:lnTo>
                    <a:pt x="51" y="56"/>
                  </a:lnTo>
                  <a:lnTo>
                    <a:pt x="42" y="64"/>
                  </a:lnTo>
                  <a:lnTo>
                    <a:pt x="32" y="70"/>
                  </a:lnTo>
                  <a:lnTo>
                    <a:pt x="27" y="73"/>
                  </a:lnTo>
                  <a:lnTo>
                    <a:pt x="21" y="76"/>
                  </a:lnTo>
                  <a:lnTo>
                    <a:pt x="16" y="78"/>
                  </a:lnTo>
                  <a:lnTo>
                    <a:pt x="11" y="81"/>
                  </a:lnTo>
                  <a:lnTo>
                    <a:pt x="7" y="83"/>
                  </a:lnTo>
                  <a:lnTo>
                    <a:pt x="4" y="85"/>
                  </a:lnTo>
                  <a:lnTo>
                    <a:pt x="1" y="88"/>
                  </a:lnTo>
                  <a:lnTo>
                    <a:pt x="0" y="92"/>
                  </a:lnTo>
                  <a:lnTo>
                    <a:pt x="1" y="97"/>
                  </a:lnTo>
                  <a:lnTo>
                    <a:pt x="2" y="102"/>
                  </a:lnTo>
                  <a:lnTo>
                    <a:pt x="5" y="105"/>
                  </a:lnTo>
                  <a:lnTo>
                    <a:pt x="10" y="108"/>
                  </a:lnTo>
                  <a:lnTo>
                    <a:pt x="16" y="108"/>
                  </a:lnTo>
                  <a:lnTo>
                    <a:pt x="21" y="108"/>
                  </a:lnTo>
                  <a:lnTo>
                    <a:pt x="26" y="110"/>
                  </a:lnTo>
                  <a:lnTo>
                    <a:pt x="32" y="111"/>
                  </a:lnTo>
                  <a:lnTo>
                    <a:pt x="40" y="108"/>
                  </a:lnTo>
                  <a:lnTo>
                    <a:pt x="48" y="104"/>
                  </a:lnTo>
                  <a:lnTo>
                    <a:pt x="55" y="100"/>
                  </a:lnTo>
                  <a:lnTo>
                    <a:pt x="62" y="95"/>
                  </a:lnTo>
                  <a:lnTo>
                    <a:pt x="70" y="92"/>
                  </a:lnTo>
                  <a:lnTo>
                    <a:pt x="77" y="88"/>
                  </a:lnTo>
                  <a:lnTo>
                    <a:pt x="84" y="85"/>
                  </a:lnTo>
                  <a:lnTo>
                    <a:pt x="92" y="82"/>
                  </a:lnTo>
                  <a:lnTo>
                    <a:pt x="99" y="78"/>
                  </a:lnTo>
                  <a:lnTo>
                    <a:pt x="109" y="76"/>
                  </a:lnTo>
                  <a:lnTo>
                    <a:pt x="118" y="76"/>
                  </a:lnTo>
                  <a:lnTo>
                    <a:pt x="127" y="75"/>
                  </a:lnTo>
                  <a:lnTo>
                    <a:pt x="134" y="78"/>
                  </a:lnTo>
                  <a:lnTo>
                    <a:pt x="143" y="79"/>
                  </a:lnTo>
                  <a:lnTo>
                    <a:pt x="150" y="81"/>
                  </a:lnTo>
                  <a:lnTo>
                    <a:pt x="157" y="83"/>
                  </a:lnTo>
                  <a:lnTo>
                    <a:pt x="163" y="82"/>
                  </a:lnTo>
                  <a:lnTo>
                    <a:pt x="170" y="83"/>
                  </a:lnTo>
                  <a:lnTo>
                    <a:pt x="176" y="86"/>
                  </a:lnTo>
                  <a:lnTo>
                    <a:pt x="181" y="91"/>
                  </a:lnTo>
                  <a:lnTo>
                    <a:pt x="181" y="94"/>
                  </a:lnTo>
                  <a:lnTo>
                    <a:pt x="181" y="98"/>
                  </a:lnTo>
                  <a:lnTo>
                    <a:pt x="181" y="101"/>
                  </a:lnTo>
                  <a:lnTo>
                    <a:pt x="181" y="105"/>
                  </a:lnTo>
                  <a:lnTo>
                    <a:pt x="179" y="108"/>
                  </a:lnTo>
                  <a:lnTo>
                    <a:pt x="179" y="113"/>
                  </a:lnTo>
                  <a:lnTo>
                    <a:pt x="179" y="116"/>
                  </a:lnTo>
                  <a:lnTo>
                    <a:pt x="178" y="120"/>
                  </a:lnTo>
                  <a:lnTo>
                    <a:pt x="176" y="132"/>
                  </a:lnTo>
                  <a:lnTo>
                    <a:pt x="175" y="143"/>
                  </a:lnTo>
                  <a:lnTo>
                    <a:pt x="175" y="155"/>
                  </a:lnTo>
                  <a:lnTo>
                    <a:pt x="179" y="167"/>
                  </a:lnTo>
                  <a:lnTo>
                    <a:pt x="185" y="173"/>
                  </a:lnTo>
                  <a:lnTo>
                    <a:pt x="191" y="180"/>
                  </a:lnTo>
                  <a:lnTo>
                    <a:pt x="197" y="186"/>
                  </a:lnTo>
                  <a:lnTo>
                    <a:pt x="205" y="189"/>
                  </a:lnTo>
                  <a:lnTo>
                    <a:pt x="208" y="186"/>
                  </a:lnTo>
                  <a:lnTo>
                    <a:pt x="211" y="184"/>
                  </a:lnTo>
                  <a:lnTo>
                    <a:pt x="214" y="181"/>
                  </a:lnTo>
                  <a:lnTo>
                    <a:pt x="216" y="177"/>
                  </a:lnTo>
                  <a:lnTo>
                    <a:pt x="217" y="168"/>
                  </a:lnTo>
                  <a:lnTo>
                    <a:pt x="220" y="159"/>
                  </a:lnTo>
                  <a:lnTo>
                    <a:pt x="224" y="151"/>
                  </a:lnTo>
                  <a:lnTo>
                    <a:pt x="229" y="142"/>
                  </a:lnTo>
                  <a:lnTo>
                    <a:pt x="233" y="139"/>
                  </a:lnTo>
                  <a:lnTo>
                    <a:pt x="238" y="136"/>
                  </a:lnTo>
                  <a:lnTo>
                    <a:pt x="240" y="132"/>
                  </a:lnTo>
                  <a:lnTo>
                    <a:pt x="243" y="129"/>
                  </a:lnTo>
                  <a:lnTo>
                    <a:pt x="243" y="120"/>
                  </a:lnTo>
                  <a:lnTo>
                    <a:pt x="243" y="110"/>
                  </a:lnTo>
                  <a:lnTo>
                    <a:pt x="243" y="101"/>
                  </a:lnTo>
                  <a:lnTo>
                    <a:pt x="243" y="92"/>
                  </a:lnTo>
                  <a:lnTo>
                    <a:pt x="248" y="86"/>
                  </a:lnTo>
                  <a:lnTo>
                    <a:pt x="252" y="82"/>
                  </a:lnTo>
                  <a:lnTo>
                    <a:pt x="258" y="78"/>
                  </a:lnTo>
                  <a:lnTo>
                    <a:pt x="264" y="76"/>
                  </a:lnTo>
                  <a:lnTo>
                    <a:pt x="274" y="76"/>
                  </a:lnTo>
                  <a:lnTo>
                    <a:pt x="283" y="76"/>
                  </a:lnTo>
                  <a:lnTo>
                    <a:pt x="292" y="76"/>
                  </a:lnTo>
                  <a:lnTo>
                    <a:pt x="302" y="76"/>
                  </a:lnTo>
                  <a:lnTo>
                    <a:pt x="305" y="75"/>
                  </a:lnTo>
                  <a:lnTo>
                    <a:pt x="309" y="75"/>
                  </a:lnTo>
                  <a:lnTo>
                    <a:pt x="314" y="75"/>
                  </a:lnTo>
                  <a:lnTo>
                    <a:pt x="318" y="75"/>
                  </a:lnTo>
                  <a:lnTo>
                    <a:pt x="325" y="73"/>
                  </a:lnTo>
                  <a:lnTo>
                    <a:pt x="332" y="70"/>
                  </a:lnTo>
                  <a:lnTo>
                    <a:pt x="338" y="66"/>
                  </a:lnTo>
                  <a:lnTo>
                    <a:pt x="341" y="59"/>
                  </a:lnTo>
                  <a:lnTo>
                    <a:pt x="346" y="48"/>
                  </a:lnTo>
                  <a:lnTo>
                    <a:pt x="350" y="38"/>
                  </a:lnTo>
                  <a:lnTo>
                    <a:pt x="353" y="28"/>
                  </a:lnTo>
                  <a:lnTo>
                    <a:pt x="356" y="18"/>
                  </a:lnTo>
                  <a:lnTo>
                    <a:pt x="356" y="15"/>
                  </a:lnTo>
                  <a:lnTo>
                    <a:pt x="356" y="13"/>
                  </a:lnTo>
                  <a:lnTo>
                    <a:pt x="356" y="10"/>
                  </a:lnTo>
                  <a:lnTo>
                    <a:pt x="357" y="9"/>
                  </a:lnTo>
                  <a:lnTo>
                    <a:pt x="354" y="6"/>
                  </a:lnTo>
                  <a:lnTo>
                    <a:pt x="350" y="3"/>
                  </a:lnTo>
                  <a:lnTo>
                    <a:pt x="346" y="2"/>
                  </a:lnTo>
                  <a:lnTo>
                    <a:pt x="341" y="0"/>
                  </a:lnTo>
                  <a:lnTo>
                    <a:pt x="337" y="2"/>
                  </a:lnTo>
                  <a:lnTo>
                    <a:pt x="334" y="3"/>
                  </a:lnTo>
                  <a:lnTo>
                    <a:pt x="330" y="6"/>
                  </a:lnTo>
                  <a:lnTo>
                    <a:pt x="328" y="9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146440" y="5382720"/>
              <a:ext cx="70920" cy="66960"/>
            </a:xfrm>
            <a:custGeom>
              <a:avLst/>
              <a:gdLst/>
              <a:ahLst/>
              <a:rect l="l" t="t" r="r" b="b"/>
              <a:pathLst>
                <a:path w="168" h="160">
                  <a:moveTo>
                    <a:pt x="157" y="8"/>
                  </a:moveTo>
                  <a:lnTo>
                    <a:pt x="148" y="13"/>
                  </a:lnTo>
                  <a:lnTo>
                    <a:pt x="139" y="14"/>
                  </a:lnTo>
                  <a:lnTo>
                    <a:pt x="132" y="19"/>
                  </a:lnTo>
                  <a:lnTo>
                    <a:pt x="126" y="26"/>
                  </a:lnTo>
                  <a:lnTo>
                    <a:pt x="125" y="29"/>
                  </a:lnTo>
                  <a:lnTo>
                    <a:pt x="123" y="32"/>
                  </a:lnTo>
                  <a:lnTo>
                    <a:pt x="120" y="35"/>
                  </a:lnTo>
                  <a:lnTo>
                    <a:pt x="119" y="38"/>
                  </a:lnTo>
                  <a:lnTo>
                    <a:pt x="116" y="38"/>
                  </a:lnTo>
                  <a:lnTo>
                    <a:pt x="113" y="36"/>
                  </a:lnTo>
                  <a:lnTo>
                    <a:pt x="111" y="35"/>
                  </a:lnTo>
                  <a:lnTo>
                    <a:pt x="109" y="35"/>
                  </a:lnTo>
                  <a:lnTo>
                    <a:pt x="95" y="39"/>
                  </a:lnTo>
                  <a:lnTo>
                    <a:pt x="92" y="39"/>
                  </a:lnTo>
                  <a:lnTo>
                    <a:pt x="90" y="38"/>
                  </a:lnTo>
                  <a:lnTo>
                    <a:pt x="85" y="36"/>
                  </a:lnTo>
                  <a:lnTo>
                    <a:pt x="82" y="38"/>
                  </a:lnTo>
                  <a:lnTo>
                    <a:pt x="76" y="41"/>
                  </a:lnTo>
                  <a:lnTo>
                    <a:pt x="72" y="39"/>
                  </a:lnTo>
                  <a:lnTo>
                    <a:pt x="66" y="36"/>
                  </a:lnTo>
                  <a:lnTo>
                    <a:pt x="60" y="33"/>
                  </a:lnTo>
                  <a:lnTo>
                    <a:pt x="59" y="35"/>
                  </a:lnTo>
                  <a:lnTo>
                    <a:pt x="57" y="36"/>
                  </a:lnTo>
                  <a:lnTo>
                    <a:pt x="55" y="39"/>
                  </a:lnTo>
                  <a:lnTo>
                    <a:pt x="53" y="39"/>
                  </a:lnTo>
                  <a:lnTo>
                    <a:pt x="47" y="36"/>
                  </a:lnTo>
                  <a:lnTo>
                    <a:pt x="44" y="32"/>
                  </a:lnTo>
                  <a:lnTo>
                    <a:pt x="41" y="27"/>
                  </a:lnTo>
                  <a:lnTo>
                    <a:pt x="38" y="22"/>
                  </a:lnTo>
                  <a:lnTo>
                    <a:pt x="37" y="22"/>
                  </a:lnTo>
                  <a:lnTo>
                    <a:pt x="36" y="20"/>
                  </a:lnTo>
                  <a:lnTo>
                    <a:pt x="34" y="20"/>
                  </a:lnTo>
                  <a:lnTo>
                    <a:pt x="33" y="20"/>
                  </a:lnTo>
                  <a:lnTo>
                    <a:pt x="31" y="30"/>
                  </a:lnTo>
                  <a:lnTo>
                    <a:pt x="30" y="41"/>
                  </a:lnTo>
                  <a:lnTo>
                    <a:pt x="27" y="49"/>
                  </a:lnTo>
                  <a:lnTo>
                    <a:pt x="21" y="58"/>
                  </a:lnTo>
                  <a:lnTo>
                    <a:pt x="17" y="67"/>
                  </a:lnTo>
                  <a:lnTo>
                    <a:pt x="11" y="74"/>
                  </a:lnTo>
                  <a:lnTo>
                    <a:pt x="5" y="83"/>
                  </a:lnTo>
                  <a:lnTo>
                    <a:pt x="0" y="90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0" y="103"/>
                  </a:lnTo>
                  <a:lnTo>
                    <a:pt x="5" y="105"/>
                  </a:lnTo>
                  <a:lnTo>
                    <a:pt x="15" y="106"/>
                  </a:lnTo>
                  <a:lnTo>
                    <a:pt x="28" y="108"/>
                  </a:lnTo>
                  <a:lnTo>
                    <a:pt x="38" y="106"/>
                  </a:lnTo>
                  <a:lnTo>
                    <a:pt x="47" y="99"/>
                  </a:lnTo>
                  <a:lnTo>
                    <a:pt x="50" y="96"/>
                  </a:lnTo>
                  <a:lnTo>
                    <a:pt x="53" y="92"/>
                  </a:lnTo>
                  <a:lnTo>
                    <a:pt x="55" y="87"/>
                  </a:lnTo>
                  <a:lnTo>
                    <a:pt x="56" y="84"/>
                  </a:lnTo>
                  <a:lnTo>
                    <a:pt x="60" y="80"/>
                  </a:lnTo>
                  <a:lnTo>
                    <a:pt x="63" y="76"/>
                  </a:lnTo>
                  <a:lnTo>
                    <a:pt x="65" y="71"/>
                  </a:lnTo>
                  <a:lnTo>
                    <a:pt x="65" y="65"/>
                  </a:lnTo>
                  <a:lnTo>
                    <a:pt x="68" y="64"/>
                  </a:lnTo>
                  <a:lnTo>
                    <a:pt x="69" y="64"/>
                  </a:lnTo>
                  <a:lnTo>
                    <a:pt x="72" y="64"/>
                  </a:lnTo>
                  <a:lnTo>
                    <a:pt x="74" y="65"/>
                  </a:lnTo>
                  <a:lnTo>
                    <a:pt x="76" y="68"/>
                  </a:lnTo>
                  <a:lnTo>
                    <a:pt x="81" y="70"/>
                  </a:lnTo>
                  <a:lnTo>
                    <a:pt x="84" y="71"/>
                  </a:lnTo>
                  <a:lnTo>
                    <a:pt x="81" y="74"/>
                  </a:lnTo>
                  <a:lnTo>
                    <a:pt x="81" y="79"/>
                  </a:lnTo>
                  <a:lnTo>
                    <a:pt x="79" y="80"/>
                  </a:lnTo>
                  <a:lnTo>
                    <a:pt x="75" y="80"/>
                  </a:lnTo>
                  <a:lnTo>
                    <a:pt x="72" y="83"/>
                  </a:lnTo>
                  <a:lnTo>
                    <a:pt x="65" y="92"/>
                  </a:lnTo>
                  <a:lnTo>
                    <a:pt x="57" y="102"/>
                  </a:lnTo>
                  <a:lnTo>
                    <a:pt x="49" y="111"/>
                  </a:lnTo>
                  <a:lnTo>
                    <a:pt x="38" y="118"/>
                  </a:lnTo>
                  <a:lnTo>
                    <a:pt x="33" y="121"/>
                  </a:lnTo>
                  <a:lnTo>
                    <a:pt x="28" y="125"/>
                  </a:lnTo>
                  <a:lnTo>
                    <a:pt x="25" y="128"/>
                  </a:lnTo>
                  <a:lnTo>
                    <a:pt x="21" y="133"/>
                  </a:lnTo>
                  <a:lnTo>
                    <a:pt x="22" y="137"/>
                  </a:lnTo>
                  <a:lnTo>
                    <a:pt x="24" y="140"/>
                  </a:lnTo>
                  <a:lnTo>
                    <a:pt x="27" y="143"/>
                  </a:lnTo>
                  <a:lnTo>
                    <a:pt x="30" y="144"/>
                  </a:lnTo>
                  <a:lnTo>
                    <a:pt x="33" y="146"/>
                  </a:lnTo>
                  <a:lnTo>
                    <a:pt x="36" y="147"/>
                  </a:lnTo>
                  <a:lnTo>
                    <a:pt x="37" y="149"/>
                  </a:lnTo>
                  <a:lnTo>
                    <a:pt x="38" y="150"/>
                  </a:lnTo>
                  <a:lnTo>
                    <a:pt x="49" y="152"/>
                  </a:lnTo>
                  <a:lnTo>
                    <a:pt x="57" y="156"/>
                  </a:lnTo>
                  <a:lnTo>
                    <a:pt x="65" y="160"/>
                  </a:lnTo>
                  <a:lnTo>
                    <a:pt x="75" y="159"/>
                  </a:lnTo>
                  <a:lnTo>
                    <a:pt x="84" y="155"/>
                  </a:lnTo>
                  <a:lnTo>
                    <a:pt x="92" y="150"/>
                  </a:lnTo>
                  <a:lnTo>
                    <a:pt x="101" y="144"/>
                  </a:lnTo>
                  <a:lnTo>
                    <a:pt x="110" y="141"/>
                  </a:lnTo>
                  <a:lnTo>
                    <a:pt x="117" y="136"/>
                  </a:lnTo>
                  <a:lnTo>
                    <a:pt x="126" y="131"/>
                  </a:lnTo>
                  <a:lnTo>
                    <a:pt x="135" y="130"/>
                  </a:lnTo>
                  <a:lnTo>
                    <a:pt x="145" y="127"/>
                  </a:lnTo>
                  <a:lnTo>
                    <a:pt x="144" y="122"/>
                  </a:lnTo>
                  <a:lnTo>
                    <a:pt x="142" y="118"/>
                  </a:lnTo>
                  <a:lnTo>
                    <a:pt x="139" y="114"/>
                  </a:lnTo>
                  <a:lnTo>
                    <a:pt x="135" y="111"/>
                  </a:lnTo>
                  <a:lnTo>
                    <a:pt x="132" y="106"/>
                  </a:lnTo>
                  <a:lnTo>
                    <a:pt x="126" y="105"/>
                  </a:lnTo>
                  <a:lnTo>
                    <a:pt x="122" y="105"/>
                  </a:lnTo>
                  <a:lnTo>
                    <a:pt x="117" y="105"/>
                  </a:lnTo>
                  <a:lnTo>
                    <a:pt x="110" y="108"/>
                  </a:lnTo>
                  <a:lnTo>
                    <a:pt x="103" y="111"/>
                  </a:lnTo>
                  <a:lnTo>
                    <a:pt x="95" y="112"/>
                  </a:lnTo>
                  <a:lnTo>
                    <a:pt x="88" y="111"/>
                  </a:lnTo>
                  <a:lnTo>
                    <a:pt x="90" y="105"/>
                  </a:lnTo>
                  <a:lnTo>
                    <a:pt x="94" y="103"/>
                  </a:lnTo>
                  <a:lnTo>
                    <a:pt x="98" y="100"/>
                  </a:lnTo>
                  <a:lnTo>
                    <a:pt x="101" y="96"/>
                  </a:lnTo>
                  <a:lnTo>
                    <a:pt x="106" y="93"/>
                  </a:lnTo>
                  <a:lnTo>
                    <a:pt x="109" y="89"/>
                  </a:lnTo>
                  <a:lnTo>
                    <a:pt x="113" y="86"/>
                  </a:lnTo>
                  <a:lnTo>
                    <a:pt x="117" y="84"/>
                  </a:lnTo>
                  <a:lnTo>
                    <a:pt x="125" y="77"/>
                  </a:lnTo>
                  <a:lnTo>
                    <a:pt x="132" y="70"/>
                  </a:lnTo>
                  <a:lnTo>
                    <a:pt x="139" y="64"/>
                  </a:lnTo>
                  <a:lnTo>
                    <a:pt x="147" y="57"/>
                  </a:lnTo>
                  <a:lnTo>
                    <a:pt x="151" y="46"/>
                  </a:lnTo>
                  <a:lnTo>
                    <a:pt x="157" y="36"/>
                  </a:lnTo>
                  <a:lnTo>
                    <a:pt x="163" y="24"/>
                  </a:lnTo>
                  <a:lnTo>
                    <a:pt x="166" y="13"/>
                  </a:lnTo>
                  <a:lnTo>
                    <a:pt x="167" y="10"/>
                  </a:lnTo>
                  <a:lnTo>
                    <a:pt x="168" y="7"/>
                  </a:lnTo>
                  <a:lnTo>
                    <a:pt x="168" y="5"/>
                  </a:lnTo>
                  <a:lnTo>
                    <a:pt x="168" y="3"/>
                  </a:lnTo>
                  <a:lnTo>
                    <a:pt x="164" y="0"/>
                  </a:lnTo>
                  <a:lnTo>
                    <a:pt x="163" y="1"/>
                  </a:lnTo>
                  <a:lnTo>
                    <a:pt x="160" y="5"/>
                  </a:lnTo>
                  <a:lnTo>
                    <a:pt x="157" y="8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286120" y="5441040"/>
              <a:ext cx="125640" cy="74880"/>
            </a:xfrm>
            <a:custGeom>
              <a:avLst/>
              <a:gdLst/>
              <a:ahLst/>
              <a:rect l="l" t="t" r="r" b="b"/>
              <a:pathLst>
                <a:path w="298" h="177">
                  <a:moveTo>
                    <a:pt x="266" y="14"/>
                  </a:moveTo>
                  <a:lnTo>
                    <a:pt x="260" y="17"/>
                  </a:lnTo>
                  <a:lnTo>
                    <a:pt x="257" y="21"/>
                  </a:lnTo>
                  <a:lnTo>
                    <a:pt x="254" y="24"/>
                  </a:lnTo>
                  <a:lnTo>
                    <a:pt x="248" y="24"/>
                  </a:lnTo>
                  <a:lnTo>
                    <a:pt x="248" y="22"/>
                  </a:lnTo>
                  <a:lnTo>
                    <a:pt x="247" y="22"/>
                  </a:lnTo>
                  <a:lnTo>
                    <a:pt x="247" y="21"/>
                  </a:lnTo>
                  <a:lnTo>
                    <a:pt x="245" y="21"/>
                  </a:lnTo>
                  <a:lnTo>
                    <a:pt x="241" y="27"/>
                  </a:lnTo>
                  <a:lnTo>
                    <a:pt x="240" y="34"/>
                  </a:lnTo>
                  <a:lnTo>
                    <a:pt x="238" y="41"/>
                  </a:lnTo>
                  <a:lnTo>
                    <a:pt x="237" y="47"/>
                  </a:lnTo>
                  <a:lnTo>
                    <a:pt x="234" y="50"/>
                  </a:lnTo>
                  <a:lnTo>
                    <a:pt x="229" y="53"/>
                  </a:lnTo>
                  <a:lnTo>
                    <a:pt x="225" y="53"/>
                  </a:lnTo>
                  <a:lnTo>
                    <a:pt x="221" y="52"/>
                  </a:lnTo>
                  <a:lnTo>
                    <a:pt x="218" y="50"/>
                  </a:lnTo>
                  <a:lnTo>
                    <a:pt x="216" y="47"/>
                  </a:lnTo>
                  <a:lnTo>
                    <a:pt x="213" y="47"/>
                  </a:lnTo>
                  <a:lnTo>
                    <a:pt x="210" y="47"/>
                  </a:lnTo>
                  <a:lnTo>
                    <a:pt x="209" y="53"/>
                  </a:lnTo>
                  <a:lnTo>
                    <a:pt x="209" y="57"/>
                  </a:lnTo>
                  <a:lnTo>
                    <a:pt x="206" y="62"/>
                  </a:lnTo>
                  <a:lnTo>
                    <a:pt x="202" y="65"/>
                  </a:lnTo>
                  <a:lnTo>
                    <a:pt x="199" y="63"/>
                  </a:lnTo>
                  <a:lnTo>
                    <a:pt x="197" y="60"/>
                  </a:lnTo>
                  <a:lnTo>
                    <a:pt x="196" y="57"/>
                  </a:lnTo>
                  <a:lnTo>
                    <a:pt x="194" y="54"/>
                  </a:lnTo>
                  <a:lnTo>
                    <a:pt x="193" y="52"/>
                  </a:lnTo>
                  <a:lnTo>
                    <a:pt x="190" y="49"/>
                  </a:lnTo>
                  <a:lnTo>
                    <a:pt x="188" y="47"/>
                  </a:lnTo>
                  <a:lnTo>
                    <a:pt x="184" y="46"/>
                  </a:lnTo>
                  <a:lnTo>
                    <a:pt x="181" y="47"/>
                  </a:lnTo>
                  <a:lnTo>
                    <a:pt x="177" y="47"/>
                  </a:lnTo>
                  <a:lnTo>
                    <a:pt x="174" y="47"/>
                  </a:lnTo>
                  <a:lnTo>
                    <a:pt x="171" y="44"/>
                  </a:lnTo>
                  <a:lnTo>
                    <a:pt x="169" y="46"/>
                  </a:lnTo>
                  <a:lnTo>
                    <a:pt x="167" y="46"/>
                  </a:lnTo>
                  <a:lnTo>
                    <a:pt x="165" y="46"/>
                  </a:lnTo>
                  <a:lnTo>
                    <a:pt x="162" y="44"/>
                  </a:lnTo>
                  <a:lnTo>
                    <a:pt x="162" y="44"/>
                  </a:lnTo>
                  <a:lnTo>
                    <a:pt x="161" y="44"/>
                  </a:lnTo>
                  <a:lnTo>
                    <a:pt x="161" y="44"/>
                  </a:lnTo>
                  <a:lnTo>
                    <a:pt x="159" y="46"/>
                  </a:lnTo>
                  <a:lnTo>
                    <a:pt x="158" y="49"/>
                  </a:lnTo>
                  <a:lnTo>
                    <a:pt x="158" y="52"/>
                  </a:lnTo>
                  <a:lnTo>
                    <a:pt x="156" y="54"/>
                  </a:lnTo>
                  <a:lnTo>
                    <a:pt x="153" y="57"/>
                  </a:lnTo>
                  <a:lnTo>
                    <a:pt x="151" y="57"/>
                  </a:lnTo>
                  <a:lnTo>
                    <a:pt x="149" y="60"/>
                  </a:lnTo>
                  <a:lnTo>
                    <a:pt x="149" y="63"/>
                  </a:lnTo>
                  <a:lnTo>
                    <a:pt x="148" y="65"/>
                  </a:lnTo>
                  <a:lnTo>
                    <a:pt x="145" y="68"/>
                  </a:lnTo>
                  <a:lnTo>
                    <a:pt x="143" y="69"/>
                  </a:lnTo>
                  <a:lnTo>
                    <a:pt x="140" y="71"/>
                  </a:lnTo>
                  <a:lnTo>
                    <a:pt x="137" y="71"/>
                  </a:lnTo>
                  <a:lnTo>
                    <a:pt x="136" y="69"/>
                  </a:lnTo>
                  <a:lnTo>
                    <a:pt x="134" y="68"/>
                  </a:lnTo>
                  <a:lnTo>
                    <a:pt x="132" y="68"/>
                  </a:lnTo>
                  <a:lnTo>
                    <a:pt x="130" y="69"/>
                  </a:lnTo>
                  <a:lnTo>
                    <a:pt x="129" y="71"/>
                  </a:lnTo>
                  <a:lnTo>
                    <a:pt x="126" y="71"/>
                  </a:lnTo>
                  <a:lnTo>
                    <a:pt x="124" y="71"/>
                  </a:lnTo>
                  <a:lnTo>
                    <a:pt x="121" y="71"/>
                  </a:lnTo>
                  <a:lnTo>
                    <a:pt x="118" y="69"/>
                  </a:lnTo>
                  <a:lnTo>
                    <a:pt x="117" y="66"/>
                  </a:lnTo>
                  <a:lnTo>
                    <a:pt x="114" y="65"/>
                  </a:lnTo>
                  <a:lnTo>
                    <a:pt x="111" y="65"/>
                  </a:lnTo>
                  <a:lnTo>
                    <a:pt x="105" y="98"/>
                  </a:lnTo>
                  <a:lnTo>
                    <a:pt x="102" y="101"/>
                  </a:lnTo>
                  <a:lnTo>
                    <a:pt x="99" y="103"/>
                  </a:lnTo>
                  <a:lnTo>
                    <a:pt x="96" y="103"/>
                  </a:lnTo>
                  <a:lnTo>
                    <a:pt x="95" y="107"/>
                  </a:lnTo>
                  <a:lnTo>
                    <a:pt x="92" y="107"/>
                  </a:lnTo>
                  <a:lnTo>
                    <a:pt x="89" y="106"/>
                  </a:lnTo>
                  <a:lnTo>
                    <a:pt x="88" y="103"/>
                  </a:lnTo>
                  <a:lnTo>
                    <a:pt x="88" y="101"/>
                  </a:lnTo>
                  <a:lnTo>
                    <a:pt x="86" y="92"/>
                  </a:lnTo>
                  <a:lnTo>
                    <a:pt x="82" y="84"/>
                  </a:lnTo>
                  <a:lnTo>
                    <a:pt x="77" y="76"/>
                  </a:lnTo>
                  <a:lnTo>
                    <a:pt x="72" y="69"/>
                  </a:lnTo>
                  <a:lnTo>
                    <a:pt x="70" y="71"/>
                  </a:lnTo>
                  <a:lnTo>
                    <a:pt x="69" y="75"/>
                  </a:lnTo>
                  <a:lnTo>
                    <a:pt x="66" y="81"/>
                  </a:lnTo>
                  <a:lnTo>
                    <a:pt x="64" y="85"/>
                  </a:lnTo>
                  <a:lnTo>
                    <a:pt x="66" y="91"/>
                  </a:lnTo>
                  <a:lnTo>
                    <a:pt x="64" y="92"/>
                  </a:lnTo>
                  <a:lnTo>
                    <a:pt x="63" y="95"/>
                  </a:lnTo>
                  <a:lnTo>
                    <a:pt x="61" y="95"/>
                  </a:lnTo>
                  <a:lnTo>
                    <a:pt x="59" y="95"/>
                  </a:lnTo>
                  <a:lnTo>
                    <a:pt x="54" y="92"/>
                  </a:lnTo>
                  <a:lnTo>
                    <a:pt x="50" y="87"/>
                  </a:lnTo>
                  <a:lnTo>
                    <a:pt x="45" y="81"/>
                  </a:lnTo>
                  <a:lnTo>
                    <a:pt x="41" y="76"/>
                  </a:lnTo>
                  <a:lnTo>
                    <a:pt x="40" y="73"/>
                  </a:lnTo>
                  <a:lnTo>
                    <a:pt x="38" y="69"/>
                  </a:lnTo>
                  <a:lnTo>
                    <a:pt x="35" y="66"/>
                  </a:lnTo>
                  <a:lnTo>
                    <a:pt x="32" y="63"/>
                  </a:lnTo>
                  <a:lnTo>
                    <a:pt x="12" y="63"/>
                  </a:lnTo>
                  <a:lnTo>
                    <a:pt x="9" y="60"/>
                  </a:lnTo>
                  <a:lnTo>
                    <a:pt x="7" y="57"/>
                  </a:lnTo>
                  <a:lnTo>
                    <a:pt x="4" y="54"/>
                  </a:lnTo>
                  <a:lnTo>
                    <a:pt x="2" y="52"/>
                  </a:lnTo>
                  <a:lnTo>
                    <a:pt x="2" y="60"/>
                  </a:lnTo>
                  <a:lnTo>
                    <a:pt x="3" y="69"/>
                  </a:lnTo>
                  <a:lnTo>
                    <a:pt x="6" y="78"/>
                  </a:lnTo>
                  <a:lnTo>
                    <a:pt x="7" y="85"/>
                  </a:lnTo>
                  <a:lnTo>
                    <a:pt x="9" y="88"/>
                  </a:lnTo>
                  <a:lnTo>
                    <a:pt x="7" y="90"/>
                  </a:lnTo>
                  <a:lnTo>
                    <a:pt x="7" y="92"/>
                  </a:lnTo>
                  <a:lnTo>
                    <a:pt x="9" y="94"/>
                  </a:lnTo>
                  <a:lnTo>
                    <a:pt x="9" y="95"/>
                  </a:lnTo>
                  <a:lnTo>
                    <a:pt x="9" y="95"/>
                  </a:lnTo>
                  <a:lnTo>
                    <a:pt x="10" y="97"/>
                  </a:lnTo>
                  <a:lnTo>
                    <a:pt x="12" y="98"/>
                  </a:lnTo>
                  <a:lnTo>
                    <a:pt x="12" y="104"/>
                  </a:lnTo>
                  <a:lnTo>
                    <a:pt x="13" y="110"/>
                  </a:lnTo>
                  <a:lnTo>
                    <a:pt x="16" y="116"/>
                  </a:lnTo>
                  <a:lnTo>
                    <a:pt x="19" y="122"/>
                  </a:lnTo>
                  <a:lnTo>
                    <a:pt x="21" y="123"/>
                  </a:lnTo>
                  <a:lnTo>
                    <a:pt x="22" y="125"/>
                  </a:lnTo>
                  <a:lnTo>
                    <a:pt x="23" y="125"/>
                  </a:lnTo>
                  <a:lnTo>
                    <a:pt x="25" y="125"/>
                  </a:lnTo>
                  <a:lnTo>
                    <a:pt x="32" y="130"/>
                  </a:lnTo>
                  <a:lnTo>
                    <a:pt x="40" y="136"/>
                  </a:lnTo>
                  <a:lnTo>
                    <a:pt x="47" y="141"/>
                  </a:lnTo>
                  <a:lnTo>
                    <a:pt x="56" y="144"/>
                  </a:lnTo>
                  <a:lnTo>
                    <a:pt x="57" y="145"/>
                  </a:lnTo>
                  <a:lnTo>
                    <a:pt x="59" y="147"/>
                  </a:lnTo>
                  <a:lnTo>
                    <a:pt x="59" y="148"/>
                  </a:lnTo>
                  <a:lnTo>
                    <a:pt x="59" y="149"/>
                  </a:lnTo>
                  <a:lnTo>
                    <a:pt x="56" y="151"/>
                  </a:lnTo>
                  <a:lnTo>
                    <a:pt x="54" y="152"/>
                  </a:lnTo>
                  <a:lnTo>
                    <a:pt x="51" y="152"/>
                  </a:lnTo>
                  <a:lnTo>
                    <a:pt x="48" y="152"/>
                  </a:lnTo>
                  <a:lnTo>
                    <a:pt x="44" y="149"/>
                  </a:lnTo>
                  <a:lnTo>
                    <a:pt x="40" y="145"/>
                  </a:lnTo>
                  <a:lnTo>
                    <a:pt x="35" y="142"/>
                  </a:lnTo>
                  <a:lnTo>
                    <a:pt x="31" y="139"/>
                  </a:lnTo>
                  <a:lnTo>
                    <a:pt x="22" y="139"/>
                  </a:lnTo>
                  <a:lnTo>
                    <a:pt x="13" y="139"/>
                  </a:lnTo>
                  <a:lnTo>
                    <a:pt x="6" y="141"/>
                  </a:lnTo>
                  <a:lnTo>
                    <a:pt x="0" y="148"/>
                  </a:lnTo>
                  <a:lnTo>
                    <a:pt x="2" y="154"/>
                  </a:lnTo>
                  <a:lnTo>
                    <a:pt x="4" y="157"/>
                  </a:lnTo>
                  <a:lnTo>
                    <a:pt x="7" y="161"/>
                  </a:lnTo>
                  <a:lnTo>
                    <a:pt x="10" y="166"/>
                  </a:lnTo>
                  <a:lnTo>
                    <a:pt x="19" y="170"/>
                  </a:lnTo>
                  <a:lnTo>
                    <a:pt x="28" y="173"/>
                  </a:lnTo>
                  <a:lnTo>
                    <a:pt x="38" y="174"/>
                  </a:lnTo>
                  <a:lnTo>
                    <a:pt x="47" y="176"/>
                  </a:lnTo>
                  <a:lnTo>
                    <a:pt x="54" y="177"/>
                  </a:lnTo>
                  <a:lnTo>
                    <a:pt x="60" y="177"/>
                  </a:lnTo>
                  <a:lnTo>
                    <a:pt x="67" y="177"/>
                  </a:lnTo>
                  <a:lnTo>
                    <a:pt x="75" y="177"/>
                  </a:lnTo>
                  <a:lnTo>
                    <a:pt x="82" y="176"/>
                  </a:lnTo>
                  <a:lnTo>
                    <a:pt x="88" y="176"/>
                  </a:lnTo>
                  <a:lnTo>
                    <a:pt x="95" y="174"/>
                  </a:lnTo>
                  <a:lnTo>
                    <a:pt x="101" y="173"/>
                  </a:lnTo>
                  <a:lnTo>
                    <a:pt x="118" y="166"/>
                  </a:lnTo>
                  <a:lnTo>
                    <a:pt x="124" y="163"/>
                  </a:lnTo>
                  <a:lnTo>
                    <a:pt x="132" y="160"/>
                  </a:lnTo>
                  <a:lnTo>
                    <a:pt x="137" y="158"/>
                  </a:lnTo>
                  <a:lnTo>
                    <a:pt x="143" y="155"/>
                  </a:lnTo>
                  <a:lnTo>
                    <a:pt x="148" y="151"/>
                  </a:lnTo>
                  <a:lnTo>
                    <a:pt x="148" y="144"/>
                  </a:lnTo>
                  <a:lnTo>
                    <a:pt x="146" y="138"/>
                  </a:lnTo>
                  <a:lnTo>
                    <a:pt x="145" y="133"/>
                  </a:lnTo>
                  <a:lnTo>
                    <a:pt x="143" y="125"/>
                  </a:lnTo>
                  <a:lnTo>
                    <a:pt x="140" y="116"/>
                  </a:lnTo>
                  <a:lnTo>
                    <a:pt x="137" y="107"/>
                  </a:lnTo>
                  <a:lnTo>
                    <a:pt x="132" y="100"/>
                  </a:lnTo>
                  <a:lnTo>
                    <a:pt x="132" y="98"/>
                  </a:lnTo>
                  <a:lnTo>
                    <a:pt x="132" y="97"/>
                  </a:lnTo>
                  <a:lnTo>
                    <a:pt x="133" y="95"/>
                  </a:lnTo>
                  <a:lnTo>
                    <a:pt x="134" y="94"/>
                  </a:lnTo>
                  <a:lnTo>
                    <a:pt x="140" y="95"/>
                  </a:lnTo>
                  <a:lnTo>
                    <a:pt x="143" y="98"/>
                  </a:lnTo>
                  <a:lnTo>
                    <a:pt x="146" y="103"/>
                  </a:lnTo>
                  <a:lnTo>
                    <a:pt x="148" y="107"/>
                  </a:lnTo>
                  <a:lnTo>
                    <a:pt x="151" y="117"/>
                  </a:lnTo>
                  <a:lnTo>
                    <a:pt x="153" y="129"/>
                  </a:lnTo>
                  <a:lnTo>
                    <a:pt x="155" y="139"/>
                  </a:lnTo>
                  <a:lnTo>
                    <a:pt x="156" y="151"/>
                  </a:lnTo>
                  <a:lnTo>
                    <a:pt x="155" y="154"/>
                  </a:lnTo>
                  <a:lnTo>
                    <a:pt x="156" y="157"/>
                  </a:lnTo>
                  <a:lnTo>
                    <a:pt x="159" y="158"/>
                  </a:lnTo>
                  <a:lnTo>
                    <a:pt x="161" y="161"/>
                  </a:lnTo>
                  <a:lnTo>
                    <a:pt x="165" y="166"/>
                  </a:lnTo>
                  <a:lnTo>
                    <a:pt x="171" y="166"/>
                  </a:lnTo>
                  <a:lnTo>
                    <a:pt x="177" y="166"/>
                  </a:lnTo>
                  <a:lnTo>
                    <a:pt x="183" y="166"/>
                  </a:lnTo>
                  <a:lnTo>
                    <a:pt x="188" y="164"/>
                  </a:lnTo>
                  <a:lnTo>
                    <a:pt x="194" y="164"/>
                  </a:lnTo>
                  <a:lnTo>
                    <a:pt x="199" y="163"/>
                  </a:lnTo>
                  <a:lnTo>
                    <a:pt x="205" y="161"/>
                  </a:lnTo>
                  <a:lnTo>
                    <a:pt x="209" y="158"/>
                  </a:lnTo>
                  <a:lnTo>
                    <a:pt x="216" y="158"/>
                  </a:lnTo>
                  <a:lnTo>
                    <a:pt x="224" y="158"/>
                  </a:lnTo>
                  <a:lnTo>
                    <a:pt x="231" y="157"/>
                  </a:lnTo>
                  <a:lnTo>
                    <a:pt x="235" y="152"/>
                  </a:lnTo>
                  <a:lnTo>
                    <a:pt x="235" y="135"/>
                  </a:lnTo>
                  <a:lnTo>
                    <a:pt x="232" y="119"/>
                  </a:lnTo>
                  <a:lnTo>
                    <a:pt x="228" y="103"/>
                  </a:lnTo>
                  <a:lnTo>
                    <a:pt x="225" y="87"/>
                  </a:lnTo>
                  <a:lnTo>
                    <a:pt x="226" y="85"/>
                  </a:lnTo>
                  <a:lnTo>
                    <a:pt x="228" y="84"/>
                  </a:lnTo>
                  <a:lnTo>
                    <a:pt x="231" y="82"/>
                  </a:lnTo>
                  <a:lnTo>
                    <a:pt x="232" y="82"/>
                  </a:lnTo>
                  <a:lnTo>
                    <a:pt x="235" y="85"/>
                  </a:lnTo>
                  <a:lnTo>
                    <a:pt x="237" y="95"/>
                  </a:lnTo>
                  <a:lnTo>
                    <a:pt x="238" y="104"/>
                  </a:lnTo>
                  <a:lnTo>
                    <a:pt x="240" y="113"/>
                  </a:lnTo>
                  <a:lnTo>
                    <a:pt x="244" y="122"/>
                  </a:lnTo>
                  <a:lnTo>
                    <a:pt x="253" y="119"/>
                  </a:lnTo>
                  <a:lnTo>
                    <a:pt x="262" y="114"/>
                  </a:lnTo>
                  <a:lnTo>
                    <a:pt x="270" y="109"/>
                  </a:lnTo>
                  <a:lnTo>
                    <a:pt x="278" y="101"/>
                  </a:lnTo>
                  <a:lnTo>
                    <a:pt x="279" y="100"/>
                  </a:lnTo>
                  <a:lnTo>
                    <a:pt x="282" y="98"/>
                  </a:lnTo>
                  <a:lnTo>
                    <a:pt x="283" y="95"/>
                  </a:lnTo>
                  <a:lnTo>
                    <a:pt x="283" y="94"/>
                  </a:lnTo>
                  <a:lnTo>
                    <a:pt x="282" y="84"/>
                  </a:lnTo>
                  <a:lnTo>
                    <a:pt x="278" y="73"/>
                  </a:lnTo>
                  <a:lnTo>
                    <a:pt x="273" y="63"/>
                  </a:lnTo>
                  <a:lnTo>
                    <a:pt x="269" y="53"/>
                  </a:lnTo>
                  <a:lnTo>
                    <a:pt x="267" y="52"/>
                  </a:lnTo>
                  <a:lnTo>
                    <a:pt x="267" y="52"/>
                  </a:lnTo>
                  <a:lnTo>
                    <a:pt x="266" y="52"/>
                  </a:lnTo>
                  <a:lnTo>
                    <a:pt x="264" y="50"/>
                  </a:lnTo>
                  <a:lnTo>
                    <a:pt x="263" y="47"/>
                  </a:lnTo>
                  <a:lnTo>
                    <a:pt x="263" y="44"/>
                  </a:lnTo>
                  <a:lnTo>
                    <a:pt x="263" y="43"/>
                  </a:lnTo>
                  <a:lnTo>
                    <a:pt x="262" y="40"/>
                  </a:lnTo>
                  <a:lnTo>
                    <a:pt x="263" y="37"/>
                  </a:lnTo>
                  <a:lnTo>
                    <a:pt x="266" y="34"/>
                  </a:lnTo>
                  <a:lnTo>
                    <a:pt x="269" y="33"/>
                  </a:lnTo>
                  <a:lnTo>
                    <a:pt x="272" y="34"/>
                  </a:lnTo>
                  <a:lnTo>
                    <a:pt x="272" y="37"/>
                  </a:lnTo>
                  <a:lnTo>
                    <a:pt x="273" y="38"/>
                  </a:lnTo>
                  <a:lnTo>
                    <a:pt x="273" y="41"/>
                  </a:lnTo>
                  <a:lnTo>
                    <a:pt x="275" y="44"/>
                  </a:lnTo>
                  <a:lnTo>
                    <a:pt x="276" y="47"/>
                  </a:lnTo>
                  <a:lnTo>
                    <a:pt x="279" y="52"/>
                  </a:lnTo>
                  <a:lnTo>
                    <a:pt x="282" y="54"/>
                  </a:lnTo>
                  <a:lnTo>
                    <a:pt x="286" y="54"/>
                  </a:lnTo>
                  <a:lnTo>
                    <a:pt x="289" y="54"/>
                  </a:lnTo>
                  <a:lnTo>
                    <a:pt x="294" y="52"/>
                  </a:lnTo>
                  <a:lnTo>
                    <a:pt x="297" y="50"/>
                  </a:lnTo>
                  <a:lnTo>
                    <a:pt x="298" y="46"/>
                  </a:lnTo>
                  <a:lnTo>
                    <a:pt x="295" y="27"/>
                  </a:lnTo>
                  <a:lnTo>
                    <a:pt x="292" y="0"/>
                  </a:lnTo>
                  <a:lnTo>
                    <a:pt x="286" y="6"/>
                  </a:lnTo>
                  <a:lnTo>
                    <a:pt x="280" y="9"/>
                  </a:lnTo>
                  <a:lnTo>
                    <a:pt x="273" y="12"/>
                  </a:lnTo>
                  <a:lnTo>
                    <a:pt x="266" y="1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7245360" y="4457880"/>
            <a:ext cx="704880" cy="685800"/>
            <a:chOff x="7245360" y="4457880"/>
            <a:chExt cx="704880" cy="685800"/>
          </a:xfrm>
        </p:grpSpPr>
        <p:sp>
          <p:nvSpPr>
            <p:cNvPr id="323" name=""/>
            <p:cNvSpPr/>
            <p:nvPr/>
          </p:nvSpPr>
          <p:spPr>
            <a:xfrm flipH="1">
              <a:off x="7245360" y="4457880"/>
              <a:ext cx="704880" cy="685800"/>
            </a:xfrm>
            <a:prstGeom prst="leftArrow">
              <a:avLst>
                <a:gd name="adj1" fmla="val 50472"/>
                <a:gd name="adj2" fmla="val 27313"/>
              </a:avLst>
            </a:pr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7273080" y="46166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780080" y="4503600"/>
            <a:ext cx="904680" cy="874440"/>
            <a:chOff x="4780080" y="4503600"/>
            <a:chExt cx="904680" cy="874440"/>
          </a:xfrm>
        </p:grpSpPr>
        <p:sp>
          <p:nvSpPr>
            <p:cNvPr id="326" name=""/>
            <p:cNvSpPr/>
            <p:nvPr/>
          </p:nvSpPr>
          <p:spPr>
            <a:xfrm>
              <a:off x="5359680" y="4503600"/>
              <a:ext cx="196920" cy="342360"/>
            </a:xfrm>
            <a:custGeom>
              <a:avLst/>
              <a:gdLst/>
              <a:ahLst/>
              <a:rect l="l" t="t" r="r" b="b"/>
              <a:pathLst>
                <a:path w="581" h="1011">
                  <a:moveTo>
                    <a:pt x="126" y="1011"/>
                  </a:moveTo>
                  <a:lnTo>
                    <a:pt x="128" y="985"/>
                  </a:lnTo>
                  <a:lnTo>
                    <a:pt x="126" y="923"/>
                  </a:lnTo>
                  <a:lnTo>
                    <a:pt x="119" y="853"/>
                  </a:lnTo>
                  <a:lnTo>
                    <a:pt x="100" y="804"/>
                  </a:lnTo>
                  <a:lnTo>
                    <a:pt x="101" y="801"/>
                  </a:lnTo>
                  <a:lnTo>
                    <a:pt x="108" y="797"/>
                  </a:lnTo>
                  <a:lnTo>
                    <a:pt x="118" y="790"/>
                  </a:lnTo>
                  <a:lnTo>
                    <a:pt x="132" y="782"/>
                  </a:lnTo>
                  <a:lnTo>
                    <a:pt x="149" y="776"/>
                  </a:lnTo>
                  <a:lnTo>
                    <a:pt x="171" y="773"/>
                  </a:lnTo>
                  <a:lnTo>
                    <a:pt x="198" y="776"/>
                  </a:lnTo>
                  <a:lnTo>
                    <a:pt x="227" y="785"/>
                  </a:lnTo>
                  <a:lnTo>
                    <a:pt x="224" y="778"/>
                  </a:lnTo>
                  <a:lnTo>
                    <a:pt x="220" y="758"/>
                  </a:lnTo>
                  <a:lnTo>
                    <a:pt x="213" y="729"/>
                  </a:lnTo>
                  <a:lnTo>
                    <a:pt x="210" y="694"/>
                  </a:lnTo>
                  <a:lnTo>
                    <a:pt x="210" y="653"/>
                  </a:lnTo>
                  <a:lnTo>
                    <a:pt x="219" y="611"/>
                  </a:lnTo>
                  <a:lnTo>
                    <a:pt x="236" y="571"/>
                  </a:lnTo>
                  <a:lnTo>
                    <a:pt x="265" y="533"/>
                  </a:lnTo>
                  <a:lnTo>
                    <a:pt x="76" y="373"/>
                  </a:lnTo>
                  <a:lnTo>
                    <a:pt x="70" y="378"/>
                  </a:lnTo>
                  <a:lnTo>
                    <a:pt x="65" y="379"/>
                  </a:lnTo>
                  <a:lnTo>
                    <a:pt x="58" y="382"/>
                  </a:lnTo>
                  <a:lnTo>
                    <a:pt x="51" y="382"/>
                  </a:lnTo>
                  <a:lnTo>
                    <a:pt x="41" y="380"/>
                  </a:lnTo>
                  <a:lnTo>
                    <a:pt x="31" y="378"/>
                  </a:lnTo>
                  <a:lnTo>
                    <a:pt x="23" y="373"/>
                  </a:lnTo>
                  <a:lnTo>
                    <a:pt x="16" y="366"/>
                  </a:lnTo>
                  <a:lnTo>
                    <a:pt x="9" y="359"/>
                  </a:lnTo>
                  <a:lnTo>
                    <a:pt x="5" y="351"/>
                  </a:lnTo>
                  <a:lnTo>
                    <a:pt x="2" y="341"/>
                  </a:lnTo>
                  <a:lnTo>
                    <a:pt x="0" y="331"/>
                  </a:lnTo>
                  <a:lnTo>
                    <a:pt x="2" y="322"/>
                  </a:lnTo>
                  <a:lnTo>
                    <a:pt x="5" y="312"/>
                  </a:lnTo>
                  <a:lnTo>
                    <a:pt x="9" y="303"/>
                  </a:lnTo>
                  <a:lnTo>
                    <a:pt x="16" y="296"/>
                  </a:lnTo>
                  <a:lnTo>
                    <a:pt x="23" y="291"/>
                  </a:lnTo>
                  <a:lnTo>
                    <a:pt x="31" y="287"/>
                  </a:lnTo>
                  <a:lnTo>
                    <a:pt x="41" y="285"/>
                  </a:lnTo>
                  <a:lnTo>
                    <a:pt x="51" y="284"/>
                  </a:lnTo>
                  <a:lnTo>
                    <a:pt x="61" y="285"/>
                  </a:lnTo>
                  <a:lnTo>
                    <a:pt x="69" y="287"/>
                  </a:lnTo>
                  <a:lnTo>
                    <a:pt x="77" y="291"/>
                  </a:lnTo>
                  <a:lnTo>
                    <a:pt x="84" y="296"/>
                  </a:lnTo>
                  <a:lnTo>
                    <a:pt x="90" y="303"/>
                  </a:lnTo>
                  <a:lnTo>
                    <a:pt x="94" y="310"/>
                  </a:lnTo>
                  <a:lnTo>
                    <a:pt x="97" y="319"/>
                  </a:lnTo>
                  <a:lnTo>
                    <a:pt x="98" y="327"/>
                  </a:lnTo>
                  <a:lnTo>
                    <a:pt x="251" y="403"/>
                  </a:lnTo>
                  <a:lnTo>
                    <a:pt x="170" y="110"/>
                  </a:lnTo>
                  <a:lnTo>
                    <a:pt x="160" y="109"/>
                  </a:lnTo>
                  <a:lnTo>
                    <a:pt x="152" y="105"/>
                  </a:lnTo>
                  <a:lnTo>
                    <a:pt x="143" y="99"/>
                  </a:lnTo>
                  <a:lnTo>
                    <a:pt x="136" y="94"/>
                  </a:lnTo>
                  <a:lnTo>
                    <a:pt x="131" y="85"/>
                  </a:lnTo>
                  <a:lnTo>
                    <a:pt x="126" y="77"/>
                  </a:lnTo>
                  <a:lnTo>
                    <a:pt x="124" y="67"/>
                  </a:lnTo>
                  <a:lnTo>
                    <a:pt x="122" y="57"/>
                  </a:lnTo>
                  <a:lnTo>
                    <a:pt x="124" y="46"/>
                  </a:lnTo>
                  <a:lnTo>
                    <a:pt x="126" y="35"/>
                  </a:lnTo>
                  <a:lnTo>
                    <a:pt x="132" y="25"/>
                  </a:lnTo>
                  <a:lnTo>
                    <a:pt x="139" y="17"/>
                  </a:lnTo>
                  <a:lnTo>
                    <a:pt x="147" y="10"/>
                  </a:lnTo>
                  <a:lnTo>
                    <a:pt x="157" y="4"/>
                  </a:lnTo>
                  <a:lnTo>
                    <a:pt x="168" y="1"/>
                  </a:lnTo>
                  <a:lnTo>
                    <a:pt x="180" y="0"/>
                  </a:lnTo>
                  <a:lnTo>
                    <a:pt x="191" y="1"/>
                  </a:lnTo>
                  <a:lnTo>
                    <a:pt x="201" y="4"/>
                  </a:lnTo>
                  <a:lnTo>
                    <a:pt x="210" y="10"/>
                  </a:lnTo>
                  <a:lnTo>
                    <a:pt x="219" y="17"/>
                  </a:lnTo>
                  <a:lnTo>
                    <a:pt x="226" y="25"/>
                  </a:lnTo>
                  <a:lnTo>
                    <a:pt x="231" y="35"/>
                  </a:lnTo>
                  <a:lnTo>
                    <a:pt x="234" y="46"/>
                  </a:lnTo>
                  <a:lnTo>
                    <a:pt x="236" y="57"/>
                  </a:lnTo>
                  <a:lnTo>
                    <a:pt x="234" y="69"/>
                  </a:lnTo>
                  <a:lnTo>
                    <a:pt x="230" y="80"/>
                  </a:lnTo>
                  <a:lnTo>
                    <a:pt x="223" y="91"/>
                  </a:lnTo>
                  <a:lnTo>
                    <a:pt x="213" y="99"/>
                  </a:lnTo>
                  <a:lnTo>
                    <a:pt x="294" y="373"/>
                  </a:lnTo>
                  <a:lnTo>
                    <a:pt x="377" y="194"/>
                  </a:lnTo>
                  <a:lnTo>
                    <a:pt x="369" y="186"/>
                  </a:lnTo>
                  <a:lnTo>
                    <a:pt x="362" y="176"/>
                  </a:lnTo>
                  <a:lnTo>
                    <a:pt x="357" y="166"/>
                  </a:lnTo>
                  <a:lnTo>
                    <a:pt x="356" y="155"/>
                  </a:lnTo>
                  <a:lnTo>
                    <a:pt x="357" y="145"/>
                  </a:lnTo>
                  <a:lnTo>
                    <a:pt x="360" y="136"/>
                  </a:lnTo>
                  <a:lnTo>
                    <a:pt x="364" y="127"/>
                  </a:lnTo>
                  <a:lnTo>
                    <a:pt x="371" y="119"/>
                  </a:lnTo>
                  <a:lnTo>
                    <a:pt x="378" y="113"/>
                  </a:lnTo>
                  <a:lnTo>
                    <a:pt x="387" y="109"/>
                  </a:lnTo>
                  <a:lnTo>
                    <a:pt x="397" y="106"/>
                  </a:lnTo>
                  <a:lnTo>
                    <a:pt x="406" y="105"/>
                  </a:lnTo>
                  <a:lnTo>
                    <a:pt x="416" y="106"/>
                  </a:lnTo>
                  <a:lnTo>
                    <a:pt x="425" y="109"/>
                  </a:lnTo>
                  <a:lnTo>
                    <a:pt x="433" y="113"/>
                  </a:lnTo>
                  <a:lnTo>
                    <a:pt x="440" y="119"/>
                  </a:lnTo>
                  <a:lnTo>
                    <a:pt x="446" y="127"/>
                  </a:lnTo>
                  <a:lnTo>
                    <a:pt x="450" y="136"/>
                  </a:lnTo>
                  <a:lnTo>
                    <a:pt x="453" y="145"/>
                  </a:lnTo>
                  <a:lnTo>
                    <a:pt x="454" y="155"/>
                  </a:lnTo>
                  <a:lnTo>
                    <a:pt x="451" y="171"/>
                  </a:lnTo>
                  <a:lnTo>
                    <a:pt x="444" y="185"/>
                  </a:lnTo>
                  <a:lnTo>
                    <a:pt x="432" y="196"/>
                  </a:lnTo>
                  <a:lnTo>
                    <a:pt x="416" y="203"/>
                  </a:lnTo>
                  <a:lnTo>
                    <a:pt x="370" y="397"/>
                  </a:lnTo>
                  <a:lnTo>
                    <a:pt x="486" y="278"/>
                  </a:lnTo>
                  <a:lnTo>
                    <a:pt x="485" y="266"/>
                  </a:lnTo>
                  <a:lnTo>
                    <a:pt x="485" y="255"/>
                  </a:lnTo>
                  <a:lnTo>
                    <a:pt x="489" y="243"/>
                  </a:lnTo>
                  <a:lnTo>
                    <a:pt x="495" y="234"/>
                  </a:lnTo>
                  <a:lnTo>
                    <a:pt x="502" y="225"/>
                  </a:lnTo>
                  <a:lnTo>
                    <a:pt x="511" y="220"/>
                  </a:lnTo>
                  <a:lnTo>
                    <a:pt x="521" y="215"/>
                  </a:lnTo>
                  <a:lnTo>
                    <a:pt x="534" y="214"/>
                  </a:lnTo>
                  <a:lnTo>
                    <a:pt x="544" y="215"/>
                  </a:lnTo>
                  <a:lnTo>
                    <a:pt x="553" y="218"/>
                  </a:lnTo>
                  <a:lnTo>
                    <a:pt x="562" y="222"/>
                  </a:lnTo>
                  <a:lnTo>
                    <a:pt x="569" y="228"/>
                  </a:lnTo>
                  <a:lnTo>
                    <a:pt x="574" y="236"/>
                  </a:lnTo>
                  <a:lnTo>
                    <a:pt x="579" y="245"/>
                  </a:lnTo>
                  <a:lnTo>
                    <a:pt x="580" y="255"/>
                  </a:lnTo>
                  <a:lnTo>
                    <a:pt x="581" y="264"/>
                  </a:lnTo>
                  <a:lnTo>
                    <a:pt x="580" y="276"/>
                  </a:lnTo>
                  <a:lnTo>
                    <a:pt x="577" y="285"/>
                  </a:lnTo>
                  <a:lnTo>
                    <a:pt x="572" y="294"/>
                  </a:lnTo>
                  <a:lnTo>
                    <a:pt x="565" y="301"/>
                  </a:lnTo>
                  <a:lnTo>
                    <a:pt x="556" y="308"/>
                  </a:lnTo>
                  <a:lnTo>
                    <a:pt x="548" y="310"/>
                  </a:lnTo>
                  <a:lnTo>
                    <a:pt x="537" y="313"/>
                  </a:lnTo>
                  <a:lnTo>
                    <a:pt x="525" y="312"/>
                  </a:lnTo>
                  <a:lnTo>
                    <a:pt x="364" y="516"/>
                  </a:lnTo>
                  <a:lnTo>
                    <a:pt x="366" y="522"/>
                  </a:lnTo>
                  <a:lnTo>
                    <a:pt x="367" y="536"/>
                  </a:lnTo>
                  <a:lnTo>
                    <a:pt x="370" y="559"/>
                  </a:lnTo>
                  <a:lnTo>
                    <a:pt x="373" y="589"/>
                  </a:lnTo>
                  <a:lnTo>
                    <a:pt x="373" y="624"/>
                  </a:lnTo>
                  <a:lnTo>
                    <a:pt x="373" y="664"/>
                  </a:lnTo>
                  <a:lnTo>
                    <a:pt x="370" y="708"/>
                  </a:lnTo>
                  <a:lnTo>
                    <a:pt x="366" y="751"/>
                  </a:lnTo>
                  <a:lnTo>
                    <a:pt x="356" y="796"/>
                  </a:lnTo>
                  <a:lnTo>
                    <a:pt x="342" y="840"/>
                  </a:lnTo>
                  <a:lnTo>
                    <a:pt x="322" y="882"/>
                  </a:lnTo>
                  <a:lnTo>
                    <a:pt x="299" y="920"/>
                  </a:lnTo>
                  <a:lnTo>
                    <a:pt x="266" y="954"/>
                  </a:lnTo>
                  <a:lnTo>
                    <a:pt x="229" y="980"/>
                  </a:lnTo>
                  <a:lnTo>
                    <a:pt x="181" y="1000"/>
                  </a:lnTo>
                  <a:lnTo>
                    <a:pt x="126" y="1011"/>
                  </a:lnTo>
                  <a:lnTo>
                    <a:pt x="126" y="101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324400" y="4985280"/>
              <a:ext cx="360360" cy="389880"/>
            </a:xfrm>
            <a:custGeom>
              <a:avLst/>
              <a:gdLst/>
              <a:ahLst/>
              <a:rect l="l" t="t" r="r" b="b"/>
              <a:pathLst>
                <a:path w="1066" h="1151">
                  <a:moveTo>
                    <a:pt x="351" y="361"/>
                  </a:moveTo>
                  <a:lnTo>
                    <a:pt x="348" y="365"/>
                  </a:lnTo>
                  <a:lnTo>
                    <a:pt x="340" y="376"/>
                  </a:lnTo>
                  <a:lnTo>
                    <a:pt x="327" y="395"/>
                  </a:lnTo>
                  <a:lnTo>
                    <a:pt x="310" y="417"/>
                  </a:lnTo>
                  <a:lnTo>
                    <a:pt x="289" y="444"/>
                  </a:lnTo>
                  <a:lnTo>
                    <a:pt x="265" y="473"/>
                  </a:lnTo>
                  <a:lnTo>
                    <a:pt x="240" y="505"/>
                  </a:lnTo>
                  <a:lnTo>
                    <a:pt x="214" y="536"/>
                  </a:lnTo>
                  <a:lnTo>
                    <a:pt x="186" y="568"/>
                  </a:lnTo>
                  <a:lnTo>
                    <a:pt x="158" y="597"/>
                  </a:lnTo>
                  <a:lnTo>
                    <a:pt x="130" y="624"/>
                  </a:lnTo>
                  <a:lnTo>
                    <a:pt x="103" y="648"/>
                  </a:lnTo>
                  <a:lnTo>
                    <a:pt x="78" y="665"/>
                  </a:lnTo>
                  <a:lnTo>
                    <a:pt x="55" y="677"/>
                  </a:lnTo>
                  <a:lnTo>
                    <a:pt x="36" y="681"/>
                  </a:lnTo>
                  <a:lnTo>
                    <a:pt x="19" y="677"/>
                  </a:lnTo>
                  <a:lnTo>
                    <a:pt x="1" y="648"/>
                  </a:lnTo>
                  <a:lnTo>
                    <a:pt x="0" y="596"/>
                  </a:lnTo>
                  <a:lnTo>
                    <a:pt x="12" y="530"/>
                  </a:lnTo>
                  <a:lnTo>
                    <a:pt x="34" y="456"/>
                  </a:lnTo>
                  <a:lnTo>
                    <a:pt x="62" y="379"/>
                  </a:lnTo>
                  <a:lnTo>
                    <a:pt x="93" y="309"/>
                  </a:lnTo>
                  <a:lnTo>
                    <a:pt x="123" y="251"/>
                  </a:lnTo>
                  <a:lnTo>
                    <a:pt x="145" y="210"/>
                  </a:lnTo>
                  <a:lnTo>
                    <a:pt x="156" y="195"/>
                  </a:lnTo>
                  <a:lnTo>
                    <a:pt x="172" y="176"/>
                  </a:lnTo>
                  <a:lnTo>
                    <a:pt x="188" y="155"/>
                  </a:lnTo>
                  <a:lnTo>
                    <a:pt x="208" y="133"/>
                  </a:lnTo>
                  <a:lnTo>
                    <a:pt x="229" y="111"/>
                  </a:lnTo>
                  <a:lnTo>
                    <a:pt x="251" y="90"/>
                  </a:lnTo>
                  <a:lnTo>
                    <a:pt x="275" y="67"/>
                  </a:lnTo>
                  <a:lnTo>
                    <a:pt x="302" y="48"/>
                  </a:lnTo>
                  <a:lnTo>
                    <a:pt x="327" y="31"/>
                  </a:lnTo>
                  <a:lnTo>
                    <a:pt x="354" y="17"/>
                  </a:lnTo>
                  <a:lnTo>
                    <a:pt x="380" y="6"/>
                  </a:lnTo>
                  <a:lnTo>
                    <a:pt x="407" y="0"/>
                  </a:lnTo>
                  <a:lnTo>
                    <a:pt x="433" y="0"/>
                  </a:lnTo>
                  <a:lnTo>
                    <a:pt x="459" y="6"/>
                  </a:lnTo>
                  <a:lnTo>
                    <a:pt x="484" y="18"/>
                  </a:lnTo>
                  <a:lnTo>
                    <a:pt x="508" y="38"/>
                  </a:lnTo>
                  <a:lnTo>
                    <a:pt x="543" y="93"/>
                  </a:lnTo>
                  <a:lnTo>
                    <a:pt x="557" y="158"/>
                  </a:lnTo>
                  <a:lnTo>
                    <a:pt x="555" y="230"/>
                  </a:lnTo>
                  <a:lnTo>
                    <a:pt x="543" y="305"/>
                  </a:lnTo>
                  <a:lnTo>
                    <a:pt x="522" y="379"/>
                  </a:lnTo>
                  <a:lnTo>
                    <a:pt x="496" y="449"/>
                  </a:lnTo>
                  <a:lnTo>
                    <a:pt x="470" y="511"/>
                  </a:lnTo>
                  <a:lnTo>
                    <a:pt x="447" y="558"/>
                  </a:lnTo>
                  <a:lnTo>
                    <a:pt x="428" y="596"/>
                  </a:lnTo>
                  <a:lnTo>
                    <a:pt x="410" y="632"/>
                  </a:lnTo>
                  <a:lnTo>
                    <a:pt x="397" y="663"/>
                  </a:lnTo>
                  <a:lnTo>
                    <a:pt x="393" y="690"/>
                  </a:lnTo>
                  <a:lnTo>
                    <a:pt x="400" y="709"/>
                  </a:lnTo>
                  <a:lnTo>
                    <a:pt x="421" y="720"/>
                  </a:lnTo>
                  <a:lnTo>
                    <a:pt x="461" y="723"/>
                  </a:lnTo>
                  <a:lnTo>
                    <a:pt x="522" y="715"/>
                  </a:lnTo>
                  <a:lnTo>
                    <a:pt x="552" y="709"/>
                  </a:lnTo>
                  <a:lnTo>
                    <a:pt x="583" y="702"/>
                  </a:lnTo>
                  <a:lnTo>
                    <a:pt x="613" y="697"/>
                  </a:lnTo>
                  <a:lnTo>
                    <a:pt x="643" y="690"/>
                  </a:lnTo>
                  <a:lnTo>
                    <a:pt x="674" y="683"/>
                  </a:lnTo>
                  <a:lnTo>
                    <a:pt x="704" y="676"/>
                  </a:lnTo>
                  <a:lnTo>
                    <a:pt x="731" y="669"/>
                  </a:lnTo>
                  <a:lnTo>
                    <a:pt x="759" y="660"/>
                  </a:lnTo>
                  <a:lnTo>
                    <a:pt x="786" y="653"/>
                  </a:lnTo>
                  <a:lnTo>
                    <a:pt x="811" y="648"/>
                  </a:lnTo>
                  <a:lnTo>
                    <a:pt x="835" y="641"/>
                  </a:lnTo>
                  <a:lnTo>
                    <a:pt x="857" y="635"/>
                  </a:lnTo>
                  <a:lnTo>
                    <a:pt x="877" y="630"/>
                  </a:lnTo>
                  <a:lnTo>
                    <a:pt x="895" y="624"/>
                  </a:lnTo>
                  <a:lnTo>
                    <a:pt x="911" y="620"/>
                  </a:lnTo>
                  <a:lnTo>
                    <a:pt x="923" y="616"/>
                  </a:lnTo>
                  <a:lnTo>
                    <a:pt x="925" y="602"/>
                  </a:lnTo>
                  <a:lnTo>
                    <a:pt x="929" y="589"/>
                  </a:lnTo>
                  <a:lnTo>
                    <a:pt x="936" y="578"/>
                  </a:lnTo>
                  <a:lnTo>
                    <a:pt x="944" y="568"/>
                  </a:lnTo>
                  <a:lnTo>
                    <a:pt x="955" y="560"/>
                  </a:lnTo>
                  <a:lnTo>
                    <a:pt x="968" y="554"/>
                  </a:lnTo>
                  <a:lnTo>
                    <a:pt x="981" y="550"/>
                  </a:lnTo>
                  <a:lnTo>
                    <a:pt x="995" y="548"/>
                  </a:lnTo>
                  <a:lnTo>
                    <a:pt x="1009" y="550"/>
                  </a:lnTo>
                  <a:lnTo>
                    <a:pt x="1021" y="554"/>
                  </a:lnTo>
                  <a:lnTo>
                    <a:pt x="1034" y="560"/>
                  </a:lnTo>
                  <a:lnTo>
                    <a:pt x="1045" y="568"/>
                  </a:lnTo>
                  <a:lnTo>
                    <a:pt x="1053" y="578"/>
                  </a:lnTo>
                  <a:lnTo>
                    <a:pt x="1060" y="590"/>
                  </a:lnTo>
                  <a:lnTo>
                    <a:pt x="1065" y="604"/>
                  </a:lnTo>
                  <a:lnTo>
                    <a:pt x="1066" y="618"/>
                  </a:lnTo>
                  <a:lnTo>
                    <a:pt x="1065" y="632"/>
                  </a:lnTo>
                  <a:lnTo>
                    <a:pt x="1060" y="646"/>
                  </a:lnTo>
                  <a:lnTo>
                    <a:pt x="1053" y="658"/>
                  </a:lnTo>
                  <a:lnTo>
                    <a:pt x="1045" y="669"/>
                  </a:lnTo>
                  <a:lnTo>
                    <a:pt x="1034" y="677"/>
                  </a:lnTo>
                  <a:lnTo>
                    <a:pt x="1021" y="684"/>
                  </a:lnTo>
                  <a:lnTo>
                    <a:pt x="1009" y="688"/>
                  </a:lnTo>
                  <a:lnTo>
                    <a:pt x="995" y="690"/>
                  </a:lnTo>
                  <a:lnTo>
                    <a:pt x="988" y="690"/>
                  </a:lnTo>
                  <a:lnTo>
                    <a:pt x="981" y="688"/>
                  </a:lnTo>
                  <a:lnTo>
                    <a:pt x="975" y="687"/>
                  </a:lnTo>
                  <a:lnTo>
                    <a:pt x="968" y="684"/>
                  </a:lnTo>
                  <a:lnTo>
                    <a:pt x="962" y="681"/>
                  </a:lnTo>
                  <a:lnTo>
                    <a:pt x="957" y="679"/>
                  </a:lnTo>
                  <a:lnTo>
                    <a:pt x="951" y="674"/>
                  </a:lnTo>
                  <a:lnTo>
                    <a:pt x="947" y="670"/>
                  </a:lnTo>
                  <a:lnTo>
                    <a:pt x="940" y="672"/>
                  </a:lnTo>
                  <a:lnTo>
                    <a:pt x="932" y="672"/>
                  </a:lnTo>
                  <a:lnTo>
                    <a:pt x="925" y="674"/>
                  </a:lnTo>
                  <a:lnTo>
                    <a:pt x="918" y="677"/>
                  </a:lnTo>
                  <a:lnTo>
                    <a:pt x="911" y="683"/>
                  </a:lnTo>
                  <a:lnTo>
                    <a:pt x="906" y="690"/>
                  </a:lnTo>
                  <a:lnTo>
                    <a:pt x="904" y="700"/>
                  </a:lnTo>
                  <a:lnTo>
                    <a:pt x="904" y="711"/>
                  </a:lnTo>
                  <a:lnTo>
                    <a:pt x="908" y="722"/>
                  </a:lnTo>
                  <a:lnTo>
                    <a:pt x="915" y="729"/>
                  </a:lnTo>
                  <a:lnTo>
                    <a:pt x="923" y="733"/>
                  </a:lnTo>
                  <a:lnTo>
                    <a:pt x="933" y="734"/>
                  </a:lnTo>
                  <a:lnTo>
                    <a:pt x="941" y="734"/>
                  </a:lnTo>
                  <a:lnTo>
                    <a:pt x="950" y="733"/>
                  </a:lnTo>
                  <a:lnTo>
                    <a:pt x="955" y="732"/>
                  </a:lnTo>
                  <a:lnTo>
                    <a:pt x="957" y="732"/>
                  </a:lnTo>
                  <a:lnTo>
                    <a:pt x="965" y="725"/>
                  </a:lnTo>
                  <a:lnTo>
                    <a:pt x="975" y="719"/>
                  </a:lnTo>
                  <a:lnTo>
                    <a:pt x="985" y="715"/>
                  </a:lnTo>
                  <a:lnTo>
                    <a:pt x="996" y="713"/>
                  </a:lnTo>
                  <a:lnTo>
                    <a:pt x="1007" y="715"/>
                  </a:lnTo>
                  <a:lnTo>
                    <a:pt x="1018" y="718"/>
                  </a:lnTo>
                  <a:lnTo>
                    <a:pt x="1027" y="723"/>
                  </a:lnTo>
                  <a:lnTo>
                    <a:pt x="1035" y="730"/>
                  </a:lnTo>
                  <a:lnTo>
                    <a:pt x="1042" y="739"/>
                  </a:lnTo>
                  <a:lnTo>
                    <a:pt x="1048" y="748"/>
                  </a:lnTo>
                  <a:lnTo>
                    <a:pt x="1051" y="760"/>
                  </a:lnTo>
                  <a:lnTo>
                    <a:pt x="1052" y="771"/>
                  </a:lnTo>
                  <a:lnTo>
                    <a:pt x="1051" y="782"/>
                  </a:lnTo>
                  <a:lnTo>
                    <a:pt x="1048" y="792"/>
                  </a:lnTo>
                  <a:lnTo>
                    <a:pt x="1042" y="802"/>
                  </a:lnTo>
                  <a:lnTo>
                    <a:pt x="1035" y="810"/>
                  </a:lnTo>
                  <a:lnTo>
                    <a:pt x="1027" y="817"/>
                  </a:lnTo>
                  <a:lnTo>
                    <a:pt x="1018" y="823"/>
                  </a:lnTo>
                  <a:lnTo>
                    <a:pt x="1007" y="825"/>
                  </a:lnTo>
                  <a:lnTo>
                    <a:pt x="996" y="827"/>
                  </a:lnTo>
                  <a:lnTo>
                    <a:pt x="986" y="825"/>
                  </a:lnTo>
                  <a:lnTo>
                    <a:pt x="978" y="824"/>
                  </a:lnTo>
                  <a:lnTo>
                    <a:pt x="969" y="820"/>
                  </a:lnTo>
                  <a:lnTo>
                    <a:pt x="962" y="814"/>
                  </a:lnTo>
                  <a:lnTo>
                    <a:pt x="955" y="809"/>
                  </a:lnTo>
                  <a:lnTo>
                    <a:pt x="950" y="802"/>
                  </a:lnTo>
                  <a:lnTo>
                    <a:pt x="946" y="793"/>
                  </a:lnTo>
                  <a:lnTo>
                    <a:pt x="943" y="785"/>
                  </a:lnTo>
                  <a:lnTo>
                    <a:pt x="918" y="783"/>
                  </a:lnTo>
                  <a:lnTo>
                    <a:pt x="901" y="789"/>
                  </a:lnTo>
                  <a:lnTo>
                    <a:pt x="890" y="799"/>
                  </a:lnTo>
                  <a:lnTo>
                    <a:pt x="885" y="810"/>
                  </a:lnTo>
                  <a:lnTo>
                    <a:pt x="885" y="823"/>
                  </a:lnTo>
                  <a:lnTo>
                    <a:pt x="892" y="835"/>
                  </a:lnTo>
                  <a:lnTo>
                    <a:pt x="904" y="844"/>
                  </a:lnTo>
                  <a:lnTo>
                    <a:pt x="919" y="846"/>
                  </a:lnTo>
                  <a:lnTo>
                    <a:pt x="926" y="839"/>
                  </a:lnTo>
                  <a:lnTo>
                    <a:pt x="934" y="835"/>
                  </a:lnTo>
                  <a:lnTo>
                    <a:pt x="943" y="834"/>
                  </a:lnTo>
                  <a:lnTo>
                    <a:pt x="953" y="832"/>
                  </a:lnTo>
                  <a:lnTo>
                    <a:pt x="964" y="834"/>
                  </a:lnTo>
                  <a:lnTo>
                    <a:pt x="974" y="837"/>
                  </a:lnTo>
                  <a:lnTo>
                    <a:pt x="983" y="842"/>
                  </a:lnTo>
                  <a:lnTo>
                    <a:pt x="992" y="849"/>
                  </a:lnTo>
                  <a:lnTo>
                    <a:pt x="999" y="858"/>
                  </a:lnTo>
                  <a:lnTo>
                    <a:pt x="1004" y="867"/>
                  </a:lnTo>
                  <a:lnTo>
                    <a:pt x="1007" y="877"/>
                  </a:lnTo>
                  <a:lnTo>
                    <a:pt x="1009" y="888"/>
                  </a:lnTo>
                  <a:lnTo>
                    <a:pt x="1007" y="899"/>
                  </a:lnTo>
                  <a:lnTo>
                    <a:pt x="1004" y="911"/>
                  </a:lnTo>
                  <a:lnTo>
                    <a:pt x="999" y="920"/>
                  </a:lnTo>
                  <a:lnTo>
                    <a:pt x="992" y="929"/>
                  </a:lnTo>
                  <a:lnTo>
                    <a:pt x="983" y="936"/>
                  </a:lnTo>
                  <a:lnTo>
                    <a:pt x="974" y="941"/>
                  </a:lnTo>
                  <a:lnTo>
                    <a:pt x="964" y="944"/>
                  </a:lnTo>
                  <a:lnTo>
                    <a:pt x="953" y="946"/>
                  </a:lnTo>
                  <a:lnTo>
                    <a:pt x="941" y="944"/>
                  </a:lnTo>
                  <a:lnTo>
                    <a:pt x="932" y="940"/>
                  </a:lnTo>
                  <a:lnTo>
                    <a:pt x="923" y="934"/>
                  </a:lnTo>
                  <a:lnTo>
                    <a:pt x="915" y="927"/>
                  </a:lnTo>
                  <a:lnTo>
                    <a:pt x="909" y="920"/>
                  </a:lnTo>
                  <a:lnTo>
                    <a:pt x="904" y="915"/>
                  </a:lnTo>
                  <a:lnTo>
                    <a:pt x="901" y="912"/>
                  </a:lnTo>
                  <a:lnTo>
                    <a:pt x="901" y="912"/>
                  </a:lnTo>
                  <a:lnTo>
                    <a:pt x="898" y="911"/>
                  </a:lnTo>
                  <a:lnTo>
                    <a:pt x="890" y="906"/>
                  </a:lnTo>
                  <a:lnTo>
                    <a:pt x="880" y="902"/>
                  </a:lnTo>
                  <a:lnTo>
                    <a:pt x="866" y="898"/>
                  </a:lnTo>
                  <a:lnTo>
                    <a:pt x="852" y="895"/>
                  </a:lnTo>
                  <a:lnTo>
                    <a:pt x="839" y="895"/>
                  </a:lnTo>
                  <a:lnTo>
                    <a:pt x="828" y="899"/>
                  </a:lnTo>
                  <a:lnTo>
                    <a:pt x="820" y="908"/>
                  </a:lnTo>
                  <a:lnTo>
                    <a:pt x="815" y="920"/>
                  </a:lnTo>
                  <a:lnTo>
                    <a:pt x="814" y="932"/>
                  </a:lnTo>
                  <a:lnTo>
                    <a:pt x="817" y="940"/>
                  </a:lnTo>
                  <a:lnTo>
                    <a:pt x="821" y="947"/>
                  </a:lnTo>
                  <a:lnTo>
                    <a:pt x="828" y="951"/>
                  </a:lnTo>
                  <a:lnTo>
                    <a:pt x="838" y="954"/>
                  </a:lnTo>
                  <a:lnTo>
                    <a:pt x="848" y="957"/>
                  </a:lnTo>
                  <a:lnTo>
                    <a:pt x="857" y="957"/>
                  </a:lnTo>
                  <a:lnTo>
                    <a:pt x="869" y="958"/>
                  </a:lnTo>
                  <a:lnTo>
                    <a:pt x="880" y="961"/>
                  </a:lnTo>
                  <a:lnTo>
                    <a:pt x="890" y="967"/>
                  </a:lnTo>
                  <a:lnTo>
                    <a:pt x="898" y="974"/>
                  </a:lnTo>
                  <a:lnTo>
                    <a:pt x="905" y="982"/>
                  </a:lnTo>
                  <a:lnTo>
                    <a:pt x="911" y="992"/>
                  </a:lnTo>
                  <a:lnTo>
                    <a:pt x="913" y="1003"/>
                  </a:lnTo>
                  <a:lnTo>
                    <a:pt x="915" y="1014"/>
                  </a:lnTo>
                  <a:lnTo>
                    <a:pt x="913" y="1025"/>
                  </a:lnTo>
                  <a:lnTo>
                    <a:pt x="911" y="1035"/>
                  </a:lnTo>
                  <a:lnTo>
                    <a:pt x="905" y="1045"/>
                  </a:lnTo>
                  <a:lnTo>
                    <a:pt x="898" y="1053"/>
                  </a:lnTo>
                  <a:lnTo>
                    <a:pt x="890" y="1059"/>
                  </a:lnTo>
                  <a:lnTo>
                    <a:pt x="880" y="1065"/>
                  </a:lnTo>
                  <a:lnTo>
                    <a:pt x="869" y="1067"/>
                  </a:lnTo>
                  <a:lnTo>
                    <a:pt x="857" y="1069"/>
                  </a:lnTo>
                  <a:lnTo>
                    <a:pt x="845" y="1067"/>
                  </a:lnTo>
                  <a:lnTo>
                    <a:pt x="832" y="1062"/>
                  </a:lnTo>
                  <a:lnTo>
                    <a:pt x="822" y="1055"/>
                  </a:lnTo>
                  <a:lnTo>
                    <a:pt x="815" y="1048"/>
                  </a:lnTo>
                  <a:lnTo>
                    <a:pt x="810" y="1039"/>
                  </a:lnTo>
                  <a:lnTo>
                    <a:pt x="804" y="1034"/>
                  </a:lnTo>
                  <a:lnTo>
                    <a:pt x="803" y="1030"/>
                  </a:lnTo>
                  <a:lnTo>
                    <a:pt x="801" y="1028"/>
                  </a:lnTo>
                  <a:lnTo>
                    <a:pt x="793" y="1021"/>
                  </a:lnTo>
                  <a:lnTo>
                    <a:pt x="785" y="1018"/>
                  </a:lnTo>
                  <a:lnTo>
                    <a:pt x="778" y="1018"/>
                  </a:lnTo>
                  <a:lnTo>
                    <a:pt x="769" y="1021"/>
                  </a:lnTo>
                  <a:lnTo>
                    <a:pt x="764" y="1027"/>
                  </a:lnTo>
                  <a:lnTo>
                    <a:pt x="759" y="1034"/>
                  </a:lnTo>
                  <a:lnTo>
                    <a:pt x="758" y="1042"/>
                  </a:lnTo>
                  <a:lnTo>
                    <a:pt x="759" y="1052"/>
                  </a:lnTo>
                  <a:lnTo>
                    <a:pt x="769" y="1062"/>
                  </a:lnTo>
                  <a:lnTo>
                    <a:pt x="776" y="1071"/>
                  </a:lnTo>
                  <a:lnTo>
                    <a:pt x="780" y="1084"/>
                  </a:lnTo>
                  <a:lnTo>
                    <a:pt x="782" y="1097"/>
                  </a:lnTo>
                  <a:lnTo>
                    <a:pt x="780" y="1108"/>
                  </a:lnTo>
                  <a:lnTo>
                    <a:pt x="778" y="1118"/>
                  </a:lnTo>
                  <a:lnTo>
                    <a:pt x="772" y="1127"/>
                  </a:lnTo>
                  <a:lnTo>
                    <a:pt x="766" y="1136"/>
                  </a:lnTo>
                  <a:lnTo>
                    <a:pt x="758" y="1141"/>
                  </a:lnTo>
                  <a:lnTo>
                    <a:pt x="748" y="1147"/>
                  </a:lnTo>
                  <a:lnTo>
                    <a:pt x="737" y="1150"/>
                  </a:lnTo>
                  <a:lnTo>
                    <a:pt x="726" y="1151"/>
                  </a:lnTo>
                  <a:lnTo>
                    <a:pt x="715" y="1150"/>
                  </a:lnTo>
                  <a:lnTo>
                    <a:pt x="705" y="1147"/>
                  </a:lnTo>
                  <a:lnTo>
                    <a:pt x="695" y="1141"/>
                  </a:lnTo>
                  <a:lnTo>
                    <a:pt x="687" y="1136"/>
                  </a:lnTo>
                  <a:lnTo>
                    <a:pt x="680" y="1127"/>
                  </a:lnTo>
                  <a:lnTo>
                    <a:pt x="674" y="1118"/>
                  </a:lnTo>
                  <a:lnTo>
                    <a:pt x="671" y="1108"/>
                  </a:lnTo>
                  <a:lnTo>
                    <a:pt x="670" y="1097"/>
                  </a:lnTo>
                  <a:lnTo>
                    <a:pt x="671" y="1083"/>
                  </a:lnTo>
                  <a:lnTo>
                    <a:pt x="677" y="1070"/>
                  </a:lnTo>
                  <a:lnTo>
                    <a:pt x="685" y="1060"/>
                  </a:lnTo>
                  <a:lnTo>
                    <a:pt x="694" y="1052"/>
                  </a:lnTo>
                  <a:lnTo>
                    <a:pt x="694" y="1041"/>
                  </a:lnTo>
                  <a:lnTo>
                    <a:pt x="691" y="1028"/>
                  </a:lnTo>
                  <a:lnTo>
                    <a:pt x="688" y="1016"/>
                  </a:lnTo>
                  <a:lnTo>
                    <a:pt x="683" y="1002"/>
                  </a:lnTo>
                  <a:lnTo>
                    <a:pt x="673" y="988"/>
                  </a:lnTo>
                  <a:lnTo>
                    <a:pt x="660" y="975"/>
                  </a:lnTo>
                  <a:lnTo>
                    <a:pt x="643" y="962"/>
                  </a:lnTo>
                  <a:lnTo>
                    <a:pt x="621" y="953"/>
                  </a:lnTo>
                  <a:lnTo>
                    <a:pt x="600" y="946"/>
                  </a:lnTo>
                  <a:lnTo>
                    <a:pt x="573" y="940"/>
                  </a:lnTo>
                  <a:lnTo>
                    <a:pt x="540" y="932"/>
                  </a:lnTo>
                  <a:lnTo>
                    <a:pt x="503" y="923"/>
                  </a:lnTo>
                  <a:lnTo>
                    <a:pt x="463" y="913"/>
                  </a:lnTo>
                  <a:lnTo>
                    <a:pt x="421" y="902"/>
                  </a:lnTo>
                  <a:lnTo>
                    <a:pt x="380" y="890"/>
                  </a:lnTo>
                  <a:lnTo>
                    <a:pt x="340" y="874"/>
                  </a:lnTo>
                  <a:lnTo>
                    <a:pt x="302" y="856"/>
                  </a:lnTo>
                  <a:lnTo>
                    <a:pt x="267" y="837"/>
                  </a:lnTo>
                  <a:lnTo>
                    <a:pt x="237" y="813"/>
                  </a:lnTo>
                  <a:lnTo>
                    <a:pt x="215" y="786"/>
                  </a:lnTo>
                  <a:lnTo>
                    <a:pt x="200" y="755"/>
                  </a:lnTo>
                  <a:lnTo>
                    <a:pt x="194" y="720"/>
                  </a:lnTo>
                  <a:lnTo>
                    <a:pt x="198" y="683"/>
                  </a:lnTo>
                  <a:lnTo>
                    <a:pt x="215" y="639"/>
                  </a:lnTo>
                  <a:lnTo>
                    <a:pt x="254" y="560"/>
                  </a:lnTo>
                  <a:lnTo>
                    <a:pt x="282" y="498"/>
                  </a:lnTo>
                  <a:lnTo>
                    <a:pt x="302" y="452"/>
                  </a:lnTo>
                  <a:lnTo>
                    <a:pt x="314" y="420"/>
                  </a:lnTo>
                  <a:lnTo>
                    <a:pt x="324" y="397"/>
                  </a:lnTo>
                  <a:lnTo>
                    <a:pt x="333" y="382"/>
                  </a:lnTo>
                  <a:lnTo>
                    <a:pt x="340" y="371"/>
                  </a:lnTo>
                  <a:lnTo>
                    <a:pt x="351" y="361"/>
                  </a:lnTo>
                  <a:lnTo>
                    <a:pt x="351" y="36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780080" y="4987080"/>
              <a:ext cx="360360" cy="390960"/>
            </a:xfrm>
            <a:custGeom>
              <a:avLst/>
              <a:gdLst/>
              <a:ahLst/>
              <a:rect l="l" t="t" r="r" b="b"/>
              <a:pathLst>
                <a:path w="1066" h="1155">
                  <a:moveTo>
                    <a:pt x="340" y="1155"/>
                  </a:moveTo>
                  <a:lnTo>
                    <a:pt x="329" y="1154"/>
                  </a:lnTo>
                  <a:lnTo>
                    <a:pt x="318" y="1151"/>
                  </a:lnTo>
                  <a:lnTo>
                    <a:pt x="308" y="1145"/>
                  </a:lnTo>
                  <a:lnTo>
                    <a:pt x="300" y="1138"/>
                  </a:lnTo>
                  <a:lnTo>
                    <a:pt x="294" y="1130"/>
                  </a:lnTo>
                  <a:lnTo>
                    <a:pt x="288" y="1120"/>
                  </a:lnTo>
                  <a:lnTo>
                    <a:pt x="286" y="1109"/>
                  </a:lnTo>
                  <a:lnTo>
                    <a:pt x="284" y="1098"/>
                  </a:lnTo>
                  <a:lnTo>
                    <a:pt x="286" y="1085"/>
                  </a:lnTo>
                  <a:lnTo>
                    <a:pt x="290" y="1072"/>
                  </a:lnTo>
                  <a:lnTo>
                    <a:pt x="297" y="1061"/>
                  </a:lnTo>
                  <a:lnTo>
                    <a:pt x="307" y="1053"/>
                  </a:lnTo>
                  <a:lnTo>
                    <a:pt x="311" y="1038"/>
                  </a:lnTo>
                  <a:lnTo>
                    <a:pt x="308" y="1028"/>
                  </a:lnTo>
                  <a:lnTo>
                    <a:pt x="302" y="1024"/>
                  </a:lnTo>
                  <a:lnTo>
                    <a:pt x="293" y="1022"/>
                  </a:lnTo>
                  <a:lnTo>
                    <a:pt x="283" y="1024"/>
                  </a:lnTo>
                  <a:lnTo>
                    <a:pt x="273" y="1026"/>
                  </a:lnTo>
                  <a:lnTo>
                    <a:pt x="266" y="1028"/>
                  </a:lnTo>
                  <a:lnTo>
                    <a:pt x="262" y="1026"/>
                  </a:lnTo>
                  <a:lnTo>
                    <a:pt x="259" y="1036"/>
                  </a:lnTo>
                  <a:lnTo>
                    <a:pt x="255" y="1045"/>
                  </a:lnTo>
                  <a:lnTo>
                    <a:pt x="249" y="1052"/>
                  </a:lnTo>
                  <a:lnTo>
                    <a:pt x="244" y="1059"/>
                  </a:lnTo>
                  <a:lnTo>
                    <a:pt x="235" y="1064"/>
                  </a:lnTo>
                  <a:lnTo>
                    <a:pt x="227" y="1068"/>
                  </a:lnTo>
                  <a:lnTo>
                    <a:pt x="218" y="1070"/>
                  </a:lnTo>
                  <a:lnTo>
                    <a:pt x="209" y="1071"/>
                  </a:lnTo>
                  <a:lnTo>
                    <a:pt x="197" y="1070"/>
                  </a:lnTo>
                  <a:lnTo>
                    <a:pt x="186" y="1067"/>
                  </a:lnTo>
                  <a:lnTo>
                    <a:pt x="176" y="1061"/>
                  </a:lnTo>
                  <a:lnTo>
                    <a:pt x="168" y="1054"/>
                  </a:lnTo>
                  <a:lnTo>
                    <a:pt x="161" y="1046"/>
                  </a:lnTo>
                  <a:lnTo>
                    <a:pt x="155" y="1038"/>
                  </a:lnTo>
                  <a:lnTo>
                    <a:pt x="153" y="1026"/>
                  </a:lnTo>
                  <a:lnTo>
                    <a:pt x="151" y="1015"/>
                  </a:lnTo>
                  <a:lnTo>
                    <a:pt x="153" y="1004"/>
                  </a:lnTo>
                  <a:lnTo>
                    <a:pt x="155" y="994"/>
                  </a:lnTo>
                  <a:lnTo>
                    <a:pt x="161" y="984"/>
                  </a:lnTo>
                  <a:lnTo>
                    <a:pt x="168" y="976"/>
                  </a:lnTo>
                  <a:lnTo>
                    <a:pt x="176" y="970"/>
                  </a:lnTo>
                  <a:lnTo>
                    <a:pt x="186" y="965"/>
                  </a:lnTo>
                  <a:lnTo>
                    <a:pt x="197" y="962"/>
                  </a:lnTo>
                  <a:lnTo>
                    <a:pt x="209" y="961"/>
                  </a:lnTo>
                  <a:lnTo>
                    <a:pt x="220" y="961"/>
                  </a:lnTo>
                  <a:lnTo>
                    <a:pt x="230" y="958"/>
                  </a:lnTo>
                  <a:lnTo>
                    <a:pt x="238" y="954"/>
                  </a:lnTo>
                  <a:lnTo>
                    <a:pt x="245" y="949"/>
                  </a:lnTo>
                  <a:lnTo>
                    <a:pt x="251" y="942"/>
                  </a:lnTo>
                  <a:lnTo>
                    <a:pt x="252" y="933"/>
                  </a:lnTo>
                  <a:lnTo>
                    <a:pt x="251" y="921"/>
                  </a:lnTo>
                  <a:lnTo>
                    <a:pt x="246" y="909"/>
                  </a:lnTo>
                  <a:lnTo>
                    <a:pt x="238" y="899"/>
                  </a:lnTo>
                  <a:lnTo>
                    <a:pt x="227" y="896"/>
                  </a:lnTo>
                  <a:lnTo>
                    <a:pt x="214" y="896"/>
                  </a:lnTo>
                  <a:lnTo>
                    <a:pt x="200" y="899"/>
                  </a:lnTo>
                  <a:lnTo>
                    <a:pt x="188" y="903"/>
                  </a:lnTo>
                  <a:lnTo>
                    <a:pt x="178" y="909"/>
                  </a:lnTo>
                  <a:lnTo>
                    <a:pt x="169" y="912"/>
                  </a:lnTo>
                  <a:lnTo>
                    <a:pt x="167" y="912"/>
                  </a:lnTo>
                  <a:lnTo>
                    <a:pt x="162" y="919"/>
                  </a:lnTo>
                  <a:lnTo>
                    <a:pt x="158" y="926"/>
                  </a:lnTo>
                  <a:lnTo>
                    <a:pt x="151" y="933"/>
                  </a:lnTo>
                  <a:lnTo>
                    <a:pt x="146" y="937"/>
                  </a:lnTo>
                  <a:lnTo>
                    <a:pt x="139" y="941"/>
                  </a:lnTo>
                  <a:lnTo>
                    <a:pt x="130" y="944"/>
                  </a:lnTo>
                  <a:lnTo>
                    <a:pt x="122" y="947"/>
                  </a:lnTo>
                  <a:lnTo>
                    <a:pt x="113" y="947"/>
                  </a:lnTo>
                  <a:lnTo>
                    <a:pt x="102" y="945"/>
                  </a:lnTo>
                  <a:lnTo>
                    <a:pt x="92" y="942"/>
                  </a:lnTo>
                  <a:lnTo>
                    <a:pt x="83" y="937"/>
                  </a:lnTo>
                  <a:lnTo>
                    <a:pt x="74" y="930"/>
                  </a:lnTo>
                  <a:lnTo>
                    <a:pt x="67" y="921"/>
                  </a:lnTo>
                  <a:lnTo>
                    <a:pt x="62" y="912"/>
                  </a:lnTo>
                  <a:lnTo>
                    <a:pt x="59" y="900"/>
                  </a:lnTo>
                  <a:lnTo>
                    <a:pt x="57" y="889"/>
                  </a:lnTo>
                  <a:lnTo>
                    <a:pt x="59" y="878"/>
                  </a:lnTo>
                  <a:lnTo>
                    <a:pt x="62" y="868"/>
                  </a:lnTo>
                  <a:lnTo>
                    <a:pt x="67" y="859"/>
                  </a:lnTo>
                  <a:lnTo>
                    <a:pt x="74" y="850"/>
                  </a:lnTo>
                  <a:lnTo>
                    <a:pt x="83" y="845"/>
                  </a:lnTo>
                  <a:lnTo>
                    <a:pt x="92" y="839"/>
                  </a:lnTo>
                  <a:lnTo>
                    <a:pt x="102" y="836"/>
                  </a:lnTo>
                  <a:lnTo>
                    <a:pt x="113" y="835"/>
                  </a:lnTo>
                  <a:lnTo>
                    <a:pt x="123" y="836"/>
                  </a:lnTo>
                  <a:lnTo>
                    <a:pt x="132" y="838"/>
                  </a:lnTo>
                  <a:lnTo>
                    <a:pt x="140" y="842"/>
                  </a:lnTo>
                  <a:lnTo>
                    <a:pt x="147" y="846"/>
                  </a:lnTo>
                  <a:lnTo>
                    <a:pt x="162" y="843"/>
                  </a:lnTo>
                  <a:lnTo>
                    <a:pt x="174" y="836"/>
                  </a:lnTo>
                  <a:lnTo>
                    <a:pt x="181" y="825"/>
                  </a:lnTo>
                  <a:lnTo>
                    <a:pt x="182" y="812"/>
                  </a:lnTo>
                  <a:lnTo>
                    <a:pt x="176" y="800"/>
                  </a:lnTo>
                  <a:lnTo>
                    <a:pt x="165" y="791"/>
                  </a:lnTo>
                  <a:lnTo>
                    <a:pt x="148" y="786"/>
                  </a:lnTo>
                  <a:lnTo>
                    <a:pt x="123" y="787"/>
                  </a:lnTo>
                  <a:lnTo>
                    <a:pt x="120" y="796"/>
                  </a:lnTo>
                  <a:lnTo>
                    <a:pt x="116" y="804"/>
                  </a:lnTo>
                  <a:lnTo>
                    <a:pt x="111" y="810"/>
                  </a:lnTo>
                  <a:lnTo>
                    <a:pt x="104" y="815"/>
                  </a:lnTo>
                  <a:lnTo>
                    <a:pt x="97" y="821"/>
                  </a:lnTo>
                  <a:lnTo>
                    <a:pt x="88" y="824"/>
                  </a:lnTo>
                  <a:lnTo>
                    <a:pt x="80" y="825"/>
                  </a:lnTo>
                  <a:lnTo>
                    <a:pt x="70" y="826"/>
                  </a:lnTo>
                  <a:lnTo>
                    <a:pt x="59" y="825"/>
                  </a:lnTo>
                  <a:lnTo>
                    <a:pt x="48" y="822"/>
                  </a:lnTo>
                  <a:lnTo>
                    <a:pt x="39" y="818"/>
                  </a:lnTo>
                  <a:lnTo>
                    <a:pt x="31" y="811"/>
                  </a:lnTo>
                  <a:lnTo>
                    <a:pt x="24" y="803"/>
                  </a:lnTo>
                  <a:lnTo>
                    <a:pt x="18" y="794"/>
                  </a:lnTo>
                  <a:lnTo>
                    <a:pt x="15" y="784"/>
                  </a:lnTo>
                  <a:lnTo>
                    <a:pt x="14" y="773"/>
                  </a:lnTo>
                  <a:lnTo>
                    <a:pt x="15" y="762"/>
                  </a:lnTo>
                  <a:lnTo>
                    <a:pt x="18" y="751"/>
                  </a:lnTo>
                  <a:lnTo>
                    <a:pt x="24" y="741"/>
                  </a:lnTo>
                  <a:lnTo>
                    <a:pt x="31" y="733"/>
                  </a:lnTo>
                  <a:lnTo>
                    <a:pt x="39" y="727"/>
                  </a:lnTo>
                  <a:lnTo>
                    <a:pt x="48" y="721"/>
                  </a:lnTo>
                  <a:lnTo>
                    <a:pt x="59" y="719"/>
                  </a:lnTo>
                  <a:lnTo>
                    <a:pt x="70" y="717"/>
                  </a:lnTo>
                  <a:lnTo>
                    <a:pt x="81" y="720"/>
                  </a:lnTo>
                  <a:lnTo>
                    <a:pt x="94" y="724"/>
                  </a:lnTo>
                  <a:lnTo>
                    <a:pt x="105" y="728"/>
                  </a:lnTo>
                  <a:lnTo>
                    <a:pt x="109" y="731"/>
                  </a:lnTo>
                  <a:lnTo>
                    <a:pt x="132" y="735"/>
                  </a:lnTo>
                  <a:lnTo>
                    <a:pt x="148" y="733"/>
                  </a:lnTo>
                  <a:lnTo>
                    <a:pt x="158" y="723"/>
                  </a:lnTo>
                  <a:lnTo>
                    <a:pt x="164" y="712"/>
                  </a:lnTo>
                  <a:lnTo>
                    <a:pt x="162" y="698"/>
                  </a:lnTo>
                  <a:lnTo>
                    <a:pt x="154" y="685"/>
                  </a:lnTo>
                  <a:lnTo>
                    <a:pt x="140" y="675"/>
                  </a:lnTo>
                  <a:lnTo>
                    <a:pt x="119" y="671"/>
                  </a:lnTo>
                  <a:lnTo>
                    <a:pt x="115" y="675"/>
                  </a:lnTo>
                  <a:lnTo>
                    <a:pt x="109" y="680"/>
                  </a:lnTo>
                  <a:lnTo>
                    <a:pt x="104" y="682"/>
                  </a:lnTo>
                  <a:lnTo>
                    <a:pt x="98" y="685"/>
                  </a:lnTo>
                  <a:lnTo>
                    <a:pt x="91" y="687"/>
                  </a:lnTo>
                  <a:lnTo>
                    <a:pt x="85" y="688"/>
                  </a:lnTo>
                  <a:lnTo>
                    <a:pt x="78" y="689"/>
                  </a:lnTo>
                  <a:lnTo>
                    <a:pt x="71" y="689"/>
                  </a:lnTo>
                  <a:lnTo>
                    <a:pt x="57" y="688"/>
                  </a:lnTo>
                  <a:lnTo>
                    <a:pt x="45" y="684"/>
                  </a:lnTo>
                  <a:lnTo>
                    <a:pt x="32" y="677"/>
                  </a:lnTo>
                  <a:lnTo>
                    <a:pt x="21" y="668"/>
                  </a:lnTo>
                  <a:lnTo>
                    <a:pt x="13" y="657"/>
                  </a:lnTo>
                  <a:lnTo>
                    <a:pt x="6" y="646"/>
                  </a:lnTo>
                  <a:lnTo>
                    <a:pt x="1" y="632"/>
                  </a:lnTo>
                  <a:lnTo>
                    <a:pt x="0" y="618"/>
                  </a:lnTo>
                  <a:lnTo>
                    <a:pt x="1" y="604"/>
                  </a:lnTo>
                  <a:lnTo>
                    <a:pt x="6" y="591"/>
                  </a:lnTo>
                  <a:lnTo>
                    <a:pt x="13" y="579"/>
                  </a:lnTo>
                  <a:lnTo>
                    <a:pt x="21" y="569"/>
                  </a:lnTo>
                  <a:lnTo>
                    <a:pt x="32" y="561"/>
                  </a:lnTo>
                  <a:lnTo>
                    <a:pt x="45" y="554"/>
                  </a:lnTo>
                  <a:lnTo>
                    <a:pt x="57" y="549"/>
                  </a:lnTo>
                  <a:lnTo>
                    <a:pt x="71" y="548"/>
                  </a:lnTo>
                  <a:lnTo>
                    <a:pt x="85" y="549"/>
                  </a:lnTo>
                  <a:lnTo>
                    <a:pt x="98" y="554"/>
                  </a:lnTo>
                  <a:lnTo>
                    <a:pt x="111" y="561"/>
                  </a:lnTo>
                  <a:lnTo>
                    <a:pt x="122" y="569"/>
                  </a:lnTo>
                  <a:lnTo>
                    <a:pt x="130" y="579"/>
                  </a:lnTo>
                  <a:lnTo>
                    <a:pt x="137" y="591"/>
                  </a:lnTo>
                  <a:lnTo>
                    <a:pt x="141" y="604"/>
                  </a:lnTo>
                  <a:lnTo>
                    <a:pt x="143" y="618"/>
                  </a:lnTo>
                  <a:lnTo>
                    <a:pt x="155" y="622"/>
                  </a:lnTo>
                  <a:lnTo>
                    <a:pt x="171" y="626"/>
                  </a:lnTo>
                  <a:lnTo>
                    <a:pt x="189" y="631"/>
                  </a:lnTo>
                  <a:lnTo>
                    <a:pt x="209" y="636"/>
                  </a:lnTo>
                  <a:lnTo>
                    <a:pt x="231" y="643"/>
                  </a:lnTo>
                  <a:lnTo>
                    <a:pt x="255" y="649"/>
                  </a:lnTo>
                  <a:lnTo>
                    <a:pt x="280" y="656"/>
                  </a:lnTo>
                  <a:lnTo>
                    <a:pt x="307" y="663"/>
                  </a:lnTo>
                  <a:lnTo>
                    <a:pt x="335" y="670"/>
                  </a:lnTo>
                  <a:lnTo>
                    <a:pt x="362" y="677"/>
                  </a:lnTo>
                  <a:lnTo>
                    <a:pt x="392" y="684"/>
                  </a:lnTo>
                  <a:lnTo>
                    <a:pt x="423" y="691"/>
                  </a:lnTo>
                  <a:lnTo>
                    <a:pt x="453" y="698"/>
                  </a:lnTo>
                  <a:lnTo>
                    <a:pt x="483" y="705"/>
                  </a:lnTo>
                  <a:lnTo>
                    <a:pt x="514" y="712"/>
                  </a:lnTo>
                  <a:lnTo>
                    <a:pt x="544" y="717"/>
                  </a:lnTo>
                  <a:lnTo>
                    <a:pt x="605" y="726"/>
                  </a:lnTo>
                  <a:lnTo>
                    <a:pt x="645" y="723"/>
                  </a:lnTo>
                  <a:lnTo>
                    <a:pt x="666" y="712"/>
                  </a:lnTo>
                  <a:lnTo>
                    <a:pt x="675" y="692"/>
                  </a:lnTo>
                  <a:lnTo>
                    <a:pt x="669" y="666"/>
                  </a:lnTo>
                  <a:lnTo>
                    <a:pt x="656" y="633"/>
                  </a:lnTo>
                  <a:lnTo>
                    <a:pt x="638" y="597"/>
                  </a:lnTo>
                  <a:lnTo>
                    <a:pt x="619" y="558"/>
                  </a:lnTo>
                  <a:lnTo>
                    <a:pt x="596" y="510"/>
                  </a:lnTo>
                  <a:lnTo>
                    <a:pt x="570" y="450"/>
                  </a:lnTo>
                  <a:lnTo>
                    <a:pt x="544" y="382"/>
                  </a:lnTo>
                  <a:lnTo>
                    <a:pt x="523" y="306"/>
                  </a:lnTo>
                  <a:lnTo>
                    <a:pt x="511" y="231"/>
                  </a:lnTo>
                  <a:lnTo>
                    <a:pt x="509" y="158"/>
                  </a:lnTo>
                  <a:lnTo>
                    <a:pt x="523" y="92"/>
                  </a:lnTo>
                  <a:lnTo>
                    <a:pt x="558" y="38"/>
                  </a:lnTo>
                  <a:lnTo>
                    <a:pt x="582" y="18"/>
                  </a:lnTo>
                  <a:lnTo>
                    <a:pt x="607" y="5"/>
                  </a:lnTo>
                  <a:lnTo>
                    <a:pt x="633" y="0"/>
                  </a:lnTo>
                  <a:lnTo>
                    <a:pt x="659" y="1"/>
                  </a:lnTo>
                  <a:lnTo>
                    <a:pt x="686" y="7"/>
                  </a:lnTo>
                  <a:lnTo>
                    <a:pt x="712" y="17"/>
                  </a:lnTo>
                  <a:lnTo>
                    <a:pt x="739" y="32"/>
                  </a:lnTo>
                  <a:lnTo>
                    <a:pt x="766" y="49"/>
                  </a:lnTo>
                  <a:lnTo>
                    <a:pt x="791" y="68"/>
                  </a:lnTo>
                  <a:lnTo>
                    <a:pt x="815" y="91"/>
                  </a:lnTo>
                  <a:lnTo>
                    <a:pt x="837" y="113"/>
                  </a:lnTo>
                  <a:lnTo>
                    <a:pt x="858" y="136"/>
                  </a:lnTo>
                  <a:lnTo>
                    <a:pt x="878" y="158"/>
                  </a:lnTo>
                  <a:lnTo>
                    <a:pt x="894" y="177"/>
                  </a:lnTo>
                  <a:lnTo>
                    <a:pt x="910" y="197"/>
                  </a:lnTo>
                  <a:lnTo>
                    <a:pt x="921" y="212"/>
                  </a:lnTo>
                  <a:lnTo>
                    <a:pt x="943" y="253"/>
                  </a:lnTo>
                  <a:lnTo>
                    <a:pt x="973" y="310"/>
                  </a:lnTo>
                  <a:lnTo>
                    <a:pt x="1004" y="382"/>
                  </a:lnTo>
                  <a:lnTo>
                    <a:pt x="1032" y="457"/>
                  </a:lnTo>
                  <a:lnTo>
                    <a:pt x="1054" y="531"/>
                  </a:lnTo>
                  <a:lnTo>
                    <a:pt x="1066" y="597"/>
                  </a:lnTo>
                  <a:lnTo>
                    <a:pt x="1065" y="649"/>
                  </a:lnTo>
                  <a:lnTo>
                    <a:pt x="1047" y="680"/>
                  </a:lnTo>
                  <a:lnTo>
                    <a:pt x="1030" y="684"/>
                  </a:lnTo>
                  <a:lnTo>
                    <a:pt x="1011" y="678"/>
                  </a:lnTo>
                  <a:lnTo>
                    <a:pt x="988" y="667"/>
                  </a:lnTo>
                  <a:lnTo>
                    <a:pt x="963" y="649"/>
                  </a:lnTo>
                  <a:lnTo>
                    <a:pt x="936" y="625"/>
                  </a:lnTo>
                  <a:lnTo>
                    <a:pt x="908" y="598"/>
                  </a:lnTo>
                  <a:lnTo>
                    <a:pt x="880" y="569"/>
                  </a:lnTo>
                  <a:lnTo>
                    <a:pt x="852" y="538"/>
                  </a:lnTo>
                  <a:lnTo>
                    <a:pt x="826" y="506"/>
                  </a:lnTo>
                  <a:lnTo>
                    <a:pt x="801" y="475"/>
                  </a:lnTo>
                  <a:lnTo>
                    <a:pt x="777" y="446"/>
                  </a:lnTo>
                  <a:lnTo>
                    <a:pt x="756" y="419"/>
                  </a:lnTo>
                  <a:lnTo>
                    <a:pt x="739" y="397"/>
                  </a:lnTo>
                  <a:lnTo>
                    <a:pt x="726" y="379"/>
                  </a:lnTo>
                  <a:lnTo>
                    <a:pt x="718" y="368"/>
                  </a:lnTo>
                  <a:lnTo>
                    <a:pt x="715" y="363"/>
                  </a:lnTo>
                  <a:lnTo>
                    <a:pt x="726" y="373"/>
                  </a:lnTo>
                  <a:lnTo>
                    <a:pt x="733" y="384"/>
                  </a:lnTo>
                  <a:lnTo>
                    <a:pt x="742" y="400"/>
                  </a:lnTo>
                  <a:lnTo>
                    <a:pt x="752" y="422"/>
                  </a:lnTo>
                  <a:lnTo>
                    <a:pt x="764" y="454"/>
                  </a:lnTo>
                  <a:lnTo>
                    <a:pt x="784" y="501"/>
                  </a:lnTo>
                  <a:lnTo>
                    <a:pt x="812" y="562"/>
                  </a:lnTo>
                  <a:lnTo>
                    <a:pt x="851" y="642"/>
                  </a:lnTo>
                  <a:lnTo>
                    <a:pt x="868" y="685"/>
                  </a:lnTo>
                  <a:lnTo>
                    <a:pt x="872" y="723"/>
                  </a:lnTo>
                  <a:lnTo>
                    <a:pt x="866" y="756"/>
                  </a:lnTo>
                  <a:lnTo>
                    <a:pt x="851" y="787"/>
                  </a:lnTo>
                  <a:lnTo>
                    <a:pt x="829" y="814"/>
                  </a:lnTo>
                  <a:lnTo>
                    <a:pt x="799" y="838"/>
                  </a:lnTo>
                  <a:lnTo>
                    <a:pt x="764" y="857"/>
                  </a:lnTo>
                  <a:lnTo>
                    <a:pt x="726" y="875"/>
                  </a:lnTo>
                  <a:lnTo>
                    <a:pt x="686" y="889"/>
                  </a:lnTo>
                  <a:lnTo>
                    <a:pt x="645" y="903"/>
                  </a:lnTo>
                  <a:lnTo>
                    <a:pt x="603" y="914"/>
                  </a:lnTo>
                  <a:lnTo>
                    <a:pt x="563" y="924"/>
                  </a:lnTo>
                  <a:lnTo>
                    <a:pt x="526" y="933"/>
                  </a:lnTo>
                  <a:lnTo>
                    <a:pt x="493" y="940"/>
                  </a:lnTo>
                  <a:lnTo>
                    <a:pt x="466" y="947"/>
                  </a:lnTo>
                  <a:lnTo>
                    <a:pt x="445" y="954"/>
                  </a:lnTo>
                  <a:lnTo>
                    <a:pt x="423" y="965"/>
                  </a:lnTo>
                  <a:lnTo>
                    <a:pt x="406" y="977"/>
                  </a:lnTo>
                  <a:lnTo>
                    <a:pt x="393" y="990"/>
                  </a:lnTo>
                  <a:lnTo>
                    <a:pt x="383" y="1004"/>
                  </a:lnTo>
                  <a:lnTo>
                    <a:pt x="378" y="1018"/>
                  </a:lnTo>
                  <a:lnTo>
                    <a:pt x="375" y="1031"/>
                  </a:lnTo>
                  <a:lnTo>
                    <a:pt x="372" y="1043"/>
                  </a:lnTo>
                  <a:lnTo>
                    <a:pt x="372" y="1053"/>
                  </a:lnTo>
                  <a:lnTo>
                    <a:pt x="381" y="1061"/>
                  </a:lnTo>
                  <a:lnTo>
                    <a:pt x="389" y="1072"/>
                  </a:lnTo>
                  <a:lnTo>
                    <a:pt x="395" y="1084"/>
                  </a:lnTo>
                  <a:lnTo>
                    <a:pt x="396" y="1098"/>
                  </a:lnTo>
                  <a:lnTo>
                    <a:pt x="395" y="1109"/>
                  </a:lnTo>
                  <a:lnTo>
                    <a:pt x="392" y="1120"/>
                  </a:lnTo>
                  <a:lnTo>
                    <a:pt x="386" y="1130"/>
                  </a:lnTo>
                  <a:lnTo>
                    <a:pt x="379" y="1138"/>
                  </a:lnTo>
                  <a:lnTo>
                    <a:pt x="371" y="1145"/>
                  </a:lnTo>
                  <a:lnTo>
                    <a:pt x="361" y="1151"/>
                  </a:lnTo>
                  <a:lnTo>
                    <a:pt x="351" y="1154"/>
                  </a:lnTo>
                  <a:lnTo>
                    <a:pt x="340" y="1155"/>
                  </a:lnTo>
                  <a:lnTo>
                    <a:pt x="340" y="115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905720" y="4504320"/>
              <a:ext cx="196920" cy="342360"/>
            </a:xfrm>
            <a:custGeom>
              <a:avLst/>
              <a:gdLst/>
              <a:ahLst/>
              <a:rect l="l" t="t" r="r" b="b"/>
              <a:pathLst>
                <a:path w="581" h="1009">
                  <a:moveTo>
                    <a:pt x="455" y="1009"/>
                  </a:moveTo>
                  <a:lnTo>
                    <a:pt x="455" y="993"/>
                  </a:lnTo>
                  <a:lnTo>
                    <a:pt x="457" y="951"/>
                  </a:lnTo>
                  <a:lnTo>
                    <a:pt x="464" y="885"/>
                  </a:lnTo>
                  <a:lnTo>
                    <a:pt x="482" y="803"/>
                  </a:lnTo>
                  <a:lnTo>
                    <a:pt x="481" y="800"/>
                  </a:lnTo>
                  <a:lnTo>
                    <a:pt x="474" y="796"/>
                  </a:lnTo>
                  <a:lnTo>
                    <a:pt x="464" y="789"/>
                  </a:lnTo>
                  <a:lnTo>
                    <a:pt x="450" y="782"/>
                  </a:lnTo>
                  <a:lnTo>
                    <a:pt x="433" y="776"/>
                  </a:lnTo>
                  <a:lnTo>
                    <a:pt x="411" y="774"/>
                  </a:lnTo>
                  <a:lnTo>
                    <a:pt x="384" y="776"/>
                  </a:lnTo>
                  <a:lnTo>
                    <a:pt x="355" y="785"/>
                  </a:lnTo>
                  <a:lnTo>
                    <a:pt x="357" y="778"/>
                  </a:lnTo>
                  <a:lnTo>
                    <a:pt x="363" y="758"/>
                  </a:lnTo>
                  <a:lnTo>
                    <a:pt x="369" y="729"/>
                  </a:lnTo>
                  <a:lnTo>
                    <a:pt x="373" y="692"/>
                  </a:lnTo>
                  <a:lnTo>
                    <a:pt x="371" y="652"/>
                  </a:lnTo>
                  <a:lnTo>
                    <a:pt x="364" y="610"/>
                  </a:lnTo>
                  <a:lnTo>
                    <a:pt x="346" y="568"/>
                  </a:lnTo>
                  <a:lnTo>
                    <a:pt x="317" y="530"/>
                  </a:lnTo>
                  <a:lnTo>
                    <a:pt x="506" y="374"/>
                  </a:lnTo>
                  <a:lnTo>
                    <a:pt x="511" y="376"/>
                  </a:lnTo>
                  <a:lnTo>
                    <a:pt x="518" y="378"/>
                  </a:lnTo>
                  <a:lnTo>
                    <a:pt x="524" y="379"/>
                  </a:lnTo>
                  <a:lnTo>
                    <a:pt x="531" y="379"/>
                  </a:lnTo>
                  <a:lnTo>
                    <a:pt x="541" y="378"/>
                  </a:lnTo>
                  <a:lnTo>
                    <a:pt x="551" y="375"/>
                  </a:lnTo>
                  <a:lnTo>
                    <a:pt x="559" y="372"/>
                  </a:lnTo>
                  <a:lnTo>
                    <a:pt x="566" y="365"/>
                  </a:lnTo>
                  <a:lnTo>
                    <a:pt x="573" y="360"/>
                  </a:lnTo>
                  <a:lnTo>
                    <a:pt x="577" y="351"/>
                  </a:lnTo>
                  <a:lnTo>
                    <a:pt x="580" y="341"/>
                  </a:lnTo>
                  <a:lnTo>
                    <a:pt x="581" y="332"/>
                  </a:lnTo>
                  <a:lnTo>
                    <a:pt x="580" y="322"/>
                  </a:lnTo>
                  <a:lnTo>
                    <a:pt x="577" y="312"/>
                  </a:lnTo>
                  <a:lnTo>
                    <a:pt x="573" y="304"/>
                  </a:lnTo>
                  <a:lnTo>
                    <a:pt x="566" y="295"/>
                  </a:lnTo>
                  <a:lnTo>
                    <a:pt x="559" y="290"/>
                  </a:lnTo>
                  <a:lnTo>
                    <a:pt x="551" y="285"/>
                  </a:lnTo>
                  <a:lnTo>
                    <a:pt x="541" y="283"/>
                  </a:lnTo>
                  <a:lnTo>
                    <a:pt x="531" y="281"/>
                  </a:lnTo>
                  <a:lnTo>
                    <a:pt x="521" y="283"/>
                  </a:lnTo>
                  <a:lnTo>
                    <a:pt x="513" y="285"/>
                  </a:lnTo>
                  <a:lnTo>
                    <a:pt x="504" y="290"/>
                  </a:lnTo>
                  <a:lnTo>
                    <a:pt x="497" y="295"/>
                  </a:lnTo>
                  <a:lnTo>
                    <a:pt x="492" y="302"/>
                  </a:lnTo>
                  <a:lnTo>
                    <a:pt x="486" y="309"/>
                  </a:lnTo>
                  <a:lnTo>
                    <a:pt x="483" y="318"/>
                  </a:lnTo>
                  <a:lnTo>
                    <a:pt x="482" y="327"/>
                  </a:lnTo>
                  <a:lnTo>
                    <a:pt x="331" y="403"/>
                  </a:lnTo>
                  <a:lnTo>
                    <a:pt x="412" y="111"/>
                  </a:lnTo>
                  <a:lnTo>
                    <a:pt x="422" y="108"/>
                  </a:lnTo>
                  <a:lnTo>
                    <a:pt x="432" y="104"/>
                  </a:lnTo>
                  <a:lnTo>
                    <a:pt x="439" y="98"/>
                  </a:lnTo>
                  <a:lnTo>
                    <a:pt x="446" y="91"/>
                  </a:lnTo>
                  <a:lnTo>
                    <a:pt x="451" y="84"/>
                  </a:lnTo>
                  <a:lnTo>
                    <a:pt x="455" y="74"/>
                  </a:lnTo>
                  <a:lnTo>
                    <a:pt x="457" y="65"/>
                  </a:lnTo>
                  <a:lnTo>
                    <a:pt x="458" y="55"/>
                  </a:lnTo>
                  <a:lnTo>
                    <a:pt x="457" y="44"/>
                  </a:lnTo>
                  <a:lnTo>
                    <a:pt x="454" y="34"/>
                  </a:lnTo>
                  <a:lnTo>
                    <a:pt x="448" y="24"/>
                  </a:lnTo>
                  <a:lnTo>
                    <a:pt x="443" y="17"/>
                  </a:lnTo>
                  <a:lnTo>
                    <a:pt x="434" y="10"/>
                  </a:lnTo>
                  <a:lnTo>
                    <a:pt x="425" y="4"/>
                  </a:lnTo>
                  <a:lnTo>
                    <a:pt x="413" y="2"/>
                  </a:lnTo>
                  <a:lnTo>
                    <a:pt x="402" y="0"/>
                  </a:lnTo>
                  <a:lnTo>
                    <a:pt x="391" y="2"/>
                  </a:lnTo>
                  <a:lnTo>
                    <a:pt x="381" y="4"/>
                  </a:lnTo>
                  <a:lnTo>
                    <a:pt x="371" y="10"/>
                  </a:lnTo>
                  <a:lnTo>
                    <a:pt x="363" y="17"/>
                  </a:lnTo>
                  <a:lnTo>
                    <a:pt x="356" y="24"/>
                  </a:lnTo>
                  <a:lnTo>
                    <a:pt x="350" y="34"/>
                  </a:lnTo>
                  <a:lnTo>
                    <a:pt x="348" y="44"/>
                  </a:lnTo>
                  <a:lnTo>
                    <a:pt x="346" y="55"/>
                  </a:lnTo>
                  <a:lnTo>
                    <a:pt x="348" y="67"/>
                  </a:lnTo>
                  <a:lnTo>
                    <a:pt x="352" y="80"/>
                  </a:lnTo>
                  <a:lnTo>
                    <a:pt x="359" y="91"/>
                  </a:lnTo>
                  <a:lnTo>
                    <a:pt x="369" y="99"/>
                  </a:lnTo>
                  <a:lnTo>
                    <a:pt x="287" y="374"/>
                  </a:lnTo>
                  <a:lnTo>
                    <a:pt x="208" y="192"/>
                  </a:lnTo>
                  <a:lnTo>
                    <a:pt x="215" y="185"/>
                  </a:lnTo>
                  <a:lnTo>
                    <a:pt x="220" y="176"/>
                  </a:lnTo>
                  <a:lnTo>
                    <a:pt x="224" y="167"/>
                  </a:lnTo>
                  <a:lnTo>
                    <a:pt x="226" y="155"/>
                  </a:lnTo>
                  <a:lnTo>
                    <a:pt x="224" y="146"/>
                  </a:lnTo>
                  <a:lnTo>
                    <a:pt x="222" y="136"/>
                  </a:lnTo>
                  <a:lnTo>
                    <a:pt x="217" y="127"/>
                  </a:lnTo>
                  <a:lnTo>
                    <a:pt x="212" y="119"/>
                  </a:lnTo>
                  <a:lnTo>
                    <a:pt x="203" y="113"/>
                  </a:lnTo>
                  <a:lnTo>
                    <a:pt x="195" y="109"/>
                  </a:lnTo>
                  <a:lnTo>
                    <a:pt x="185" y="106"/>
                  </a:lnTo>
                  <a:lnTo>
                    <a:pt x="175" y="105"/>
                  </a:lnTo>
                  <a:lnTo>
                    <a:pt x="166" y="106"/>
                  </a:lnTo>
                  <a:lnTo>
                    <a:pt x="157" y="109"/>
                  </a:lnTo>
                  <a:lnTo>
                    <a:pt x="149" y="113"/>
                  </a:lnTo>
                  <a:lnTo>
                    <a:pt x="142" y="119"/>
                  </a:lnTo>
                  <a:lnTo>
                    <a:pt x="136" y="127"/>
                  </a:lnTo>
                  <a:lnTo>
                    <a:pt x="132" y="136"/>
                  </a:lnTo>
                  <a:lnTo>
                    <a:pt x="129" y="146"/>
                  </a:lnTo>
                  <a:lnTo>
                    <a:pt x="128" y="155"/>
                  </a:lnTo>
                  <a:lnTo>
                    <a:pt x="131" y="171"/>
                  </a:lnTo>
                  <a:lnTo>
                    <a:pt x="139" y="185"/>
                  </a:lnTo>
                  <a:lnTo>
                    <a:pt x="150" y="196"/>
                  </a:lnTo>
                  <a:lnTo>
                    <a:pt x="166" y="203"/>
                  </a:lnTo>
                  <a:lnTo>
                    <a:pt x="212" y="395"/>
                  </a:lnTo>
                  <a:lnTo>
                    <a:pt x="94" y="278"/>
                  </a:lnTo>
                  <a:lnTo>
                    <a:pt x="97" y="266"/>
                  </a:lnTo>
                  <a:lnTo>
                    <a:pt x="96" y="255"/>
                  </a:lnTo>
                  <a:lnTo>
                    <a:pt x="93" y="244"/>
                  </a:lnTo>
                  <a:lnTo>
                    <a:pt x="87" y="234"/>
                  </a:lnTo>
                  <a:lnTo>
                    <a:pt x="80" y="225"/>
                  </a:lnTo>
                  <a:lnTo>
                    <a:pt x="70" y="220"/>
                  </a:lnTo>
                  <a:lnTo>
                    <a:pt x="61" y="216"/>
                  </a:lnTo>
                  <a:lnTo>
                    <a:pt x="48" y="214"/>
                  </a:lnTo>
                  <a:lnTo>
                    <a:pt x="38" y="216"/>
                  </a:lnTo>
                  <a:lnTo>
                    <a:pt x="30" y="218"/>
                  </a:lnTo>
                  <a:lnTo>
                    <a:pt x="21" y="223"/>
                  </a:lnTo>
                  <a:lnTo>
                    <a:pt x="14" y="228"/>
                  </a:lnTo>
                  <a:lnTo>
                    <a:pt x="9" y="237"/>
                  </a:lnTo>
                  <a:lnTo>
                    <a:pt x="5" y="245"/>
                  </a:lnTo>
                  <a:lnTo>
                    <a:pt x="2" y="255"/>
                  </a:lnTo>
                  <a:lnTo>
                    <a:pt x="0" y="265"/>
                  </a:lnTo>
                  <a:lnTo>
                    <a:pt x="2" y="276"/>
                  </a:lnTo>
                  <a:lnTo>
                    <a:pt x="5" y="285"/>
                  </a:lnTo>
                  <a:lnTo>
                    <a:pt x="10" y="294"/>
                  </a:lnTo>
                  <a:lnTo>
                    <a:pt x="16" y="302"/>
                  </a:lnTo>
                  <a:lnTo>
                    <a:pt x="24" y="308"/>
                  </a:lnTo>
                  <a:lnTo>
                    <a:pt x="34" y="311"/>
                  </a:lnTo>
                  <a:lnTo>
                    <a:pt x="45" y="313"/>
                  </a:lnTo>
                  <a:lnTo>
                    <a:pt x="56" y="312"/>
                  </a:lnTo>
                  <a:lnTo>
                    <a:pt x="217" y="516"/>
                  </a:lnTo>
                  <a:lnTo>
                    <a:pt x="216" y="522"/>
                  </a:lnTo>
                  <a:lnTo>
                    <a:pt x="215" y="536"/>
                  </a:lnTo>
                  <a:lnTo>
                    <a:pt x="212" y="560"/>
                  </a:lnTo>
                  <a:lnTo>
                    <a:pt x="210" y="589"/>
                  </a:lnTo>
                  <a:lnTo>
                    <a:pt x="209" y="624"/>
                  </a:lnTo>
                  <a:lnTo>
                    <a:pt x="209" y="664"/>
                  </a:lnTo>
                  <a:lnTo>
                    <a:pt x="212" y="706"/>
                  </a:lnTo>
                  <a:lnTo>
                    <a:pt x="217" y="751"/>
                  </a:lnTo>
                  <a:lnTo>
                    <a:pt x="226" y="796"/>
                  </a:lnTo>
                  <a:lnTo>
                    <a:pt x="240" y="839"/>
                  </a:lnTo>
                  <a:lnTo>
                    <a:pt x="259" y="881"/>
                  </a:lnTo>
                  <a:lnTo>
                    <a:pt x="283" y="919"/>
                  </a:lnTo>
                  <a:lnTo>
                    <a:pt x="315" y="953"/>
                  </a:lnTo>
                  <a:lnTo>
                    <a:pt x="353" y="979"/>
                  </a:lnTo>
                  <a:lnTo>
                    <a:pt x="401" y="999"/>
                  </a:lnTo>
                  <a:lnTo>
                    <a:pt x="455" y="1009"/>
                  </a:lnTo>
                  <a:lnTo>
                    <a:pt x="455" y="1009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061240" y="4520880"/>
              <a:ext cx="343080" cy="702000"/>
            </a:xfrm>
            <a:custGeom>
              <a:avLst/>
              <a:gdLst/>
              <a:ahLst/>
              <a:rect l="l" t="t" r="r" b="b"/>
              <a:pathLst>
                <a:path w="1013" h="2071">
                  <a:moveTo>
                    <a:pt x="367" y="128"/>
                  </a:moveTo>
                  <a:lnTo>
                    <a:pt x="358" y="126"/>
                  </a:lnTo>
                  <a:lnTo>
                    <a:pt x="336" y="120"/>
                  </a:lnTo>
                  <a:lnTo>
                    <a:pt x="304" y="117"/>
                  </a:lnTo>
                  <a:lnTo>
                    <a:pt x="269" y="120"/>
                  </a:lnTo>
                  <a:lnTo>
                    <a:pt x="235" y="135"/>
                  </a:lnTo>
                  <a:lnTo>
                    <a:pt x="207" y="166"/>
                  </a:lnTo>
                  <a:lnTo>
                    <a:pt x="192" y="217"/>
                  </a:lnTo>
                  <a:lnTo>
                    <a:pt x="192" y="293"/>
                  </a:lnTo>
                  <a:lnTo>
                    <a:pt x="185" y="307"/>
                  </a:lnTo>
                  <a:lnTo>
                    <a:pt x="168" y="347"/>
                  </a:lnTo>
                  <a:lnTo>
                    <a:pt x="143" y="409"/>
                  </a:lnTo>
                  <a:lnTo>
                    <a:pt x="113" y="492"/>
                  </a:lnTo>
                  <a:lnTo>
                    <a:pt x="81" y="593"/>
                  </a:lnTo>
                  <a:lnTo>
                    <a:pt x="52" y="707"/>
                  </a:lnTo>
                  <a:lnTo>
                    <a:pt x="25" y="835"/>
                  </a:lnTo>
                  <a:lnTo>
                    <a:pt x="7" y="970"/>
                  </a:lnTo>
                  <a:lnTo>
                    <a:pt x="0" y="1114"/>
                  </a:lnTo>
                  <a:lnTo>
                    <a:pt x="6" y="1261"/>
                  </a:lnTo>
                  <a:lnTo>
                    <a:pt x="28" y="1409"/>
                  </a:lnTo>
                  <a:lnTo>
                    <a:pt x="71" y="1555"/>
                  </a:lnTo>
                  <a:lnTo>
                    <a:pt x="136" y="1698"/>
                  </a:lnTo>
                  <a:lnTo>
                    <a:pt x="227" y="1833"/>
                  </a:lnTo>
                  <a:lnTo>
                    <a:pt x="347" y="1958"/>
                  </a:lnTo>
                  <a:lnTo>
                    <a:pt x="500" y="2071"/>
                  </a:lnTo>
                  <a:lnTo>
                    <a:pt x="508" y="2071"/>
                  </a:lnTo>
                  <a:lnTo>
                    <a:pt x="661" y="1959"/>
                  </a:lnTo>
                  <a:lnTo>
                    <a:pt x="781" y="1835"/>
                  </a:lnTo>
                  <a:lnTo>
                    <a:pt x="873" y="1700"/>
                  </a:lnTo>
                  <a:lnTo>
                    <a:pt x="939" y="1558"/>
                  </a:lnTo>
                  <a:lnTo>
                    <a:pt x="982" y="1411"/>
                  </a:lnTo>
                  <a:lnTo>
                    <a:pt x="1006" y="1264"/>
                  </a:lnTo>
                  <a:lnTo>
                    <a:pt x="1013" y="1116"/>
                  </a:lnTo>
                  <a:lnTo>
                    <a:pt x="1006" y="973"/>
                  </a:lnTo>
                  <a:lnTo>
                    <a:pt x="988" y="836"/>
                  </a:lnTo>
                  <a:lnTo>
                    <a:pt x="964" y="709"/>
                  </a:lnTo>
                  <a:lnTo>
                    <a:pt x="933" y="593"/>
                  </a:lnTo>
                  <a:lnTo>
                    <a:pt x="903" y="492"/>
                  </a:lnTo>
                  <a:lnTo>
                    <a:pt x="873" y="409"/>
                  </a:lnTo>
                  <a:lnTo>
                    <a:pt x="850" y="347"/>
                  </a:lnTo>
                  <a:lnTo>
                    <a:pt x="833" y="307"/>
                  </a:lnTo>
                  <a:lnTo>
                    <a:pt x="826" y="293"/>
                  </a:lnTo>
                  <a:lnTo>
                    <a:pt x="827" y="218"/>
                  </a:lnTo>
                  <a:lnTo>
                    <a:pt x="810" y="166"/>
                  </a:lnTo>
                  <a:lnTo>
                    <a:pt x="784" y="135"/>
                  </a:lnTo>
                  <a:lnTo>
                    <a:pt x="749" y="120"/>
                  </a:lnTo>
                  <a:lnTo>
                    <a:pt x="714" y="117"/>
                  </a:lnTo>
                  <a:lnTo>
                    <a:pt x="682" y="120"/>
                  </a:lnTo>
                  <a:lnTo>
                    <a:pt x="659" y="126"/>
                  </a:lnTo>
                  <a:lnTo>
                    <a:pt x="651" y="128"/>
                  </a:lnTo>
                  <a:lnTo>
                    <a:pt x="641" y="110"/>
                  </a:lnTo>
                  <a:lnTo>
                    <a:pt x="628" y="89"/>
                  </a:lnTo>
                  <a:lnTo>
                    <a:pt x="614" y="67"/>
                  </a:lnTo>
                  <a:lnTo>
                    <a:pt x="598" y="47"/>
                  </a:lnTo>
                  <a:lnTo>
                    <a:pt x="578" y="28"/>
                  </a:lnTo>
                  <a:lnTo>
                    <a:pt x="558" y="14"/>
                  </a:lnTo>
                  <a:lnTo>
                    <a:pt x="537" y="4"/>
                  </a:lnTo>
                  <a:lnTo>
                    <a:pt x="515" y="0"/>
                  </a:lnTo>
                  <a:lnTo>
                    <a:pt x="488" y="3"/>
                  </a:lnTo>
                  <a:lnTo>
                    <a:pt x="465" y="11"/>
                  </a:lnTo>
                  <a:lnTo>
                    <a:pt x="442" y="24"/>
                  </a:lnTo>
                  <a:lnTo>
                    <a:pt x="424" y="40"/>
                  </a:lnTo>
                  <a:lnTo>
                    <a:pt x="407" y="60"/>
                  </a:lnTo>
                  <a:lnTo>
                    <a:pt x="392" y="82"/>
                  </a:lnTo>
                  <a:lnTo>
                    <a:pt x="378" y="105"/>
                  </a:lnTo>
                  <a:lnTo>
                    <a:pt x="367" y="128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600880" y="4498920"/>
            <a:ext cx="759240" cy="685800"/>
            <a:chOff x="5600880" y="4498920"/>
            <a:chExt cx="759240" cy="685800"/>
          </a:xfrm>
        </p:grpSpPr>
        <p:sp>
          <p:nvSpPr>
            <p:cNvPr id="332" name=""/>
            <p:cNvSpPr/>
            <p:nvPr/>
          </p:nvSpPr>
          <p:spPr>
            <a:xfrm>
              <a:off x="5600880" y="4498920"/>
              <a:ext cx="704880" cy="685800"/>
            </a:xfrm>
            <a:prstGeom prst="leftArrow">
              <a:avLst>
                <a:gd name="adj1" fmla="val 50472"/>
                <a:gd name="adj2" fmla="val 27313"/>
              </a:avLst>
            </a:pr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857920" y="465768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67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5216400" y="2274840"/>
            <a:ext cx="1252800" cy="1006560"/>
          </a:xfrm>
          <a:custGeom>
            <a:avLst/>
            <a:gdLst/>
            <a:ahLst/>
            <a:rect l="l" t="t" r="r" b="b"/>
            <a:pathLst>
              <a:path w="2113" h="1694">
                <a:moveTo>
                  <a:pt x="1709" y="913"/>
                </a:moveTo>
                <a:lnTo>
                  <a:pt x="1722" y="926"/>
                </a:lnTo>
                <a:lnTo>
                  <a:pt x="1735" y="939"/>
                </a:lnTo>
                <a:lnTo>
                  <a:pt x="1748" y="951"/>
                </a:lnTo>
                <a:lnTo>
                  <a:pt x="1761" y="965"/>
                </a:lnTo>
                <a:lnTo>
                  <a:pt x="1772" y="978"/>
                </a:lnTo>
                <a:lnTo>
                  <a:pt x="1781" y="992"/>
                </a:lnTo>
                <a:lnTo>
                  <a:pt x="1786" y="1007"/>
                </a:lnTo>
                <a:lnTo>
                  <a:pt x="1789" y="1025"/>
                </a:lnTo>
                <a:lnTo>
                  <a:pt x="1782" y="1038"/>
                </a:lnTo>
                <a:lnTo>
                  <a:pt x="1778" y="1055"/>
                </a:lnTo>
                <a:lnTo>
                  <a:pt x="1775" y="1071"/>
                </a:lnTo>
                <a:lnTo>
                  <a:pt x="1770" y="1083"/>
                </a:lnTo>
                <a:lnTo>
                  <a:pt x="1769" y="1092"/>
                </a:lnTo>
                <a:lnTo>
                  <a:pt x="1766" y="1100"/>
                </a:lnTo>
                <a:lnTo>
                  <a:pt x="1762" y="1107"/>
                </a:lnTo>
                <a:lnTo>
                  <a:pt x="1757" y="1114"/>
                </a:lnTo>
                <a:lnTo>
                  <a:pt x="1752" y="1121"/>
                </a:lnTo>
                <a:lnTo>
                  <a:pt x="1747" y="1127"/>
                </a:lnTo>
                <a:lnTo>
                  <a:pt x="1741" y="1134"/>
                </a:lnTo>
                <a:lnTo>
                  <a:pt x="1737" y="1141"/>
                </a:lnTo>
                <a:lnTo>
                  <a:pt x="1728" y="1138"/>
                </a:lnTo>
                <a:lnTo>
                  <a:pt x="1722" y="1129"/>
                </a:lnTo>
                <a:lnTo>
                  <a:pt x="1717" y="1120"/>
                </a:lnTo>
                <a:lnTo>
                  <a:pt x="1712" y="1111"/>
                </a:lnTo>
                <a:lnTo>
                  <a:pt x="1731" y="1076"/>
                </a:lnTo>
                <a:lnTo>
                  <a:pt x="1727" y="1062"/>
                </a:lnTo>
                <a:lnTo>
                  <a:pt x="1723" y="1048"/>
                </a:lnTo>
                <a:lnTo>
                  <a:pt x="1716" y="1035"/>
                </a:lnTo>
                <a:lnTo>
                  <a:pt x="1704" y="1028"/>
                </a:lnTo>
                <a:lnTo>
                  <a:pt x="1705" y="1038"/>
                </a:lnTo>
                <a:lnTo>
                  <a:pt x="1709" y="1047"/>
                </a:lnTo>
                <a:lnTo>
                  <a:pt x="1713" y="1058"/>
                </a:lnTo>
                <a:lnTo>
                  <a:pt x="1709" y="1069"/>
                </a:lnTo>
                <a:lnTo>
                  <a:pt x="1695" y="1072"/>
                </a:lnTo>
                <a:lnTo>
                  <a:pt x="1685" y="1070"/>
                </a:lnTo>
                <a:lnTo>
                  <a:pt x="1678" y="1062"/>
                </a:lnTo>
                <a:lnTo>
                  <a:pt x="1671" y="1051"/>
                </a:lnTo>
                <a:lnTo>
                  <a:pt x="1666" y="1039"/>
                </a:lnTo>
                <a:lnTo>
                  <a:pt x="1660" y="1025"/>
                </a:lnTo>
                <a:lnTo>
                  <a:pt x="1652" y="1013"/>
                </a:lnTo>
                <a:lnTo>
                  <a:pt x="1642" y="1003"/>
                </a:lnTo>
                <a:lnTo>
                  <a:pt x="1634" y="996"/>
                </a:lnTo>
                <a:lnTo>
                  <a:pt x="1625" y="990"/>
                </a:lnTo>
                <a:lnTo>
                  <a:pt x="1618" y="983"/>
                </a:lnTo>
                <a:lnTo>
                  <a:pt x="1612" y="975"/>
                </a:lnTo>
                <a:lnTo>
                  <a:pt x="1607" y="967"/>
                </a:lnTo>
                <a:lnTo>
                  <a:pt x="1604" y="957"/>
                </a:lnTo>
                <a:lnTo>
                  <a:pt x="1601" y="948"/>
                </a:lnTo>
                <a:lnTo>
                  <a:pt x="1600" y="938"/>
                </a:lnTo>
                <a:lnTo>
                  <a:pt x="1581" y="935"/>
                </a:lnTo>
                <a:lnTo>
                  <a:pt x="1563" y="929"/>
                </a:lnTo>
                <a:lnTo>
                  <a:pt x="1546" y="922"/>
                </a:lnTo>
                <a:lnTo>
                  <a:pt x="1528" y="914"/>
                </a:lnTo>
                <a:lnTo>
                  <a:pt x="1511" y="907"/>
                </a:lnTo>
                <a:lnTo>
                  <a:pt x="1493" y="902"/>
                </a:lnTo>
                <a:lnTo>
                  <a:pt x="1475" y="899"/>
                </a:lnTo>
                <a:lnTo>
                  <a:pt x="1456" y="899"/>
                </a:lnTo>
                <a:lnTo>
                  <a:pt x="1454" y="906"/>
                </a:lnTo>
                <a:lnTo>
                  <a:pt x="1451" y="913"/>
                </a:lnTo>
                <a:lnTo>
                  <a:pt x="1450" y="920"/>
                </a:lnTo>
                <a:lnTo>
                  <a:pt x="1453" y="927"/>
                </a:lnTo>
                <a:lnTo>
                  <a:pt x="1448" y="926"/>
                </a:lnTo>
                <a:lnTo>
                  <a:pt x="1445" y="921"/>
                </a:lnTo>
                <a:lnTo>
                  <a:pt x="1442" y="914"/>
                </a:lnTo>
                <a:lnTo>
                  <a:pt x="1440" y="907"/>
                </a:lnTo>
                <a:lnTo>
                  <a:pt x="1436" y="915"/>
                </a:lnTo>
                <a:lnTo>
                  <a:pt x="1438" y="922"/>
                </a:lnTo>
                <a:lnTo>
                  <a:pt x="1441" y="928"/>
                </a:lnTo>
                <a:lnTo>
                  <a:pt x="1440" y="938"/>
                </a:lnTo>
                <a:lnTo>
                  <a:pt x="1431" y="934"/>
                </a:lnTo>
                <a:lnTo>
                  <a:pt x="1425" y="927"/>
                </a:lnTo>
                <a:lnTo>
                  <a:pt x="1422" y="917"/>
                </a:lnTo>
                <a:lnTo>
                  <a:pt x="1420" y="907"/>
                </a:lnTo>
                <a:lnTo>
                  <a:pt x="1408" y="921"/>
                </a:lnTo>
                <a:lnTo>
                  <a:pt x="1406" y="940"/>
                </a:lnTo>
                <a:lnTo>
                  <a:pt x="1407" y="961"/>
                </a:lnTo>
                <a:lnTo>
                  <a:pt x="1407" y="981"/>
                </a:lnTo>
                <a:lnTo>
                  <a:pt x="1398" y="978"/>
                </a:lnTo>
                <a:lnTo>
                  <a:pt x="1393" y="968"/>
                </a:lnTo>
                <a:lnTo>
                  <a:pt x="1386" y="958"/>
                </a:lnTo>
                <a:lnTo>
                  <a:pt x="1376" y="951"/>
                </a:lnTo>
                <a:lnTo>
                  <a:pt x="1374" y="955"/>
                </a:lnTo>
                <a:lnTo>
                  <a:pt x="1374" y="959"/>
                </a:lnTo>
                <a:lnTo>
                  <a:pt x="1374" y="964"/>
                </a:lnTo>
                <a:lnTo>
                  <a:pt x="1374" y="968"/>
                </a:lnTo>
                <a:lnTo>
                  <a:pt x="1370" y="969"/>
                </a:lnTo>
                <a:lnTo>
                  <a:pt x="1368" y="965"/>
                </a:lnTo>
                <a:lnTo>
                  <a:pt x="1365" y="959"/>
                </a:lnTo>
                <a:lnTo>
                  <a:pt x="1363" y="957"/>
                </a:lnTo>
                <a:lnTo>
                  <a:pt x="1363" y="943"/>
                </a:lnTo>
                <a:lnTo>
                  <a:pt x="1362" y="927"/>
                </a:lnTo>
                <a:lnTo>
                  <a:pt x="1356" y="914"/>
                </a:lnTo>
                <a:lnTo>
                  <a:pt x="1343" y="907"/>
                </a:lnTo>
                <a:lnTo>
                  <a:pt x="1338" y="888"/>
                </a:lnTo>
                <a:lnTo>
                  <a:pt x="1334" y="870"/>
                </a:lnTo>
                <a:lnTo>
                  <a:pt x="1328" y="853"/>
                </a:lnTo>
                <a:lnTo>
                  <a:pt x="1324" y="835"/>
                </a:lnTo>
                <a:lnTo>
                  <a:pt x="1313" y="823"/>
                </a:lnTo>
                <a:lnTo>
                  <a:pt x="1302" y="812"/>
                </a:lnTo>
                <a:lnTo>
                  <a:pt x="1291" y="801"/>
                </a:lnTo>
                <a:lnTo>
                  <a:pt x="1281" y="789"/>
                </a:lnTo>
                <a:lnTo>
                  <a:pt x="1273" y="777"/>
                </a:lnTo>
                <a:lnTo>
                  <a:pt x="1267" y="764"/>
                </a:lnTo>
                <a:lnTo>
                  <a:pt x="1262" y="748"/>
                </a:lnTo>
                <a:lnTo>
                  <a:pt x="1261" y="731"/>
                </a:lnTo>
                <a:lnTo>
                  <a:pt x="1258" y="721"/>
                </a:lnTo>
                <a:lnTo>
                  <a:pt x="1253" y="711"/>
                </a:lnTo>
                <a:lnTo>
                  <a:pt x="1248" y="702"/>
                </a:lnTo>
                <a:lnTo>
                  <a:pt x="1242" y="694"/>
                </a:lnTo>
                <a:lnTo>
                  <a:pt x="1236" y="686"/>
                </a:lnTo>
                <a:lnTo>
                  <a:pt x="1231" y="678"/>
                </a:lnTo>
                <a:lnTo>
                  <a:pt x="1227" y="669"/>
                </a:lnTo>
                <a:lnTo>
                  <a:pt x="1225" y="659"/>
                </a:lnTo>
                <a:lnTo>
                  <a:pt x="1217" y="656"/>
                </a:lnTo>
                <a:lnTo>
                  <a:pt x="1202" y="668"/>
                </a:lnTo>
                <a:lnTo>
                  <a:pt x="1184" y="678"/>
                </a:lnTo>
                <a:lnTo>
                  <a:pt x="1163" y="684"/>
                </a:lnTo>
                <a:lnTo>
                  <a:pt x="1143" y="692"/>
                </a:lnTo>
                <a:lnTo>
                  <a:pt x="1125" y="700"/>
                </a:lnTo>
                <a:lnTo>
                  <a:pt x="1108" y="711"/>
                </a:lnTo>
                <a:lnTo>
                  <a:pt x="1097" y="726"/>
                </a:lnTo>
                <a:lnTo>
                  <a:pt x="1091" y="747"/>
                </a:lnTo>
                <a:lnTo>
                  <a:pt x="1085" y="749"/>
                </a:lnTo>
                <a:lnTo>
                  <a:pt x="1081" y="744"/>
                </a:lnTo>
                <a:lnTo>
                  <a:pt x="1075" y="742"/>
                </a:lnTo>
                <a:lnTo>
                  <a:pt x="1071" y="747"/>
                </a:lnTo>
                <a:lnTo>
                  <a:pt x="1065" y="738"/>
                </a:lnTo>
                <a:lnTo>
                  <a:pt x="1069" y="729"/>
                </a:lnTo>
                <a:lnTo>
                  <a:pt x="1074" y="722"/>
                </a:lnTo>
                <a:lnTo>
                  <a:pt x="1078" y="714"/>
                </a:lnTo>
                <a:lnTo>
                  <a:pt x="1071" y="717"/>
                </a:lnTo>
                <a:lnTo>
                  <a:pt x="1064" y="721"/>
                </a:lnTo>
                <a:lnTo>
                  <a:pt x="1059" y="724"/>
                </a:lnTo>
                <a:lnTo>
                  <a:pt x="1053" y="728"/>
                </a:lnTo>
                <a:lnTo>
                  <a:pt x="1048" y="732"/>
                </a:lnTo>
                <a:lnTo>
                  <a:pt x="1043" y="737"/>
                </a:lnTo>
                <a:lnTo>
                  <a:pt x="1041" y="743"/>
                </a:lnTo>
                <a:lnTo>
                  <a:pt x="1039" y="749"/>
                </a:lnTo>
                <a:lnTo>
                  <a:pt x="1040" y="777"/>
                </a:lnTo>
                <a:lnTo>
                  <a:pt x="1034" y="771"/>
                </a:lnTo>
                <a:lnTo>
                  <a:pt x="1029" y="765"/>
                </a:lnTo>
                <a:lnTo>
                  <a:pt x="1025" y="757"/>
                </a:lnTo>
                <a:lnTo>
                  <a:pt x="1018" y="749"/>
                </a:lnTo>
                <a:lnTo>
                  <a:pt x="1020" y="746"/>
                </a:lnTo>
                <a:lnTo>
                  <a:pt x="1021" y="743"/>
                </a:lnTo>
                <a:lnTo>
                  <a:pt x="1020" y="739"/>
                </a:lnTo>
                <a:lnTo>
                  <a:pt x="1020" y="735"/>
                </a:lnTo>
                <a:lnTo>
                  <a:pt x="1009" y="733"/>
                </a:lnTo>
                <a:lnTo>
                  <a:pt x="1020" y="716"/>
                </a:lnTo>
                <a:lnTo>
                  <a:pt x="1014" y="715"/>
                </a:lnTo>
                <a:lnTo>
                  <a:pt x="1009" y="720"/>
                </a:lnTo>
                <a:lnTo>
                  <a:pt x="1004" y="727"/>
                </a:lnTo>
                <a:lnTo>
                  <a:pt x="998" y="733"/>
                </a:lnTo>
                <a:lnTo>
                  <a:pt x="1002" y="743"/>
                </a:lnTo>
                <a:lnTo>
                  <a:pt x="1001" y="755"/>
                </a:lnTo>
                <a:lnTo>
                  <a:pt x="995" y="767"/>
                </a:lnTo>
                <a:lnTo>
                  <a:pt x="990" y="778"/>
                </a:lnTo>
                <a:lnTo>
                  <a:pt x="986" y="788"/>
                </a:lnTo>
                <a:lnTo>
                  <a:pt x="989" y="794"/>
                </a:lnTo>
                <a:lnTo>
                  <a:pt x="997" y="798"/>
                </a:lnTo>
                <a:lnTo>
                  <a:pt x="1017" y="797"/>
                </a:lnTo>
                <a:lnTo>
                  <a:pt x="1030" y="790"/>
                </a:lnTo>
                <a:lnTo>
                  <a:pt x="1043" y="784"/>
                </a:lnTo>
                <a:lnTo>
                  <a:pt x="1058" y="779"/>
                </a:lnTo>
                <a:lnTo>
                  <a:pt x="1073" y="775"/>
                </a:lnTo>
                <a:lnTo>
                  <a:pt x="1087" y="771"/>
                </a:lnTo>
                <a:lnTo>
                  <a:pt x="1103" y="769"/>
                </a:lnTo>
                <a:lnTo>
                  <a:pt x="1118" y="767"/>
                </a:lnTo>
                <a:lnTo>
                  <a:pt x="1134" y="767"/>
                </a:lnTo>
                <a:lnTo>
                  <a:pt x="1149" y="767"/>
                </a:lnTo>
                <a:lnTo>
                  <a:pt x="1163" y="768"/>
                </a:lnTo>
                <a:lnTo>
                  <a:pt x="1179" y="770"/>
                </a:lnTo>
                <a:lnTo>
                  <a:pt x="1193" y="775"/>
                </a:lnTo>
                <a:lnTo>
                  <a:pt x="1207" y="779"/>
                </a:lnTo>
                <a:lnTo>
                  <a:pt x="1222" y="786"/>
                </a:lnTo>
                <a:lnTo>
                  <a:pt x="1235" y="792"/>
                </a:lnTo>
                <a:lnTo>
                  <a:pt x="1247" y="801"/>
                </a:lnTo>
                <a:lnTo>
                  <a:pt x="1260" y="812"/>
                </a:lnTo>
                <a:lnTo>
                  <a:pt x="1271" y="825"/>
                </a:lnTo>
                <a:lnTo>
                  <a:pt x="1278" y="840"/>
                </a:lnTo>
                <a:lnTo>
                  <a:pt x="1282" y="858"/>
                </a:lnTo>
                <a:lnTo>
                  <a:pt x="1283" y="877"/>
                </a:lnTo>
                <a:lnTo>
                  <a:pt x="1284" y="895"/>
                </a:lnTo>
                <a:lnTo>
                  <a:pt x="1283" y="915"/>
                </a:lnTo>
                <a:lnTo>
                  <a:pt x="1281" y="935"/>
                </a:lnTo>
                <a:lnTo>
                  <a:pt x="1267" y="951"/>
                </a:lnTo>
                <a:lnTo>
                  <a:pt x="1251" y="969"/>
                </a:lnTo>
                <a:lnTo>
                  <a:pt x="1238" y="988"/>
                </a:lnTo>
                <a:lnTo>
                  <a:pt x="1225" y="1007"/>
                </a:lnTo>
                <a:lnTo>
                  <a:pt x="1214" y="1029"/>
                </a:lnTo>
                <a:lnTo>
                  <a:pt x="1205" y="1053"/>
                </a:lnTo>
                <a:lnTo>
                  <a:pt x="1198" y="1077"/>
                </a:lnTo>
                <a:lnTo>
                  <a:pt x="1195" y="1102"/>
                </a:lnTo>
                <a:lnTo>
                  <a:pt x="1206" y="1106"/>
                </a:lnTo>
                <a:lnTo>
                  <a:pt x="1217" y="1109"/>
                </a:lnTo>
                <a:lnTo>
                  <a:pt x="1228" y="1110"/>
                </a:lnTo>
                <a:lnTo>
                  <a:pt x="1240" y="1107"/>
                </a:lnTo>
                <a:lnTo>
                  <a:pt x="1251" y="1105"/>
                </a:lnTo>
                <a:lnTo>
                  <a:pt x="1261" y="1103"/>
                </a:lnTo>
                <a:lnTo>
                  <a:pt x="1271" y="1100"/>
                </a:lnTo>
                <a:lnTo>
                  <a:pt x="1280" y="1098"/>
                </a:lnTo>
                <a:lnTo>
                  <a:pt x="1390" y="1089"/>
                </a:lnTo>
                <a:lnTo>
                  <a:pt x="1408" y="1094"/>
                </a:lnTo>
                <a:lnTo>
                  <a:pt x="1427" y="1101"/>
                </a:lnTo>
                <a:lnTo>
                  <a:pt x="1447" y="1106"/>
                </a:lnTo>
                <a:lnTo>
                  <a:pt x="1465" y="1112"/>
                </a:lnTo>
                <a:lnTo>
                  <a:pt x="1485" y="1116"/>
                </a:lnTo>
                <a:lnTo>
                  <a:pt x="1504" y="1118"/>
                </a:lnTo>
                <a:lnTo>
                  <a:pt x="1524" y="1117"/>
                </a:lnTo>
                <a:lnTo>
                  <a:pt x="1545" y="1113"/>
                </a:lnTo>
                <a:lnTo>
                  <a:pt x="1541" y="1118"/>
                </a:lnTo>
                <a:lnTo>
                  <a:pt x="1540" y="1125"/>
                </a:lnTo>
                <a:lnTo>
                  <a:pt x="1542" y="1133"/>
                </a:lnTo>
                <a:lnTo>
                  <a:pt x="1547" y="1138"/>
                </a:lnTo>
                <a:lnTo>
                  <a:pt x="1556" y="1143"/>
                </a:lnTo>
                <a:lnTo>
                  <a:pt x="1563" y="1148"/>
                </a:lnTo>
                <a:lnTo>
                  <a:pt x="1570" y="1155"/>
                </a:lnTo>
                <a:lnTo>
                  <a:pt x="1578" y="1160"/>
                </a:lnTo>
                <a:lnTo>
                  <a:pt x="1584" y="1167"/>
                </a:lnTo>
                <a:lnTo>
                  <a:pt x="1591" y="1173"/>
                </a:lnTo>
                <a:lnTo>
                  <a:pt x="1598" y="1180"/>
                </a:lnTo>
                <a:lnTo>
                  <a:pt x="1607" y="1185"/>
                </a:lnTo>
                <a:lnTo>
                  <a:pt x="1615" y="1191"/>
                </a:lnTo>
                <a:lnTo>
                  <a:pt x="1623" y="1196"/>
                </a:lnTo>
                <a:lnTo>
                  <a:pt x="1630" y="1203"/>
                </a:lnTo>
                <a:lnTo>
                  <a:pt x="1638" y="1212"/>
                </a:lnTo>
                <a:lnTo>
                  <a:pt x="1633" y="1212"/>
                </a:lnTo>
                <a:lnTo>
                  <a:pt x="1631" y="1237"/>
                </a:lnTo>
                <a:lnTo>
                  <a:pt x="1627" y="1237"/>
                </a:lnTo>
                <a:lnTo>
                  <a:pt x="1625" y="1250"/>
                </a:lnTo>
                <a:lnTo>
                  <a:pt x="1629" y="1260"/>
                </a:lnTo>
                <a:lnTo>
                  <a:pt x="1631" y="1271"/>
                </a:lnTo>
                <a:lnTo>
                  <a:pt x="1624" y="1281"/>
                </a:lnTo>
                <a:lnTo>
                  <a:pt x="1614" y="1287"/>
                </a:lnTo>
                <a:lnTo>
                  <a:pt x="1608" y="1294"/>
                </a:lnTo>
                <a:lnTo>
                  <a:pt x="1604" y="1305"/>
                </a:lnTo>
                <a:lnTo>
                  <a:pt x="1601" y="1316"/>
                </a:lnTo>
                <a:lnTo>
                  <a:pt x="1597" y="1326"/>
                </a:lnTo>
                <a:lnTo>
                  <a:pt x="1593" y="1334"/>
                </a:lnTo>
                <a:lnTo>
                  <a:pt x="1585" y="1338"/>
                </a:lnTo>
                <a:lnTo>
                  <a:pt x="1574" y="1336"/>
                </a:lnTo>
                <a:lnTo>
                  <a:pt x="1572" y="1339"/>
                </a:lnTo>
                <a:lnTo>
                  <a:pt x="1572" y="1343"/>
                </a:lnTo>
                <a:lnTo>
                  <a:pt x="1572" y="1346"/>
                </a:lnTo>
                <a:lnTo>
                  <a:pt x="1572" y="1350"/>
                </a:lnTo>
                <a:lnTo>
                  <a:pt x="1564" y="1346"/>
                </a:lnTo>
                <a:lnTo>
                  <a:pt x="1558" y="1340"/>
                </a:lnTo>
                <a:lnTo>
                  <a:pt x="1552" y="1334"/>
                </a:lnTo>
                <a:lnTo>
                  <a:pt x="1547" y="1327"/>
                </a:lnTo>
                <a:lnTo>
                  <a:pt x="1551" y="1315"/>
                </a:lnTo>
                <a:lnTo>
                  <a:pt x="1558" y="1303"/>
                </a:lnTo>
                <a:lnTo>
                  <a:pt x="1561" y="1291"/>
                </a:lnTo>
                <a:lnTo>
                  <a:pt x="1558" y="1276"/>
                </a:lnTo>
                <a:lnTo>
                  <a:pt x="1550" y="1268"/>
                </a:lnTo>
                <a:lnTo>
                  <a:pt x="1542" y="1258"/>
                </a:lnTo>
                <a:lnTo>
                  <a:pt x="1535" y="1249"/>
                </a:lnTo>
                <a:lnTo>
                  <a:pt x="1526" y="1241"/>
                </a:lnTo>
                <a:lnTo>
                  <a:pt x="1517" y="1235"/>
                </a:lnTo>
                <a:lnTo>
                  <a:pt x="1506" y="1230"/>
                </a:lnTo>
                <a:lnTo>
                  <a:pt x="1493" y="1229"/>
                </a:lnTo>
                <a:lnTo>
                  <a:pt x="1479" y="1232"/>
                </a:lnTo>
                <a:lnTo>
                  <a:pt x="1485" y="1238"/>
                </a:lnTo>
                <a:lnTo>
                  <a:pt x="1493" y="1245"/>
                </a:lnTo>
                <a:lnTo>
                  <a:pt x="1502" y="1252"/>
                </a:lnTo>
                <a:lnTo>
                  <a:pt x="1509" y="1259"/>
                </a:lnTo>
                <a:lnTo>
                  <a:pt x="1517" y="1267"/>
                </a:lnTo>
                <a:lnTo>
                  <a:pt x="1523" y="1276"/>
                </a:lnTo>
                <a:lnTo>
                  <a:pt x="1527" y="1287"/>
                </a:lnTo>
                <a:lnTo>
                  <a:pt x="1528" y="1298"/>
                </a:lnTo>
                <a:lnTo>
                  <a:pt x="1523" y="1303"/>
                </a:lnTo>
                <a:lnTo>
                  <a:pt x="1514" y="1301"/>
                </a:lnTo>
                <a:lnTo>
                  <a:pt x="1506" y="1296"/>
                </a:lnTo>
                <a:lnTo>
                  <a:pt x="1501" y="1292"/>
                </a:lnTo>
                <a:lnTo>
                  <a:pt x="1497" y="1283"/>
                </a:lnTo>
                <a:lnTo>
                  <a:pt x="1492" y="1280"/>
                </a:lnTo>
                <a:lnTo>
                  <a:pt x="1484" y="1278"/>
                </a:lnTo>
                <a:lnTo>
                  <a:pt x="1478" y="1278"/>
                </a:lnTo>
                <a:lnTo>
                  <a:pt x="1471" y="1278"/>
                </a:lnTo>
                <a:lnTo>
                  <a:pt x="1465" y="1277"/>
                </a:lnTo>
                <a:lnTo>
                  <a:pt x="1462" y="1271"/>
                </a:lnTo>
                <a:lnTo>
                  <a:pt x="1462" y="1261"/>
                </a:lnTo>
                <a:lnTo>
                  <a:pt x="1450" y="1257"/>
                </a:lnTo>
                <a:lnTo>
                  <a:pt x="1438" y="1251"/>
                </a:lnTo>
                <a:lnTo>
                  <a:pt x="1426" y="1245"/>
                </a:lnTo>
                <a:lnTo>
                  <a:pt x="1416" y="1237"/>
                </a:lnTo>
                <a:lnTo>
                  <a:pt x="1406" y="1228"/>
                </a:lnTo>
                <a:lnTo>
                  <a:pt x="1396" y="1220"/>
                </a:lnTo>
                <a:lnTo>
                  <a:pt x="1389" y="1210"/>
                </a:lnTo>
                <a:lnTo>
                  <a:pt x="1382" y="1199"/>
                </a:lnTo>
                <a:lnTo>
                  <a:pt x="1373" y="1200"/>
                </a:lnTo>
                <a:lnTo>
                  <a:pt x="1363" y="1196"/>
                </a:lnTo>
                <a:lnTo>
                  <a:pt x="1354" y="1193"/>
                </a:lnTo>
                <a:lnTo>
                  <a:pt x="1346" y="1189"/>
                </a:lnTo>
                <a:lnTo>
                  <a:pt x="1337" y="1185"/>
                </a:lnTo>
                <a:lnTo>
                  <a:pt x="1329" y="1185"/>
                </a:lnTo>
                <a:lnTo>
                  <a:pt x="1322" y="1190"/>
                </a:lnTo>
                <a:lnTo>
                  <a:pt x="1314" y="1201"/>
                </a:lnTo>
                <a:lnTo>
                  <a:pt x="1311" y="1204"/>
                </a:lnTo>
                <a:lnTo>
                  <a:pt x="1304" y="1206"/>
                </a:lnTo>
                <a:lnTo>
                  <a:pt x="1298" y="1209"/>
                </a:lnTo>
                <a:lnTo>
                  <a:pt x="1292" y="1211"/>
                </a:lnTo>
                <a:lnTo>
                  <a:pt x="1286" y="1214"/>
                </a:lnTo>
                <a:lnTo>
                  <a:pt x="1284" y="1217"/>
                </a:lnTo>
                <a:lnTo>
                  <a:pt x="1284" y="1223"/>
                </a:lnTo>
                <a:lnTo>
                  <a:pt x="1289" y="1229"/>
                </a:lnTo>
                <a:lnTo>
                  <a:pt x="1291" y="1233"/>
                </a:lnTo>
                <a:lnTo>
                  <a:pt x="1294" y="1236"/>
                </a:lnTo>
                <a:lnTo>
                  <a:pt x="1295" y="1239"/>
                </a:lnTo>
                <a:lnTo>
                  <a:pt x="1294" y="1243"/>
                </a:lnTo>
                <a:lnTo>
                  <a:pt x="1274" y="1240"/>
                </a:lnTo>
                <a:lnTo>
                  <a:pt x="1254" y="1235"/>
                </a:lnTo>
                <a:lnTo>
                  <a:pt x="1234" y="1230"/>
                </a:lnTo>
                <a:lnTo>
                  <a:pt x="1213" y="1226"/>
                </a:lnTo>
                <a:lnTo>
                  <a:pt x="1193" y="1225"/>
                </a:lnTo>
                <a:lnTo>
                  <a:pt x="1174" y="1227"/>
                </a:lnTo>
                <a:lnTo>
                  <a:pt x="1158" y="1236"/>
                </a:lnTo>
                <a:lnTo>
                  <a:pt x="1143" y="1250"/>
                </a:lnTo>
                <a:lnTo>
                  <a:pt x="1162" y="1252"/>
                </a:lnTo>
                <a:lnTo>
                  <a:pt x="1180" y="1254"/>
                </a:lnTo>
                <a:lnTo>
                  <a:pt x="1197" y="1255"/>
                </a:lnTo>
                <a:lnTo>
                  <a:pt x="1215" y="1256"/>
                </a:lnTo>
                <a:lnTo>
                  <a:pt x="1232" y="1257"/>
                </a:lnTo>
                <a:lnTo>
                  <a:pt x="1251" y="1258"/>
                </a:lnTo>
                <a:lnTo>
                  <a:pt x="1270" y="1258"/>
                </a:lnTo>
                <a:lnTo>
                  <a:pt x="1289" y="1259"/>
                </a:lnTo>
                <a:lnTo>
                  <a:pt x="1305" y="1269"/>
                </a:lnTo>
                <a:lnTo>
                  <a:pt x="1323" y="1278"/>
                </a:lnTo>
                <a:lnTo>
                  <a:pt x="1341" y="1288"/>
                </a:lnTo>
                <a:lnTo>
                  <a:pt x="1360" y="1298"/>
                </a:lnTo>
                <a:lnTo>
                  <a:pt x="1378" y="1307"/>
                </a:lnTo>
                <a:lnTo>
                  <a:pt x="1396" y="1316"/>
                </a:lnTo>
                <a:lnTo>
                  <a:pt x="1415" y="1325"/>
                </a:lnTo>
                <a:lnTo>
                  <a:pt x="1434" y="1333"/>
                </a:lnTo>
                <a:lnTo>
                  <a:pt x="1433" y="1341"/>
                </a:lnTo>
                <a:lnTo>
                  <a:pt x="1436" y="1349"/>
                </a:lnTo>
                <a:lnTo>
                  <a:pt x="1440" y="1355"/>
                </a:lnTo>
                <a:lnTo>
                  <a:pt x="1446" y="1360"/>
                </a:lnTo>
                <a:lnTo>
                  <a:pt x="1444" y="1373"/>
                </a:lnTo>
                <a:lnTo>
                  <a:pt x="1439" y="1385"/>
                </a:lnTo>
                <a:lnTo>
                  <a:pt x="1434" y="1399"/>
                </a:lnTo>
                <a:lnTo>
                  <a:pt x="1428" y="1412"/>
                </a:lnTo>
                <a:lnTo>
                  <a:pt x="1422" y="1426"/>
                </a:lnTo>
                <a:lnTo>
                  <a:pt x="1417" y="1440"/>
                </a:lnTo>
                <a:lnTo>
                  <a:pt x="1414" y="1455"/>
                </a:lnTo>
                <a:lnTo>
                  <a:pt x="1413" y="1471"/>
                </a:lnTo>
                <a:lnTo>
                  <a:pt x="1409" y="1474"/>
                </a:lnTo>
                <a:lnTo>
                  <a:pt x="1406" y="1479"/>
                </a:lnTo>
                <a:lnTo>
                  <a:pt x="1403" y="1481"/>
                </a:lnTo>
                <a:lnTo>
                  <a:pt x="1396" y="1479"/>
                </a:lnTo>
                <a:lnTo>
                  <a:pt x="1396" y="1474"/>
                </a:lnTo>
                <a:lnTo>
                  <a:pt x="1396" y="1471"/>
                </a:lnTo>
                <a:lnTo>
                  <a:pt x="1395" y="1468"/>
                </a:lnTo>
                <a:lnTo>
                  <a:pt x="1393" y="1465"/>
                </a:lnTo>
                <a:lnTo>
                  <a:pt x="1387" y="1469"/>
                </a:lnTo>
                <a:lnTo>
                  <a:pt x="1382" y="1474"/>
                </a:lnTo>
                <a:lnTo>
                  <a:pt x="1378" y="1480"/>
                </a:lnTo>
                <a:lnTo>
                  <a:pt x="1374" y="1486"/>
                </a:lnTo>
                <a:lnTo>
                  <a:pt x="1354" y="1484"/>
                </a:lnTo>
                <a:lnTo>
                  <a:pt x="1354" y="1473"/>
                </a:lnTo>
                <a:lnTo>
                  <a:pt x="1358" y="1462"/>
                </a:lnTo>
                <a:lnTo>
                  <a:pt x="1362" y="1451"/>
                </a:lnTo>
                <a:lnTo>
                  <a:pt x="1367" y="1440"/>
                </a:lnTo>
                <a:lnTo>
                  <a:pt x="1370" y="1430"/>
                </a:lnTo>
                <a:lnTo>
                  <a:pt x="1369" y="1421"/>
                </a:lnTo>
                <a:lnTo>
                  <a:pt x="1362" y="1412"/>
                </a:lnTo>
                <a:lnTo>
                  <a:pt x="1349" y="1405"/>
                </a:lnTo>
                <a:lnTo>
                  <a:pt x="1337" y="1407"/>
                </a:lnTo>
                <a:lnTo>
                  <a:pt x="1325" y="1406"/>
                </a:lnTo>
                <a:lnTo>
                  <a:pt x="1313" y="1405"/>
                </a:lnTo>
                <a:lnTo>
                  <a:pt x="1301" y="1402"/>
                </a:lnTo>
                <a:lnTo>
                  <a:pt x="1287" y="1400"/>
                </a:lnTo>
                <a:lnTo>
                  <a:pt x="1275" y="1397"/>
                </a:lnTo>
                <a:lnTo>
                  <a:pt x="1262" y="1396"/>
                </a:lnTo>
                <a:lnTo>
                  <a:pt x="1250" y="1396"/>
                </a:lnTo>
                <a:lnTo>
                  <a:pt x="1241" y="1391"/>
                </a:lnTo>
                <a:lnTo>
                  <a:pt x="1235" y="1383"/>
                </a:lnTo>
                <a:lnTo>
                  <a:pt x="1229" y="1374"/>
                </a:lnTo>
                <a:lnTo>
                  <a:pt x="1223" y="1365"/>
                </a:lnTo>
                <a:lnTo>
                  <a:pt x="1216" y="1357"/>
                </a:lnTo>
                <a:lnTo>
                  <a:pt x="1207" y="1351"/>
                </a:lnTo>
                <a:lnTo>
                  <a:pt x="1196" y="1350"/>
                </a:lnTo>
                <a:lnTo>
                  <a:pt x="1182" y="1352"/>
                </a:lnTo>
                <a:lnTo>
                  <a:pt x="1195" y="1361"/>
                </a:lnTo>
                <a:lnTo>
                  <a:pt x="1191" y="1366"/>
                </a:lnTo>
                <a:lnTo>
                  <a:pt x="1185" y="1367"/>
                </a:lnTo>
                <a:lnTo>
                  <a:pt x="1180" y="1366"/>
                </a:lnTo>
                <a:lnTo>
                  <a:pt x="1173" y="1363"/>
                </a:lnTo>
                <a:lnTo>
                  <a:pt x="1167" y="1360"/>
                </a:lnTo>
                <a:lnTo>
                  <a:pt x="1159" y="1358"/>
                </a:lnTo>
                <a:lnTo>
                  <a:pt x="1151" y="1357"/>
                </a:lnTo>
                <a:lnTo>
                  <a:pt x="1143" y="1358"/>
                </a:lnTo>
                <a:lnTo>
                  <a:pt x="1123" y="1360"/>
                </a:lnTo>
                <a:lnTo>
                  <a:pt x="1101" y="1357"/>
                </a:lnTo>
                <a:lnTo>
                  <a:pt x="1080" y="1351"/>
                </a:lnTo>
                <a:lnTo>
                  <a:pt x="1060" y="1345"/>
                </a:lnTo>
                <a:lnTo>
                  <a:pt x="1041" y="1341"/>
                </a:lnTo>
                <a:lnTo>
                  <a:pt x="1026" y="1344"/>
                </a:lnTo>
                <a:lnTo>
                  <a:pt x="1013" y="1352"/>
                </a:lnTo>
                <a:lnTo>
                  <a:pt x="1004" y="1371"/>
                </a:lnTo>
                <a:lnTo>
                  <a:pt x="995" y="1371"/>
                </a:lnTo>
                <a:lnTo>
                  <a:pt x="990" y="1377"/>
                </a:lnTo>
                <a:lnTo>
                  <a:pt x="985" y="1385"/>
                </a:lnTo>
                <a:lnTo>
                  <a:pt x="984" y="1394"/>
                </a:lnTo>
                <a:lnTo>
                  <a:pt x="978" y="1381"/>
                </a:lnTo>
                <a:lnTo>
                  <a:pt x="971" y="1368"/>
                </a:lnTo>
                <a:lnTo>
                  <a:pt x="969" y="1351"/>
                </a:lnTo>
                <a:lnTo>
                  <a:pt x="971" y="1333"/>
                </a:lnTo>
                <a:lnTo>
                  <a:pt x="963" y="1336"/>
                </a:lnTo>
                <a:lnTo>
                  <a:pt x="932" y="1405"/>
                </a:lnTo>
                <a:lnTo>
                  <a:pt x="929" y="1397"/>
                </a:lnTo>
                <a:lnTo>
                  <a:pt x="928" y="1384"/>
                </a:lnTo>
                <a:lnTo>
                  <a:pt x="929" y="1369"/>
                </a:lnTo>
                <a:lnTo>
                  <a:pt x="929" y="1355"/>
                </a:lnTo>
                <a:lnTo>
                  <a:pt x="921" y="1356"/>
                </a:lnTo>
                <a:lnTo>
                  <a:pt x="918" y="1365"/>
                </a:lnTo>
                <a:lnTo>
                  <a:pt x="915" y="1377"/>
                </a:lnTo>
                <a:lnTo>
                  <a:pt x="908" y="1385"/>
                </a:lnTo>
                <a:lnTo>
                  <a:pt x="910" y="1388"/>
                </a:lnTo>
                <a:lnTo>
                  <a:pt x="907" y="1393"/>
                </a:lnTo>
                <a:lnTo>
                  <a:pt x="896" y="1376"/>
                </a:lnTo>
                <a:lnTo>
                  <a:pt x="890" y="1357"/>
                </a:lnTo>
                <a:lnTo>
                  <a:pt x="888" y="1337"/>
                </a:lnTo>
                <a:lnTo>
                  <a:pt x="890" y="1315"/>
                </a:lnTo>
                <a:lnTo>
                  <a:pt x="894" y="1294"/>
                </a:lnTo>
                <a:lnTo>
                  <a:pt x="899" y="1273"/>
                </a:lnTo>
                <a:lnTo>
                  <a:pt x="904" y="1251"/>
                </a:lnTo>
                <a:lnTo>
                  <a:pt x="908" y="1232"/>
                </a:lnTo>
                <a:lnTo>
                  <a:pt x="917" y="1216"/>
                </a:lnTo>
                <a:lnTo>
                  <a:pt x="928" y="1202"/>
                </a:lnTo>
                <a:lnTo>
                  <a:pt x="939" y="1189"/>
                </a:lnTo>
                <a:lnTo>
                  <a:pt x="950" y="1174"/>
                </a:lnTo>
                <a:lnTo>
                  <a:pt x="959" y="1159"/>
                </a:lnTo>
                <a:lnTo>
                  <a:pt x="965" y="1144"/>
                </a:lnTo>
                <a:lnTo>
                  <a:pt x="968" y="1125"/>
                </a:lnTo>
                <a:lnTo>
                  <a:pt x="965" y="1105"/>
                </a:lnTo>
                <a:lnTo>
                  <a:pt x="963" y="1100"/>
                </a:lnTo>
                <a:lnTo>
                  <a:pt x="960" y="1096"/>
                </a:lnTo>
                <a:lnTo>
                  <a:pt x="954" y="1095"/>
                </a:lnTo>
                <a:lnTo>
                  <a:pt x="949" y="1096"/>
                </a:lnTo>
                <a:lnTo>
                  <a:pt x="943" y="1098"/>
                </a:lnTo>
                <a:lnTo>
                  <a:pt x="938" y="1100"/>
                </a:lnTo>
                <a:lnTo>
                  <a:pt x="934" y="1103"/>
                </a:lnTo>
                <a:lnTo>
                  <a:pt x="929" y="1105"/>
                </a:lnTo>
                <a:lnTo>
                  <a:pt x="923" y="1112"/>
                </a:lnTo>
                <a:lnTo>
                  <a:pt x="918" y="1121"/>
                </a:lnTo>
                <a:lnTo>
                  <a:pt x="915" y="1132"/>
                </a:lnTo>
                <a:lnTo>
                  <a:pt x="913" y="1141"/>
                </a:lnTo>
                <a:lnTo>
                  <a:pt x="909" y="1151"/>
                </a:lnTo>
                <a:lnTo>
                  <a:pt x="905" y="1158"/>
                </a:lnTo>
                <a:lnTo>
                  <a:pt x="898" y="1162"/>
                </a:lnTo>
                <a:lnTo>
                  <a:pt x="888" y="1162"/>
                </a:lnTo>
                <a:lnTo>
                  <a:pt x="887" y="1147"/>
                </a:lnTo>
                <a:lnTo>
                  <a:pt x="893" y="1134"/>
                </a:lnTo>
                <a:lnTo>
                  <a:pt x="895" y="1122"/>
                </a:lnTo>
                <a:lnTo>
                  <a:pt x="886" y="1109"/>
                </a:lnTo>
                <a:lnTo>
                  <a:pt x="883" y="1114"/>
                </a:lnTo>
                <a:lnTo>
                  <a:pt x="879" y="1117"/>
                </a:lnTo>
                <a:lnTo>
                  <a:pt x="874" y="1117"/>
                </a:lnTo>
                <a:lnTo>
                  <a:pt x="870" y="1115"/>
                </a:lnTo>
                <a:lnTo>
                  <a:pt x="865" y="1113"/>
                </a:lnTo>
                <a:lnTo>
                  <a:pt x="860" y="1109"/>
                </a:lnTo>
                <a:lnTo>
                  <a:pt x="856" y="1105"/>
                </a:lnTo>
                <a:lnTo>
                  <a:pt x="850" y="1102"/>
                </a:lnTo>
                <a:lnTo>
                  <a:pt x="847" y="1096"/>
                </a:lnTo>
                <a:lnTo>
                  <a:pt x="843" y="1091"/>
                </a:lnTo>
                <a:lnTo>
                  <a:pt x="839" y="1087"/>
                </a:lnTo>
                <a:lnTo>
                  <a:pt x="835" y="1081"/>
                </a:lnTo>
                <a:lnTo>
                  <a:pt x="829" y="1078"/>
                </a:lnTo>
                <a:lnTo>
                  <a:pt x="824" y="1073"/>
                </a:lnTo>
                <a:lnTo>
                  <a:pt x="817" y="1070"/>
                </a:lnTo>
                <a:lnTo>
                  <a:pt x="809" y="1067"/>
                </a:lnTo>
                <a:lnTo>
                  <a:pt x="808" y="1089"/>
                </a:lnTo>
                <a:lnTo>
                  <a:pt x="804" y="1082"/>
                </a:lnTo>
                <a:lnTo>
                  <a:pt x="798" y="1077"/>
                </a:lnTo>
                <a:lnTo>
                  <a:pt x="794" y="1071"/>
                </a:lnTo>
                <a:lnTo>
                  <a:pt x="790" y="1066"/>
                </a:lnTo>
                <a:lnTo>
                  <a:pt x="785" y="1060"/>
                </a:lnTo>
                <a:lnTo>
                  <a:pt x="782" y="1054"/>
                </a:lnTo>
                <a:lnTo>
                  <a:pt x="779" y="1046"/>
                </a:lnTo>
                <a:lnTo>
                  <a:pt x="775" y="1036"/>
                </a:lnTo>
                <a:lnTo>
                  <a:pt x="768" y="1036"/>
                </a:lnTo>
                <a:lnTo>
                  <a:pt x="768" y="1065"/>
                </a:lnTo>
                <a:lnTo>
                  <a:pt x="770" y="1091"/>
                </a:lnTo>
                <a:lnTo>
                  <a:pt x="772" y="1118"/>
                </a:lnTo>
                <a:lnTo>
                  <a:pt x="775" y="1146"/>
                </a:lnTo>
                <a:lnTo>
                  <a:pt x="767" y="1145"/>
                </a:lnTo>
                <a:lnTo>
                  <a:pt x="760" y="1140"/>
                </a:lnTo>
                <a:lnTo>
                  <a:pt x="756" y="1136"/>
                </a:lnTo>
                <a:lnTo>
                  <a:pt x="751" y="1133"/>
                </a:lnTo>
                <a:lnTo>
                  <a:pt x="749" y="1137"/>
                </a:lnTo>
                <a:lnTo>
                  <a:pt x="749" y="1143"/>
                </a:lnTo>
                <a:lnTo>
                  <a:pt x="749" y="1147"/>
                </a:lnTo>
                <a:lnTo>
                  <a:pt x="749" y="1152"/>
                </a:lnTo>
                <a:lnTo>
                  <a:pt x="738" y="1152"/>
                </a:lnTo>
                <a:lnTo>
                  <a:pt x="738" y="1147"/>
                </a:lnTo>
                <a:lnTo>
                  <a:pt x="738" y="1140"/>
                </a:lnTo>
                <a:lnTo>
                  <a:pt x="737" y="1135"/>
                </a:lnTo>
                <a:lnTo>
                  <a:pt x="735" y="1129"/>
                </a:lnTo>
                <a:lnTo>
                  <a:pt x="728" y="1140"/>
                </a:lnTo>
                <a:lnTo>
                  <a:pt x="725" y="1154"/>
                </a:lnTo>
                <a:lnTo>
                  <a:pt x="721" y="1169"/>
                </a:lnTo>
                <a:lnTo>
                  <a:pt x="718" y="1182"/>
                </a:lnTo>
                <a:lnTo>
                  <a:pt x="720" y="1192"/>
                </a:lnTo>
                <a:lnTo>
                  <a:pt x="721" y="1199"/>
                </a:lnTo>
                <a:lnTo>
                  <a:pt x="723" y="1205"/>
                </a:lnTo>
                <a:lnTo>
                  <a:pt x="721" y="1215"/>
                </a:lnTo>
                <a:lnTo>
                  <a:pt x="714" y="1230"/>
                </a:lnTo>
                <a:lnTo>
                  <a:pt x="707" y="1247"/>
                </a:lnTo>
                <a:lnTo>
                  <a:pt x="701" y="1265"/>
                </a:lnTo>
                <a:lnTo>
                  <a:pt x="696" y="1283"/>
                </a:lnTo>
                <a:lnTo>
                  <a:pt x="691" y="1282"/>
                </a:lnTo>
                <a:lnTo>
                  <a:pt x="686" y="1280"/>
                </a:lnTo>
                <a:lnTo>
                  <a:pt x="684" y="1276"/>
                </a:lnTo>
                <a:lnTo>
                  <a:pt x="685" y="1267"/>
                </a:lnTo>
                <a:lnTo>
                  <a:pt x="690" y="1252"/>
                </a:lnTo>
                <a:lnTo>
                  <a:pt x="695" y="1235"/>
                </a:lnTo>
                <a:lnTo>
                  <a:pt x="699" y="1216"/>
                </a:lnTo>
                <a:lnTo>
                  <a:pt x="699" y="1199"/>
                </a:lnTo>
                <a:lnTo>
                  <a:pt x="696" y="1179"/>
                </a:lnTo>
                <a:lnTo>
                  <a:pt x="690" y="1193"/>
                </a:lnTo>
                <a:lnTo>
                  <a:pt x="685" y="1209"/>
                </a:lnTo>
                <a:lnTo>
                  <a:pt x="682" y="1224"/>
                </a:lnTo>
                <a:lnTo>
                  <a:pt x="680" y="1239"/>
                </a:lnTo>
                <a:lnTo>
                  <a:pt x="677" y="1254"/>
                </a:lnTo>
                <a:lnTo>
                  <a:pt x="674" y="1268"/>
                </a:lnTo>
                <a:lnTo>
                  <a:pt x="669" y="1282"/>
                </a:lnTo>
                <a:lnTo>
                  <a:pt x="660" y="1294"/>
                </a:lnTo>
                <a:lnTo>
                  <a:pt x="656" y="1306"/>
                </a:lnTo>
                <a:lnTo>
                  <a:pt x="648" y="1310"/>
                </a:lnTo>
                <a:lnTo>
                  <a:pt x="639" y="1313"/>
                </a:lnTo>
                <a:lnTo>
                  <a:pt x="634" y="1325"/>
                </a:lnTo>
                <a:lnTo>
                  <a:pt x="625" y="1344"/>
                </a:lnTo>
                <a:lnTo>
                  <a:pt x="616" y="1361"/>
                </a:lnTo>
                <a:lnTo>
                  <a:pt x="607" y="1379"/>
                </a:lnTo>
                <a:lnTo>
                  <a:pt x="597" y="1395"/>
                </a:lnTo>
                <a:lnTo>
                  <a:pt x="587" y="1411"/>
                </a:lnTo>
                <a:lnTo>
                  <a:pt x="576" y="1427"/>
                </a:lnTo>
                <a:lnTo>
                  <a:pt x="566" y="1444"/>
                </a:lnTo>
                <a:lnTo>
                  <a:pt x="555" y="1460"/>
                </a:lnTo>
                <a:lnTo>
                  <a:pt x="547" y="1463"/>
                </a:lnTo>
                <a:lnTo>
                  <a:pt x="541" y="1468"/>
                </a:lnTo>
                <a:lnTo>
                  <a:pt x="537" y="1474"/>
                </a:lnTo>
                <a:lnTo>
                  <a:pt x="535" y="1481"/>
                </a:lnTo>
                <a:lnTo>
                  <a:pt x="532" y="1489"/>
                </a:lnTo>
                <a:lnTo>
                  <a:pt x="530" y="1495"/>
                </a:lnTo>
                <a:lnTo>
                  <a:pt x="526" y="1502"/>
                </a:lnTo>
                <a:lnTo>
                  <a:pt x="520" y="1506"/>
                </a:lnTo>
                <a:lnTo>
                  <a:pt x="518" y="1515"/>
                </a:lnTo>
                <a:lnTo>
                  <a:pt x="514" y="1522"/>
                </a:lnTo>
                <a:lnTo>
                  <a:pt x="509" y="1527"/>
                </a:lnTo>
                <a:lnTo>
                  <a:pt x="503" y="1533"/>
                </a:lnTo>
                <a:lnTo>
                  <a:pt x="496" y="1538"/>
                </a:lnTo>
                <a:lnTo>
                  <a:pt x="490" y="1543"/>
                </a:lnTo>
                <a:lnTo>
                  <a:pt x="484" y="1549"/>
                </a:lnTo>
                <a:lnTo>
                  <a:pt x="479" y="1556"/>
                </a:lnTo>
                <a:lnTo>
                  <a:pt x="468" y="1545"/>
                </a:lnTo>
                <a:lnTo>
                  <a:pt x="459" y="1556"/>
                </a:lnTo>
                <a:lnTo>
                  <a:pt x="449" y="1566"/>
                </a:lnTo>
                <a:lnTo>
                  <a:pt x="439" y="1575"/>
                </a:lnTo>
                <a:lnTo>
                  <a:pt x="428" y="1584"/>
                </a:lnTo>
                <a:lnTo>
                  <a:pt x="417" y="1593"/>
                </a:lnTo>
                <a:lnTo>
                  <a:pt x="405" y="1602"/>
                </a:lnTo>
                <a:lnTo>
                  <a:pt x="393" y="1611"/>
                </a:lnTo>
                <a:lnTo>
                  <a:pt x="381" y="1618"/>
                </a:lnTo>
                <a:lnTo>
                  <a:pt x="368" y="1627"/>
                </a:lnTo>
                <a:lnTo>
                  <a:pt x="354" y="1635"/>
                </a:lnTo>
                <a:lnTo>
                  <a:pt x="341" y="1642"/>
                </a:lnTo>
                <a:lnTo>
                  <a:pt x="327" y="1650"/>
                </a:lnTo>
                <a:lnTo>
                  <a:pt x="314" y="1658"/>
                </a:lnTo>
                <a:lnTo>
                  <a:pt x="299" y="1666"/>
                </a:lnTo>
                <a:lnTo>
                  <a:pt x="285" y="1674"/>
                </a:lnTo>
                <a:lnTo>
                  <a:pt x="271" y="1682"/>
                </a:lnTo>
                <a:lnTo>
                  <a:pt x="257" y="1684"/>
                </a:lnTo>
                <a:lnTo>
                  <a:pt x="241" y="1686"/>
                </a:lnTo>
                <a:lnTo>
                  <a:pt x="226" y="1689"/>
                </a:lnTo>
                <a:lnTo>
                  <a:pt x="210" y="1691"/>
                </a:lnTo>
                <a:lnTo>
                  <a:pt x="195" y="1692"/>
                </a:lnTo>
                <a:lnTo>
                  <a:pt x="180" y="1694"/>
                </a:lnTo>
                <a:lnTo>
                  <a:pt x="165" y="1694"/>
                </a:lnTo>
                <a:lnTo>
                  <a:pt x="150" y="1694"/>
                </a:lnTo>
                <a:lnTo>
                  <a:pt x="136" y="1693"/>
                </a:lnTo>
                <a:lnTo>
                  <a:pt x="122" y="1691"/>
                </a:lnTo>
                <a:lnTo>
                  <a:pt x="109" y="1688"/>
                </a:lnTo>
                <a:lnTo>
                  <a:pt x="97" y="1683"/>
                </a:lnTo>
                <a:lnTo>
                  <a:pt x="86" y="1677"/>
                </a:lnTo>
                <a:lnTo>
                  <a:pt x="75" y="1669"/>
                </a:lnTo>
                <a:lnTo>
                  <a:pt x="66" y="1659"/>
                </a:lnTo>
                <a:lnTo>
                  <a:pt x="59" y="1647"/>
                </a:lnTo>
                <a:lnTo>
                  <a:pt x="53" y="1635"/>
                </a:lnTo>
                <a:lnTo>
                  <a:pt x="44" y="1624"/>
                </a:lnTo>
                <a:lnTo>
                  <a:pt x="35" y="1613"/>
                </a:lnTo>
                <a:lnTo>
                  <a:pt x="24" y="1602"/>
                </a:lnTo>
                <a:lnTo>
                  <a:pt x="15" y="1591"/>
                </a:lnTo>
                <a:lnTo>
                  <a:pt x="7" y="1579"/>
                </a:lnTo>
                <a:lnTo>
                  <a:pt x="3" y="1566"/>
                </a:lnTo>
                <a:lnTo>
                  <a:pt x="4" y="1550"/>
                </a:lnTo>
                <a:lnTo>
                  <a:pt x="0" y="1550"/>
                </a:lnTo>
                <a:lnTo>
                  <a:pt x="14" y="1532"/>
                </a:lnTo>
                <a:lnTo>
                  <a:pt x="25" y="1511"/>
                </a:lnTo>
                <a:lnTo>
                  <a:pt x="37" y="1489"/>
                </a:lnTo>
                <a:lnTo>
                  <a:pt x="50" y="1467"/>
                </a:lnTo>
                <a:lnTo>
                  <a:pt x="64" y="1448"/>
                </a:lnTo>
                <a:lnTo>
                  <a:pt x="83" y="1433"/>
                </a:lnTo>
                <a:lnTo>
                  <a:pt x="106" y="1422"/>
                </a:lnTo>
                <a:lnTo>
                  <a:pt x="133" y="1418"/>
                </a:lnTo>
                <a:lnTo>
                  <a:pt x="146" y="1418"/>
                </a:lnTo>
                <a:lnTo>
                  <a:pt x="158" y="1421"/>
                </a:lnTo>
                <a:lnTo>
                  <a:pt x="170" y="1423"/>
                </a:lnTo>
                <a:lnTo>
                  <a:pt x="181" y="1427"/>
                </a:lnTo>
                <a:lnTo>
                  <a:pt x="191" y="1433"/>
                </a:lnTo>
                <a:lnTo>
                  <a:pt x="198" y="1439"/>
                </a:lnTo>
                <a:lnTo>
                  <a:pt x="205" y="1448"/>
                </a:lnTo>
                <a:lnTo>
                  <a:pt x="209" y="1459"/>
                </a:lnTo>
                <a:lnTo>
                  <a:pt x="210" y="1479"/>
                </a:lnTo>
                <a:lnTo>
                  <a:pt x="206" y="1496"/>
                </a:lnTo>
                <a:lnTo>
                  <a:pt x="199" y="1513"/>
                </a:lnTo>
                <a:lnTo>
                  <a:pt x="194" y="1530"/>
                </a:lnTo>
                <a:lnTo>
                  <a:pt x="185" y="1532"/>
                </a:lnTo>
                <a:lnTo>
                  <a:pt x="179" y="1536"/>
                </a:lnTo>
                <a:lnTo>
                  <a:pt x="174" y="1541"/>
                </a:lnTo>
                <a:lnTo>
                  <a:pt x="171" y="1547"/>
                </a:lnTo>
                <a:lnTo>
                  <a:pt x="168" y="1553"/>
                </a:lnTo>
                <a:lnTo>
                  <a:pt x="163" y="1559"/>
                </a:lnTo>
                <a:lnTo>
                  <a:pt x="157" y="1562"/>
                </a:lnTo>
                <a:lnTo>
                  <a:pt x="147" y="1563"/>
                </a:lnTo>
                <a:lnTo>
                  <a:pt x="140" y="1563"/>
                </a:lnTo>
                <a:lnTo>
                  <a:pt x="135" y="1562"/>
                </a:lnTo>
                <a:lnTo>
                  <a:pt x="128" y="1561"/>
                </a:lnTo>
                <a:lnTo>
                  <a:pt x="122" y="1559"/>
                </a:lnTo>
                <a:lnTo>
                  <a:pt x="117" y="1556"/>
                </a:lnTo>
                <a:lnTo>
                  <a:pt x="111" y="1552"/>
                </a:lnTo>
                <a:lnTo>
                  <a:pt x="108" y="1549"/>
                </a:lnTo>
                <a:lnTo>
                  <a:pt x="105" y="1545"/>
                </a:lnTo>
                <a:lnTo>
                  <a:pt x="105" y="1537"/>
                </a:lnTo>
                <a:lnTo>
                  <a:pt x="105" y="1527"/>
                </a:lnTo>
                <a:lnTo>
                  <a:pt x="106" y="1521"/>
                </a:lnTo>
                <a:lnTo>
                  <a:pt x="114" y="1517"/>
                </a:lnTo>
                <a:lnTo>
                  <a:pt x="119" y="1522"/>
                </a:lnTo>
                <a:lnTo>
                  <a:pt x="126" y="1522"/>
                </a:lnTo>
                <a:lnTo>
                  <a:pt x="132" y="1519"/>
                </a:lnTo>
                <a:lnTo>
                  <a:pt x="138" y="1517"/>
                </a:lnTo>
                <a:lnTo>
                  <a:pt x="138" y="1490"/>
                </a:lnTo>
                <a:lnTo>
                  <a:pt x="132" y="1488"/>
                </a:lnTo>
                <a:lnTo>
                  <a:pt x="127" y="1486"/>
                </a:lnTo>
                <a:lnTo>
                  <a:pt x="120" y="1485"/>
                </a:lnTo>
                <a:lnTo>
                  <a:pt x="114" y="1484"/>
                </a:lnTo>
                <a:lnTo>
                  <a:pt x="108" y="1485"/>
                </a:lnTo>
                <a:lnTo>
                  <a:pt x="102" y="1486"/>
                </a:lnTo>
                <a:lnTo>
                  <a:pt x="96" y="1489"/>
                </a:lnTo>
                <a:lnTo>
                  <a:pt x="92" y="1492"/>
                </a:lnTo>
                <a:lnTo>
                  <a:pt x="83" y="1502"/>
                </a:lnTo>
                <a:lnTo>
                  <a:pt x="82" y="1518"/>
                </a:lnTo>
                <a:lnTo>
                  <a:pt x="83" y="1536"/>
                </a:lnTo>
                <a:lnTo>
                  <a:pt x="79" y="1550"/>
                </a:lnTo>
                <a:lnTo>
                  <a:pt x="84" y="1569"/>
                </a:lnTo>
                <a:lnTo>
                  <a:pt x="95" y="1558"/>
                </a:lnTo>
                <a:lnTo>
                  <a:pt x="97" y="1566"/>
                </a:lnTo>
                <a:lnTo>
                  <a:pt x="101" y="1568"/>
                </a:lnTo>
                <a:lnTo>
                  <a:pt x="103" y="1571"/>
                </a:lnTo>
                <a:lnTo>
                  <a:pt x="99" y="1578"/>
                </a:lnTo>
                <a:lnTo>
                  <a:pt x="105" y="1589"/>
                </a:lnTo>
                <a:lnTo>
                  <a:pt x="113" y="1600"/>
                </a:lnTo>
                <a:lnTo>
                  <a:pt x="121" y="1607"/>
                </a:lnTo>
                <a:lnTo>
                  <a:pt x="132" y="1615"/>
                </a:lnTo>
                <a:lnTo>
                  <a:pt x="144" y="1622"/>
                </a:lnTo>
                <a:lnTo>
                  <a:pt x="157" y="1626"/>
                </a:lnTo>
                <a:lnTo>
                  <a:pt x="170" y="1630"/>
                </a:lnTo>
                <a:lnTo>
                  <a:pt x="182" y="1635"/>
                </a:lnTo>
                <a:lnTo>
                  <a:pt x="190" y="1634"/>
                </a:lnTo>
                <a:lnTo>
                  <a:pt x="197" y="1633"/>
                </a:lnTo>
                <a:lnTo>
                  <a:pt x="204" y="1632"/>
                </a:lnTo>
                <a:lnTo>
                  <a:pt x="209" y="1630"/>
                </a:lnTo>
                <a:lnTo>
                  <a:pt x="216" y="1628"/>
                </a:lnTo>
                <a:lnTo>
                  <a:pt x="222" y="1627"/>
                </a:lnTo>
                <a:lnTo>
                  <a:pt x="229" y="1624"/>
                </a:lnTo>
                <a:lnTo>
                  <a:pt x="237" y="1622"/>
                </a:lnTo>
                <a:lnTo>
                  <a:pt x="231" y="1617"/>
                </a:lnTo>
                <a:lnTo>
                  <a:pt x="226" y="1615"/>
                </a:lnTo>
                <a:lnTo>
                  <a:pt x="220" y="1614"/>
                </a:lnTo>
                <a:lnTo>
                  <a:pt x="214" y="1613"/>
                </a:lnTo>
                <a:lnTo>
                  <a:pt x="208" y="1613"/>
                </a:lnTo>
                <a:lnTo>
                  <a:pt x="202" y="1612"/>
                </a:lnTo>
                <a:lnTo>
                  <a:pt x="196" y="1610"/>
                </a:lnTo>
                <a:lnTo>
                  <a:pt x="191" y="1605"/>
                </a:lnTo>
                <a:lnTo>
                  <a:pt x="198" y="1597"/>
                </a:lnTo>
                <a:lnTo>
                  <a:pt x="208" y="1594"/>
                </a:lnTo>
                <a:lnTo>
                  <a:pt x="219" y="1594"/>
                </a:lnTo>
                <a:lnTo>
                  <a:pt x="231" y="1595"/>
                </a:lnTo>
                <a:lnTo>
                  <a:pt x="243" y="1597"/>
                </a:lnTo>
                <a:lnTo>
                  <a:pt x="255" y="1597"/>
                </a:lnTo>
                <a:lnTo>
                  <a:pt x="268" y="1595"/>
                </a:lnTo>
                <a:lnTo>
                  <a:pt x="279" y="1589"/>
                </a:lnTo>
                <a:lnTo>
                  <a:pt x="295" y="1581"/>
                </a:lnTo>
                <a:lnTo>
                  <a:pt x="312" y="1572"/>
                </a:lnTo>
                <a:lnTo>
                  <a:pt x="327" y="1563"/>
                </a:lnTo>
                <a:lnTo>
                  <a:pt x="342" y="1555"/>
                </a:lnTo>
                <a:lnTo>
                  <a:pt x="358" y="1545"/>
                </a:lnTo>
                <a:lnTo>
                  <a:pt x="372" y="1534"/>
                </a:lnTo>
                <a:lnTo>
                  <a:pt x="386" y="1523"/>
                </a:lnTo>
                <a:lnTo>
                  <a:pt x="401" y="1512"/>
                </a:lnTo>
                <a:lnTo>
                  <a:pt x="414" y="1500"/>
                </a:lnTo>
                <a:lnTo>
                  <a:pt x="426" y="1488"/>
                </a:lnTo>
                <a:lnTo>
                  <a:pt x="438" y="1474"/>
                </a:lnTo>
                <a:lnTo>
                  <a:pt x="450" y="1461"/>
                </a:lnTo>
                <a:lnTo>
                  <a:pt x="460" y="1447"/>
                </a:lnTo>
                <a:lnTo>
                  <a:pt x="470" y="1433"/>
                </a:lnTo>
                <a:lnTo>
                  <a:pt x="479" y="1417"/>
                </a:lnTo>
                <a:lnTo>
                  <a:pt x="487" y="1402"/>
                </a:lnTo>
                <a:lnTo>
                  <a:pt x="512" y="1369"/>
                </a:lnTo>
                <a:lnTo>
                  <a:pt x="534" y="1335"/>
                </a:lnTo>
                <a:lnTo>
                  <a:pt x="552" y="1300"/>
                </a:lnTo>
                <a:lnTo>
                  <a:pt x="570" y="1265"/>
                </a:lnTo>
                <a:lnTo>
                  <a:pt x="587" y="1229"/>
                </a:lnTo>
                <a:lnTo>
                  <a:pt x="604" y="1193"/>
                </a:lnTo>
                <a:lnTo>
                  <a:pt x="620" y="1157"/>
                </a:lnTo>
                <a:lnTo>
                  <a:pt x="639" y="1120"/>
                </a:lnTo>
                <a:lnTo>
                  <a:pt x="650" y="1074"/>
                </a:lnTo>
                <a:lnTo>
                  <a:pt x="656" y="1033"/>
                </a:lnTo>
                <a:lnTo>
                  <a:pt x="660" y="990"/>
                </a:lnTo>
                <a:lnTo>
                  <a:pt x="666" y="946"/>
                </a:lnTo>
                <a:lnTo>
                  <a:pt x="659" y="960"/>
                </a:lnTo>
                <a:lnTo>
                  <a:pt x="652" y="978"/>
                </a:lnTo>
                <a:lnTo>
                  <a:pt x="647" y="996"/>
                </a:lnTo>
                <a:lnTo>
                  <a:pt x="641" y="1012"/>
                </a:lnTo>
                <a:lnTo>
                  <a:pt x="632" y="1012"/>
                </a:lnTo>
                <a:lnTo>
                  <a:pt x="629" y="987"/>
                </a:lnTo>
                <a:lnTo>
                  <a:pt x="632" y="965"/>
                </a:lnTo>
                <a:lnTo>
                  <a:pt x="638" y="944"/>
                </a:lnTo>
                <a:lnTo>
                  <a:pt x="645" y="922"/>
                </a:lnTo>
                <a:lnTo>
                  <a:pt x="649" y="924"/>
                </a:lnTo>
                <a:lnTo>
                  <a:pt x="652" y="925"/>
                </a:lnTo>
                <a:lnTo>
                  <a:pt x="656" y="924"/>
                </a:lnTo>
                <a:lnTo>
                  <a:pt x="660" y="922"/>
                </a:lnTo>
                <a:lnTo>
                  <a:pt x="660" y="905"/>
                </a:lnTo>
                <a:lnTo>
                  <a:pt x="669" y="881"/>
                </a:lnTo>
                <a:lnTo>
                  <a:pt x="677" y="857"/>
                </a:lnTo>
                <a:lnTo>
                  <a:pt x="684" y="831"/>
                </a:lnTo>
                <a:lnTo>
                  <a:pt x="685" y="804"/>
                </a:lnTo>
                <a:lnTo>
                  <a:pt x="682" y="804"/>
                </a:lnTo>
                <a:lnTo>
                  <a:pt x="682" y="815"/>
                </a:lnTo>
                <a:lnTo>
                  <a:pt x="676" y="815"/>
                </a:lnTo>
                <a:lnTo>
                  <a:pt x="663" y="875"/>
                </a:lnTo>
                <a:lnTo>
                  <a:pt x="659" y="867"/>
                </a:lnTo>
                <a:lnTo>
                  <a:pt x="659" y="854"/>
                </a:lnTo>
                <a:lnTo>
                  <a:pt x="657" y="843"/>
                </a:lnTo>
                <a:lnTo>
                  <a:pt x="645" y="843"/>
                </a:lnTo>
                <a:lnTo>
                  <a:pt x="648" y="837"/>
                </a:lnTo>
                <a:lnTo>
                  <a:pt x="650" y="831"/>
                </a:lnTo>
                <a:lnTo>
                  <a:pt x="651" y="823"/>
                </a:lnTo>
                <a:lnTo>
                  <a:pt x="652" y="815"/>
                </a:lnTo>
                <a:lnTo>
                  <a:pt x="660" y="826"/>
                </a:lnTo>
                <a:lnTo>
                  <a:pt x="670" y="801"/>
                </a:lnTo>
                <a:lnTo>
                  <a:pt x="675" y="776"/>
                </a:lnTo>
                <a:lnTo>
                  <a:pt x="680" y="749"/>
                </a:lnTo>
                <a:lnTo>
                  <a:pt x="683" y="722"/>
                </a:lnTo>
                <a:lnTo>
                  <a:pt x="693" y="683"/>
                </a:lnTo>
                <a:lnTo>
                  <a:pt x="703" y="646"/>
                </a:lnTo>
                <a:lnTo>
                  <a:pt x="713" y="610"/>
                </a:lnTo>
                <a:lnTo>
                  <a:pt x="724" y="575"/>
                </a:lnTo>
                <a:lnTo>
                  <a:pt x="738" y="541"/>
                </a:lnTo>
                <a:lnTo>
                  <a:pt x="753" y="509"/>
                </a:lnTo>
                <a:lnTo>
                  <a:pt x="773" y="478"/>
                </a:lnTo>
                <a:lnTo>
                  <a:pt x="797" y="449"/>
                </a:lnTo>
                <a:lnTo>
                  <a:pt x="808" y="439"/>
                </a:lnTo>
                <a:lnTo>
                  <a:pt x="820" y="431"/>
                </a:lnTo>
                <a:lnTo>
                  <a:pt x="831" y="421"/>
                </a:lnTo>
                <a:lnTo>
                  <a:pt x="841" y="411"/>
                </a:lnTo>
                <a:lnTo>
                  <a:pt x="852" y="401"/>
                </a:lnTo>
                <a:lnTo>
                  <a:pt x="863" y="391"/>
                </a:lnTo>
                <a:lnTo>
                  <a:pt x="874" y="381"/>
                </a:lnTo>
                <a:lnTo>
                  <a:pt x="885" y="371"/>
                </a:lnTo>
                <a:lnTo>
                  <a:pt x="896" y="363"/>
                </a:lnTo>
                <a:lnTo>
                  <a:pt x="907" y="353"/>
                </a:lnTo>
                <a:lnTo>
                  <a:pt x="919" y="344"/>
                </a:lnTo>
                <a:lnTo>
                  <a:pt x="930" y="334"/>
                </a:lnTo>
                <a:lnTo>
                  <a:pt x="942" y="326"/>
                </a:lnTo>
                <a:lnTo>
                  <a:pt x="956" y="318"/>
                </a:lnTo>
                <a:lnTo>
                  <a:pt x="969" y="310"/>
                </a:lnTo>
                <a:lnTo>
                  <a:pt x="982" y="302"/>
                </a:lnTo>
                <a:lnTo>
                  <a:pt x="1080" y="252"/>
                </a:lnTo>
                <a:lnTo>
                  <a:pt x="1082" y="245"/>
                </a:lnTo>
                <a:lnTo>
                  <a:pt x="1085" y="242"/>
                </a:lnTo>
                <a:lnTo>
                  <a:pt x="1091" y="241"/>
                </a:lnTo>
                <a:lnTo>
                  <a:pt x="1096" y="241"/>
                </a:lnTo>
                <a:lnTo>
                  <a:pt x="1103" y="241"/>
                </a:lnTo>
                <a:lnTo>
                  <a:pt x="1108" y="239"/>
                </a:lnTo>
                <a:lnTo>
                  <a:pt x="1114" y="236"/>
                </a:lnTo>
                <a:lnTo>
                  <a:pt x="1118" y="230"/>
                </a:lnTo>
                <a:lnTo>
                  <a:pt x="1124" y="234"/>
                </a:lnTo>
                <a:lnTo>
                  <a:pt x="1128" y="232"/>
                </a:lnTo>
                <a:lnTo>
                  <a:pt x="1134" y="229"/>
                </a:lnTo>
                <a:lnTo>
                  <a:pt x="1138" y="227"/>
                </a:lnTo>
                <a:lnTo>
                  <a:pt x="1132" y="220"/>
                </a:lnTo>
                <a:lnTo>
                  <a:pt x="1143" y="216"/>
                </a:lnTo>
                <a:lnTo>
                  <a:pt x="1156" y="213"/>
                </a:lnTo>
                <a:lnTo>
                  <a:pt x="1169" y="212"/>
                </a:lnTo>
                <a:lnTo>
                  <a:pt x="1182" y="211"/>
                </a:lnTo>
                <a:lnTo>
                  <a:pt x="1196" y="210"/>
                </a:lnTo>
                <a:lnTo>
                  <a:pt x="1209" y="209"/>
                </a:lnTo>
                <a:lnTo>
                  <a:pt x="1222" y="208"/>
                </a:lnTo>
                <a:lnTo>
                  <a:pt x="1234" y="205"/>
                </a:lnTo>
                <a:lnTo>
                  <a:pt x="1248" y="201"/>
                </a:lnTo>
                <a:lnTo>
                  <a:pt x="1265" y="201"/>
                </a:lnTo>
                <a:lnTo>
                  <a:pt x="1284" y="201"/>
                </a:lnTo>
                <a:lnTo>
                  <a:pt x="1302" y="202"/>
                </a:lnTo>
                <a:lnTo>
                  <a:pt x="1319" y="202"/>
                </a:lnTo>
                <a:lnTo>
                  <a:pt x="1336" y="198"/>
                </a:lnTo>
                <a:lnTo>
                  <a:pt x="1348" y="190"/>
                </a:lnTo>
                <a:lnTo>
                  <a:pt x="1357" y="175"/>
                </a:lnTo>
                <a:lnTo>
                  <a:pt x="1357" y="163"/>
                </a:lnTo>
                <a:lnTo>
                  <a:pt x="1357" y="149"/>
                </a:lnTo>
                <a:lnTo>
                  <a:pt x="1358" y="137"/>
                </a:lnTo>
                <a:lnTo>
                  <a:pt x="1365" y="131"/>
                </a:lnTo>
                <a:lnTo>
                  <a:pt x="1369" y="134"/>
                </a:lnTo>
                <a:lnTo>
                  <a:pt x="1374" y="135"/>
                </a:lnTo>
                <a:lnTo>
                  <a:pt x="1378" y="133"/>
                </a:lnTo>
                <a:lnTo>
                  <a:pt x="1380" y="126"/>
                </a:lnTo>
                <a:lnTo>
                  <a:pt x="1385" y="107"/>
                </a:lnTo>
                <a:lnTo>
                  <a:pt x="1395" y="91"/>
                </a:lnTo>
                <a:lnTo>
                  <a:pt x="1406" y="75"/>
                </a:lnTo>
                <a:lnTo>
                  <a:pt x="1409" y="54"/>
                </a:lnTo>
                <a:lnTo>
                  <a:pt x="1423" y="52"/>
                </a:lnTo>
                <a:lnTo>
                  <a:pt x="1423" y="38"/>
                </a:lnTo>
                <a:lnTo>
                  <a:pt x="1430" y="34"/>
                </a:lnTo>
                <a:lnTo>
                  <a:pt x="1440" y="29"/>
                </a:lnTo>
                <a:lnTo>
                  <a:pt x="1450" y="23"/>
                </a:lnTo>
                <a:lnTo>
                  <a:pt x="1461" y="19"/>
                </a:lnTo>
                <a:lnTo>
                  <a:pt x="1472" y="13"/>
                </a:lnTo>
                <a:lnTo>
                  <a:pt x="1484" y="9"/>
                </a:lnTo>
                <a:lnTo>
                  <a:pt x="1495" y="4"/>
                </a:lnTo>
                <a:lnTo>
                  <a:pt x="1506" y="0"/>
                </a:lnTo>
                <a:lnTo>
                  <a:pt x="1512" y="3"/>
                </a:lnTo>
                <a:lnTo>
                  <a:pt x="1515" y="9"/>
                </a:lnTo>
                <a:lnTo>
                  <a:pt x="1518" y="12"/>
                </a:lnTo>
                <a:lnTo>
                  <a:pt x="1525" y="8"/>
                </a:lnTo>
                <a:lnTo>
                  <a:pt x="1526" y="12"/>
                </a:lnTo>
                <a:lnTo>
                  <a:pt x="1529" y="13"/>
                </a:lnTo>
                <a:lnTo>
                  <a:pt x="1533" y="14"/>
                </a:lnTo>
                <a:lnTo>
                  <a:pt x="1534" y="19"/>
                </a:lnTo>
                <a:lnTo>
                  <a:pt x="1539" y="15"/>
                </a:lnTo>
                <a:lnTo>
                  <a:pt x="1542" y="8"/>
                </a:lnTo>
                <a:lnTo>
                  <a:pt x="1547" y="4"/>
                </a:lnTo>
                <a:lnTo>
                  <a:pt x="1555" y="11"/>
                </a:lnTo>
                <a:lnTo>
                  <a:pt x="1559" y="23"/>
                </a:lnTo>
                <a:lnTo>
                  <a:pt x="1565" y="27"/>
                </a:lnTo>
                <a:lnTo>
                  <a:pt x="1572" y="26"/>
                </a:lnTo>
                <a:lnTo>
                  <a:pt x="1580" y="21"/>
                </a:lnTo>
                <a:lnTo>
                  <a:pt x="1587" y="15"/>
                </a:lnTo>
                <a:lnTo>
                  <a:pt x="1596" y="12"/>
                </a:lnTo>
                <a:lnTo>
                  <a:pt x="1604" y="13"/>
                </a:lnTo>
                <a:lnTo>
                  <a:pt x="1611" y="21"/>
                </a:lnTo>
                <a:lnTo>
                  <a:pt x="1615" y="18"/>
                </a:lnTo>
                <a:lnTo>
                  <a:pt x="1622" y="14"/>
                </a:lnTo>
                <a:lnTo>
                  <a:pt x="1627" y="14"/>
                </a:lnTo>
                <a:lnTo>
                  <a:pt x="1631" y="19"/>
                </a:lnTo>
                <a:lnTo>
                  <a:pt x="1627" y="29"/>
                </a:lnTo>
                <a:lnTo>
                  <a:pt x="1622" y="37"/>
                </a:lnTo>
                <a:lnTo>
                  <a:pt x="1617" y="46"/>
                </a:lnTo>
                <a:lnTo>
                  <a:pt x="1618" y="55"/>
                </a:lnTo>
                <a:lnTo>
                  <a:pt x="1625" y="55"/>
                </a:lnTo>
                <a:lnTo>
                  <a:pt x="1630" y="51"/>
                </a:lnTo>
                <a:lnTo>
                  <a:pt x="1637" y="49"/>
                </a:lnTo>
                <a:lnTo>
                  <a:pt x="1642" y="54"/>
                </a:lnTo>
                <a:lnTo>
                  <a:pt x="1641" y="60"/>
                </a:lnTo>
                <a:lnTo>
                  <a:pt x="1639" y="67"/>
                </a:lnTo>
                <a:lnTo>
                  <a:pt x="1638" y="74"/>
                </a:lnTo>
                <a:lnTo>
                  <a:pt x="1642" y="79"/>
                </a:lnTo>
                <a:lnTo>
                  <a:pt x="1649" y="71"/>
                </a:lnTo>
                <a:lnTo>
                  <a:pt x="1656" y="62"/>
                </a:lnTo>
                <a:lnTo>
                  <a:pt x="1662" y="51"/>
                </a:lnTo>
                <a:lnTo>
                  <a:pt x="1671" y="44"/>
                </a:lnTo>
                <a:lnTo>
                  <a:pt x="1673" y="55"/>
                </a:lnTo>
                <a:lnTo>
                  <a:pt x="1673" y="66"/>
                </a:lnTo>
                <a:lnTo>
                  <a:pt x="1672" y="76"/>
                </a:lnTo>
                <a:lnTo>
                  <a:pt x="1673" y="85"/>
                </a:lnTo>
                <a:lnTo>
                  <a:pt x="1681" y="89"/>
                </a:lnTo>
                <a:lnTo>
                  <a:pt x="1684" y="97"/>
                </a:lnTo>
                <a:lnTo>
                  <a:pt x="1686" y="104"/>
                </a:lnTo>
                <a:lnTo>
                  <a:pt x="1687" y="110"/>
                </a:lnTo>
                <a:lnTo>
                  <a:pt x="1686" y="114"/>
                </a:lnTo>
                <a:lnTo>
                  <a:pt x="1685" y="119"/>
                </a:lnTo>
                <a:lnTo>
                  <a:pt x="1686" y="124"/>
                </a:lnTo>
                <a:lnTo>
                  <a:pt x="1686" y="129"/>
                </a:lnTo>
                <a:lnTo>
                  <a:pt x="1694" y="141"/>
                </a:lnTo>
                <a:lnTo>
                  <a:pt x="1697" y="155"/>
                </a:lnTo>
                <a:lnTo>
                  <a:pt x="1696" y="170"/>
                </a:lnTo>
                <a:lnTo>
                  <a:pt x="1695" y="187"/>
                </a:lnTo>
                <a:lnTo>
                  <a:pt x="1694" y="201"/>
                </a:lnTo>
                <a:lnTo>
                  <a:pt x="1697" y="212"/>
                </a:lnTo>
                <a:lnTo>
                  <a:pt x="1706" y="220"/>
                </a:lnTo>
                <a:lnTo>
                  <a:pt x="1723" y="222"/>
                </a:lnTo>
                <a:lnTo>
                  <a:pt x="1728" y="229"/>
                </a:lnTo>
                <a:lnTo>
                  <a:pt x="1730" y="236"/>
                </a:lnTo>
                <a:lnTo>
                  <a:pt x="1729" y="244"/>
                </a:lnTo>
                <a:lnTo>
                  <a:pt x="1723" y="249"/>
                </a:lnTo>
                <a:lnTo>
                  <a:pt x="1714" y="253"/>
                </a:lnTo>
                <a:lnTo>
                  <a:pt x="1709" y="258"/>
                </a:lnTo>
                <a:lnTo>
                  <a:pt x="1705" y="264"/>
                </a:lnTo>
                <a:lnTo>
                  <a:pt x="1695" y="266"/>
                </a:lnTo>
                <a:lnTo>
                  <a:pt x="1691" y="279"/>
                </a:lnTo>
                <a:lnTo>
                  <a:pt x="1690" y="291"/>
                </a:lnTo>
                <a:lnTo>
                  <a:pt x="1691" y="302"/>
                </a:lnTo>
                <a:lnTo>
                  <a:pt x="1693" y="314"/>
                </a:lnTo>
                <a:lnTo>
                  <a:pt x="1696" y="325"/>
                </a:lnTo>
                <a:lnTo>
                  <a:pt x="1697" y="336"/>
                </a:lnTo>
                <a:lnTo>
                  <a:pt x="1697" y="346"/>
                </a:lnTo>
                <a:lnTo>
                  <a:pt x="1693" y="357"/>
                </a:lnTo>
                <a:lnTo>
                  <a:pt x="1698" y="364"/>
                </a:lnTo>
                <a:lnTo>
                  <a:pt x="1695" y="370"/>
                </a:lnTo>
                <a:lnTo>
                  <a:pt x="1692" y="376"/>
                </a:lnTo>
                <a:lnTo>
                  <a:pt x="1697" y="379"/>
                </a:lnTo>
                <a:lnTo>
                  <a:pt x="1692" y="382"/>
                </a:lnTo>
                <a:lnTo>
                  <a:pt x="1687" y="386"/>
                </a:lnTo>
                <a:lnTo>
                  <a:pt x="1682" y="388"/>
                </a:lnTo>
                <a:lnTo>
                  <a:pt x="1678" y="390"/>
                </a:lnTo>
                <a:lnTo>
                  <a:pt x="1672" y="391"/>
                </a:lnTo>
                <a:lnTo>
                  <a:pt x="1667" y="393"/>
                </a:lnTo>
                <a:lnTo>
                  <a:pt x="1660" y="394"/>
                </a:lnTo>
                <a:lnTo>
                  <a:pt x="1655" y="396"/>
                </a:lnTo>
                <a:lnTo>
                  <a:pt x="1649" y="402"/>
                </a:lnTo>
                <a:lnTo>
                  <a:pt x="1644" y="411"/>
                </a:lnTo>
                <a:lnTo>
                  <a:pt x="1637" y="420"/>
                </a:lnTo>
                <a:lnTo>
                  <a:pt x="1631" y="430"/>
                </a:lnTo>
                <a:lnTo>
                  <a:pt x="1626" y="441"/>
                </a:lnTo>
                <a:lnTo>
                  <a:pt x="1620" y="450"/>
                </a:lnTo>
                <a:lnTo>
                  <a:pt x="1615" y="461"/>
                </a:lnTo>
                <a:lnTo>
                  <a:pt x="1611" y="471"/>
                </a:lnTo>
                <a:lnTo>
                  <a:pt x="1600" y="468"/>
                </a:lnTo>
                <a:lnTo>
                  <a:pt x="1590" y="466"/>
                </a:lnTo>
                <a:lnTo>
                  <a:pt x="1580" y="464"/>
                </a:lnTo>
                <a:lnTo>
                  <a:pt x="1570" y="461"/>
                </a:lnTo>
                <a:lnTo>
                  <a:pt x="1560" y="460"/>
                </a:lnTo>
                <a:lnTo>
                  <a:pt x="1549" y="459"/>
                </a:lnTo>
                <a:lnTo>
                  <a:pt x="1539" y="458"/>
                </a:lnTo>
                <a:lnTo>
                  <a:pt x="1528" y="458"/>
                </a:lnTo>
                <a:lnTo>
                  <a:pt x="1534" y="453"/>
                </a:lnTo>
                <a:lnTo>
                  <a:pt x="1535" y="446"/>
                </a:lnTo>
                <a:lnTo>
                  <a:pt x="1534" y="439"/>
                </a:lnTo>
                <a:lnTo>
                  <a:pt x="1531" y="433"/>
                </a:lnTo>
                <a:lnTo>
                  <a:pt x="1528" y="426"/>
                </a:lnTo>
                <a:lnTo>
                  <a:pt x="1527" y="419"/>
                </a:lnTo>
                <a:lnTo>
                  <a:pt x="1528" y="413"/>
                </a:lnTo>
                <a:lnTo>
                  <a:pt x="1534" y="406"/>
                </a:lnTo>
                <a:lnTo>
                  <a:pt x="1526" y="410"/>
                </a:lnTo>
                <a:lnTo>
                  <a:pt x="1522" y="419"/>
                </a:lnTo>
                <a:lnTo>
                  <a:pt x="1517" y="430"/>
                </a:lnTo>
                <a:lnTo>
                  <a:pt x="1512" y="438"/>
                </a:lnTo>
                <a:lnTo>
                  <a:pt x="1512" y="447"/>
                </a:lnTo>
                <a:lnTo>
                  <a:pt x="1523" y="439"/>
                </a:lnTo>
                <a:lnTo>
                  <a:pt x="1526" y="445"/>
                </a:lnTo>
                <a:lnTo>
                  <a:pt x="1523" y="449"/>
                </a:lnTo>
                <a:lnTo>
                  <a:pt x="1516" y="455"/>
                </a:lnTo>
                <a:lnTo>
                  <a:pt x="1511" y="460"/>
                </a:lnTo>
                <a:lnTo>
                  <a:pt x="1504" y="459"/>
                </a:lnTo>
                <a:lnTo>
                  <a:pt x="1501" y="461"/>
                </a:lnTo>
                <a:lnTo>
                  <a:pt x="1497" y="466"/>
                </a:lnTo>
                <a:lnTo>
                  <a:pt x="1492" y="469"/>
                </a:lnTo>
                <a:lnTo>
                  <a:pt x="1494" y="475"/>
                </a:lnTo>
                <a:lnTo>
                  <a:pt x="1496" y="480"/>
                </a:lnTo>
                <a:lnTo>
                  <a:pt x="1500" y="486"/>
                </a:lnTo>
                <a:lnTo>
                  <a:pt x="1504" y="491"/>
                </a:lnTo>
                <a:lnTo>
                  <a:pt x="1507" y="495"/>
                </a:lnTo>
                <a:lnTo>
                  <a:pt x="1513" y="500"/>
                </a:lnTo>
                <a:lnTo>
                  <a:pt x="1518" y="503"/>
                </a:lnTo>
                <a:lnTo>
                  <a:pt x="1525" y="504"/>
                </a:lnTo>
                <a:lnTo>
                  <a:pt x="1540" y="526"/>
                </a:lnTo>
                <a:lnTo>
                  <a:pt x="1557" y="547"/>
                </a:lnTo>
                <a:lnTo>
                  <a:pt x="1573" y="569"/>
                </a:lnTo>
                <a:lnTo>
                  <a:pt x="1592" y="589"/>
                </a:lnTo>
                <a:lnTo>
                  <a:pt x="1611" y="606"/>
                </a:lnTo>
                <a:lnTo>
                  <a:pt x="1633" y="622"/>
                </a:lnTo>
                <a:lnTo>
                  <a:pt x="1657" y="633"/>
                </a:lnTo>
                <a:lnTo>
                  <a:pt x="1684" y="639"/>
                </a:lnTo>
                <a:lnTo>
                  <a:pt x="1698" y="643"/>
                </a:lnTo>
                <a:lnTo>
                  <a:pt x="1714" y="647"/>
                </a:lnTo>
                <a:lnTo>
                  <a:pt x="1730" y="653"/>
                </a:lnTo>
                <a:lnTo>
                  <a:pt x="1747" y="657"/>
                </a:lnTo>
                <a:lnTo>
                  <a:pt x="1763" y="661"/>
                </a:lnTo>
                <a:lnTo>
                  <a:pt x="1780" y="664"/>
                </a:lnTo>
                <a:lnTo>
                  <a:pt x="1795" y="666"/>
                </a:lnTo>
                <a:lnTo>
                  <a:pt x="1811" y="665"/>
                </a:lnTo>
                <a:lnTo>
                  <a:pt x="1817" y="668"/>
                </a:lnTo>
                <a:lnTo>
                  <a:pt x="1825" y="671"/>
                </a:lnTo>
                <a:lnTo>
                  <a:pt x="1834" y="673"/>
                </a:lnTo>
                <a:lnTo>
                  <a:pt x="1844" y="675"/>
                </a:lnTo>
                <a:lnTo>
                  <a:pt x="1853" y="675"/>
                </a:lnTo>
                <a:lnTo>
                  <a:pt x="1863" y="675"/>
                </a:lnTo>
                <a:lnTo>
                  <a:pt x="1873" y="672"/>
                </a:lnTo>
                <a:lnTo>
                  <a:pt x="1882" y="670"/>
                </a:lnTo>
                <a:lnTo>
                  <a:pt x="1896" y="677"/>
                </a:lnTo>
                <a:lnTo>
                  <a:pt x="1912" y="682"/>
                </a:lnTo>
                <a:lnTo>
                  <a:pt x="1927" y="688"/>
                </a:lnTo>
                <a:lnTo>
                  <a:pt x="1944" y="692"/>
                </a:lnTo>
                <a:lnTo>
                  <a:pt x="1960" y="698"/>
                </a:lnTo>
                <a:lnTo>
                  <a:pt x="1978" y="702"/>
                </a:lnTo>
                <a:lnTo>
                  <a:pt x="1994" y="708"/>
                </a:lnTo>
                <a:lnTo>
                  <a:pt x="2011" y="714"/>
                </a:lnTo>
                <a:lnTo>
                  <a:pt x="2026" y="721"/>
                </a:lnTo>
                <a:lnTo>
                  <a:pt x="2040" y="728"/>
                </a:lnTo>
                <a:lnTo>
                  <a:pt x="2053" y="737"/>
                </a:lnTo>
                <a:lnTo>
                  <a:pt x="2066" y="747"/>
                </a:lnTo>
                <a:lnTo>
                  <a:pt x="2077" y="759"/>
                </a:lnTo>
                <a:lnTo>
                  <a:pt x="2084" y="772"/>
                </a:lnTo>
                <a:lnTo>
                  <a:pt x="2091" y="787"/>
                </a:lnTo>
                <a:lnTo>
                  <a:pt x="2094" y="804"/>
                </a:lnTo>
                <a:lnTo>
                  <a:pt x="2104" y="804"/>
                </a:lnTo>
                <a:lnTo>
                  <a:pt x="2106" y="812"/>
                </a:lnTo>
                <a:lnTo>
                  <a:pt x="2107" y="822"/>
                </a:lnTo>
                <a:lnTo>
                  <a:pt x="2113" y="829"/>
                </a:lnTo>
                <a:lnTo>
                  <a:pt x="2113" y="843"/>
                </a:lnTo>
                <a:lnTo>
                  <a:pt x="2107" y="849"/>
                </a:lnTo>
                <a:lnTo>
                  <a:pt x="2103" y="857"/>
                </a:lnTo>
                <a:lnTo>
                  <a:pt x="2097" y="866"/>
                </a:lnTo>
                <a:lnTo>
                  <a:pt x="2093" y="875"/>
                </a:lnTo>
                <a:lnTo>
                  <a:pt x="2077" y="880"/>
                </a:lnTo>
                <a:lnTo>
                  <a:pt x="2066" y="890"/>
                </a:lnTo>
                <a:lnTo>
                  <a:pt x="2056" y="904"/>
                </a:lnTo>
                <a:lnTo>
                  <a:pt x="2047" y="918"/>
                </a:lnTo>
                <a:lnTo>
                  <a:pt x="2036" y="933"/>
                </a:lnTo>
                <a:lnTo>
                  <a:pt x="2024" y="944"/>
                </a:lnTo>
                <a:lnTo>
                  <a:pt x="2006" y="950"/>
                </a:lnTo>
                <a:lnTo>
                  <a:pt x="1983" y="949"/>
                </a:lnTo>
                <a:lnTo>
                  <a:pt x="1979" y="938"/>
                </a:lnTo>
                <a:lnTo>
                  <a:pt x="1975" y="940"/>
                </a:lnTo>
                <a:lnTo>
                  <a:pt x="1975" y="934"/>
                </a:lnTo>
                <a:lnTo>
                  <a:pt x="1978" y="926"/>
                </a:lnTo>
                <a:lnTo>
                  <a:pt x="1982" y="918"/>
                </a:lnTo>
                <a:lnTo>
                  <a:pt x="1986" y="911"/>
                </a:lnTo>
                <a:lnTo>
                  <a:pt x="1982" y="909"/>
                </a:lnTo>
                <a:lnTo>
                  <a:pt x="1977" y="907"/>
                </a:lnTo>
                <a:lnTo>
                  <a:pt x="1970" y="907"/>
                </a:lnTo>
                <a:lnTo>
                  <a:pt x="1963" y="906"/>
                </a:lnTo>
                <a:lnTo>
                  <a:pt x="1958" y="905"/>
                </a:lnTo>
                <a:lnTo>
                  <a:pt x="1955" y="902"/>
                </a:lnTo>
                <a:lnTo>
                  <a:pt x="1953" y="896"/>
                </a:lnTo>
                <a:lnTo>
                  <a:pt x="1957" y="888"/>
                </a:lnTo>
                <a:lnTo>
                  <a:pt x="1961" y="880"/>
                </a:lnTo>
                <a:lnTo>
                  <a:pt x="1966" y="877"/>
                </a:lnTo>
                <a:lnTo>
                  <a:pt x="1970" y="876"/>
                </a:lnTo>
                <a:lnTo>
                  <a:pt x="1974" y="877"/>
                </a:lnTo>
                <a:lnTo>
                  <a:pt x="1979" y="878"/>
                </a:lnTo>
                <a:lnTo>
                  <a:pt x="1984" y="878"/>
                </a:lnTo>
                <a:lnTo>
                  <a:pt x="1991" y="876"/>
                </a:lnTo>
                <a:lnTo>
                  <a:pt x="1997" y="869"/>
                </a:lnTo>
                <a:lnTo>
                  <a:pt x="2002" y="864"/>
                </a:lnTo>
                <a:lnTo>
                  <a:pt x="2001" y="857"/>
                </a:lnTo>
                <a:lnTo>
                  <a:pt x="2000" y="850"/>
                </a:lnTo>
                <a:lnTo>
                  <a:pt x="2001" y="843"/>
                </a:lnTo>
                <a:lnTo>
                  <a:pt x="1989" y="840"/>
                </a:lnTo>
                <a:lnTo>
                  <a:pt x="1977" y="837"/>
                </a:lnTo>
                <a:lnTo>
                  <a:pt x="1966" y="832"/>
                </a:lnTo>
                <a:lnTo>
                  <a:pt x="1955" y="825"/>
                </a:lnTo>
                <a:lnTo>
                  <a:pt x="1946" y="818"/>
                </a:lnTo>
                <a:lnTo>
                  <a:pt x="1937" y="810"/>
                </a:lnTo>
                <a:lnTo>
                  <a:pt x="1929" y="801"/>
                </a:lnTo>
                <a:lnTo>
                  <a:pt x="1924" y="791"/>
                </a:lnTo>
                <a:lnTo>
                  <a:pt x="1904" y="786"/>
                </a:lnTo>
                <a:lnTo>
                  <a:pt x="1883" y="783"/>
                </a:lnTo>
                <a:lnTo>
                  <a:pt x="1862" y="783"/>
                </a:lnTo>
                <a:lnTo>
                  <a:pt x="1841" y="786"/>
                </a:lnTo>
                <a:lnTo>
                  <a:pt x="1820" y="790"/>
                </a:lnTo>
                <a:lnTo>
                  <a:pt x="1801" y="795"/>
                </a:lnTo>
                <a:lnTo>
                  <a:pt x="1782" y="802"/>
                </a:lnTo>
                <a:lnTo>
                  <a:pt x="1764" y="810"/>
                </a:lnTo>
                <a:lnTo>
                  <a:pt x="1753" y="804"/>
                </a:lnTo>
                <a:lnTo>
                  <a:pt x="1741" y="799"/>
                </a:lnTo>
                <a:lnTo>
                  <a:pt x="1728" y="794"/>
                </a:lnTo>
                <a:lnTo>
                  <a:pt x="1714" y="792"/>
                </a:lnTo>
                <a:lnTo>
                  <a:pt x="1700" y="790"/>
                </a:lnTo>
                <a:lnTo>
                  <a:pt x="1685" y="789"/>
                </a:lnTo>
                <a:lnTo>
                  <a:pt x="1670" y="789"/>
                </a:lnTo>
                <a:lnTo>
                  <a:pt x="1657" y="791"/>
                </a:lnTo>
                <a:lnTo>
                  <a:pt x="1664" y="840"/>
                </a:lnTo>
                <a:lnTo>
                  <a:pt x="1659" y="839"/>
                </a:lnTo>
                <a:lnTo>
                  <a:pt x="1655" y="834"/>
                </a:lnTo>
                <a:lnTo>
                  <a:pt x="1650" y="829"/>
                </a:lnTo>
                <a:lnTo>
                  <a:pt x="1644" y="829"/>
                </a:lnTo>
                <a:lnTo>
                  <a:pt x="1638" y="826"/>
                </a:lnTo>
                <a:lnTo>
                  <a:pt x="1629" y="823"/>
                </a:lnTo>
                <a:lnTo>
                  <a:pt x="1619" y="817"/>
                </a:lnTo>
                <a:lnTo>
                  <a:pt x="1609" y="813"/>
                </a:lnTo>
                <a:lnTo>
                  <a:pt x="1598" y="809"/>
                </a:lnTo>
                <a:lnTo>
                  <a:pt x="1589" y="803"/>
                </a:lnTo>
                <a:lnTo>
                  <a:pt x="1579" y="800"/>
                </a:lnTo>
                <a:lnTo>
                  <a:pt x="1572" y="797"/>
                </a:lnTo>
                <a:lnTo>
                  <a:pt x="1525" y="749"/>
                </a:lnTo>
                <a:lnTo>
                  <a:pt x="1518" y="748"/>
                </a:lnTo>
                <a:lnTo>
                  <a:pt x="1512" y="746"/>
                </a:lnTo>
                <a:lnTo>
                  <a:pt x="1505" y="744"/>
                </a:lnTo>
                <a:lnTo>
                  <a:pt x="1500" y="740"/>
                </a:lnTo>
                <a:lnTo>
                  <a:pt x="1495" y="737"/>
                </a:lnTo>
                <a:lnTo>
                  <a:pt x="1491" y="733"/>
                </a:lnTo>
                <a:lnTo>
                  <a:pt x="1489" y="727"/>
                </a:lnTo>
                <a:lnTo>
                  <a:pt x="1486" y="722"/>
                </a:lnTo>
                <a:lnTo>
                  <a:pt x="1478" y="701"/>
                </a:lnTo>
                <a:lnTo>
                  <a:pt x="1464" y="683"/>
                </a:lnTo>
                <a:lnTo>
                  <a:pt x="1448" y="669"/>
                </a:lnTo>
                <a:lnTo>
                  <a:pt x="1429" y="657"/>
                </a:lnTo>
                <a:lnTo>
                  <a:pt x="1411" y="644"/>
                </a:lnTo>
                <a:lnTo>
                  <a:pt x="1394" y="630"/>
                </a:lnTo>
                <a:lnTo>
                  <a:pt x="1379" y="613"/>
                </a:lnTo>
                <a:lnTo>
                  <a:pt x="1368" y="593"/>
                </a:lnTo>
                <a:lnTo>
                  <a:pt x="1372" y="608"/>
                </a:lnTo>
                <a:lnTo>
                  <a:pt x="1379" y="621"/>
                </a:lnTo>
                <a:lnTo>
                  <a:pt x="1385" y="635"/>
                </a:lnTo>
                <a:lnTo>
                  <a:pt x="1391" y="648"/>
                </a:lnTo>
                <a:lnTo>
                  <a:pt x="1395" y="668"/>
                </a:lnTo>
                <a:lnTo>
                  <a:pt x="1403" y="686"/>
                </a:lnTo>
                <a:lnTo>
                  <a:pt x="1413" y="702"/>
                </a:lnTo>
                <a:lnTo>
                  <a:pt x="1425" y="717"/>
                </a:lnTo>
                <a:lnTo>
                  <a:pt x="1439" y="732"/>
                </a:lnTo>
                <a:lnTo>
                  <a:pt x="1454" y="744"/>
                </a:lnTo>
                <a:lnTo>
                  <a:pt x="1470" y="755"/>
                </a:lnTo>
                <a:lnTo>
                  <a:pt x="1486" y="764"/>
                </a:lnTo>
                <a:lnTo>
                  <a:pt x="1500" y="773"/>
                </a:lnTo>
                <a:lnTo>
                  <a:pt x="1514" y="782"/>
                </a:lnTo>
                <a:lnTo>
                  <a:pt x="1529" y="790"/>
                </a:lnTo>
                <a:lnTo>
                  <a:pt x="1544" y="798"/>
                </a:lnTo>
                <a:lnTo>
                  <a:pt x="1559" y="805"/>
                </a:lnTo>
                <a:lnTo>
                  <a:pt x="1573" y="813"/>
                </a:lnTo>
                <a:lnTo>
                  <a:pt x="1586" y="822"/>
                </a:lnTo>
                <a:lnTo>
                  <a:pt x="1600" y="832"/>
                </a:lnTo>
                <a:lnTo>
                  <a:pt x="1613" y="840"/>
                </a:lnTo>
                <a:lnTo>
                  <a:pt x="1642" y="853"/>
                </a:lnTo>
                <a:lnTo>
                  <a:pt x="1644" y="854"/>
                </a:lnTo>
                <a:lnTo>
                  <a:pt x="1649" y="857"/>
                </a:lnTo>
                <a:lnTo>
                  <a:pt x="1656" y="861"/>
                </a:lnTo>
                <a:lnTo>
                  <a:pt x="1664" y="869"/>
                </a:lnTo>
                <a:lnTo>
                  <a:pt x="1674" y="878"/>
                </a:lnTo>
                <a:lnTo>
                  <a:pt x="1686" y="888"/>
                </a:lnTo>
                <a:lnTo>
                  <a:pt x="1697" y="900"/>
                </a:lnTo>
                <a:lnTo>
                  <a:pt x="1709" y="913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85000" y="2747160"/>
            <a:ext cx="983520" cy="983520"/>
            <a:chOff x="5985000" y="2747160"/>
            <a:chExt cx="983520" cy="983520"/>
          </a:xfrm>
        </p:grpSpPr>
        <p:sp>
          <p:nvSpPr>
            <p:cNvPr id="336" name=""/>
            <p:cNvSpPr/>
            <p:nvPr/>
          </p:nvSpPr>
          <p:spPr>
            <a:xfrm rot="2700000">
              <a:off x="6123960" y="2895840"/>
              <a:ext cx="704880" cy="685800"/>
            </a:xfrm>
            <a:prstGeom prst="leftArrow">
              <a:avLst>
                <a:gd name="adj1" fmla="val 50472"/>
                <a:gd name="adj2" fmla="val 27313"/>
              </a:avLst>
            </a:pr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2700000">
              <a:off x="6347160" y="311040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8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704840" y="3422520"/>
            <a:ext cx="1070280" cy="920880"/>
            <a:chOff x="4704840" y="3422520"/>
            <a:chExt cx="1070280" cy="920880"/>
          </a:xfrm>
        </p:grpSpPr>
        <p:sp>
          <p:nvSpPr>
            <p:cNvPr id="339" name=""/>
            <p:cNvSpPr/>
            <p:nvPr/>
          </p:nvSpPr>
          <p:spPr>
            <a:xfrm flipH="1">
              <a:off x="4704480" y="3422520"/>
              <a:ext cx="1070280" cy="920880"/>
            </a:xfrm>
            <a:custGeom>
              <a:avLst/>
              <a:gdLst/>
              <a:ahLst/>
              <a:rect l="l" t="t" r="r" b="b"/>
              <a:pathLst>
                <a:path w="2686" h="2310">
                  <a:moveTo>
                    <a:pt x="3" y="613"/>
                  </a:moveTo>
                  <a:lnTo>
                    <a:pt x="0" y="609"/>
                  </a:lnTo>
                  <a:lnTo>
                    <a:pt x="4" y="603"/>
                  </a:lnTo>
                  <a:lnTo>
                    <a:pt x="12" y="594"/>
                  </a:lnTo>
                  <a:lnTo>
                    <a:pt x="27" y="581"/>
                  </a:lnTo>
                  <a:lnTo>
                    <a:pt x="46" y="569"/>
                  </a:lnTo>
                  <a:lnTo>
                    <a:pt x="71" y="555"/>
                  </a:lnTo>
                  <a:lnTo>
                    <a:pt x="101" y="540"/>
                  </a:lnTo>
                  <a:lnTo>
                    <a:pt x="135" y="525"/>
                  </a:lnTo>
                  <a:lnTo>
                    <a:pt x="175" y="512"/>
                  </a:lnTo>
                  <a:lnTo>
                    <a:pt x="217" y="498"/>
                  </a:lnTo>
                  <a:lnTo>
                    <a:pt x="265" y="487"/>
                  </a:lnTo>
                  <a:lnTo>
                    <a:pt x="317" y="478"/>
                  </a:lnTo>
                  <a:lnTo>
                    <a:pt x="373" y="471"/>
                  </a:lnTo>
                  <a:lnTo>
                    <a:pt x="431" y="467"/>
                  </a:lnTo>
                  <a:lnTo>
                    <a:pt x="494" y="465"/>
                  </a:lnTo>
                  <a:lnTo>
                    <a:pt x="560" y="470"/>
                  </a:lnTo>
                  <a:lnTo>
                    <a:pt x="557" y="434"/>
                  </a:lnTo>
                  <a:lnTo>
                    <a:pt x="560" y="390"/>
                  </a:lnTo>
                  <a:lnTo>
                    <a:pt x="568" y="340"/>
                  </a:lnTo>
                  <a:lnTo>
                    <a:pt x="580" y="285"/>
                  </a:lnTo>
                  <a:lnTo>
                    <a:pt x="596" y="230"/>
                  </a:lnTo>
                  <a:lnTo>
                    <a:pt x="617" y="175"/>
                  </a:lnTo>
                  <a:lnTo>
                    <a:pt x="640" y="123"/>
                  </a:lnTo>
                  <a:lnTo>
                    <a:pt x="666" y="78"/>
                  </a:lnTo>
                  <a:lnTo>
                    <a:pt x="678" y="60"/>
                  </a:lnTo>
                  <a:lnTo>
                    <a:pt x="692" y="44"/>
                  </a:lnTo>
                  <a:lnTo>
                    <a:pt x="706" y="30"/>
                  </a:lnTo>
                  <a:lnTo>
                    <a:pt x="721" y="18"/>
                  </a:lnTo>
                  <a:lnTo>
                    <a:pt x="736" y="10"/>
                  </a:lnTo>
                  <a:lnTo>
                    <a:pt x="751" y="3"/>
                  </a:lnTo>
                  <a:lnTo>
                    <a:pt x="766" y="0"/>
                  </a:lnTo>
                  <a:lnTo>
                    <a:pt x="781" y="0"/>
                  </a:lnTo>
                  <a:lnTo>
                    <a:pt x="801" y="5"/>
                  </a:lnTo>
                  <a:lnTo>
                    <a:pt x="819" y="11"/>
                  </a:lnTo>
                  <a:lnTo>
                    <a:pt x="835" y="20"/>
                  </a:lnTo>
                  <a:lnTo>
                    <a:pt x="850" y="29"/>
                  </a:lnTo>
                  <a:lnTo>
                    <a:pt x="861" y="41"/>
                  </a:lnTo>
                  <a:lnTo>
                    <a:pt x="872" y="55"/>
                  </a:lnTo>
                  <a:lnTo>
                    <a:pt x="880" y="70"/>
                  </a:lnTo>
                  <a:lnTo>
                    <a:pt x="886" y="86"/>
                  </a:lnTo>
                  <a:lnTo>
                    <a:pt x="895" y="130"/>
                  </a:lnTo>
                  <a:lnTo>
                    <a:pt x="895" y="179"/>
                  </a:lnTo>
                  <a:lnTo>
                    <a:pt x="890" y="228"/>
                  </a:lnTo>
                  <a:lnTo>
                    <a:pt x="879" y="277"/>
                  </a:lnTo>
                  <a:lnTo>
                    <a:pt x="865" y="322"/>
                  </a:lnTo>
                  <a:lnTo>
                    <a:pt x="852" y="360"/>
                  </a:lnTo>
                  <a:lnTo>
                    <a:pt x="838" y="390"/>
                  </a:lnTo>
                  <a:lnTo>
                    <a:pt x="827" y="408"/>
                  </a:lnTo>
                  <a:lnTo>
                    <a:pt x="833" y="404"/>
                  </a:lnTo>
                  <a:lnTo>
                    <a:pt x="846" y="395"/>
                  </a:lnTo>
                  <a:lnTo>
                    <a:pt x="868" y="380"/>
                  </a:lnTo>
                  <a:lnTo>
                    <a:pt x="897" y="360"/>
                  </a:lnTo>
                  <a:lnTo>
                    <a:pt x="931" y="339"/>
                  </a:lnTo>
                  <a:lnTo>
                    <a:pt x="969" y="315"/>
                  </a:lnTo>
                  <a:lnTo>
                    <a:pt x="1011" y="292"/>
                  </a:lnTo>
                  <a:lnTo>
                    <a:pt x="1056" y="269"/>
                  </a:lnTo>
                  <a:lnTo>
                    <a:pt x="1103" y="250"/>
                  </a:lnTo>
                  <a:lnTo>
                    <a:pt x="1149" y="234"/>
                  </a:lnTo>
                  <a:lnTo>
                    <a:pt x="1196" y="221"/>
                  </a:lnTo>
                  <a:lnTo>
                    <a:pt x="1239" y="216"/>
                  </a:lnTo>
                  <a:lnTo>
                    <a:pt x="1280" y="217"/>
                  </a:lnTo>
                  <a:lnTo>
                    <a:pt x="1316" y="227"/>
                  </a:lnTo>
                  <a:lnTo>
                    <a:pt x="1348" y="247"/>
                  </a:lnTo>
                  <a:lnTo>
                    <a:pt x="1373" y="277"/>
                  </a:lnTo>
                  <a:lnTo>
                    <a:pt x="1385" y="306"/>
                  </a:lnTo>
                  <a:lnTo>
                    <a:pt x="1388" y="333"/>
                  </a:lnTo>
                  <a:lnTo>
                    <a:pt x="1383" y="359"/>
                  </a:lnTo>
                  <a:lnTo>
                    <a:pt x="1369" y="382"/>
                  </a:lnTo>
                  <a:lnTo>
                    <a:pt x="1347" y="405"/>
                  </a:lnTo>
                  <a:lnTo>
                    <a:pt x="1320" y="427"/>
                  </a:lnTo>
                  <a:lnTo>
                    <a:pt x="1288" y="446"/>
                  </a:lnTo>
                  <a:lnTo>
                    <a:pt x="1252" y="465"/>
                  </a:lnTo>
                  <a:lnTo>
                    <a:pt x="1211" y="482"/>
                  </a:lnTo>
                  <a:lnTo>
                    <a:pt x="1168" y="497"/>
                  </a:lnTo>
                  <a:lnTo>
                    <a:pt x="1125" y="512"/>
                  </a:lnTo>
                  <a:lnTo>
                    <a:pt x="1080" y="524"/>
                  </a:lnTo>
                  <a:lnTo>
                    <a:pt x="1036" y="534"/>
                  </a:lnTo>
                  <a:lnTo>
                    <a:pt x="994" y="543"/>
                  </a:lnTo>
                  <a:lnTo>
                    <a:pt x="953" y="551"/>
                  </a:lnTo>
                  <a:lnTo>
                    <a:pt x="914" y="557"/>
                  </a:lnTo>
                  <a:lnTo>
                    <a:pt x="943" y="569"/>
                  </a:lnTo>
                  <a:lnTo>
                    <a:pt x="973" y="583"/>
                  </a:lnTo>
                  <a:lnTo>
                    <a:pt x="1003" y="598"/>
                  </a:lnTo>
                  <a:lnTo>
                    <a:pt x="1033" y="613"/>
                  </a:lnTo>
                  <a:lnTo>
                    <a:pt x="1063" y="629"/>
                  </a:lnTo>
                  <a:lnTo>
                    <a:pt x="1093" y="647"/>
                  </a:lnTo>
                  <a:lnTo>
                    <a:pt x="1125" y="666"/>
                  </a:lnTo>
                  <a:lnTo>
                    <a:pt x="1156" y="685"/>
                  </a:lnTo>
                  <a:lnTo>
                    <a:pt x="1187" y="705"/>
                  </a:lnTo>
                  <a:lnTo>
                    <a:pt x="1219" y="727"/>
                  </a:lnTo>
                  <a:lnTo>
                    <a:pt x="1250" y="750"/>
                  </a:lnTo>
                  <a:lnTo>
                    <a:pt x="1283" y="775"/>
                  </a:lnTo>
                  <a:lnTo>
                    <a:pt x="1314" y="801"/>
                  </a:lnTo>
                  <a:lnTo>
                    <a:pt x="1347" y="827"/>
                  </a:lnTo>
                  <a:lnTo>
                    <a:pt x="1380" y="855"/>
                  </a:lnTo>
                  <a:lnTo>
                    <a:pt x="1413" y="884"/>
                  </a:lnTo>
                  <a:lnTo>
                    <a:pt x="1549" y="1019"/>
                  </a:lnTo>
                  <a:lnTo>
                    <a:pt x="1656" y="1149"/>
                  </a:lnTo>
                  <a:lnTo>
                    <a:pt x="1735" y="1273"/>
                  </a:lnTo>
                  <a:lnTo>
                    <a:pt x="1789" y="1393"/>
                  </a:lnTo>
                  <a:lnTo>
                    <a:pt x="1821" y="1505"/>
                  </a:lnTo>
                  <a:lnTo>
                    <a:pt x="1833" y="1610"/>
                  </a:lnTo>
                  <a:lnTo>
                    <a:pt x="1827" y="1709"/>
                  </a:lnTo>
                  <a:lnTo>
                    <a:pt x="1807" y="1799"/>
                  </a:lnTo>
                  <a:lnTo>
                    <a:pt x="1773" y="1882"/>
                  </a:lnTo>
                  <a:lnTo>
                    <a:pt x="1729" y="1956"/>
                  </a:lnTo>
                  <a:lnTo>
                    <a:pt x="1679" y="2020"/>
                  </a:lnTo>
                  <a:lnTo>
                    <a:pt x="1623" y="2075"/>
                  </a:lnTo>
                  <a:lnTo>
                    <a:pt x="1563" y="2120"/>
                  </a:lnTo>
                  <a:lnTo>
                    <a:pt x="1504" y="2154"/>
                  </a:lnTo>
                  <a:lnTo>
                    <a:pt x="1447" y="2177"/>
                  </a:lnTo>
                  <a:lnTo>
                    <a:pt x="1395" y="2188"/>
                  </a:lnTo>
                  <a:lnTo>
                    <a:pt x="1402" y="2188"/>
                  </a:lnTo>
                  <a:lnTo>
                    <a:pt x="1421" y="2189"/>
                  </a:lnTo>
                  <a:lnTo>
                    <a:pt x="1451" y="2189"/>
                  </a:lnTo>
                  <a:lnTo>
                    <a:pt x="1492" y="2188"/>
                  </a:lnTo>
                  <a:lnTo>
                    <a:pt x="1540" y="2184"/>
                  </a:lnTo>
                  <a:lnTo>
                    <a:pt x="1593" y="2177"/>
                  </a:lnTo>
                  <a:lnTo>
                    <a:pt x="1651" y="2165"/>
                  </a:lnTo>
                  <a:lnTo>
                    <a:pt x="1713" y="2147"/>
                  </a:lnTo>
                  <a:lnTo>
                    <a:pt x="1774" y="2122"/>
                  </a:lnTo>
                  <a:lnTo>
                    <a:pt x="1837" y="2091"/>
                  </a:lnTo>
                  <a:lnTo>
                    <a:pt x="1896" y="2050"/>
                  </a:lnTo>
                  <a:lnTo>
                    <a:pt x="1952" y="2001"/>
                  </a:lnTo>
                  <a:lnTo>
                    <a:pt x="2002" y="1941"/>
                  </a:lnTo>
                  <a:lnTo>
                    <a:pt x="2046" y="1870"/>
                  </a:lnTo>
                  <a:lnTo>
                    <a:pt x="2080" y="1785"/>
                  </a:lnTo>
                  <a:lnTo>
                    <a:pt x="2105" y="1689"/>
                  </a:lnTo>
                  <a:lnTo>
                    <a:pt x="2113" y="1627"/>
                  </a:lnTo>
                  <a:lnTo>
                    <a:pt x="2117" y="1562"/>
                  </a:lnTo>
                  <a:lnTo>
                    <a:pt x="2117" y="1491"/>
                  </a:lnTo>
                  <a:lnTo>
                    <a:pt x="2111" y="1416"/>
                  </a:lnTo>
                  <a:lnTo>
                    <a:pt x="2102" y="1335"/>
                  </a:lnTo>
                  <a:lnTo>
                    <a:pt x="2087" y="1250"/>
                  </a:lnTo>
                  <a:lnTo>
                    <a:pt x="2066" y="1160"/>
                  </a:lnTo>
                  <a:lnTo>
                    <a:pt x="2040" y="1063"/>
                  </a:lnTo>
                  <a:lnTo>
                    <a:pt x="2020" y="969"/>
                  </a:lnTo>
                  <a:lnTo>
                    <a:pt x="2012" y="880"/>
                  </a:lnTo>
                  <a:lnTo>
                    <a:pt x="2016" y="798"/>
                  </a:lnTo>
                  <a:lnTo>
                    <a:pt x="2031" y="722"/>
                  </a:lnTo>
                  <a:lnTo>
                    <a:pt x="2055" y="651"/>
                  </a:lnTo>
                  <a:lnTo>
                    <a:pt x="2088" y="585"/>
                  </a:lnTo>
                  <a:lnTo>
                    <a:pt x="2130" y="527"/>
                  </a:lnTo>
                  <a:lnTo>
                    <a:pt x="2178" y="475"/>
                  </a:lnTo>
                  <a:lnTo>
                    <a:pt x="2233" y="429"/>
                  </a:lnTo>
                  <a:lnTo>
                    <a:pt x="2292" y="389"/>
                  </a:lnTo>
                  <a:lnTo>
                    <a:pt x="2353" y="356"/>
                  </a:lnTo>
                  <a:lnTo>
                    <a:pt x="2418" y="330"/>
                  </a:lnTo>
                  <a:lnTo>
                    <a:pt x="2485" y="311"/>
                  </a:lnTo>
                  <a:lnTo>
                    <a:pt x="2554" y="299"/>
                  </a:lnTo>
                  <a:lnTo>
                    <a:pt x="2620" y="294"/>
                  </a:lnTo>
                  <a:lnTo>
                    <a:pt x="2686" y="295"/>
                  </a:lnTo>
                  <a:lnTo>
                    <a:pt x="2678" y="296"/>
                  </a:lnTo>
                  <a:lnTo>
                    <a:pt x="2653" y="299"/>
                  </a:lnTo>
                  <a:lnTo>
                    <a:pt x="2618" y="306"/>
                  </a:lnTo>
                  <a:lnTo>
                    <a:pt x="2570" y="315"/>
                  </a:lnTo>
                  <a:lnTo>
                    <a:pt x="2517" y="330"/>
                  </a:lnTo>
                  <a:lnTo>
                    <a:pt x="2457" y="351"/>
                  </a:lnTo>
                  <a:lnTo>
                    <a:pt x="2395" y="377"/>
                  </a:lnTo>
                  <a:lnTo>
                    <a:pt x="2334" y="411"/>
                  </a:lnTo>
                  <a:lnTo>
                    <a:pt x="2275" y="453"/>
                  </a:lnTo>
                  <a:lnTo>
                    <a:pt x="2221" y="502"/>
                  </a:lnTo>
                  <a:lnTo>
                    <a:pt x="2174" y="562"/>
                  </a:lnTo>
                  <a:lnTo>
                    <a:pt x="2139" y="633"/>
                  </a:lnTo>
                  <a:lnTo>
                    <a:pt x="2117" y="714"/>
                  </a:lnTo>
                  <a:lnTo>
                    <a:pt x="2109" y="806"/>
                  </a:lnTo>
                  <a:lnTo>
                    <a:pt x="2120" y="913"/>
                  </a:lnTo>
                  <a:lnTo>
                    <a:pt x="2151" y="1031"/>
                  </a:lnTo>
                  <a:lnTo>
                    <a:pt x="2178" y="1123"/>
                  </a:lnTo>
                  <a:lnTo>
                    <a:pt x="2201" y="1213"/>
                  </a:lnTo>
                  <a:lnTo>
                    <a:pt x="2218" y="1299"/>
                  </a:lnTo>
                  <a:lnTo>
                    <a:pt x="2230" y="1382"/>
                  </a:lnTo>
                  <a:lnTo>
                    <a:pt x="2236" y="1464"/>
                  </a:lnTo>
                  <a:lnTo>
                    <a:pt x="2237" y="1541"/>
                  </a:lnTo>
                  <a:lnTo>
                    <a:pt x="2234" y="1616"/>
                  </a:lnTo>
                  <a:lnTo>
                    <a:pt x="2226" y="1689"/>
                  </a:lnTo>
                  <a:lnTo>
                    <a:pt x="2218" y="1738"/>
                  </a:lnTo>
                  <a:lnTo>
                    <a:pt x="2207" y="1785"/>
                  </a:lnTo>
                  <a:lnTo>
                    <a:pt x="2195" y="1832"/>
                  </a:lnTo>
                  <a:lnTo>
                    <a:pt x="2180" y="1875"/>
                  </a:lnTo>
                  <a:lnTo>
                    <a:pt x="2163" y="1918"/>
                  </a:lnTo>
                  <a:lnTo>
                    <a:pt x="2144" y="1957"/>
                  </a:lnTo>
                  <a:lnTo>
                    <a:pt x="2124" y="1995"/>
                  </a:lnTo>
                  <a:lnTo>
                    <a:pt x="2100" y="2032"/>
                  </a:lnTo>
                  <a:lnTo>
                    <a:pt x="2076" y="2066"/>
                  </a:lnTo>
                  <a:lnTo>
                    <a:pt x="2049" y="2099"/>
                  </a:lnTo>
                  <a:lnTo>
                    <a:pt x="2021" y="2129"/>
                  </a:lnTo>
                  <a:lnTo>
                    <a:pt x="1991" y="2158"/>
                  </a:lnTo>
                  <a:lnTo>
                    <a:pt x="1960" y="2184"/>
                  </a:lnTo>
                  <a:lnTo>
                    <a:pt x="1926" y="2207"/>
                  </a:lnTo>
                  <a:lnTo>
                    <a:pt x="1892" y="2229"/>
                  </a:lnTo>
                  <a:lnTo>
                    <a:pt x="1855" y="2248"/>
                  </a:lnTo>
                  <a:lnTo>
                    <a:pt x="1819" y="2263"/>
                  </a:lnTo>
                  <a:lnTo>
                    <a:pt x="1784" y="2276"/>
                  </a:lnTo>
                  <a:lnTo>
                    <a:pt x="1746" y="2287"/>
                  </a:lnTo>
                  <a:lnTo>
                    <a:pt x="1707" y="2297"/>
                  </a:lnTo>
                  <a:lnTo>
                    <a:pt x="1668" y="2304"/>
                  </a:lnTo>
                  <a:lnTo>
                    <a:pt x="1627" y="2308"/>
                  </a:lnTo>
                  <a:lnTo>
                    <a:pt x="1585" y="2310"/>
                  </a:lnTo>
                  <a:lnTo>
                    <a:pt x="1542" y="2309"/>
                  </a:lnTo>
                  <a:lnTo>
                    <a:pt x="1499" y="2308"/>
                  </a:lnTo>
                  <a:lnTo>
                    <a:pt x="1455" y="2302"/>
                  </a:lnTo>
                  <a:lnTo>
                    <a:pt x="1410" y="2295"/>
                  </a:lnTo>
                  <a:lnTo>
                    <a:pt x="1363" y="2286"/>
                  </a:lnTo>
                  <a:lnTo>
                    <a:pt x="1317" y="2274"/>
                  </a:lnTo>
                  <a:lnTo>
                    <a:pt x="1269" y="2259"/>
                  </a:lnTo>
                  <a:lnTo>
                    <a:pt x="1221" y="2241"/>
                  </a:lnTo>
                  <a:lnTo>
                    <a:pt x="1174" y="2220"/>
                  </a:lnTo>
                  <a:lnTo>
                    <a:pt x="449" y="2220"/>
                  </a:lnTo>
                  <a:lnTo>
                    <a:pt x="448" y="2218"/>
                  </a:lnTo>
                  <a:lnTo>
                    <a:pt x="445" y="2208"/>
                  </a:lnTo>
                  <a:lnTo>
                    <a:pt x="441" y="2195"/>
                  </a:lnTo>
                  <a:lnTo>
                    <a:pt x="439" y="2178"/>
                  </a:lnTo>
                  <a:lnTo>
                    <a:pt x="439" y="2159"/>
                  </a:lnTo>
                  <a:lnTo>
                    <a:pt x="444" y="2139"/>
                  </a:lnTo>
                  <a:lnTo>
                    <a:pt x="453" y="2118"/>
                  </a:lnTo>
                  <a:lnTo>
                    <a:pt x="471" y="2099"/>
                  </a:lnTo>
                  <a:lnTo>
                    <a:pt x="495" y="2081"/>
                  </a:lnTo>
                  <a:lnTo>
                    <a:pt x="530" y="2068"/>
                  </a:lnTo>
                  <a:lnTo>
                    <a:pt x="576" y="2058"/>
                  </a:lnTo>
                  <a:lnTo>
                    <a:pt x="633" y="2054"/>
                  </a:lnTo>
                  <a:lnTo>
                    <a:pt x="706" y="2055"/>
                  </a:lnTo>
                  <a:lnTo>
                    <a:pt x="794" y="2066"/>
                  </a:lnTo>
                  <a:lnTo>
                    <a:pt x="898" y="2085"/>
                  </a:lnTo>
                  <a:lnTo>
                    <a:pt x="1021" y="2114"/>
                  </a:lnTo>
                  <a:lnTo>
                    <a:pt x="1018" y="2105"/>
                  </a:lnTo>
                  <a:lnTo>
                    <a:pt x="1009" y="2077"/>
                  </a:lnTo>
                  <a:lnTo>
                    <a:pt x="996" y="2035"/>
                  </a:lnTo>
                  <a:lnTo>
                    <a:pt x="980" y="1980"/>
                  </a:lnTo>
                  <a:lnTo>
                    <a:pt x="964" y="1916"/>
                  </a:lnTo>
                  <a:lnTo>
                    <a:pt x="947" y="1847"/>
                  </a:lnTo>
                  <a:lnTo>
                    <a:pt x="934" y="1773"/>
                  </a:lnTo>
                  <a:lnTo>
                    <a:pt x="924" y="1698"/>
                  </a:lnTo>
                  <a:lnTo>
                    <a:pt x="918" y="1626"/>
                  </a:lnTo>
                  <a:lnTo>
                    <a:pt x="920" y="1558"/>
                  </a:lnTo>
                  <a:lnTo>
                    <a:pt x="929" y="1498"/>
                  </a:lnTo>
                  <a:lnTo>
                    <a:pt x="949" y="1449"/>
                  </a:lnTo>
                  <a:lnTo>
                    <a:pt x="980" y="1413"/>
                  </a:lnTo>
                  <a:lnTo>
                    <a:pt x="1024" y="1393"/>
                  </a:lnTo>
                  <a:lnTo>
                    <a:pt x="1081" y="1393"/>
                  </a:lnTo>
                  <a:lnTo>
                    <a:pt x="1155" y="1413"/>
                  </a:lnTo>
                  <a:lnTo>
                    <a:pt x="1146" y="1397"/>
                  </a:lnTo>
                  <a:lnTo>
                    <a:pt x="1141" y="1383"/>
                  </a:lnTo>
                  <a:lnTo>
                    <a:pt x="1134" y="1374"/>
                  </a:lnTo>
                  <a:lnTo>
                    <a:pt x="1129" y="1367"/>
                  </a:lnTo>
                  <a:lnTo>
                    <a:pt x="1125" y="1363"/>
                  </a:lnTo>
                  <a:lnTo>
                    <a:pt x="1119" y="1359"/>
                  </a:lnTo>
                  <a:lnTo>
                    <a:pt x="1115" y="1356"/>
                  </a:lnTo>
                  <a:lnTo>
                    <a:pt x="1110" y="1355"/>
                  </a:lnTo>
                  <a:lnTo>
                    <a:pt x="1103" y="1352"/>
                  </a:lnTo>
                  <a:lnTo>
                    <a:pt x="1089" y="1346"/>
                  </a:lnTo>
                  <a:lnTo>
                    <a:pt x="1070" y="1342"/>
                  </a:lnTo>
                  <a:lnTo>
                    <a:pt x="1045" y="1340"/>
                  </a:lnTo>
                  <a:lnTo>
                    <a:pt x="1018" y="1341"/>
                  </a:lnTo>
                  <a:lnTo>
                    <a:pt x="989" y="1346"/>
                  </a:lnTo>
                  <a:lnTo>
                    <a:pt x="961" y="1359"/>
                  </a:lnTo>
                  <a:lnTo>
                    <a:pt x="934" y="1380"/>
                  </a:lnTo>
                  <a:lnTo>
                    <a:pt x="910" y="1412"/>
                  </a:lnTo>
                  <a:lnTo>
                    <a:pt x="891" y="1455"/>
                  </a:lnTo>
                  <a:lnTo>
                    <a:pt x="878" y="1513"/>
                  </a:lnTo>
                  <a:lnTo>
                    <a:pt x="872" y="1585"/>
                  </a:lnTo>
                  <a:lnTo>
                    <a:pt x="876" y="1675"/>
                  </a:lnTo>
                  <a:lnTo>
                    <a:pt x="891" y="1783"/>
                  </a:lnTo>
                  <a:lnTo>
                    <a:pt x="917" y="1912"/>
                  </a:lnTo>
                  <a:lnTo>
                    <a:pt x="958" y="2062"/>
                  </a:lnTo>
                  <a:lnTo>
                    <a:pt x="951" y="2060"/>
                  </a:lnTo>
                  <a:lnTo>
                    <a:pt x="938" y="2053"/>
                  </a:lnTo>
                  <a:lnTo>
                    <a:pt x="917" y="2042"/>
                  </a:lnTo>
                  <a:lnTo>
                    <a:pt x="891" y="2025"/>
                  </a:lnTo>
                  <a:lnTo>
                    <a:pt x="861" y="2005"/>
                  </a:lnTo>
                  <a:lnTo>
                    <a:pt x="828" y="1980"/>
                  </a:lnTo>
                  <a:lnTo>
                    <a:pt x="793" y="1952"/>
                  </a:lnTo>
                  <a:lnTo>
                    <a:pt x="756" y="1918"/>
                  </a:lnTo>
                  <a:lnTo>
                    <a:pt x="721" y="1880"/>
                  </a:lnTo>
                  <a:lnTo>
                    <a:pt x="686" y="1836"/>
                  </a:lnTo>
                  <a:lnTo>
                    <a:pt x="654" y="1788"/>
                  </a:lnTo>
                  <a:lnTo>
                    <a:pt x="625" y="1736"/>
                  </a:lnTo>
                  <a:lnTo>
                    <a:pt x="602" y="1680"/>
                  </a:lnTo>
                  <a:lnTo>
                    <a:pt x="584" y="1619"/>
                  </a:lnTo>
                  <a:lnTo>
                    <a:pt x="573" y="1554"/>
                  </a:lnTo>
                  <a:lnTo>
                    <a:pt x="570" y="1484"/>
                  </a:lnTo>
                  <a:lnTo>
                    <a:pt x="569" y="1435"/>
                  </a:lnTo>
                  <a:lnTo>
                    <a:pt x="561" y="1394"/>
                  </a:lnTo>
                  <a:lnTo>
                    <a:pt x="549" y="1360"/>
                  </a:lnTo>
                  <a:lnTo>
                    <a:pt x="531" y="1333"/>
                  </a:lnTo>
                  <a:lnTo>
                    <a:pt x="510" y="1312"/>
                  </a:lnTo>
                  <a:lnTo>
                    <a:pt x="486" y="1299"/>
                  </a:lnTo>
                  <a:lnTo>
                    <a:pt x="459" y="1290"/>
                  </a:lnTo>
                  <a:lnTo>
                    <a:pt x="430" y="1286"/>
                  </a:lnTo>
                  <a:lnTo>
                    <a:pt x="400" y="1288"/>
                  </a:lnTo>
                  <a:lnTo>
                    <a:pt x="370" y="1295"/>
                  </a:lnTo>
                  <a:lnTo>
                    <a:pt x="340" y="1304"/>
                  </a:lnTo>
                  <a:lnTo>
                    <a:pt x="310" y="1318"/>
                  </a:lnTo>
                  <a:lnTo>
                    <a:pt x="281" y="1334"/>
                  </a:lnTo>
                  <a:lnTo>
                    <a:pt x="255" y="1355"/>
                  </a:lnTo>
                  <a:lnTo>
                    <a:pt x="232" y="1376"/>
                  </a:lnTo>
                  <a:lnTo>
                    <a:pt x="213" y="1401"/>
                  </a:lnTo>
                  <a:lnTo>
                    <a:pt x="214" y="1398"/>
                  </a:lnTo>
                  <a:lnTo>
                    <a:pt x="217" y="1390"/>
                  </a:lnTo>
                  <a:lnTo>
                    <a:pt x="221" y="1379"/>
                  </a:lnTo>
                  <a:lnTo>
                    <a:pt x="225" y="1364"/>
                  </a:lnTo>
                  <a:lnTo>
                    <a:pt x="232" y="1348"/>
                  </a:lnTo>
                  <a:lnTo>
                    <a:pt x="240" y="1329"/>
                  </a:lnTo>
                  <a:lnTo>
                    <a:pt x="250" y="1310"/>
                  </a:lnTo>
                  <a:lnTo>
                    <a:pt x="262" y="1288"/>
                  </a:lnTo>
                  <a:lnTo>
                    <a:pt x="276" y="1267"/>
                  </a:lnTo>
                  <a:lnTo>
                    <a:pt x="293" y="1247"/>
                  </a:lnTo>
                  <a:lnTo>
                    <a:pt x="314" y="1228"/>
                  </a:lnTo>
                  <a:lnTo>
                    <a:pt x="338" y="1210"/>
                  </a:lnTo>
                  <a:lnTo>
                    <a:pt x="366" y="1194"/>
                  </a:lnTo>
                  <a:lnTo>
                    <a:pt x="397" y="1181"/>
                  </a:lnTo>
                  <a:lnTo>
                    <a:pt x="433" y="1172"/>
                  </a:lnTo>
                  <a:lnTo>
                    <a:pt x="472" y="1166"/>
                  </a:lnTo>
                  <a:lnTo>
                    <a:pt x="472" y="1162"/>
                  </a:lnTo>
                  <a:lnTo>
                    <a:pt x="469" y="1150"/>
                  </a:lnTo>
                  <a:lnTo>
                    <a:pt x="465" y="1131"/>
                  </a:lnTo>
                  <a:lnTo>
                    <a:pt x="460" y="1105"/>
                  </a:lnTo>
                  <a:lnTo>
                    <a:pt x="450" y="1074"/>
                  </a:lnTo>
                  <a:lnTo>
                    <a:pt x="438" y="1037"/>
                  </a:lnTo>
                  <a:lnTo>
                    <a:pt x="420" y="997"/>
                  </a:lnTo>
                  <a:lnTo>
                    <a:pt x="400" y="955"/>
                  </a:lnTo>
                  <a:lnTo>
                    <a:pt x="374" y="910"/>
                  </a:lnTo>
                  <a:lnTo>
                    <a:pt x="341" y="865"/>
                  </a:lnTo>
                  <a:lnTo>
                    <a:pt x="303" y="819"/>
                  </a:lnTo>
                  <a:lnTo>
                    <a:pt x="258" y="772"/>
                  </a:lnTo>
                  <a:lnTo>
                    <a:pt x="206" y="729"/>
                  </a:lnTo>
                  <a:lnTo>
                    <a:pt x="147" y="686"/>
                  </a:lnTo>
                  <a:lnTo>
                    <a:pt x="79" y="648"/>
                  </a:lnTo>
                  <a:lnTo>
                    <a:pt x="3" y="61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5742000" y="3567240"/>
              <a:ext cx="14040" cy="65520"/>
            </a:xfrm>
            <a:custGeom>
              <a:avLst/>
              <a:gdLst/>
              <a:ahLst/>
              <a:rect l="l" t="t" r="r" b="b"/>
              <a:pathLst>
                <a:path w="37" h="165">
                  <a:moveTo>
                    <a:pt x="12" y="165"/>
                  </a:moveTo>
                  <a:lnTo>
                    <a:pt x="0" y="165"/>
                  </a:lnTo>
                  <a:lnTo>
                    <a:pt x="27" y="0"/>
                  </a:lnTo>
                  <a:lnTo>
                    <a:pt x="37" y="0"/>
                  </a:lnTo>
                  <a:lnTo>
                    <a:pt x="12" y="165"/>
                  </a:lnTo>
                  <a:lnTo>
                    <a:pt x="12" y="16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5684400" y="3532320"/>
              <a:ext cx="63360" cy="100080"/>
            </a:xfrm>
            <a:custGeom>
              <a:avLst/>
              <a:gdLst/>
              <a:ahLst/>
              <a:rect l="l" t="t" r="r" b="b"/>
              <a:pathLst>
                <a:path w="158" h="253">
                  <a:moveTo>
                    <a:pt x="11" y="253"/>
                  </a:moveTo>
                  <a:lnTo>
                    <a:pt x="158" y="0"/>
                  </a:lnTo>
                  <a:lnTo>
                    <a:pt x="147" y="0"/>
                  </a:lnTo>
                  <a:lnTo>
                    <a:pt x="0" y="253"/>
                  </a:lnTo>
                  <a:lnTo>
                    <a:pt x="11" y="25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5740560" y="3691440"/>
              <a:ext cx="14040" cy="65880"/>
            </a:xfrm>
            <a:custGeom>
              <a:avLst/>
              <a:gdLst/>
              <a:ahLst/>
              <a:rect l="l" t="t" r="r" b="b"/>
              <a:pathLst>
                <a:path w="37" h="165">
                  <a:moveTo>
                    <a:pt x="9" y="0"/>
                  </a:moveTo>
                  <a:lnTo>
                    <a:pt x="0" y="0"/>
                  </a:lnTo>
                  <a:lnTo>
                    <a:pt x="27" y="165"/>
                  </a:lnTo>
                  <a:lnTo>
                    <a:pt x="37" y="165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5682960" y="3691440"/>
              <a:ext cx="64440" cy="101520"/>
            </a:xfrm>
            <a:custGeom>
              <a:avLst/>
              <a:gdLst/>
              <a:ahLst/>
              <a:rect l="l" t="t" r="r" b="b"/>
              <a:pathLst>
                <a:path w="161" h="253">
                  <a:moveTo>
                    <a:pt x="14" y="0"/>
                  </a:moveTo>
                  <a:lnTo>
                    <a:pt x="161" y="253"/>
                  </a:lnTo>
                  <a:lnTo>
                    <a:pt x="147" y="253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749920" y="3540240"/>
            <a:ext cx="759240" cy="685800"/>
            <a:chOff x="5749920" y="3540240"/>
            <a:chExt cx="759240" cy="685800"/>
          </a:xfrm>
        </p:grpSpPr>
        <p:sp>
          <p:nvSpPr>
            <p:cNvPr id="345" name=""/>
            <p:cNvSpPr/>
            <p:nvPr/>
          </p:nvSpPr>
          <p:spPr>
            <a:xfrm>
              <a:off x="5749920" y="3540240"/>
              <a:ext cx="704880" cy="685800"/>
            </a:xfrm>
            <a:prstGeom prst="leftArrow">
              <a:avLst>
                <a:gd name="adj1" fmla="val 50472"/>
                <a:gd name="adj2" fmla="val 27313"/>
              </a:avLst>
            </a:pr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006960" y="369900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27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6740640" y="2386080"/>
            <a:ext cx="2089800" cy="859320"/>
            <a:chOff x="6740640" y="2386080"/>
            <a:chExt cx="2089800" cy="859320"/>
          </a:xfrm>
        </p:grpSpPr>
        <p:sp>
          <p:nvSpPr>
            <p:cNvPr id="348" name=""/>
            <p:cNvSpPr/>
            <p:nvPr/>
          </p:nvSpPr>
          <p:spPr>
            <a:xfrm rot="888600">
              <a:off x="7378920" y="2712960"/>
              <a:ext cx="1429560" cy="355680"/>
            </a:xfrm>
            <a:custGeom>
              <a:avLst/>
              <a:gdLst/>
              <a:ahLst/>
              <a:rect l="l" t="t" r="r" b="b"/>
              <a:pathLst>
                <a:path w="5164" h="1287">
                  <a:moveTo>
                    <a:pt x="2" y="120"/>
                  </a:moveTo>
                  <a:cubicBezTo>
                    <a:pt x="0" y="88"/>
                    <a:pt x="467" y="117"/>
                    <a:pt x="677" y="105"/>
                  </a:cubicBezTo>
                  <a:cubicBezTo>
                    <a:pt x="887" y="93"/>
                    <a:pt x="1095" y="62"/>
                    <a:pt x="1262" y="45"/>
                  </a:cubicBezTo>
                  <a:cubicBezTo>
                    <a:pt x="1429" y="28"/>
                    <a:pt x="1555" y="0"/>
                    <a:pt x="1682" y="0"/>
                  </a:cubicBezTo>
                  <a:cubicBezTo>
                    <a:pt x="1809" y="0"/>
                    <a:pt x="1890" y="18"/>
                    <a:pt x="2027" y="45"/>
                  </a:cubicBezTo>
                  <a:cubicBezTo>
                    <a:pt x="2164" y="72"/>
                    <a:pt x="2367" y="160"/>
                    <a:pt x="2507" y="165"/>
                  </a:cubicBezTo>
                  <a:cubicBezTo>
                    <a:pt x="2647" y="170"/>
                    <a:pt x="2725" y="48"/>
                    <a:pt x="2867" y="75"/>
                  </a:cubicBezTo>
                  <a:cubicBezTo>
                    <a:pt x="3009" y="102"/>
                    <a:pt x="3209" y="282"/>
                    <a:pt x="3362" y="330"/>
                  </a:cubicBezTo>
                  <a:cubicBezTo>
                    <a:pt x="3515" y="378"/>
                    <a:pt x="3650" y="293"/>
                    <a:pt x="3782" y="360"/>
                  </a:cubicBezTo>
                  <a:cubicBezTo>
                    <a:pt x="3914" y="427"/>
                    <a:pt x="4047" y="660"/>
                    <a:pt x="4157" y="735"/>
                  </a:cubicBezTo>
                  <a:cubicBezTo>
                    <a:pt x="4267" y="810"/>
                    <a:pt x="4324" y="772"/>
                    <a:pt x="4442" y="810"/>
                  </a:cubicBezTo>
                  <a:cubicBezTo>
                    <a:pt x="4560" y="848"/>
                    <a:pt x="4747" y="905"/>
                    <a:pt x="4862" y="960"/>
                  </a:cubicBezTo>
                  <a:cubicBezTo>
                    <a:pt x="4977" y="1015"/>
                    <a:pt x="5100" y="1103"/>
                    <a:pt x="5132" y="1140"/>
                  </a:cubicBezTo>
                  <a:cubicBezTo>
                    <a:pt x="5164" y="1177"/>
                    <a:pt x="5144" y="1163"/>
                    <a:pt x="5057" y="1185"/>
                  </a:cubicBezTo>
                  <a:cubicBezTo>
                    <a:pt x="4970" y="1207"/>
                    <a:pt x="4764" y="1287"/>
                    <a:pt x="4607" y="1275"/>
                  </a:cubicBezTo>
                  <a:cubicBezTo>
                    <a:pt x="4450" y="1263"/>
                    <a:pt x="4255" y="1163"/>
                    <a:pt x="4112" y="1110"/>
                  </a:cubicBezTo>
                  <a:cubicBezTo>
                    <a:pt x="3969" y="1057"/>
                    <a:pt x="3912" y="1007"/>
                    <a:pt x="3752" y="960"/>
                  </a:cubicBezTo>
                  <a:cubicBezTo>
                    <a:pt x="3592" y="913"/>
                    <a:pt x="3310" y="867"/>
                    <a:pt x="3152" y="825"/>
                  </a:cubicBezTo>
                  <a:cubicBezTo>
                    <a:pt x="2994" y="783"/>
                    <a:pt x="3012" y="757"/>
                    <a:pt x="2807" y="705"/>
                  </a:cubicBezTo>
                  <a:cubicBezTo>
                    <a:pt x="2602" y="653"/>
                    <a:pt x="2274" y="577"/>
                    <a:pt x="1922" y="510"/>
                  </a:cubicBezTo>
                  <a:cubicBezTo>
                    <a:pt x="1570" y="443"/>
                    <a:pt x="1004" y="357"/>
                    <a:pt x="692" y="300"/>
                  </a:cubicBezTo>
                  <a:cubicBezTo>
                    <a:pt x="380" y="243"/>
                    <a:pt x="4" y="152"/>
                    <a:pt x="2" y="120"/>
                  </a:cubicBezTo>
                  <a:close/>
                </a:path>
              </a:pathLst>
            </a:custGeom>
            <a:solidFill>
              <a:srgbClr val="00ffff"/>
            </a:solidFill>
            <a:ln w="190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888600">
              <a:off x="6746400" y="2643840"/>
              <a:ext cx="2059200" cy="315720"/>
            </a:xfrm>
            <a:custGeom>
              <a:avLst/>
              <a:gdLst/>
              <a:ahLst/>
              <a:rect l="l" t="t" r="r" b="b"/>
              <a:pathLst>
                <a:path w="7437" h="1142">
                  <a:moveTo>
                    <a:pt x="7" y="410"/>
                  </a:moveTo>
                  <a:cubicBezTo>
                    <a:pt x="14" y="368"/>
                    <a:pt x="77" y="335"/>
                    <a:pt x="187" y="275"/>
                  </a:cubicBezTo>
                  <a:cubicBezTo>
                    <a:pt x="297" y="215"/>
                    <a:pt x="454" y="95"/>
                    <a:pt x="667" y="50"/>
                  </a:cubicBezTo>
                  <a:cubicBezTo>
                    <a:pt x="880" y="5"/>
                    <a:pt x="1137" y="0"/>
                    <a:pt x="1462" y="5"/>
                  </a:cubicBezTo>
                  <a:cubicBezTo>
                    <a:pt x="1787" y="10"/>
                    <a:pt x="2315" y="70"/>
                    <a:pt x="2617" y="80"/>
                  </a:cubicBezTo>
                  <a:cubicBezTo>
                    <a:pt x="2919" y="90"/>
                    <a:pt x="3027" y="60"/>
                    <a:pt x="3277" y="65"/>
                  </a:cubicBezTo>
                  <a:cubicBezTo>
                    <a:pt x="3527" y="70"/>
                    <a:pt x="3797" y="77"/>
                    <a:pt x="4117" y="110"/>
                  </a:cubicBezTo>
                  <a:cubicBezTo>
                    <a:pt x="4437" y="143"/>
                    <a:pt x="4872" y="190"/>
                    <a:pt x="5197" y="260"/>
                  </a:cubicBezTo>
                  <a:cubicBezTo>
                    <a:pt x="5522" y="330"/>
                    <a:pt x="5837" y="432"/>
                    <a:pt x="6067" y="530"/>
                  </a:cubicBezTo>
                  <a:cubicBezTo>
                    <a:pt x="6297" y="628"/>
                    <a:pt x="6374" y="752"/>
                    <a:pt x="6577" y="845"/>
                  </a:cubicBezTo>
                  <a:cubicBezTo>
                    <a:pt x="6780" y="938"/>
                    <a:pt x="7145" y="1045"/>
                    <a:pt x="7282" y="1085"/>
                  </a:cubicBezTo>
                  <a:cubicBezTo>
                    <a:pt x="7419" y="1125"/>
                    <a:pt x="7437" y="1078"/>
                    <a:pt x="7402" y="1085"/>
                  </a:cubicBezTo>
                  <a:cubicBezTo>
                    <a:pt x="7367" y="1092"/>
                    <a:pt x="7227" y="1142"/>
                    <a:pt x="7072" y="1130"/>
                  </a:cubicBezTo>
                  <a:cubicBezTo>
                    <a:pt x="6917" y="1118"/>
                    <a:pt x="6659" y="1057"/>
                    <a:pt x="6472" y="1010"/>
                  </a:cubicBezTo>
                  <a:cubicBezTo>
                    <a:pt x="6285" y="963"/>
                    <a:pt x="6169" y="902"/>
                    <a:pt x="5947" y="845"/>
                  </a:cubicBezTo>
                  <a:cubicBezTo>
                    <a:pt x="5725" y="788"/>
                    <a:pt x="5422" y="677"/>
                    <a:pt x="5137" y="665"/>
                  </a:cubicBezTo>
                  <a:cubicBezTo>
                    <a:pt x="4852" y="653"/>
                    <a:pt x="4557" y="743"/>
                    <a:pt x="4237" y="770"/>
                  </a:cubicBezTo>
                  <a:cubicBezTo>
                    <a:pt x="3917" y="797"/>
                    <a:pt x="3499" y="825"/>
                    <a:pt x="3217" y="830"/>
                  </a:cubicBezTo>
                  <a:cubicBezTo>
                    <a:pt x="2935" y="835"/>
                    <a:pt x="2842" y="850"/>
                    <a:pt x="2542" y="800"/>
                  </a:cubicBezTo>
                  <a:cubicBezTo>
                    <a:pt x="2242" y="750"/>
                    <a:pt x="1707" y="577"/>
                    <a:pt x="1417" y="530"/>
                  </a:cubicBezTo>
                  <a:cubicBezTo>
                    <a:pt x="1127" y="483"/>
                    <a:pt x="952" y="510"/>
                    <a:pt x="802" y="515"/>
                  </a:cubicBezTo>
                  <a:cubicBezTo>
                    <a:pt x="652" y="520"/>
                    <a:pt x="577" y="543"/>
                    <a:pt x="517" y="560"/>
                  </a:cubicBezTo>
                  <a:cubicBezTo>
                    <a:pt x="457" y="577"/>
                    <a:pt x="504" y="625"/>
                    <a:pt x="442" y="620"/>
                  </a:cubicBezTo>
                  <a:cubicBezTo>
                    <a:pt x="380" y="615"/>
                    <a:pt x="212" y="552"/>
                    <a:pt x="142" y="530"/>
                  </a:cubicBezTo>
                  <a:cubicBezTo>
                    <a:pt x="72" y="508"/>
                    <a:pt x="0" y="452"/>
                    <a:pt x="7" y="410"/>
                  </a:cubicBezTo>
                  <a:close/>
                </a:path>
              </a:pathLst>
            </a:custGeom>
            <a:solidFill>
              <a:srgbClr val="00ffff"/>
            </a:solidFill>
            <a:ln w="190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888600">
              <a:off x="7027200" y="2529000"/>
              <a:ext cx="10440" cy="1872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38" y="0"/>
                  </a:moveTo>
                  <a:cubicBezTo>
                    <a:pt x="32" y="11"/>
                    <a:pt x="8" y="54"/>
                    <a:pt x="0" y="68"/>
                  </a:cubicBezTo>
                </a:path>
              </a:pathLst>
            </a:custGeom>
            <a:solidFill>
              <a:srgbClr val="00ffff"/>
            </a:solidFill>
            <a:ln w="190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888600">
              <a:off x="7057080" y="2538720"/>
              <a:ext cx="10440" cy="1872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38" y="0"/>
                  </a:moveTo>
                  <a:cubicBezTo>
                    <a:pt x="32" y="11"/>
                    <a:pt x="8" y="54"/>
                    <a:pt x="0" y="68"/>
                  </a:cubicBezTo>
                </a:path>
              </a:pathLst>
            </a:custGeom>
            <a:solidFill>
              <a:srgbClr val="00ffff"/>
            </a:solidFill>
            <a:ln w="190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888600">
              <a:off x="7083360" y="2545560"/>
              <a:ext cx="10440" cy="1872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38" y="0"/>
                  </a:moveTo>
                  <a:cubicBezTo>
                    <a:pt x="32" y="11"/>
                    <a:pt x="8" y="54"/>
                    <a:pt x="0" y="68"/>
                  </a:cubicBezTo>
                </a:path>
              </a:pathLst>
            </a:custGeom>
            <a:solidFill>
              <a:srgbClr val="00ffff"/>
            </a:solidFill>
            <a:ln w="190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888600">
              <a:off x="7102800" y="2553480"/>
              <a:ext cx="10440" cy="1872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38" y="0"/>
                  </a:moveTo>
                  <a:cubicBezTo>
                    <a:pt x="32" y="11"/>
                    <a:pt x="8" y="54"/>
                    <a:pt x="0" y="68"/>
                  </a:cubicBezTo>
                </a:path>
              </a:pathLst>
            </a:custGeom>
            <a:solidFill>
              <a:srgbClr val="00ffff"/>
            </a:solidFill>
            <a:ln w="190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888600">
              <a:off x="7133760" y="2565720"/>
              <a:ext cx="10440" cy="1872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38" y="0"/>
                  </a:moveTo>
                  <a:cubicBezTo>
                    <a:pt x="32" y="11"/>
                    <a:pt x="8" y="54"/>
                    <a:pt x="0" y="68"/>
                  </a:cubicBezTo>
                </a:path>
              </a:pathLst>
            </a:custGeom>
            <a:solidFill>
              <a:srgbClr val="00ffff"/>
            </a:solidFill>
            <a:ln w="190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888600">
              <a:off x="7162560" y="2577960"/>
              <a:ext cx="10440" cy="1872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38" y="0"/>
                  </a:moveTo>
                  <a:cubicBezTo>
                    <a:pt x="32" y="11"/>
                    <a:pt x="8" y="54"/>
                    <a:pt x="0" y="68"/>
                  </a:cubicBezTo>
                </a:path>
              </a:pathLst>
            </a:custGeom>
            <a:solidFill>
              <a:srgbClr val="00ffff"/>
            </a:solidFill>
            <a:ln w="190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888600">
              <a:off x="6953040" y="2508840"/>
              <a:ext cx="23760" cy="19800"/>
            </a:xfrm>
            <a:custGeom>
              <a:avLst/>
              <a:gdLst/>
              <a:ahLst/>
              <a:rect l="l" t="t" r="r" b="b"/>
              <a:pathLst>
                <a:path w="109" h="104">
                  <a:moveTo>
                    <a:pt x="25" y="2"/>
                  </a:moveTo>
                  <a:cubicBezTo>
                    <a:pt x="39" y="0"/>
                    <a:pt x="73" y="20"/>
                    <a:pt x="85" y="32"/>
                  </a:cubicBezTo>
                  <a:cubicBezTo>
                    <a:pt x="97" y="44"/>
                    <a:pt x="109" y="66"/>
                    <a:pt x="100" y="77"/>
                  </a:cubicBezTo>
                  <a:cubicBezTo>
                    <a:pt x="91" y="88"/>
                    <a:pt x="48" y="104"/>
                    <a:pt x="32" y="99"/>
                  </a:cubicBezTo>
                  <a:cubicBezTo>
                    <a:pt x="16" y="94"/>
                    <a:pt x="4" y="63"/>
                    <a:pt x="2" y="47"/>
                  </a:cubicBezTo>
                  <a:cubicBezTo>
                    <a:pt x="0" y="31"/>
                    <a:pt x="11" y="4"/>
                    <a:pt x="25" y="2"/>
                  </a:cubicBez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924240" y="2714040"/>
            <a:ext cx="983520" cy="983520"/>
            <a:chOff x="6924240" y="2714040"/>
            <a:chExt cx="983520" cy="983520"/>
          </a:xfrm>
        </p:grpSpPr>
        <p:sp>
          <p:nvSpPr>
            <p:cNvPr id="358" name=""/>
            <p:cNvSpPr/>
            <p:nvPr/>
          </p:nvSpPr>
          <p:spPr>
            <a:xfrm flipH="1" rot="18900000">
              <a:off x="7063200" y="2862720"/>
              <a:ext cx="704880" cy="685800"/>
            </a:xfrm>
            <a:prstGeom prst="leftArrow">
              <a:avLst>
                <a:gd name="adj1" fmla="val 50472"/>
                <a:gd name="adj2" fmla="val 27313"/>
              </a:avLst>
            </a:pr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rot="18900000">
              <a:off x="7076880" y="304488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125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312840" y="2325600"/>
            <a:ext cx="804600" cy="48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82320" y="139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cc"/>
                </a:solidFill>
                <a:latin typeface="Eras Bold ITC"/>
              </a:rPr>
              <a:t>2 - BIOCHEMICAL</a:t>
            </a: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17600" y="1325520"/>
            <a:ext cx="78264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Comparing amino acid sequence shows: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142640" y="2542680"/>
            <a:ext cx="3613320" cy="30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901"/>
              </a:spcBef>
              <a:buClr>
                <a:srgbClr val="ffff00"/>
              </a:buClr>
              <a:buSzPct val="75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Closeness of relationship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  <a:p>
            <a:pPr marL="463680" indent="-463680">
              <a:spcBef>
                <a:spcPts val="901"/>
              </a:spcBef>
              <a:buClr>
                <a:srgbClr val="ffff00"/>
              </a:buClr>
              <a:buSzPct val="75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A probable common ancestor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4794120" y="3838680"/>
          <a:ext cx="4002120" cy="2962080"/>
        </p:xfrm>
        <a:graphic>
          <a:graphicData uri="http://schemas.openxmlformats.org/drawingml/2006/table">
            <a:tbl>
              <a:tblPr/>
              <a:tblGrid>
                <a:gridCol w="2371680"/>
                <a:gridCol w="1630440"/>
              </a:tblGrid>
              <a:tr h="402840"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Heavy"/>
                        </a:rPr>
                        <a:t>Spec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Heavy"/>
                        </a:rPr>
                        <a:t>Differe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02840"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99ff"/>
                          </a:solidFill>
                          <a:latin typeface="Franklin Gothic Heavy"/>
                        </a:rPr>
                        <a:t>Gorill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99ff"/>
                          </a:solidFill>
                          <a:latin typeface="Franklin Gothic Heavy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</a:tr>
              <a:tr h="545040"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99ff"/>
                          </a:solidFill>
                          <a:latin typeface="Franklin Gothic Heavy"/>
                        </a:rPr>
                        <a:t>Rhesus Monke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99ff"/>
                          </a:solidFill>
                          <a:latin typeface="Franklin Gothic Heavy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99ff"/>
                          </a:solidFill>
                          <a:latin typeface="Franklin Gothic Heavy"/>
                        </a:rPr>
                        <a:t>Mou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99ff"/>
                          </a:solidFill>
                          <a:latin typeface="Franklin Gothic Heavy"/>
                        </a:rPr>
                        <a:t>2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99ff"/>
                          </a:solidFill>
                          <a:latin typeface="Franklin Gothic Heavy"/>
                        </a:rPr>
                        <a:t>Chick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99ff"/>
                          </a:solidFill>
                          <a:latin typeface="Franklin Gothic Heavy"/>
                        </a:rPr>
                        <a:t>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99ff"/>
                          </a:solidFill>
                          <a:latin typeface="Franklin Gothic Heavy"/>
                        </a:rPr>
                        <a:t>Fro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99ff"/>
                          </a:solidFill>
                          <a:latin typeface="Franklin Gothic Heavy"/>
                        </a:rPr>
                        <a:t>6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99ff"/>
                          </a:solidFill>
                          <a:latin typeface="Franklin Gothic Heavy"/>
                        </a:rPr>
                        <a:t>Lampre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99ff"/>
                          </a:solidFill>
                          <a:latin typeface="Franklin Gothic Heavy"/>
                        </a:rPr>
                        <a:t>1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5" name=""/>
          <p:cNvSpPr/>
          <p:nvPr/>
        </p:nvSpPr>
        <p:spPr>
          <a:xfrm>
            <a:off x="4613400" y="2521080"/>
            <a:ext cx="4479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Franklin Gothic Heavy"/>
              </a:rPr>
              <a:t>Amino Acid Difference in Hemoglobin Compared with Hu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87600" y="6070680"/>
            <a:ext cx="300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Arial"/>
              </a:rPr>
              <a:t>Human hemoglobin has 146 amino ac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249200" y="2571840"/>
            <a:ext cx="3346560" cy="42861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Amino Acid Sequencing is probably the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STRONGEST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evidence for relationships among organis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268200" y="2727360"/>
            <a:ext cx="804960" cy="48240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290520" y="4021200"/>
            <a:ext cx="804960" cy="48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380960" y="3511440"/>
            <a:ext cx="2833920" cy="127980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at organism belongs at each branch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49120" y="727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cc"/>
                </a:solidFill>
                <a:latin typeface="Eras Bold ITC"/>
              </a:rPr>
              <a:t>2 - BIOCHEMICAL</a:t>
            </a: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7640" y="1058400"/>
            <a:ext cx="570528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Franklin Gothic Heavy"/>
              </a:rPr>
              <a:t>CLADOGRAM: diagram that shows the evolutionary relationship among a group of organisms.</a:t>
            </a:r>
            <a:endParaRPr b="0" lang="en-US" sz="3200" spc="-1" strike="noStrike">
              <a:solidFill>
                <a:srgbClr val="00ffff"/>
              </a:solidFill>
              <a:latin typeface="Franklin Gothic Heavy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691320" y="900000"/>
          <a:ext cx="2274840" cy="2611440"/>
        </p:xfrm>
        <a:graphic>
          <a:graphicData uri="http://schemas.openxmlformats.org/drawingml/2006/table">
            <a:tbl>
              <a:tblPr/>
              <a:tblGrid>
                <a:gridCol w="1027080"/>
                <a:gridCol w="1247760"/>
              </a:tblGrid>
              <a:tr h="380880"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Heavy"/>
                        </a:rPr>
                        <a:t>Spec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Heavy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70080"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99ff"/>
                          </a:solidFill>
                          <a:latin typeface="Franklin Gothic Heavy"/>
                        </a:rPr>
                        <a:t>Goril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99ff"/>
                          </a:solidFill>
                          <a:latin typeface="Franklin Gothic Heavy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99ff"/>
                          </a:solidFill>
                          <a:latin typeface="Franklin Gothic Heavy"/>
                        </a:rPr>
                        <a:t>Monke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99ff"/>
                          </a:solidFill>
                          <a:latin typeface="Franklin Gothic Heavy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99ff"/>
                          </a:solidFill>
                          <a:latin typeface="Franklin Gothic Heavy"/>
                        </a:rPr>
                        <a:t>Mou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99ff"/>
                          </a:solidFill>
                          <a:latin typeface="Franklin Gothic Heavy"/>
                        </a:rPr>
                        <a:t>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99ff"/>
                          </a:solidFill>
                          <a:latin typeface="Franklin Gothic Heavy"/>
                        </a:rPr>
                        <a:t>Chick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99ff"/>
                          </a:solidFill>
                          <a:latin typeface="Franklin Gothic Heavy"/>
                        </a:rPr>
                        <a:t>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99ff"/>
                          </a:solidFill>
                          <a:latin typeface="Franklin Gothic Heavy"/>
                        </a:rPr>
                        <a:t>Fro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99ff"/>
                          </a:solidFill>
                          <a:latin typeface="Franklin Gothic Heavy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99ff"/>
                          </a:solidFill>
                          <a:latin typeface="Franklin Gothic Heavy"/>
                        </a:rPr>
                        <a:t>Lampre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99ff"/>
                          </a:solidFill>
                          <a:latin typeface="Franklin Gothic Heavy"/>
                        </a:rPr>
                        <a:t>1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"/>
          <p:cNvSpPr/>
          <p:nvPr/>
        </p:nvSpPr>
        <p:spPr>
          <a:xfrm rot="27600">
            <a:off x="6516360" y="-22320"/>
            <a:ext cx="267156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Franklin Gothic Heavy"/>
              </a:rPr>
              <a:t>Amino Acid Difference in Hemoglobin Compared with Hum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0" y="3531960"/>
            <a:ext cx="7888320" cy="3325680"/>
            <a:chOff x="0" y="3531960"/>
            <a:chExt cx="7888320" cy="3325680"/>
          </a:xfrm>
        </p:grpSpPr>
        <p:sp>
          <p:nvSpPr>
            <p:cNvPr id="376" name=""/>
            <p:cNvSpPr/>
            <p:nvPr/>
          </p:nvSpPr>
          <p:spPr>
            <a:xfrm>
              <a:off x="3178080" y="6289560"/>
              <a:ext cx="4248360" cy="3794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umber of Amino Acid Differenc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34000" y="3683880"/>
              <a:ext cx="389520" cy="2211120"/>
            </a:xfrm>
            <a:prstGeom prst="line">
              <a:avLst/>
            </a:prstGeom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07320" y="3769200"/>
              <a:ext cx="259920" cy="1473840"/>
            </a:xfrm>
            <a:prstGeom prst="line">
              <a:avLst/>
            </a:prstGeom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460640" y="4447800"/>
              <a:ext cx="64800" cy="367560"/>
            </a:xfrm>
            <a:prstGeom prst="line">
              <a:avLst/>
            </a:prstGeom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30880" y="4107960"/>
              <a:ext cx="130320" cy="737640"/>
            </a:xfrm>
            <a:prstGeom prst="line">
              <a:avLst/>
            </a:prstGeom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160320" y="3869280"/>
              <a:ext cx="195120" cy="1105200"/>
            </a:xfrm>
            <a:prstGeom prst="line">
              <a:avLst/>
            </a:prstGeom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54120" y="3531960"/>
              <a:ext cx="324720" cy="1842120"/>
            </a:xfrm>
            <a:prstGeom prst="line">
              <a:avLst/>
            </a:prstGeom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0" y="4807800"/>
              <a:ext cx="7888320" cy="2049840"/>
              <a:chOff x="0" y="4807800"/>
              <a:chExt cx="7888320" cy="2049840"/>
            </a:xfrm>
          </p:grpSpPr>
          <p:sp>
            <p:nvSpPr>
              <p:cNvPr id="384" name=""/>
              <p:cNvSpPr/>
              <p:nvPr/>
            </p:nvSpPr>
            <p:spPr>
              <a:xfrm flipV="1">
                <a:off x="247680" y="4807800"/>
                <a:ext cx="7427880" cy="1309680"/>
              </a:xfrm>
              <a:prstGeom prst="line">
                <a:avLst/>
              </a:prstGeom>
              <a:ln w="572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85" name=""/>
              <p:cNvGrpSpPr/>
              <p:nvPr/>
            </p:nvGrpSpPr>
            <p:grpSpPr>
              <a:xfrm>
                <a:off x="0" y="6113520"/>
                <a:ext cx="547560" cy="744120"/>
                <a:chOff x="0" y="6113520"/>
                <a:chExt cx="547560" cy="7441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274320" y="6113520"/>
                  <a:ext cx="0" cy="37440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0" y="6489720"/>
                  <a:ext cx="547560" cy="367920"/>
                </a:xfrm>
                <a:prstGeom prst="rect">
                  <a:avLst/>
                </a:prstGeom>
                <a:noFill/>
                <a:ln w="284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15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2470320" y="5691240"/>
                <a:ext cx="547560" cy="716040"/>
                <a:chOff x="2470320" y="5691240"/>
                <a:chExt cx="547560" cy="71604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2743200" y="5691240"/>
                  <a:ext cx="0" cy="37476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470320" y="6039000"/>
                  <a:ext cx="547560" cy="368280"/>
                </a:xfrm>
                <a:prstGeom prst="rect">
                  <a:avLst/>
                </a:prstGeom>
                <a:noFill/>
                <a:ln w="284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10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4984920" y="5259240"/>
                <a:ext cx="483840" cy="744840"/>
                <a:chOff x="4984920" y="5259240"/>
                <a:chExt cx="483840" cy="74484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5227200" y="5259240"/>
                  <a:ext cx="0" cy="37476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4984920" y="5635800"/>
                  <a:ext cx="483840" cy="368280"/>
                </a:xfrm>
                <a:prstGeom prst="rect">
                  <a:avLst/>
                </a:prstGeom>
                <a:noFill/>
                <a:ln w="284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5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7404120" y="4818240"/>
                <a:ext cx="484200" cy="744120"/>
                <a:chOff x="7404120" y="4818240"/>
                <a:chExt cx="484200" cy="7441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7646760" y="4818240"/>
                  <a:ext cx="0" cy="37440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404120" y="5194440"/>
                  <a:ext cx="484200" cy="367920"/>
                </a:xfrm>
                <a:prstGeom prst="rect">
                  <a:avLst/>
                </a:prstGeom>
                <a:noFill/>
                <a:ln w="284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5467320" y="5160960"/>
                <a:ext cx="484200" cy="744120"/>
                <a:chOff x="5467320" y="5160960"/>
                <a:chExt cx="484200" cy="7441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5709960" y="5160960"/>
                  <a:ext cx="0" cy="37440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5467320" y="5537160"/>
                  <a:ext cx="484200" cy="367920"/>
                </a:xfrm>
                <a:prstGeom prst="rect">
                  <a:avLst/>
                </a:prstGeom>
                <a:noFill/>
                <a:ln w="284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6432480" y="4995720"/>
                <a:ext cx="484200" cy="744840"/>
                <a:chOff x="6432480" y="4995720"/>
                <a:chExt cx="484200" cy="74484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6675120" y="4995720"/>
                  <a:ext cx="0" cy="37476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6432480" y="5372280"/>
                  <a:ext cx="484200" cy="368280"/>
                </a:xfrm>
                <a:prstGeom prst="rect">
                  <a:avLst/>
                </a:prstGeom>
                <a:noFill/>
                <a:ln w="284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5946840" y="5078520"/>
                <a:ext cx="484200" cy="744120"/>
                <a:chOff x="5946840" y="5078520"/>
                <a:chExt cx="484200" cy="74412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6189480" y="5078520"/>
                  <a:ext cx="0" cy="37440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5946840" y="5454720"/>
                  <a:ext cx="484200" cy="367920"/>
                </a:xfrm>
                <a:prstGeom prst="rect">
                  <a:avLst/>
                </a:prstGeom>
                <a:noFill/>
                <a:ln w="284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3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6918480" y="4913280"/>
                <a:ext cx="484200" cy="744120"/>
                <a:chOff x="6918480" y="4913280"/>
                <a:chExt cx="484200" cy="74412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7161120" y="4913280"/>
                  <a:ext cx="0" cy="37440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918480" y="5289480"/>
                  <a:ext cx="484200" cy="367920"/>
                </a:xfrm>
                <a:prstGeom prst="rect">
                  <a:avLst/>
                </a:prstGeom>
                <a:noFill/>
                <a:ln w="284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1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09" name=""/>
          <p:cNvSpPr/>
          <p:nvPr/>
        </p:nvSpPr>
        <p:spPr>
          <a:xfrm>
            <a:off x="7490880" y="4392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265880" y="3965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909120" y="3652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995080" y="3430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877280" y="3362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53600" y="3073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08640" y="3184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76040" y="5611680"/>
            <a:ext cx="133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ommon ances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380960" y="3510000"/>
            <a:ext cx="2833920" cy="127944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ere would the common ancestor b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130320"/>
            <a:ext cx="9144000" cy="101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cc"/>
                </a:solidFill>
                <a:latin typeface="Eras Bold ITC"/>
              </a:rPr>
              <a:t>3 COMPARATIVE ANATOMY</a:t>
            </a: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70000" y="1254240"/>
            <a:ext cx="7664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Franklin Gothic Heavy"/>
              </a:rPr>
              <a:t>HOMOLOGOUS STRUCTURES</a:t>
            </a:r>
            <a:endParaRPr b="0" lang="en-US" sz="40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1176480" y="1996560"/>
            <a:ext cx="8191440" cy="25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structures with similar structure but different function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ex: limbs of vertebrates (turtle, alligator, bird, mammal)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693800" y="4664160"/>
            <a:ext cx="6348240" cy="1650960"/>
            <a:chOff x="1693800" y="4664160"/>
            <a:chExt cx="6348240" cy="1650960"/>
          </a:xfrm>
        </p:grpSpPr>
        <p:grpSp>
          <p:nvGrpSpPr>
            <p:cNvPr id="422" name=""/>
            <p:cNvGrpSpPr/>
            <p:nvPr/>
          </p:nvGrpSpPr>
          <p:grpSpPr>
            <a:xfrm>
              <a:off x="1693800" y="4664160"/>
              <a:ext cx="1704960" cy="1647720"/>
              <a:chOff x="1693800" y="4664160"/>
              <a:chExt cx="1704960" cy="1647720"/>
            </a:xfrm>
          </p:grpSpPr>
          <p:pic>
            <p:nvPicPr>
              <p:cNvPr id="42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3800" y="4664160"/>
                <a:ext cx="1498680" cy="164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"/>
              <p:cNvSpPr/>
              <p:nvPr/>
            </p:nvSpPr>
            <p:spPr>
              <a:xfrm>
                <a:off x="2179440" y="5371920"/>
                <a:ext cx="12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urt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3382920" y="4664160"/>
              <a:ext cx="1641600" cy="1646280"/>
              <a:chOff x="3382920" y="4664160"/>
              <a:chExt cx="1641600" cy="1646280"/>
            </a:xfrm>
          </p:grpSpPr>
          <p:sp>
            <p:nvSpPr>
              <p:cNvPr id="426" name=""/>
              <p:cNvSpPr/>
              <p:nvPr/>
            </p:nvSpPr>
            <p:spPr>
              <a:xfrm>
                <a:off x="3390840" y="4664160"/>
                <a:ext cx="1540080" cy="1644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42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630600" y="4664160"/>
                <a:ext cx="1393920" cy="16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"/>
              <p:cNvSpPr/>
              <p:nvPr/>
            </p:nvSpPr>
            <p:spPr>
              <a:xfrm>
                <a:off x="3382920" y="5240520"/>
                <a:ext cx="838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lligato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5205240" y="4664160"/>
              <a:ext cx="1506600" cy="1644480"/>
              <a:chOff x="5205240" y="4664160"/>
              <a:chExt cx="1506600" cy="1644480"/>
            </a:xfrm>
          </p:grpSpPr>
          <p:pic>
            <p:nvPicPr>
              <p:cNvPr id="43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205240" y="4664160"/>
                <a:ext cx="1379520" cy="164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1" name=""/>
              <p:cNvSpPr/>
              <p:nvPr/>
            </p:nvSpPr>
            <p:spPr>
              <a:xfrm>
                <a:off x="5721120" y="5438880"/>
                <a:ext cx="99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ir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6753240" y="4664160"/>
              <a:ext cx="1288800" cy="1650960"/>
              <a:chOff x="6753240" y="4664160"/>
              <a:chExt cx="1288800" cy="1650960"/>
            </a:xfrm>
          </p:grpSpPr>
          <p:pic>
            <p:nvPicPr>
              <p:cNvPr id="43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753240" y="4664160"/>
                <a:ext cx="1279440" cy="165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"/>
              <p:cNvSpPr/>
              <p:nvPr/>
            </p:nvSpPr>
            <p:spPr>
              <a:xfrm>
                <a:off x="7051680" y="5683320"/>
                <a:ext cx="99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amma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35" name="" descr=""/>
          <p:cNvPicPr/>
          <p:nvPr/>
        </p:nvPicPr>
        <p:blipFill>
          <a:blip r:embed="rId6"/>
          <a:stretch/>
        </p:blipFill>
        <p:spPr>
          <a:xfrm>
            <a:off x="376200" y="2103480"/>
            <a:ext cx="804960" cy="4824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7"/>
          <a:stretch/>
        </p:blipFill>
        <p:spPr>
          <a:xfrm>
            <a:off x="376200" y="3325680"/>
            <a:ext cx="804960" cy="48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" dur="5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129960"/>
            <a:ext cx="9144000" cy="97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cc"/>
                </a:solidFill>
                <a:latin typeface="Eras Bold ITC"/>
              </a:rPr>
              <a:t>3 COMPARATIVE ANATOMY</a:t>
            </a: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70000" y="1565280"/>
            <a:ext cx="768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Homologous structures show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1109520" y="2463840"/>
            <a:ext cx="8034480" cy="11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ffff00"/>
              </a:buClr>
              <a:buSzPct val="75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Similar genes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  <a:p>
            <a:pPr marL="312120" indent="-312120">
              <a:spcBef>
                <a:spcPts val="901"/>
              </a:spcBef>
              <a:buClr>
                <a:srgbClr val="ffff00"/>
              </a:buClr>
              <a:buSzPct val="75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Descent from a common ancestor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1693800" y="4175280"/>
            <a:ext cx="6348240" cy="1650960"/>
            <a:chOff x="1693800" y="4175280"/>
            <a:chExt cx="6348240" cy="1650960"/>
          </a:xfrm>
        </p:grpSpPr>
        <p:grpSp>
          <p:nvGrpSpPr>
            <p:cNvPr id="441" name=""/>
            <p:cNvGrpSpPr/>
            <p:nvPr/>
          </p:nvGrpSpPr>
          <p:grpSpPr>
            <a:xfrm>
              <a:off x="1693800" y="4175280"/>
              <a:ext cx="1704960" cy="1647720"/>
              <a:chOff x="1693800" y="4175280"/>
              <a:chExt cx="1704960" cy="1647720"/>
            </a:xfrm>
          </p:grpSpPr>
          <p:pic>
            <p:nvPicPr>
              <p:cNvPr id="44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3800" y="4175280"/>
                <a:ext cx="1498680" cy="164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"/>
              <p:cNvSpPr/>
              <p:nvPr/>
            </p:nvSpPr>
            <p:spPr>
              <a:xfrm>
                <a:off x="2179440" y="4883040"/>
                <a:ext cx="12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urt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3382920" y="4175280"/>
              <a:ext cx="1641600" cy="1646280"/>
              <a:chOff x="3382920" y="4175280"/>
              <a:chExt cx="1641600" cy="1646280"/>
            </a:xfrm>
          </p:grpSpPr>
          <p:sp>
            <p:nvSpPr>
              <p:cNvPr id="445" name=""/>
              <p:cNvSpPr/>
              <p:nvPr/>
            </p:nvSpPr>
            <p:spPr>
              <a:xfrm>
                <a:off x="3390840" y="4175280"/>
                <a:ext cx="1540080" cy="1644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44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630600" y="4175280"/>
                <a:ext cx="1393920" cy="16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7" name=""/>
              <p:cNvSpPr/>
              <p:nvPr/>
            </p:nvSpPr>
            <p:spPr>
              <a:xfrm>
                <a:off x="3382920" y="4751640"/>
                <a:ext cx="838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lligato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5205240" y="4175280"/>
              <a:ext cx="1506600" cy="1644480"/>
              <a:chOff x="5205240" y="4175280"/>
              <a:chExt cx="1506600" cy="1644480"/>
            </a:xfrm>
          </p:grpSpPr>
          <p:pic>
            <p:nvPicPr>
              <p:cNvPr id="44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205240" y="4175280"/>
                <a:ext cx="1379520" cy="164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>
                <a:off x="5721120" y="4950000"/>
                <a:ext cx="99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ir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6753240" y="4175280"/>
              <a:ext cx="1288800" cy="1650960"/>
              <a:chOff x="6753240" y="4175280"/>
              <a:chExt cx="1288800" cy="1650960"/>
            </a:xfrm>
          </p:grpSpPr>
          <p:pic>
            <p:nvPicPr>
              <p:cNvPr id="45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753240" y="4175280"/>
                <a:ext cx="1279440" cy="165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"/>
              <p:cNvSpPr/>
              <p:nvPr/>
            </p:nvSpPr>
            <p:spPr>
              <a:xfrm>
                <a:off x="7051680" y="5194440"/>
                <a:ext cx="99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amma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4" name=""/>
          <p:cNvGrpSpPr/>
          <p:nvPr/>
        </p:nvGrpSpPr>
        <p:grpSpPr>
          <a:xfrm>
            <a:off x="2565360" y="5384880"/>
            <a:ext cx="4411440" cy="1008720"/>
            <a:chOff x="2565360" y="5384880"/>
            <a:chExt cx="4411440" cy="1008720"/>
          </a:xfrm>
        </p:grpSpPr>
        <p:sp>
          <p:nvSpPr>
            <p:cNvPr id="455" name=""/>
            <p:cNvSpPr/>
            <p:nvPr/>
          </p:nvSpPr>
          <p:spPr>
            <a:xfrm>
              <a:off x="3635280" y="6086520"/>
              <a:ext cx="22860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ncient lobe-finned fis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565360" y="5384880"/>
              <a:ext cx="892080" cy="884520"/>
            </a:xfrm>
            <a:custGeom>
              <a:avLst/>
              <a:gdLst/>
              <a:ahLst/>
              <a:rect l="l" t="t" r="r" b="b"/>
              <a:pathLst>
                <a:path w="562" h="557">
                  <a:moveTo>
                    <a:pt x="0" y="0"/>
                  </a:moveTo>
                  <a:cubicBezTo>
                    <a:pt x="118" y="37"/>
                    <a:pt x="237" y="75"/>
                    <a:pt x="267" y="154"/>
                  </a:cubicBezTo>
                  <a:cubicBezTo>
                    <a:pt x="297" y="233"/>
                    <a:pt x="154" y="411"/>
                    <a:pt x="182" y="477"/>
                  </a:cubicBezTo>
                  <a:cubicBezTo>
                    <a:pt x="210" y="543"/>
                    <a:pt x="372" y="539"/>
                    <a:pt x="435" y="548"/>
                  </a:cubicBezTo>
                  <a:cubicBezTo>
                    <a:pt x="498" y="557"/>
                    <a:pt x="530" y="545"/>
                    <a:pt x="562" y="534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624120" y="5384880"/>
              <a:ext cx="605160" cy="601920"/>
            </a:xfrm>
            <a:custGeom>
              <a:avLst/>
              <a:gdLst/>
              <a:ahLst/>
              <a:rect l="l" t="t" r="r" b="b"/>
              <a:pathLst>
                <a:path w="381" h="379">
                  <a:moveTo>
                    <a:pt x="35" y="0"/>
                  </a:moveTo>
                  <a:cubicBezTo>
                    <a:pt x="17" y="83"/>
                    <a:pt x="0" y="166"/>
                    <a:pt x="49" y="211"/>
                  </a:cubicBezTo>
                  <a:cubicBezTo>
                    <a:pt x="98" y="256"/>
                    <a:pt x="279" y="239"/>
                    <a:pt x="330" y="267"/>
                  </a:cubicBezTo>
                  <a:cubicBezTo>
                    <a:pt x="381" y="295"/>
                    <a:pt x="369" y="337"/>
                    <a:pt x="358" y="379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4979880" y="5384880"/>
              <a:ext cx="604800" cy="601920"/>
            </a:xfrm>
            <a:custGeom>
              <a:avLst/>
              <a:gdLst/>
              <a:ahLst/>
              <a:rect l="l" t="t" r="r" b="b"/>
              <a:pathLst>
                <a:path w="381" h="379">
                  <a:moveTo>
                    <a:pt x="35" y="0"/>
                  </a:moveTo>
                  <a:cubicBezTo>
                    <a:pt x="17" y="83"/>
                    <a:pt x="0" y="166"/>
                    <a:pt x="49" y="211"/>
                  </a:cubicBezTo>
                  <a:cubicBezTo>
                    <a:pt x="98" y="256"/>
                    <a:pt x="279" y="239"/>
                    <a:pt x="330" y="267"/>
                  </a:cubicBezTo>
                  <a:cubicBezTo>
                    <a:pt x="381" y="295"/>
                    <a:pt x="369" y="337"/>
                    <a:pt x="358" y="379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6084000" y="5384880"/>
              <a:ext cx="892440" cy="884520"/>
            </a:xfrm>
            <a:custGeom>
              <a:avLst/>
              <a:gdLst/>
              <a:ahLst/>
              <a:rect l="l" t="t" r="r" b="b"/>
              <a:pathLst>
                <a:path w="562" h="557">
                  <a:moveTo>
                    <a:pt x="0" y="0"/>
                  </a:moveTo>
                  <a:cubicBezTo>
                    <a:pt x="118" y="37"/>
                    <a:pt x="237" y="75"/>
                    <a:pt x="267" y="154"/>
                  </a:cubicBezTo>
                  <a:cubicBezTo>
                    <a:pt x="297" y="233"/>
                    <a:pt x="154" y="411"/>
                    <a:pt x="182" y="477"/>
                  </a:cubicBezTo>
                  <a:cubicBezTo>
                    <a:pt x="210" y="543"/>
                    <a:pt x="372" y="539"/>
                    <a:pt x="435" y="548"/>
                  </a:cubicBezTo>
                  <a:cubicBezTo>
                    <a:pt x="498" y="557"/>
                    <a:pt x="530" y="545"/>
                    <a:pt x="562" y="534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60" name="" descr=""/>
          <p:cNvPicPr/>
          <p:nvPr/>
        </p:nvPicPr>
        <p:blipFill>
          <a:blip r:embed="rId6"/>
          <a:stretch/>
        </p:blipFill>
        <p:spPr>
          <a:xfrm>
            <a:off x="334800" y="2548080"/>
            <a:ext cx="804960" cy="48240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7"/>
          <a:stretch/>
        </p:blipFill>
        <p:spPr>
          <a:xfrm>
            <a:off x="334800" y="3240000"/>
            <a:ext cx="804960" cy="48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129960"/>
            <a:ext cx="91440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cc"/>
                </a:solidFill>
                <a:latin typeface="Eras Bold ITC"/>
              </a:rPr>
              <a:t>3 COMPARATIVE ANATOMY</a:t>
            </a: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244520" y="1139760"/>
            <a:ext cx="79740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Franklin Gothic Heavy"/>
              </a:rPr>
              <a:t>VESTIGIAL STRUCTURES</a:t>
            </a:r>
            <a:endParaRPr b="0" lang="en-US" sz="40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1254240" y="1901520"/>
            <a:ext cx="5440320" cy="41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ffff"/>
                </a:solidFill>
                <a:latin typeface="Franklin Gothic Heavy"/>
                <a:ea typeface="Arial"/>
              </a:rPr>
              <a:t>organs so reduced in size that they are nonfunctioning remnants of similar organs in other species</a:t>
            </a:r>
            <a:r>
              <a:rPr b="0" lang="en-US" sz="3400" spc="-1" strike="noStrike">
                <a:solidFill>
                  <a:srgbClr val="00ffff"/>
                </a:solidFill>
                <a:latin typeface="Franklin Gothic Heavy"/>
              </a:rPr>
              <a:t> </a:t>
            </a:r>
            <a:endParaRPr b="0" lang="en-US" sz="3400" spc="-1" strike="noStrike">
              <a:solidFill>
                <a:srgbClr val="00ffff"/>
              </a:solidFill>
              <a:latin typeface="Franklin Gothic Heavy"/>
            </a:endParaRPr>
          </a:p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ffff"/>
                </a:solidFill>
                <a:latin typeface="Franklin Gothic Heavy"/>
              </a:rPr>
              <a:t>ex:  human tailbone, appendix, whale pelvis</a:t>
            </a:r>
            <a:endParaRPr b="0" lang="en-US" sz="3400" spc="-1" strike="noStrike">
              <a:solidFill>
                <a:srgbClr val="00ffff"/>
              </a:solidFill>
              <a:latin typeface="Franklin Gothic Heavy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5027040" y="2238840"/>
            <a:ext cx="4780800" cy="4933080"/>
            <a:chOff x="5027040" y="2238840"/>
            <a:chExt cx="4780800" cy="4933080"/>
          </a:xfrm>
        </p:grpSpPr>
        <p:sp>
          <p:nvSpPr>
            <p:cNvPr id="466" name=""/>
            <p:cNvSpPr/>
            <p:nvPr/>
          </p:nvSpPr>
          <p:spPr>
            <a:xfrm rot="3532200">
              <a:off x="7566480" y="4695120"/>
              <a:ext cx="111240" cy="37800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36" y="81"/>
                  </a:moveTo>
                  <a:cubicBezTo>
                    <a:pt x="42" y="76"/>
                    <a:pt x="52" y="77"/>
                    <a:pt x="57" y="70"/>
                  </a:cubicBezTo>
                  <a:cubicBezTo>
                    <a:pt x="63" y="62"/>
                    <a:pt x="66" y="46"/>
                    <a:pt x="70" y="35"/>
                  </a:cubicBezTo>
                  <a:cubicBezTo>
                    <a:pt x="73" y="24"/>
                    <a:pt x="76" y="8"/>
                    <a:pt x="82" y="4"/>
                  </a:cubicBezTo>
                  <a:cubicBezTo>
                    <a:pt x="87" y="0"/>
                    <a:pt x="94" y="5"/>
                    <a:pt x="100" y="12"/>
                  </a:cubicBezTo>
                  <a:cubicBezTo>
                    <a:pt x="106" y="18"/>
                    <a:pt x="118" y="27"/>
                    <a:pt x="117" y="43"/>
                  </a:cubicBezTo>
                  <a:cubicBezTo>
                    <a:pt x="116" y="58"/>
                    <a:pt x="98" y="76"/>
                    <a:pt x="94" y="104"/>
                  </a:cubicBezTo>
                  <a:cubicBezTo>
                    <a:pt x="90" y="132"/>
                    <a:pt x="95" y="178"/>
                    <a:pt x="93" y="211"/>
                  </a:cubicBezTo>
                  <a:cubicBezTo>
                    <a:pt x="90" y="243"/>
                    <a:pt x="87" y="274"/>
                    <a:pt x="82" y="297"/>
                  </a:cubicBezTo>
                  <a:cubicBezTo>
                    <a:pt x="77" y="320"/>
                    <a:pt x="71" y="344"/>
                    <a:pt x="63" y="349"/>
                  </a:cubicBezTo>
                  <a:cubicBezTo>
                    <a:pt x="55" y="354"/>
                    <a:pt x="45" y="332"/>
                    <a:pt x="35" y="328"/>
                  </a:cubicBezTo>
                  <a:cubicBezTo>
                    <a:pt x="25" y="324"/>
                    <a:pt x="10" y="334"/>
                    <a:pt x="5" y="323"/>
                  </a:cubicBezTo>
                  <a:cubicBezTo>
                    <a:pt x="0" y="312"/>
                    <a:pt x="4" y="284"/>
                    <a:pt x="5" y="263"/>
                  </a:cubicBezTo>
                  <a:cubicBezTo>
                    <a:pt x="6" y="244"/>
                    <a:pt x="9" y="231"/>
                    <a:pt x="11" y="204"/>
                  </a:cubicBezTo>
                  <a:cubicBezTo>
                    <a:pt x="13" y="177"/>
                    <a:pt x="16" y="124"/>
                    <a:pt x="20" y="104"/>
                  </a:cubicBezTo>
                  <a:cubicBezTo>
                    <a:pt x="24" y="83"/>
                    <a:pt x="30" y="87"/>
                    <a:pt x="36" y="8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3532200">
              <a:off x="7581600" y="4786200"/>
              <a:ext cx="120600" cy="37152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36" y="81"/>
                  </a:moveTo>
                  <a:cubicBezTo>
                    <a:pt x="42" y="76"/>
                    <a:pt x="52" y="77"/>
                    <a:pt x="57" y="70"/>
                  </a:cubicBezTo>
                  <a:cubicBezTo>
                    <a:pt x="63" y="62"/>
                    <a:pt x="66" y="46"/>
                    <a:pt x="70" y="35"/>
                  </a:cubicBezTo>
                  <a:cubicBezTo>
                    <a:pt x="73" y="24"/>
                    <a:pt x="76" y="8"/>
                    <a:pt x="82" y="4"/>
                  </a:cubicBezTo>
                  <a:cubicBezTo>
                    <a:pt x="87" y="0"/>
                    <a:pt x="94" y="5"/>
                    <a:pt x="100" y="12"/>
                  </a:cubicBezTo>
                  <a:cubicBezTo>
                    <a:pt x="106" y="18"/>
                    <a:pt x="118" y="27"/>
                    <a:pt x="117" y="43"/>
                  </a:cubicBezTo>
                  <a:cubicBezTo>
                    <a:pt x="116" y="58"/>
                    <a:pt x="98" y="76"/>
                    <a:pt x="94" y="104"/>
                  </a:cubicBezTo>
                  <a:cubicBezTo>
                    <a:pt x="90" y="132"/>
                    <a:pt x="95" y="178"/>
                    <a:pt x="93" y="211"/>
                  </a:cubicBezTo>
                  <a:cubicBezTo>
                    <a:pt x="90" y="243"/>
                    <a:pt x="87" y="274"/>
                    <a:pt x="82" y="297"/>
                  </a:cubicBezTo>
                  <a:cubicBezTo>
                    <a:pt x="77" y="320"/>
                    <a:pt x="71" y="344"/>
                    <a:pt x="63" y="349"/>
                  </a:cubicBezTo>
                  <a:cubicBezTo>
                    <a:pt x="55" y="354"/>
                    <a:pt x="45" y="332"/>
                    <a:pt x="35" y="328"/>
                  </a:cubicBezTo>
                  <a:cubicBezTo>
                    <a:pt x="25" y="324"/>
                    <a:pt x="10" y="334"/>
                    <a:pt x="5" y="323"/>
                  </a:cubicBezTo>
                  <a:cubicBezTo>
                    <a:pt x="0" y="312"/>
                    <a:pt x="4" y="284"/>
                    <a:pt x="5" y="263"/>
                  </a:cubicBezTo>
                  <a:cubicBezTo>
                    <a:pt x="6" y="244"/>
                    <a:pt x="9" y="231"/>
                    <a:pt x="11" y="204"/>
                  </a:cubicBezTo>
                  <a:cubicBezTo>
                    <a:pt x="13" y="177"/>
                    <a:pt x="16" y="124"/>
                    <a:pt x="20" y="104"/>
                  </a:cubicBezTo>
                  <a:cubicBezTo>
                    <a:pt x="24" y="83"/>
                    <a:pt x="30" y="87"/>
                    <a:pt x="36" y="8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3532200">
              <a:off x="7614360" y="4877640"/>
              <a:ext cx="108000" cy="33804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36" y="81"/>
                  </a:moveTo>
                  <a:cubicBezTo>
                    <a:pt x="42" y="76"/>
                    <a:pt x="52" y="77"/>
                    <a:pt x="57" y="70"/>
                  </a:cubicBezTo>
                  <a:cubicBezTo>
                    <a:pt x="63" y="62"/>
                    <a:pt x="66" y="46"/>
                    <a:pt x="70" y="35"/>
                  </a:cubicBezTo>
                  <a:cubicBezTo>
                    <a:pt x="73" y="24"/>
                    <a:pt x="76" y="8"/>
                    <a:pt x="82" y="4"/>
                  </a:cubicBezTo>
                  <a:cubicBezTo>
                    <a:pt x="87" y="0"/>
                    <a:pt x="94" y="5"/>
                    <a:pt x="100" y="12"/>
                  </a:cubicBezTo>
                  <a:cubicBezTo>
                    <a:pt x="106" y="18"/>
                    <a:pt x="118" y="27"/>
                    <a:pt x="117" y="43"/>
                  </a:cubicBezTo>
                  <a:cubicBezTo>
                    <a:pt x="116" y="58"/>
                    <a:pt x="98" y="76"/>
                    <a:pt x="94" y="104"/>
                  </a:cubicBezTo>
                  <a:cubicBezTo>
                    <a:pt x="90" y="132"/>
                    <a:pt x="95" y="178"/>
                    <a:pt x="93" y="211"/>
                  </a:cubicBezTo>
                  <a:cubicBezTo>
                    <a:pt x="90" y="243"/>
                    <a:pt x="87" y="274"/>
                    <a:pt x="82" y="297"/>
                  </a:cubicBezTo>
                  <a:cubicBezTo>
                    <a:pt x="77" y="320"/>
                    <a:pt x="71" y="344"/>
                    <a:pt x="63" y="349"/>
                  </a:cubicBezTo>
                  <a:cubicBezTo>
                    <a:pt x="55" y="354"/>
                    <a:pt x="45" y="332"/>
                    <a:pt x="35" y="328"/>
                  </a:cubicBezTo>
                  <a:cubicBezTo>
                    <a:pt x="25" y="324"/>
                    <a:pt x="10" y="334"/>
                    <a:pt x="5" y="323"/>
                  </a:cubicBezTo>
                  <a:cubicBezTo>
                    <a:pt x="0" y="312"/>
                    <a:pt x="4" y="284"/>
                    <a:pt x="5" y="263"/>
                  </a:cubicBezTo>
                  <a:cubicBezTo>
                    <a:pt x="6" y="244"/>
                    <a:pt x="9" y="231"/>
                    <a:pt x="11" y="204"/>
                  </a:cubicBezTo>
                  <a:cubicBezTo>
                    <a:pt x="13" y="177"/>
                    <a:pt x="16" y="124"/>
                    <a:pt x="20" y="104"/>
                  </a:cubicBezTo>
                  <a:cubicBezTo>
                    <a:pt x="24" y="83"/>
                    <a:pt x="30" y="87"/>
                    <a:pt x="36" y="8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3532200">
              <a:off x="7648200" y="4943520"/>
              <a:ext cx="101520" cy="32076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36" y="81"/>
                  </a:moveTo>
                  <a:cubicBezTo>
                    <a:pt x="42" y="76"/>
                    <a:pt x="52" y="77"/>
                    <a:pt x="57" y="70"/>
                  </a:cubicBezTo>
                  <a:cubicBezTo>
                    <a:pt x="63" y="62"/>
                    <a:pt x="66" y="46"/>
                    <a:pt x="70" y="35"/>
                  </a:cubicBezTo>
                  <a:cubicBezTo>
                    <a:pt x="73" y="24"/>
                    <a:pt x="76" y="8"/>
                    <a:pt x="82" y="4"/>
                  </a:cubicBezTo>
                  <a:cubicBezTo>
                    <a:pt x="87" y="0"/>
                    <a:pt x="94" y="5"/>
                    <a:pt x="100" y="12"/>
                  </a:cubicBezTo>
                  <a:cubicBezTo>
                    <a:pt x="106" y="18"/>
                    <a:pt x="118" y="27"/>
                    <a:pt x="117" y="43"/>
                  </a:cubicBezTo>
                  <a:cubicBezTo>
                    <a:pt x="116" y="58"/>
                    <a:pt x="98" y="76"/>
                    <a:pt x="94" y="104"/>
                  </a:cubicBezTo>
                  <a:cubicBezTo>
                    <a:pt x="90" y="132"/>
                    <a:pt x="95" y="178"/>
                    <a:pt x="93" y="211"/>
                  </a:cubicBezTo>
                  <a:cubicBezTo>
                    <a:pt x="90" y="243"/>
                    <a:pt x="87" y="274"/>
                    <a:pt x="82" y="297"/>
                  </a:cubicBezTo>
                  <a:cubicBezTo>
                    <a:pt x="77" y="320"/>
                    <a:pt x="71" y="344"/>
                    <a:pt x="63" y="349"/>
                  </a:cubicBezTo>
                  <a:cubicBezTo>
                    <a:pt x="55" y="354"/>
                    <a:pt x="45" y="332"/>
                    <a:pt x="35" y="328"/>
                  </a:cubicBezTo>
                  <a:cubicBezTo>
                    <a:pt x="25" y="324"/>
                    <a:pt x="10" y="334"/>
                    <a:pt x="5" y="323"/>
                  </a:cubicBezTo>
                  <a:cubicBezTo>
                    <a:pt x="0" y="312"/>
                    <a:pt x="4" y="284"/>
                    <a:pt x="5" y="263"/>
                  </a:cubicBezTo>
                  <a:cubicBezTo>
                    <a:pt x="6" y="244"/>
                    <a:pt x="9" y="231"/>
                    <a:pt x="11" y="204"/>
                  </a:cubicBezTo>
                  <a:cubicBezTo>
                    <a:pt x="13" y="177"/>
                    <a:pt x="16" y="124"/>
                    <a:pt x="20" y="104"/>
                  </a:cubicBezTo>
                  <a:cubicBezTo>
                    <a:pt x="24" y="83"/>
                    <a:pt x="30" y="87"/>
                    <a:pt x="36" y="8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3532200">
              <a:off x="7674840" y="5024160"/>
              <a:ext cx="98640" cy="29232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36" y="81"/>
                  </a:moveTo>
                  <a:cubicBezTo>
                    <a:pt x="42" y="76"/>
                    <a:pt x="52" y="77"/>
                    <a:pt x="57" y="70"/>
                  </a:cubicBezTo>
                  <a:cubicBezTo>
                    <a:pt x="63" y="62"/>
                    <a:pt x="66" y="46"/>
                    <a:pt x="70" y="35"/>
                  </a:cubicBezTo>
                  <a:cubicBezTo>
                    <a:pt x="73" y="24"/>
                    <a:pt x="76" y="8"/>
                    <a:pt x="82" y="4"/>
                  </a:cubicBezTo>
                  <a:cubicBezTo>
                    <a:pt x="87" y="0"/>
                    <a:pt x="94" y="5"/>
                    <a:pt x="100" y="12"/>
                  </a:cubicBezTo>
                  <a:cubicBezTo>
                    <a:pt x="106" y="18"/>
                    <a:pt x="118" y="27"/>
                    <a:pt x="117" y="43"/>
                  </a:cubicBezTo>
                  <a:cubicBezTo>
                    <a:pt x="116" y="58"/>
                    <a:pt x="98" y="76"/>
                    <a:pt x="94" y="104"/>
                  </a:cubicBezTo>
                  <a:cubicBezTo>
                    <a:pt x="90" y="132"/>
                    <a:pt x="95" y="178"/>
                    <a:pt x="93" y="211"/>
                  </a:cubicBezTo>
                  <a:cubicBezTo>
                    <a:pt x="90" y="243"/>
                    <a:pt x="87" y="274"/>
                    <a:pt x="82" y="297"/>
                  </a:cubicBezTo>
                  <a:cubicBezTo>
                    <a:pt x="77" y="320"/>
                    <a:pt x="71" y="344"/>
                    <a:pt x="63" y="349"/>
                  </a:cubicBezTo>
                  <a:cubicBezTo>
                    <a:pt x="55" y="354"/>
                    <a:pt x="45" y="332"/>
                    <a:pt x="35" y="328"/>
                  </a:cubicBezTo>
                  <a:cubicBezTo>
                    <a:pt x="25" y="324"/>
                    <a:pt x="10" y="334"/>
                    <a:pt x="5" y="323"/>
                  </a:cubicBezTo>
                  <a:cubicBezTo>
                    <a:pt x="0" y="312"/>
                    <a:pt x="4" y="284"/>
                    <a:pt x="5" y="263"/>
                  </a:cubicBezTo>
                  <a:cubicBezTo>
                    <a:pt x="6" y="244"/>
                    <a:pt x="9" y="231"/>
                    <a:pt x="11" y="204"/>
                  </a:cubicBezTo>
                  <a:cubicBezTo>
                    <a:pt x="13" y="177"/>
                    <a:pt x="16" y="124"/>
                    <a:pt x="20" y="104"/>
                  </a:cubicBezTo>
                  <a:cubicBezTo>
                    <a:pt x="24" y="83"/>
                    <a:pt x="30" y="87"/>
                    <a:pt x="36" y="8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3689400">
              <a:off x="7728120" y="5171400"/>
              <a:ext cx="77760" cy="222120"/>
            </a:xfrm>
            <a:custGeom>
              <a:avLst/>
              <a:gdLst/>
              <a:ahLst/>
              <a:rect l="l" t="t" r="r" b="b"/>
              <a:pathLst>
                <a:path w="70" h="211">
                  <a:moveTo>
                    <a:pt x="16" y="34"/>
                  </a:moveTo>
                  <a:cubicBezTo>
                    <a:pt x="20" y="30"/>
                    <a:pt x="27" y="31"/>
                    <a:pt x="29" y="26"/>
                  </a:cubicBezTo>
                  <a:cubicBezTo>
                    <a:pt x="33" y="20"/>
                    <a:pt x="31" y="6"/>
                    <a:pt x="37" y="3"/>
                  </a:cubicBezTo>
                  <a:cubicBezTo>
                    <a:pt x="43" y="0"/>
                    <a:pt x="64" y="0"/>
                    <a:pt x="67" y="7"/>
                  </a:cubicBezTo>
                  <a:cubicBezTo>
                    <a:pt x="70" y="14"/>
                    <a:pt x="56" y="28"/>
                    <a:pt x="54" y="48"/>
                  </a:cubicBezTo>
                  <a:cubicBezTo>
                    <a:pt x="53" y="66"/>
                    <a:pt x="58" y="95"/>
                    <a:pt x="57" y="116"/>
                  </a:cubicBezTo>
                  <a:cubicBezTo>
                    <a:pt x="56" y="138"/>
                    <a:pt x="55" y="158"/>
                    <a:pt x="53" y="173"/>
                  </a:cubicBezTo>
                  <a:cubicBezTo>
                    <a:pt x="50" y="188"/>
                    <a:pt x="46" y="204"/>
                    <a:pt x="42" y="207"/>
                  </a:cubicBezTo>
                  <a:cubicBezTo>
                    <a:pt x="37" y="211"/>
                    <a:pt x="29" y="197"/>
                    <a:pt x="23" y="194"/>
                  </a:cubicBezTo>
                  <a:cubicBezTo>
                    <a:pt x="16" y="192"/>
                    <a:pt x="7" y="199"/>
                    <a:pt x="3" y="192"/>
                  </a:cubicBezTo>
                  <a:cubicBezTo>
                    <a:pt x="0" y="185"/>
                    <a:pt x="2" y="167"/>
                    <a:pt x="1" y="153"/>
                  </a:cubicBezTo>
                  <a:cubicBezTo>
                    <a:pt x="2" y="141"/>
                    <a:pt x="3" y="132"/>
                    <a:pt x="3" y="115"/>
                  </a:cubicBezTo>
                  <a:cubicBezTo>
                    <a:pt x="4" y="97"/>
                    <a:pt x="4" y="63"/>
                    <a:pt x="6" y="50"/>
                  </a:cubicBezTo>
                  <a:cubicBezTo>
                    <a:pt x="9" y="36"/>
                    <a:pt x="13" y="38"/>
                    <a:pt x="16" y="34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3689400">
              <a:off x="7762680" y="5237280"/>
              <a:ext cx="60120" cy="180720"/>
            </a:xfrm>
            <a:custGeom>
              <a:avLst/>
              <a:gdLst/>
              <a:ahLst/>
              <a:rect l="l" t="t" r="r" b="b"/>
              <a:pathLst>
                <a:path w="52" h="155">
                  <a:moveTo>
                    <a:pt x="14" y="8"/>
                  </a:moveTo>
                  <a:cubicBezTo>
                    <a:pt x="18" y="5"/>
                    <a:pt x="20" y="0"/>
                    <a:pt x="26" y="2"/>
                  </a:cubicBezTo>
                  <a:cubicBezTo>
                    <a:pt x="32" y="4"/>
                    <a:pt x="44" y="8"/>
                    <a:pt x="48" y="20"/>
                  </a:cubicBezTo>
                  <a:cubicBezTo>
                    <a:pt x="52" y="32"/>
                    <a:pt x="51" y="59"/>
                    <a:pt x="50" y="76"/>
                  </a:cubicBezTo>
                  <a:cubicBezTo>
                    <a:pt x="50" y="94"/>
                    <a:pt x="49" y="111"/>
                    <a:pt x="47" y="123"/>
                  </a:cubicBezTo>
                  <a:cubicBezTo>
                    <a:pt x="44" y="136"/>
                    <a:pt x="41" y="149"/>
                    <a:pt x="37" y="152"/>
                  </a:cubicBezTo>
                  <a:cubicBezTo>
                    <a:pt x="33" y="155"/>
                    <a:pt x="26" y="143"/>
                    <a:pt x="20" y="141"/>
                  </a:cubicBezTo>
                  <a:cubicBezTo>
                    <a:pt x="14" y="139"/>
                    <a:pt x="6" y="145"/>
                    <a:pt x="3" y="139"/>
                  </a:cubicBezTo>
                  <a:cubicBezTo>
                    <a:pt x="0" y="133"/>
                    <a:pt x="2" y="119"/>
                    <a:pt x="1" y="107"/>
                  </a:cubicBezTo>
                  <a:cubicBezTo>
                    <a:pt x="2" y="97"/>
                    <a:pt x="3" y="89"/>
                    <a:pt x="3" y="75"/>
                  </a:cubicBezTo>
                  <a:cubicBezTo>
                    <a:pt x="4" y="60"/>
                    <a:pt x="4" y="32"/>
                    <a:pt x="5" y="21"/>
                  </a:cubicBezTo>
                  <a:cubicBezTo>
                    <a:pt x="8" y="10"/>
                    <a:pt x="12" y="12"/>
                    <a:pt x="14" y="8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3689400">
              <a:off x="7795080" y="5310000"/>
              <a:ext cx="61920" cy="139680"/>
            </a:xfrm>
            <a:custGeom>
              <a:avLst/>
              <a:gdLst/>
              <a:ahLst/>
              <a:rect l="l" t="t" r="r" b="b"/>
              <a:pathLst>
                <a:path w="52" h="155">
                  <a:moveTo>
                    <a:pt x="14" y="8"/>
                  </a:moveTo>
                  <a:cubicBezTo>
                    <a:pt x="18" y="5"/>
                    <a:pt x="20" y="0"/>
                    <a:pt x="26" y="2"/>
                  </a:cubicBezTo>
                  <a:cubicBezTo>
                    <a:pt x="32" y="4"/>
                    <a:pt x="44" y="8"/>
                    <a:pt x="48" y="20"/>
                  </a:cubicBezTo>
                  <a:cubicBezTo>
                    <a:pt x="52" y="32"/>
                    <a:pt x="51" y="59"/>
                    <a:pt x="50" y="76"/>
                  </a:cubicBezTo>
                  <a:cubicBezTo>
                    <a:pt x="50" y="94"/>
                    <a:pt x="49" y="111"/>
                    <a:pt x="47" y="123"/>
                  </a:cubicBezTo>
                  <a:cubicBezTo>
                    <a:pt x="44" y="136"/>
                    <a:pt x="41" y="149"/>
                    <a:pt x="37" y="152"/>
                  </a:cubicBezTo>
                  <a:cubicBezTo>
                    <a:pt x="33" y="155"/>
                    <a:pt x="26" y="143"/>
                    <a:pt x="20" y="141"/>
                  </a:cubicBezTo>
                  <a:cubicBezTo>
                    <a:pt x="14" y="139"/>
                    <a:pt x="6" y="145"/>
                    <a:pt x="3" y="139"/>
                  </a:cubicBezTo>
                  <a:cubicBezTo>
                    <a:pt x="0" y="133"/>
                    <a:pt x="2" y="119"/>
                    <a:pt x="1" y="107"/>
                  </a:cubicBezTo>
                  <a:cubicBezTo>
                    <a:pt x="2" y="97"/>
                    <a:pt x="3" y="89"/>
                    <a:pt x="3" y="75"/>
                  </a:cubicBezTo>
                  <a:cubicBezTo>
                    <a:pt x="4" y="60"/>
                    <a:pt x="4" y="32"/>
                    <a:pt x="5" y="21"/>
                  </a:cubicBezTo>
                  <a:cubicBezTo>
                    <a:pt x="8" y="10"/>
                    <a:pt x="12" y="12"/>
                    <a:pt x="14" y="8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3689400">
              <a:off x="7832880" y="5372280"/>
              <a:ext cx="45720" cy="115920"/>
            </a:xfrm>
            <a:custGeom>
              <a:avLst/>
              <a:gdLst/>
              <a:ahLst/>
              <a:rect l="l" t="t" r="r" b="b"/>
              <a:pathLst>
                <a:path w="52" h="155">
                  <a:moveTo>
                    <a:pt x="14" y="8"/>
                  </a:moveTo>
                  <a:cubicBezTo>
                    <a:pt x="18" y="5"/>
                    <a:pt x="20" y="0"/>
                    <a:pt x="26" y="2"/>
                  </a:cubicBezTo>
                  <a:cubicBezTo>
                    <a:pt x="32" y="4"/>
                    <a:pt x="44" y="8"/>
                    <a:pt x="48" y="20"/>
                  </a:cubicBezTo>
                  <a:cubicBezTo>
                    <a:pt x="52" y="32"/>
                    <a:pt x="51" y="59"/>
                    <a:pt x="50" y="76"/>
                  </a:cubicBezTo>
                  <a:cubicBezTo>
                    <a:pt x="50" y="94"/>
                    <a:pt x="49" y="111"/>
                    <a:pt x="47" y="123"/>
                  </a:cubicBezTo>
                  <a:cubicBezTo>
                    <a:pt x="44" y="136"/>
                    <a:pt x="41" y="149"/>
                    <a:pt x="37" y="152"/>
                  </a:cubicBezTo>
                  <a:cubicBezTo>
                    <a:pt x="33" y="155"/>
                    <a:pt x="26" y="143"/>
                    <a:pt x="20" y="141"/>
                  </a:cubicBezTo>
                  <a:cubicBezTo>
                    <a:pt x="14" y="139"/>
                    <a:pt x="6" y="145"/>
                    <a:pt x="3" y="139"/>
                  </a:cubicBezTo>
                  <a:cubicBezTo>
                    <a:pt x="0" y="133"/>
                    <a:pt x="2" y="119"/>
                    <a:pt x="1" y="107"/>
                  </a:cubicBezTo>
                  <a:cubicBezTo>
                    <a:pt x="2" y="97"/>
                    <a:pt x="3" y="89"/>
                    <a:pt x="3" y="75"/>
                  </a:cubicBezTo>
                  <a:cubicBezTo>
                    <a:pt x="4" y="60"/>
                    <a:pt x="4" y="32"/>
                    <a:pt x="5" y="21"/>
                  </a:cubicBezTo>
                  <a:cubicBezTo>
                    <a:pt x="8" y="10"/>
                    <a:pt x="12" y="12"/>
                    <a:pt x="14" y="8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3689400">
              <a:off x="7857000" y="5416560"/>
              <a:ext cx="44280" cy="100080"/>
            </a:xfrm>
            <a:custGeom>
              <a:avLst/>
              <a:gdLst/>
              <a:ahLst/>
              <a:rect l="l" t="t" r="r" b="b"/>
              <a:pathLst>
                <a:path w="52" h="155">
                  <a:moveTo>
                    <a:pt x="14" y="8"/>
                  </a:moveTo>
                  <a:cubicBezTo>
                    <a:pt x="18" y="5"/>
                    <a:pt x="20" y="0"/>
                    <a:pt x="26" y="2"/>
                  </a:cubicBezTo>
                  <a:cubicBezTo>
                    <a:pt x="32" y="4"/>
                    <a:pt x="44" y="8"/>
                    <a:pt x="48" y="20"/>
                  </a:cubicBezTo>
                  <a:cubicBezTo>
                    <a:pt x="52" y="32"/>
                    <a:pt x="51" y="59"/>
                    <a:pt x="50" y="76"/>
                  </a:cubicBezTo>
                  <a:cubicBezTo>
                    <a:pt x="50" y="94"/>
                    <a:pt x="49" y="111"/>
                    <a:pt x="47" y="123"/>
                  </a:cubicBezTo>
                  <a:cubicBezTo>
                    <a:pt x="44" y="136"/>
                    <a:pt x="41" y="149"/>
                    <a:pt x="37" y="152"/>
                  </a:cubicBezTo>
                  <a:cubicBezTo>
                    <a:pt x="33" y="155"/>
                    <a:pt x="26" y="143"/>
                    <a:pt x="20" y="141"/>
                  </a:cubicBezTo>
                  <a:cubicBezTo>
                    <a:pt x="14" y="139"/>
                    <a:pt x="6" y="145"/>
                    <a:pt x="3" y="139"/>
                  </a:cubicBezTo>
                  <a:cubicBezTo>
                    <a:pt x="0" y="133"/>
                    <a:pt x="2" y="119"/>
                    <a:pt x="1" y="107"/>
                  </a:cubicBezTo>
                  <a:cubicBezTo>
                    <a:pt x="2" y="97"/>
                    <a:pt x="3" y="89"/>
                    <a:pt x="3" y="75"/>
                  </a:cubicBezTo>
                  <a:cubicBezTo>
                    <a:pt x="4" y="60"/>
                    <a:pt x="4" y="32"/>
                    <a:pt x="5" y="21"/>
                  </a:cubicBezTo>
                  <a:cubicBezTo>
                    <a:pt x="8" y="10"/>
                    <a:pt x="12" y="12"/>
                    <a:pt x="14" y="8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3689400">
              <a:off x="7880040" y="5468400"/>
              <a:ext cx="57240" cy="81000"/>
            </a:xfrm>
            <a:custGeom>
              <a:avLst/>
              <a:gdLst/>
              <a:ahLst/>
              <a:rect l="l" t="t" r="r" b="b"/>
              <a:pathLst>
                <a:path w="52" h="155">
                  <a:moveTo>
                    <a:pt x="14" y="8"/>
                  </a:moveTo>
                  <a:cubicBezTo>
                    <a:pt x="18" y="5"/>
                    <a:pt x="20" y="0"/>
                    <a:pt x="26" y="2"/>
                  </a:cubicBezTo>
                  <a:cubicBezTo>
                    <a:pt x="32" y="4"/>
                    <a:pt x="44" y="8"/>
                    <a:pt x="48" y="20"/>
                  </a:cubicBezTo>
                  <a:cubicBezTo>
                    <a:pt x="52" y="32"/>
                    <a:pt x="51" y="59"/>
                    <a:pt x="50" y="76"/>
                  </a:cubicBezTo>
                  <a:cubicBezTo>
                    <a:pt x="50" y="94"/>
                    <a:pt x="49" y="111"/>
                    <a:pt x="47" y="123"/>
                  </a:cubicBezTo>
                  <a:cubicBezTo>
                    <a:pt x="44" y="136"/>
                    <a:pt x="41" y="149"/>
                    <a:pt x="37" y="152"/>
                  </a:cubicBezTo>
                  <a:cubicBezTo>
                    <a:pt x="33" y="155"/>
                    <a:pt x="26" y="143"/>
                    <a:pt x="20" y="141"/>
                  </a:cubicBezTo>
                  <a:cubicBezTo>
                    <a:pt x="14" y="139"/>
                    <a:pt x="6" y="145"/>
                    <a:pt x="3" y="139"/>
                  </a:cubicBezTo>
                  <a:cubicBezTo>
                    <a:pt x="0" y="133"/>
                    <a:pt x="2" y="119"/>
                    <a:pt x="1" y="107"/>
                  </a:cubicBezTo>
                  <a:cubicBezTo>
                    <a:pt x="2" y="97"/>
                    <a:pt x="3" y="89"/>
                    <a:pt x="3" y="75"/>
                  </a:cubicBezTo>
                  <a:cubicBezTo>
                    <a:pt x="4" y="60"/>
                    <a:pt x="4" y="32"/>
                    <a:pt x="5" y="21"/>
                  </a:cubicBezTo>
                  <a:cubicBezTo>
                    <a:pt x="8" y="10"/>
                    <a:pt x="12" y="12"/>
                    <a:pt x="14" y="8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3689400">
              <a:off x="7884720" y="5550840"/>
              <a:ext cx="147600" cy="65160"/>
            </a:xfrm>
            <a:custGeom>
              <a:avLst/>
              <a:gdLst/>
              <a:ahLst/>
              <a:rect l="l" t="t" r="r" b="b"/>
              <a:pathLst>
                <a:path w="116" h="51">
                  <a:moveTo>
                    <a:pt x="24" y="1"/>
                  </a:moveTo>
                  <a:cubicBezTo>
                    <a:pt x="35" y="0"/>
                    <a:pt x="61" y="1"/>
                    <a:pt x="75" y="2"/>
                  </a:cubicBezTo>
                  <a:cubicBezTo>
                    <a:pt x="89" y="3"/>
                    <a:pt x="101" y="6"/>
                    <a:pt x="107" y="10"/>
                  </a:cubicBezTo>
                  <a:cubicBezTo>
                    <a:pt x="113" y="14"/>
                    <a:pt x="116" y="21"/>
                    <a:pt x="111" y="26"/>
                  </a:cubicBezTo>
                  <a:cubicBezTo>
                    <a:pt x="106" y="31"/>
                    <a:pt x="84" y="38"/>
                    <a:pt x="77" y="42"/>
                  </a:cubicBezTo>
                  <a:cubicBezTo>
                    <a:pt x="70" y="46"/>
                    <a:pt x="74" y="49"/>
                    <a:pt x="67" y="50"/>
                  </a:cubicBezTo>
                  <a:cubicBezTo>
                    <a:pt x="60" y="51"/>
                    <a:pt x="40" y="49"/>
                    <a:pt x="33" y="48"/>
                  </a:cubicBezTo>
                  <a:cubicBezTo>
                    <a:pt x="26" y="47"/>
                    <a:pt x="28" y="48"/>
                    <a:pt x="23" y="46"/>
                  </a:cubicBezTo>
                  <a:cubicBezTo>
                    <a:pt x="18" y="44"/>
                    <a:pt x="6" y="39"/>
                    <a:pt x="3" y="36"/>
                  </a:cubicBezTo>
                  <a:cubicBezTo>
                    <a:pt x="0" y="33"/>
                    <a:pt x="6" y="30"/>
                    <a:pt x="6" y="25"/>
                  </a:cubicBezTo>
                  <a:cubicBezTo>
                    <a:pt x="7" y="19"/>
                    <a:pt x="7" y="9"/>
                    <a:pt x="9" y="5"/>
                  </a:cubicBezTo>
                  <a:cubicBezTo>
                    <a:pt x="14" y="2"/>
                    <a:pt x="20" y="2"/>
                    <a:pt x="24" y="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3689400">
              <a:off x="7238880" y="3069360"/>
              <a:ext cx="203040" cy="501480"/>
            </a:xfrm>
            <a:custGeom>
              <a:avLst/>
              <a:gdLst/>
              <a:ahLst/>
              <a:rect l="l" t="t" r="r" b="b"/>
              <a:pathLst>
                <a:path w="401" h="988">
                  <a:moveTo>
                    <a:pt x="163" y="273"/>
                  </a:moveTo>
                  <a:cubicBezTo>
                    <a:pt x="175" y="263"/>
                    <a:pt x="163" y="245"/>
                    <a:pt x="173" y="210"/>
                  </a:cubicBezTo>
                  <a:cubicBezTo>
                    <a:pt x="183" y="178"/>
                    <a:pt x="205" y="98"/>
                    <a:pt x="223" y="63"/>
                  </a:cubicBezTo>
                  <a:cubicBezTo>
                    <a:pt x="241" y="30"/>
                    <a:pt x="261" y="0"/>
                    <a:pt x="283" y="0"/>
                  </a:cubicBezTo>
                  <a:cubicBezTo>
                    <a:pt x="306" y="0"/>
                    <a:pt x="335" y="38"/>
                    <a:pt x="353" y="63"/>
                  </a:cubicBezTo>
                  <a:cubicBezTo>
                    <a:pt x="371" y="88"/>
                    <a:pt x="401" y="108"/>
                    <a:pt x="391" y="148"/>
                  </a:cubicBezTo>
                  <a:cubicBezTo>
                    <a:pt x="381" y="188"/>
                    <a:pt x="306" y="233"/>
                    <a:pt x="293" y="305"/>
                  </a:cubicBezTo>
                  <a:cubicBezTo>
                    <a:pt x="280" y="377"/>
                    <a:pt x="311" y="491"/>
                    <a:pt x="313" y="580"/>
                  </a:cubicBezTo>
                  <a:cubicBezTo>
                    <a:pt x="315" y="669"/>
                    <a:pt x="316" y="775"/>
                    <a:pt x="303" y="840"/>
                  </a:cubicBezTo>
                  <a:cubicBezTo>
                    <a:pt x="291" y="905"/>
                    <a:pt x="253" y="953"/>
                    <a:pt x="233" y="970"/>
                  </a:cubicBezTo>
                  <a:cubicBezTo>
                    <a:pt x="213" y="988"/>
                    <a:pt x="200" y="958"/>
                    <a:pt x="183" y="940"/>
                  </a:cubicBezTo>
                  <a:cubicBezTo>
                    <a:pt x="165" y="923"/>
                    <a:pt x="158" y="875"/>
                    <a:pt x="133" y="860"/>
                  </a:cubicBezTo>
                  <a:cubicBezTo>
                    <a:pt x="108" y="845"/>
                    <a:pt x="55" y="883"/>
                    <a:pt x="33" y="853"/>
                  </a:cubicBezTo>
                  <a:cubicBezTo>
                    <a:pt x="10" y="823"/>
                    <a:pt x="5" y="738"/>
                    <a:pt x="3" y="680"/>
                  </a:cubicBezTo>
                  <a:cubicBezTo>
                    <a:pt x="0" y="623"/>
                    <a:pt x="18" y="563"/>
                    <a:pt x="23" y="510"/>
                  </a:cubicBezTo>
                  <a:cubicBezTo>
                    <a:pt x="28" y="458"/>
                    <a:pt x="20" y="408"/>
                    <a:pt x="33" y="368"/>
                  </a:cubicBezTo>
                  <a:cubicBezTo>
                    <a:pt x="45" y="328"/>
                    <a:pt x="80" y="288"/>
                    <a:pt x="103" y="273"/>
                  </a:cubicBezTo>
                  <a:cubicBezTo>
                    <a:pt x="125" y="260"/>
                    <a:pt x="150" y="285"/>
                    <a:pt x="163" y="273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3689400">
              <a:off x="7258680" y="3208680"/>
              <a:ext cx="184320" cy="506520"/>
            </a:xfrm>
            <a:custGeom>
              <a:avLst/>
              <a:gdLst/>
              <a:ahLst/>
              <a:rect l="l" t="t" r="r" b="b"/>
              <a:pathLst>
                <a:path w="364" h="998">
                  <a:moveTo>
                    <a:pt x="148" y="283"/>
                  </a:moveTo>
                  <a:cubicBezTo>
                    <a:pt x="160" y="273"/>
                    <a:pt x="153" y="255"/>
                    <a:pt x="158" y="221"/>
                  </a:cubicBezTo>
                  <a:cubicBezTo>
                    <a:pt x="163" y="187"/>
                    <a:pt x="164" y="113"/>
                    <a:pt x="176" y="76"/>
                  </a:cubicBezTo>
                  <a:cubicBezTo>
                    <a:pt x="188" y="39"/>
                    <a:pt x="201" y="2"/>
                    <a:pt x="228" y="1"/>
                  </a:cubicBezTo>
                  <a:cubicBezTo>
                    <a:pt x="255" y="0"/>
                    <a:pt x="317" y="48"/>
                    <a:pt x="338" y="73"/>
                  </a:cubicBezTo>
                  <a:cubicBezTo>
                    <a:pt x="359" y="98"/>
                    <a:pt x="364" y="112"/>
                    <a:pt x="356" y="151"/>
                  </a:cubicBezTo>
                  <a:cubicBezTo>
                    <a:pt x="348" y="190"/>
                    <a:pt x="298" y="236"/>
                    <a:pt x="288" y="309"/>
                  </a:cubicBezTo>
                  <a:cubicBezTo>
                    <a:pt x="278" y="382"/>
                    <a:pt x="298" y="501"/>
                    <a:pt x="298" y="591"/>
                  </a:cubicBezTo>
                  <a:cubicBezTo>
                    <a:pt x="298" y="681"/>
                    <a:pt x="300" y="786"/>
                    <a:pt x="288" y="851"/>
                  </a:cubicBezTo>
                  <a:cubicBezTo>
                    <a:pt x="275" y="916"/>
                    <a:pt x="238" y="963"/>
                    <a:pt x="218" y="981"/>
                  </a:cubicBezTo>
                  <a:cubicBezTo>
                    <a:pt x="198" y="998"/>
                    <a:pt x="185" y="968"/>
                    <a:pt x="168" y="951"/>
                  </a:cubicBezTo>
                  <a:cubicBezTo>
                    <a:pt x="150" y="933"/>
                    <a:pt x="143" y="886"/>
                    <a:pt x="118" y="871"/>
                  </a:cubicBezTo>
                  <a:cubicBezTo>
                    <a:pt x="93" y="856"/>
                    <a:pt x="35" y="888"/>
                    <a:pt x="18" y="863"/>
                  </a:cubicBezTo>
                  <a:cubicBezTo>
                    <a:pt x="0" y="838"/>
                    <a:pt x="3" y="768"/>
                    <a:pt x="8" y="721"/>
                  </a:cubicBezTo>
                  <a:cubicBezTo>
                    <a:pt x="13" y="673"/>
                    <a:pt x="45" y="638"/>
                    <a:pt x="48" y="581"/>
                  </a:cubicBezTo>
                  <a:cubicBezTo>
                    <a:pt x="50" y="523"/>
                    <a:pt x="10" y="428"/>
                    <a:pt x="18" y="378"/>
                  </a:cubicBezTo>
                  <a:cubicBezTo>
                    <a:pt x="25" y="328"/>
                    <a:pt x="65" y="298"/>
                    <a:pt x="88" y="283"/>
                  </a:cubicBezTo>
                  <a:cubicBezTo>
                    <a:pt x="110" y="271"/>
                    <a:pt x="135" y="296"/>
                    <a:pt x="148" y="283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3689400">
              <a:off x="7263720" y="3360600"/>
              <a:ext cx="190440" cy="500040"/>
            </a:xfrm>
            <a:custGeom>
              <a:avLst/>
              <a:gdLst/>
              <a:ahLst/>
              <a:rect l="l" t="t" r="r" b="b"/>
              <a:pathLst>
                <a:path w="374" h="988">
                  <a:moveTo>
                    <a:pt x="148" y="273"/>
                  </a:moveTo>
                  <a:cubicBezTo>
                    <a:pt x="160" y="263"/>
                    <a:pt x="148" y="245"/>
                    <a:pt x="158" y="210"/>
                  </a:cubicBezTo>
                  <a:cubicBezTo>
                    <a:pt x="168" y="178"/>
                    <a:pt x="190" y="98"/>
                    <a:pt x="208" y="63"/>
                  </a:cubicBezTo>
                  <a:cubicBezTo>
                    <a:pt x="225" y="30"/>
                    <a:pt x="245" y="0"/>
                    <a:pt x="268" y="0"/>
                  </a:cubicBezTo>
                  <a:cubicBezTo>
                    <a:pt x="290" y="0"/>
                    <a:pt x="321" y="40"/>
                    <a:pt x="338" y="63"/>
                  </a:cubicBezTo>
                  <a:cubicBezTo>
                    <a:pt x="355" y="86"/>
                    <a:pt x="374" y="101"/>
                    <a:pt x="372" y="140"/>
                  </a:cubicBezTo>
                  <a:cubicBezTo>
                    <a:pt x="370" y="179"/>
                    <a:pt x="340" y="222"/>
                    <a:pt x="328" y="295"/>
                  </a:cubicBezTo>
                  <a:cubicBezTo>
                    <a:pt x="316" y="368"/>
                    <a:pt x="305" y="490"/>
                    <a:pt x="298" y="580"/>
                  </a:cubicBezTo>
                  <a:cubicBezTo>
                    <a:pt x="290" y="670"/>
                    <a:pt x="300" y="775"/>
                    <a:pt x="288" y="840"/>
                  </a:cubicBezTo>
                  <a:cubicBezTo>
                    <a:pt x="275" y="905"/>
                    <a:pt x="238" y="953"/>
                    <a:pt x="218" y="970"/>
                  </a:cubicBezTo>
                  <a:cubicBezTo>
                    <a:pt x="198" y="988"/>
                    <a:pt x="185" y="958"/>
                    <a:pt x="168" y="940"/>
                  </a:cubicBezTo>
                  <a:cubicBezTo>
                    <a:pt x="150" y="923"/>
                    <a:pt x="143" y="875"/>
                    <a:pt x="118" y="860"/>
                  </a:cubicBezTo>
                  <a:cubicBezTo>
                    <a:pt x="93" y="845"/>
                    <a:pt x="35" y="875"/>
                    <a:pt x="18" y="853"/>
                  </a:cubicBezTo>
                  <a:cubicBezTo>
                    <a:pt x="0" y="830"/>
                    <a:pt x="18" y="768"/>
                    <a:pt x="18" y="720"/>
                  </a:cubicBezTo>
                  <a:cubicBezTo>
                    <a:pt x="18" y="673"/>
                    <a:pt x="18" y="615"/>
                    <a:pt x="18" y="560"/>
                  </a:cubicBezTo>
                  <a:cubicBezTo>
                    <a:pt x="18" y="505"/>
                    <a:pt x="5" y="438"/>
                    <a:pt x="18" y="390"/>
                  </a:cubicBezTo>
                  <a:cubicBezTo>
                    <a:pt x="30" y="343"/>
                    <a:pt x="65" y="293"/>
                    <a:pt x="88" y="273"/>
                  </a:cubicBezTo>
                  <a:cubicBezTo>
                    <a:pt x="110" y="253"/>
                    <a:pt x="135" y="285"/>
                    <a:pt x="148" y="273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3689400">
              <a:off x="7267680" y="3509640"/>
              <a:ext cx="195120" cy="501840"/>
            </a:xfrm>
            <a:custGeom>
              <a:avLst/>
              <a:gdLst/>
              <a:ahLst/>
              <a:rect l="l" t="t" r="r" b="b"/>
              <a:pathLst>
                <a:path w="384" h="987">
                  <a:moveTo>
                    <a:pt x="147" y="272"/>
                  </a:moveTo>
                  <a:cubicBezTo>
                    <a:pt x="160" y="262"/>
                    <a:pt x="147" y="245"/>
                    <a:pt x="157" y="210"/>
                  </a:cubicBezTo>
                  <a:cubicBezTo>
                    <a:pt x="167" y="177"/>
                    <a:pt x="190" y="97"/>
                    <a:pt x="207" y="62"/>
                  </a:cubicBezTo>
                  <a:cubicBezTo>
                    <a:pt x="224" y="30"/>
                    <a:pt x="244" y="0"/>
                    <a:pt x="267" y="0"/>
                  </a:cubicBezTo>
                  <a:cubicBezTo>
                    <a:pt x="289" y="0"/>
                    <a:pt x="318" y="39"/>
                    <a:pt x="337" y="62"/>
                  </a:cubicBezTo>
                  <a:cubicBezTo>
                    <a:pt x="356" y="85"/>
                    <a:pt x="384" y="99"/>
                    <a:pt x="382" y="138"/>
                  </a:cubicBezTo>
                  <a:cubicBezTo>
                    <a:pt x="380" y="177"/>
                    <a:pt x="341" y="221"/>
                    <a:pt x="327" y="295"/>
                  </a:cubicBezTo>
                  <a:cubicBezTo>
                    <a:pt x="313" y="369"/>
                    <a:pt x="304" y="490"/>
                    <a:pt x="297" y="580"/>
                  </a:cubicBezTo>
                  <a:cubicBezTo>
                    <a:pt x="289" y="670"/>
                    <a:pt x="299" y="775"/>
                    <a:pt x="287" y="840"/>
                  </a:cubicBezTo>
                  <a:cubicBezTo>
                    <a:pt x="274" y="905"/>
                    <a:pt x="237" y="952"/>
                    <a:pt x="217" y="970"/>
                  </a:cubicBezTo>
                  <a:cubicBezTo>
                    <a:pt x="197" y="987"/>
                    <a:pt x="185" y="957"/>
                    <a:pt x="167" y="940"/>
                  </a:cubicBezTo>
                  <a:cubicBezTo>
                    <a:pt x="150" y="922"/>
                    <a:pt x="142" y="875"/>
                    <a:pt x="117" y="860"/>
                  </a:cubicBezTo>
                  <a:cubicBezTo>
                    <a:pt x="92" y="845"/>
                    <a:pt x="35" y="882"/>
                    <a:pt x="17" y="852"/>
                  </a:cubicBezTo>
                  <a:cubicBezTo>
                    <a:pt x="0" y="822"/>
                    <a:pt x="5" y="757"/>
                    <a:pt x="7" y="680"/>
                  </a:cubicBezTo>
                  <a:cubicBezTo>
                    <a:pt x="10" y="602"/>
                    <a:pt x="25" y="457"/>
                    <a:pt x="37" y="390"/>
                  </a:cubicBezTo>
                  <a:cubicBezTo>
                    <a:pt x="50" y="322"/>
                    <a:pt x="70" y="292"/>
                    <a:pt x="87" y="272"/>
                  </a:cubicBezTo>
                  <a:cubicBezTo>
                    <a:pt x="105" y="252"/>
                    <a:pt x="135" y="285"/>
                    <a:pt x="147" y="27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3689400">
              <a:off x="7272360" y="3656880"/>
              <a:ext cx="173160" cy="480960"/>
            </a:xfrm>
            <a:custGeom>
              <a:avLst/>
              <a:gdLst/>
              <a:ahLst/>
              <a:rect l="l" t="t" r="r" b="b"/>
              <a:pathLst>
                <a:path w="156" h="378">
                  <a:moveTo>
                    <a:pt x="49" y="84"/>
                  </a:moveTo>
                  <a:cubicBezTo>
                    <a:pt x="57" y="78"/>
                    <a:pt x="70" y="80"/>
                    <a:pt x="77" y="72"/>
                  </a:cubicBezTo>
                  <a:cubicBezTo>
                    <a:pt x="84" y="64"/>
                    <a:pt x="88" y="47"/>
                    <a:pt x="93" y="36"/>
                  </a:cubicBezTo>
                  <a:cubicBezTo>
                    <a:pt x="98" y="25"/>
                    <a:pt x="102" y="8"/>
                    <a:pt x="109" y="4"/>
                  </a:cubicBezTo>
                  <a:cubicBezTo>
                    <a:pt x="116" y="0"/>
                    <a:pt x="125" y="5"/>
                    <a:pt x="133" y="12"/>
                  </a:cubicBezTo>
                  <a:cubicBezTo>
                    <a:pt x="141" y="19"/>
                    <a:pt x="156" y="28"/>
                    <a:pt x="155" y="44"/>
                  </a:cubicBezTo>
                  <a:cubicBezTo>
                    <a:pt x="154" y="60"/>
                    <a:pt x="130" y="79"/>
                    <a:pt x="125" y="107"/>
                  </a:cubicBezTo>
                  <a:cubicBezTo>
                    <a:pt x="120" y="136"/>
                    <a:pt x="126" y="184"/>
                    <a:pt x="123" y="218"/>
                  </a:cubicBezTo>
                  <a:cubicBezTo>
                    <a:pt x="120" y="251"/>
                    <a:pt x="112" y="282"/>
                    <a:pt x="109" y="307"/>
                  </a:cubicBezTo>
                  <a:cubicBezTo>
                    <a:pt x="106" y="332"/>
                    <a:pt x="109" y="361"/>
                    <a:pt x="105" y="369"/>
                  </a:cubicBezTo>
                  <a:cubicBezTo>
                    <a:pt x="101" y="378"/>
                    <a:pt x="92" y="366"/>
                    <a:pt x="84" y="360"/>
                  </a:cubicBezTo>
                  <a:cubicBezTo>
                    <a:pt x="77" y="354"/>
                    <a:pt x="74" y="335"/>
                    <a:pt x="62" y="331"/>
                  </a:cubicBezTo>
                  <a:cubicBezTo>
                    <a:pt x="50" y="327"/>
                    <a:pt x="18" y="343"/>
                    <a:pt x="9" y="334"/>
                  </a:cubicBezTo>
                  <a:cubicBezTo>
                    <a:pt x="0" y="324"/>
                    <a:pt x="8" y="293"/>
                    <a:pt x="9" y="272"/>
                  </a:cubicBezTo>
                  <a:cubicBezTo>
                    <a:pt x="10" y="252"/>
                    <a:pt x="14" y="239"/>
                    <a:pt x="17" y="211"/>
                  </a:cubicBezTo>
                  <a:cubicBezTo>
                    <a:pt x="20" y="183"/>
                    <a:pt x="24" y="128"/>
                    <a:pt x="29" y="107"/>
                  </a:cubicBezTo>
                  <a:cubicBezTo>
                    <a:pt x="34" y="86"/>
                    <a:pt x="41" y="90"/>
                    <a:pt x="49" y="84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3689400">
              <a:off x="7284600" y="3784680"/>
              <a:ext cx="173160" cy="480960"/>
            </a:xfrm>
            <a:custGeom>
              <a:avLst/>
              <a:gdLst/>
              <a:ahLst/>
              <a:rect l="l" t="t" r="r" b="b"/>
              <a:pathLst>
                <a:path w="156" h="378">
                  <a:moveTo>
                    <a:pt x="49" y="84"/>
                  </a:moveTo>
                  <a:cubicBezTo>
                    <a:pt x="57" y="78"/>
                    <a:pt x="70" y="80"/>
                    <a:pt x="77" y="72"/>
                  </a:cubicBezTo>
                  <a:cubicBezTo>
                    <a:pt x="84" y="64"/>
                    <a:pt x="88" y="47"/>
                    <a:pt x="93" y="36"/>
                  </a:cubicBezTo>
                  <a:cubicBezTo>
                    <a:pt x="98" y="25"/>
                    <a:pt x="102" y="8"/>
                    <a:pt x="109" y="4"/>
                  </a:cubicBezTo>
                  <a:cubicBezTo>
                    <a:pt x="116" y="0"/>
                    <a:pt x="125" y="5"/>
                    <a:pt x="133" y="12"/>
                  </a:cubicBezTo>
                  <a:cubicBezTo>
                    <a:pt x="141" y="19"/>
                    <a:pt x="156" y="28"/>
                    <a:pt x="155" y="44"/>
                  </a:cubicBezTo>
                  <a:cubicBezTo>
                    <a:pt x="154" y="60"/>
                    <a:pt x="130" y="79"/>
                    <a:pt x="125" y="107"/>
                  </a:cubicBezTo>
                  <a:cubicBezTo>
                    <a:pt x="120" y="136"/>
                    <a:pt x="126" y="184"/>
                    <a:pt x="123" y="218"/>
                  </a:cubicBezTo>
                  <a:cubicBezTo>
                    <a:pt x="120" y="251"/>
                    <a:pt x="112" y="282"/>
                    <a:pt x="109" y="307"/>
                  </a:cubicBezTo>
                  <a:cubicBezTo>
                    <a:pt x="106" y="332"/>
                    <a:pt x="109" y="361"/>
                    <a:pt x="105" y="369"/>
                  </a:cubicBezTo>
                  <a:cubicBezTo>
                    <a:pt x="101" y="378"/>
                    <a:pt x="92" y="366"/>
                    <a:pt x="84" y="360"/>
                  </a:cubicBezTo>
                  <a:cubicBezTo>
                    <a:pt x="77" y="354"/>
                    <a:pt x="74" y="335"/>
                    <a:pt x="62" y="331"/>
                  </a:cubicBezTo>
                  <a:cubicBezTo>
                    <a:pt x="50" y="327"/>
                    <a:pt x="18" y="343"/>
                    <a:pt x="9" y="334"/>
                  </a:cubicBezTo>
                  <a:cubicBezTo>
                    <a:pt x="0" y="324"/>
                    <a:pt x="8" y="293"/>
                    <a:pt x="9" y="272"/>
                  </a:cubicBezTo>
                  <a:cubicBezTo>
                    <a:pt x="10" y="252"/>
                    <a:pt x="14" y="239"/>
                    <a:pt x="17" y="211"/>
                  </a:cubicBezTo>
                  <a:cubicBezTo>
                    <a:pt x="20" y="183"/>
                    <a:pt x="24" y="128"/>
                    <a:pt x="29" y="107"/>
                  </a:cubicBezTo>
                  <a:cubicBezTo>
                    <a:pt x="34" y="86"/>
                    <a:pt x="41" y="90"/>
                    <a:pt x="49" y="84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3689400">
              <a:off x="7316280" y="3899880"/>
              <a:ext cx="152640" cy="465120"/>
            </a:xfrm>
            <a:custGeom>
              <a:avLst/>
              <a:gdLst/>
              <a:ahLst/>
              <a:rect l="l" t="t" r="r" b="b"/>
              <a:pathLst>
                <a:path w="156" h="378">
                  <a:moveTo>
                    <a:pt x="49" y="84"/>
                  </a:moveTo>
                  <a:cubicBezTo>
                    <a:pt x="57" y="78"/>
                    <a:pt x="70" y="80"/>
                    <a:pt x="77" y="72"/>
                  </a:cubicBezTo>
                  <a:cubicBezTo>
                    <a:pt x="84" y="64"/>
                    <a:pt x="88" y="47"/>
                    <a:pt x="93" y="36"/>
                  </a:cubicBezTo>
                  <a:cubicBezTo>
                    <a:pt x="98" y="25"/>
                    <a:pt x="102" y="8"/>
                    <a:pt x="109" y="4"/>
                  </a:cubicBezTo>
                  <a:cubicBezTo>
                    <a:pt x="116" y="0"/>
                    <a:pt x="125" y="5"/>
                    <a:pt x="133" y="12"/>
                  </a:cubicBezTo>
                  <a:cubicBezTo>
                    <a:pt x="141" y="19"/>
                    <a:pt x="156" y="28"/>
                    <a:pt x="155" y="44"/>
                  </a:cubicBezTo>
                  <a:cubicBezTo>
                    <a:pt x="154" y="60"/>
                    <a:pt x="130" y="79"/>
                    <a:pt x="125" y="107"/>
                  </a:cubicBezTo>
                  <a:cubicBezTo>
                    <a:pt x="120" y="136"/>
                    <a:pt x="126" y="184"/>
                    <a:pt x="123" y="218"/>
                  </a:cubicBezTo>
                  <a:cubicBezTo>
                    <a:pt x="120" y="251"/>
                    <a:pt x="112" y="282"/>
                    <a:pt x="109" y="307"/>
                  </a:cubicBezTo>
                  <a:cubicBezTo>
                    <a:pt x="106" y="332"/>
                    <a:pt x="109" y="361"/>
                    <a:pt x="105" y="369"/>
                  </a:cubicBezTo>
                  <a:cubicBezTo>
                    <a:pt x="101" y="378"/>
                    <a:pt x="92" y="366"/>
                    <a:pt x="84" y="360"/>
                  </a:cubicBezTo>
                  <a:cubicBezTo>
                    <a:pt x="77" y="354"/>
                    <a:pt x="74" y="335"/>
                    <a:pt x="62" y="331"/>
                  </a:cubicBezTo>
                  <a:cubicBezTo>
                    <a:pt x="50" y="327"/>
                    <a:pt x="18" y="343"/>
                    <a:pt x="9" y="334"/>
                  </a:cubicBezTo>
                  <a:cubicBezTo>
                    <a:pt x="0" y="324"/>
                    <a:pt x="8" y="293"/>
                    <a:pt x="9" y="272"/>
                  </a:cubicBezTo>
                  <a:cubicBezTo>
                    <a:pt x="10" y="252"/>
                    <a:pt x="14" y="239"/>
                    <a:pt x="17" y="211"/>
                  </a:cubicBezTo>
                  <a:cubicBezTo>
                    <a:pt x="20" y="183"/>
                    <a:pt x="24" y="128"/>
                    <a:pt x="29" y="107"/>
                  </a:cubicBezTo>
                  <a:cubicBezTo>
                    <a:pt x="34" y="86"/>
                    <a:pt x="41" y="90"/>
                    <a:pt x="49" y="84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3532200">
              <a:off x="7348320" y="4004280"/>
              <a:ext cx="149400" cy="44928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36" y="81"/>
                  </a:moveTo>
                  <a:cubicBezTo>
                    <a:pt x="42" y="76"/>
                    <a:pt x="52" y="77"/>
                    <a:pt x="57" y="70"/>
                  </a:cubicBezTo>
                  <a:cubicBezTo>
                    <a:pt x="63" y="62"/>
                    <a:pt x="66" y="46"/>
                    <a:pt x="70" y="35"/>
                  </a:cubicBezTo>
                  <a:cubicBezTo>
                    <a:pt x="73" y="24"/>
                    <a:pt x="76" y="8"/>
                    <a:pt x="82" y="4"/>
                  </a:cubicBezTo>
                  <a:cubicBezTo>
                    <a:pt x="87" y="0"/>
                    <a:pt x="94" y="5"/>
                    <a:pt x="100" y="12"/>
                  </a:cubicBezTo>
                  <a:cubicBezTo>
                    <a:pt x="106" y="18"/>
                    <a:pt x="118" y="27"/>
                    <a:pt x="117" y="43"/>
                  </a:cubicBezTo>
                  <a:cubicBezTo>
                    <a:pt x="116" y="58"/>
                    <a:pt x="98" y="76"/>
                    <a:pt x="94" y="104"/>
                  </a:cubicBezTo>
                  <a:cubicBezTo>
                    <a:pt x="90" y="132"/>
                    <a:pt x="95" y="178"/>
                    <a:pt x="93" y="211"/>
                  </a:cubicBezTo>
                  <a:cubicBezTo>
                    <a:pt x="90" y="243"/>
                    <a:pt x="87" y="274"/>
                    <a:pt x="82" y="297"/>
                  </a:cubicBezTo>
                  <a:cubicBezTo>
                    <a:pt x="77" y="320"/>
                    <a:pt x="71" y="344"/>
                    <a:pt x="63" y="349"/>
                  </a:cubicBezTo>
                  <a:cubicBezTo>
                    <a:pt x="55" y="354"/>
                    <a:pt x="45" y="332"/>
                    <a:pt x="35" y="328"/>
                  </a:cubicBezTo>
                  <a:cubicBezTo>
                    <a:pt x="25" y="324"/>
                    <a:pt x="10" y="334"/>
                    <a:pt x="5" y="323"/>
                  </a:cubicBezTo>
                  <a:cubicBezTo>
                    <a:pt x="0" y="312"/>
                    <a:pt x="4" y="284"/>
                    <a:pt x="5" y="263"/>
                  </a:cubicBezTo>
                  <a:cubicBezTo>
                    <a:pt x="6" y="244"/>
                    <a:pt x="9" y="231"/>
                    <a:pt x="11" y="204"/>
                  </a:cubicBezTo>
                  <a:cubicBezTo>
                    <a:pt x="13" y="177"/>
                    <a:pt x="16" y="124"/>
                    <a:pt x="20" y="104"/>
                  </a:cubicBezTo>
                  <a:cubicBezTo>
                    <a:pt x="24" y="83"/>
                    <a:pt x="30" y="87"/>
                    <a:pt x="36" y="8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3532200">
              <a:off x="7389720" y="4097160"/>
              <a:ext cx="149040" cy="44928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36" y="81"/>
                  </a:moveTo>
                  <a:cubicBezTo>
                    <a:pt x="42" y="76"/>
                    <a:pt x="52" y="77"/>
                    <a:pt x="57" y="70"/>
                  </a:cubicBezTo>
                  <a:cubicBezTo>
                    <a:pt x="63" y="62"/>
                    <a:pt x="66" y="46"/>
                    <a:pt x="70" y="35"/>
                  </a:cubicBezTo>
                  <a:cubicBezTo>
                    <a:pt x="73" y="24"/>
                    <a:pt x="76" y="8"/>
                    <a:pt x="82" y="4"/>
                  </a:cubicBezTo>
                  <a:cubicBezTo>
                    <a:pt x="87" y="0"/>
                    <a:pt x="94" y="5"/>
                    <a:pt x="100" y="12"/>
                  </a:cubicBezTo>
                  <a:cubicBezTo>
                    <a:pt x="106" y="18"/>
                    <a:pt x="118" y="27"/>
                    <a:pt x="117" y="43"/>
                  </a:cubicBezTo>
                  <a:cubicBezTo>
                    <a:pt x="116" y="58"/>
                    <a:pt x="98" y="76"/>
                    <a:pt x="94" y="104"/>
                  </a:cubicBezTo>
                  <a:cubicBezTo>
                    <a:pt x="90" y="132"/>
                    <a:pt x="95" y="178"/>
                    <a:pt x="93" y="211"/>
                  </a:cubicBezTo>
                  <a:cubicBezTo>
                    <a:pt x="90" y="243"/>
                    <a:pt x="87" y="274"/>
                    <a:pt x="82" y="297"/>
                  </a:cubicBezTo>
                  <a:cubicBezTo>
                    <a:pt x="77" y="320"/>
                    <a:pt x="71" y="344"/>
                    <a:pt x="63" y="349"/>
                  </a:cubicBezTo>
                  <a:cubicBezTo>
                    <a:pt x="55" y="354"/>
                    <a:pt x="45" y="332"/>
                    <a:pt x="35" y="328"/>
                  </a:cubicBezTo>
                  <a:cubicBezTo>
                    <a:pt x="25" y="324"/>
                    <a:pt x="10" y="334"/>
                    <a:pt x="5" y="323"/>
                  </a:cubicBezTo>
                  <a:cubicBezTo>
                    <a:pt x="0" y="312"/>
                    <a:pt x="4" y="284"/>
                    <a:pt x="5" y="263"/>
                  </a:cubicBezTo>
                  <a:cubicBezTo>
                    <a:pt x="6" y="244"/>
                    <a:pt x="9" y="231"/>
                    <a:pt x="11" y="204"/>
                  </a:cubicBezTo>
                  <a:cubicBezTo>
                    <a:pt x="13" y="177"/>
                    <a:pt x="16" y="124"/>
                    <a:pt x="20" y="104"/>
                  </a:cubicBezTo>
                  <a:cubicBezTo>
                    <a:pt x="24" y="83"/>
                    <a:pt x="30" y="87"/>
                    <a:pt x="36" y="8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3532200">
              <a:off x="7420680" y="4208760"/>
              <a:ext cx="149040" cy="42552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36" y="81"/>
                  </a:moveTo>
                  <a:cubicBezTo>
                    <a:pt x="42" y="76"/>
                    <a:pt x="52" y="77"/>
                    <a:pt x="57" y="70"/>
                  </a:cubicBezTo>
                  <a:cubicBezTo>
                    <a:pt x="63" y="62"/>
                    <a:pt x="66" y="46"/>
                    <a:pt x="70" y="35"/>
                  </a:cubicBezTo>
                  <a:cubicBezTo>
                    <a:pt x="73" y="24"/>
                    <a:pt x="76" y="8"/>
                    <a:pt x="82" y="4"/>
                  </a:cubicBezTo>
                  <a:cubicBezTo>
                    <a:pt x="87" y="0"/>
                    <a:pt x="94" y="5"/>
                    <a:pt x="100" y="12"/>
                  </a:cubicBezTo>
                  <a:cubicBezTo>
                    <a:pt x="106" y="18"/>
                    <a:pt x="118" y="27"/>
                    <a:pt x="117" y="43"/>
                  </a:cubicBezTo>
                  <a:cubicBezTo>
                    <a:pt x="116" y="58"/>
                    <a:pt x="98" y="76"/>
                    <a:pt x="94" y="104"/>
                  </a:cubicBezTo>
                  <a:cubicBezTo>
                    <a:pt x="90" y="132"/>
                    <a:pt x="95" y="178"/>
                    <a:pt x="93" y="211"/>
                  </a:cubicBezTo>
                  <a:cubicBezTo>
                    <a:pt x="90" y="243"/>
                    <a:pt x="87" y="274"/>
                    <a:pt x="82" y="297"/>
                  </a:cubicBezTo>
                  <a:cubicBezTo>
                    <a:pt x="77" y="320"/>
                    <a:pt x="71" y="344"/>
                    <a:pt x="63" y="349"/>
                  </a:cubicBezTo>
                  <a:cubicBezTo>
                    <a:pt x="55" y="354"/>
                    <a:pt x="45" y="332"/>
                    <a:pt x="35" y="328"/>
                  </a:cubicBezTo>
                  <a:cubicBezTo>
                    <a:pt x="25" y="324"/>
                    <a:pt x="10" y="334"/>
                    <a:pt x="5" y="323"/>
                  </a:cubicBezTo>
                  <a:cubicBezTo>
                    <a:pt x="0" y="312"/>
                    <a:pt x="4" y="284"/>
                    <a:pt x="5" y="263"/>
                  </a:cubicBezTo>
                  <a:cubicBezTo>
                    <a:pt x="6" y="244"/>
                    <a:pt x="9" y="231"/>
                    <a:pt x="11" y="204"/>
                  </a:cubicBezTo>
                  <a:cubicBezTo>
                    <a:pt x="13" y="177"/>
                    <a:pt x="16" y="124"/>
                    <a:pt x="20" y="104"/>
                  </a:cubicBezTo>
                  <a:cubicBezTo>
                    <a:pt x="24" y="83"/>
                    <a:pt x="30" y="87"/>
                    <a:pt x="36" y="8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3532200">
              <a:off x="7457760" y="4309200"/>
              <a:ext cx="137880" cy="42876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36" y="81"/>
                  </a:moveTo>
                  <a:cubicBezTo>
                    <a:pt x="42" y="76"/>
                    <a:pt x="52" y="77"/>
                    <a:pt x="57" y="70"/>
                  </a:cubicBezTo>
                  <a:cubicBezTo>
                    <a:pt x="63" y="62"/>
                    <a:pt x="66" y="46"/>
                    <a:pt x="70" y="35"/>
                  </a:cubicBezTo>
                  <a:cubicBezTo>
                    <a:pt x="73" y="24"/>
                    <a:pt x="76" y="8"/>
                    <a:pt x="82" y="4"/>
                  </a:cubicBezTo>
                  <a:cubicBezTo>
                    <a:pt x="87" y="0"/>
                    <a:pt x="94" y="5"/>
                    <a:pt x="100" y="12"/>
                  </a:cubicBezTo>
                  <a:cubicBezTo>
                    <a:pt x="106" y="18"/>
                    <a:pt x="118" y="27"/>
                    <a:pt x="117" y="43"/>
                  </a:cubicBezTo>
                  <a:cubicBezTo>
                    <a:pt x="116" y="58"/>
                    <a:pt x="98" y="76"/>
                    <a:pt x="94" y="104"/>
                  </a:cubicBezTo>
                  <a:cubicBezTo>
                    <a:pt x="90" y="132"/>
                    <a:pt x="95" y="178"/>
                    <a:pt x="93" y="211"/>
                  </a:cubicBezTo>
                  <a:cubicBezTo>
                    <a:pt x="90" y="243"/>
                    <a:pt x="87" y="274"/>
                    <a:pt x="82" y="297"/>
                  </a:cubicBezTo>
                  <a:cubicBezTo>
                    <a:pt x="77" y="320"/>
                    <a:pt x="71" y="344"/>
                    <a:pt x="63" y="349"/>
                  </a:cubicBezTo>
                  <a:cubicBezTo>
                    <a:pt x="55" y="354"/>
                    <a:pt x="45" y="332"/>
                    <a:pt x="35" y="328"/>
                  </a:cubicBezTo>
                  <a:cubicBezTo>
                    <a:pt x="25" y="324"/>
                    <a:pt x="10" y="334"/>
                    <a:pt x="5" y="323"/>
                  </a:cubicBezTo>
                  <a:cubicBezTo>
                    <a:pt x="0" y="312"/>
                    <a:pt x="4" y="284"/>
                    <a:pt x="5" y="263"/>
                  </a:cubicBezTo>
                  <a:cubicBezTo>
                    <a:pt x="6" y="244"/>
                    <a:pt x="9" y="231"/>
                    <a:pt x="11" y="204"/>
                  </a:cubicBezTo>
                  <a:cubicBezTo>
                    <a:pt x="13" y="177"/>
                    <a:pt x="16" y="124"/>
                    <a:pt x="20" y="104"/>
                  </a:cubicBezTo>
                  <a:cubicBezTo>
                    <a:pt x="24" y="83"/>
                    <a:pt x="30" y="87"/>
                    <a:pt x="36" y="8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3532200">
              <a:off x="7481880" y="4407480"/>
              <a:ext cx="137880" cy="42876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36" y="81"/>
                  </a:moveTo>
                  <a:cubicBezTo>
                    <a:pt x="42" y="76"/>
                    <a:pt x="52" y="77"/>
                    <a:pt x="57" y="70"/>
                  </a:cubicBezTo>
                  <a:cubicBezTo>
                    <a:pt x="63" y="62"/>
                    <a:pt x="66" y="46"/>
                    <a:pt x="70" y="35"/>
                  </a:cubicBezTo>
                  <a:cubicBezTo>
                    <a:pt x="73" y="24"/>
                    <a:pt x="76" y="8"/>
                    <a:pt x="82" y="4"/>
                  </a:cubicBezTo>
                  <a:cubicBezTo>
                    <a:pt x="87" y="0"/>
                    <a:pt x="94" y="5"/>
                    <a:pt x="100" y="12"/>
                  </a:cubicBezTo>
                  <a:cubicBezTo>
                    <a:pt x="106" y="18"/>
                    <a:pt x="118" y="27"/>
                    <a:pt x="117" y="43"/>
                  </a:cubicBezTo>
                  <a:cubicBezTo>
                    <a:pt x="116" y="58"/>
                    <a:pt x="98" y="76"/>
                    <a:pt x="94" y="104"/>
                  </a:cubicBezTo>
                  <a:cubicBezTo>
                    <a:pt x="90" y="132"/>
                    <a:pt x="95" y="178"/>
                    <a:pt x="93" y="211"/>
                  </a:cubicBezTo>
                  <a:cubicBezTo>
                    <a:pt x="90" y="243"/>
                    <a:pt x="87" y="274"/>
                    <a:pt x="82" y="297"/>
                  </a:cubicBezTo>
                  <a:cubicBezTo>
                    <a:pt x="77" y="320"/>
                    <a:pt x="71" y="344"/>
                    <a:pt x="63" y="349"/>
                  </a:cubicBezTo>
                  <a:cubicBezTo>
                    <a:pt x="55" y="354"/>
                    <a:pt x="45" y="332"/>
                    <a:pt x="35" y="328"/>
                  </a:cubicBezTo>
                  <a:cubicBezTo>
                    <a:pt x="25" y="324"/>
                    <a:pt x="10" y="334"/>
                    <a:pt x="5" y="323"/>
                  </a:cubicBezTo>
                  <a:cubicBezTo>
                    <a:pt x="0" y="312"/>
                    <a:pt x="4" y="284"/>
                    <a:pt x="5" y="263"/>
                  </a:cubicBezTo>
                  <a:cubicBezTo>
                    <a:pt x="6" y="244"/>
                    <a:pt x="9" y="231"/>
                    <a:pt x="11" y="204"/>
                  </a:cubicBezTo>
                  <a:cubicBezTo>
                    <a:pt x="13" y="177"/>
                    <a:pt x="16" y="124"/>
                    <a:pt x="20" y="104"/>
                  </a:cubicBezTo>
                  <a:cubicBezTo>
                    <a:pt x="24" y="83"/>
                    <a:pt x="30" y="87"/>
                    <a:pt x="36" y="8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3532200">
              <a:off x="7499880" y="4523400"/>
              <a:ext cx="133560" cy="39060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36" y="81"/>
                  </a:moveTo>
                  <a:cubicBezTo>
                    <a:pt x="42" y="76"/>
                    <a:pt x="52" y="77"/>
                    <a:pt x="57" y="70"/>
                  </a:cubicBezTo>
                  <a:cubicBezTo>
                    <a:pt x="63" y="62"/>
                    <a:pt x="66" y="46"/>
                    <a:pt x="70" y="35"/>
                  </a:cubicBezTo>
                  <a:cubicBezTo>
                    <a:pt x="73" y="24"/>
                    <a:pt x="76" y="8"/>
                    <a:pt x="82" y="4"/>
                  </a:cubicBezTo>
                  <a:cubicBezTo>
                    <a:pt x="87" y="0"/>
                    <a:pt x="94" y="5"/>
                    <a:pt x="100" y="12"/>
                  </a:cubicBezTo>
                  <a:cubicBezTo>
                    <a:pt x="106" y="18"/>
                    <a:pt x="118" y="27"/>
                    <a:pt x="117" y="43"/>
                  </a:cubicBezTo>
                  <a:cubicBezTo>
                    <a:pt x="116" y="58"/>
                    <a:pt x="98" y="76"/>
                    <a:pt x="94" y="104"/>
                  </a:cubicBezTo>
                  <a:cubicBezTo>
                    <a:pt x="90" y="132"/>
                    <a:pt x="95" y="178"/>
                    <a:pt x="93" y="211"/>
                  </a:cubicBezTo>
                  <a:cubicBezTo>
                    <a:pt x="90" y="243"/>
                    <a:pt x="87" y="274"/>
                    <a:pt x="82" y="297"/>
                  </a:cubicBezTo>
                  <a:cubicBezTo>
                    <a:pt x="77" y="320"/>
                    <a:pt x="71" y="344"/>
                    <a:pt x="63" y="349"/>
                  </a:cubicBezTo>
                  <a:cubicBezTo>
                    <a:pt x="55" y="354"/>
                    <a:pt x="45" y="332"/>
                    <a:pt x="35" y="328"/>
                  </a:cubicBezTo>
                  <a:cubicBezTo>
                    <a:pt x="25" y="324"/>
                    <a:pt x="10" y="334"/>
                    <a:pt x="5" y="323"/>
                  </a:cubicBezTo>
                  <a:cubicBezTo>
                    <a:pt x="0" y="312"/>
                    <a:pt x="4" y="284"/>
                    <a:pt x="5" y="263"/>
                  </a:cubicBezTo>
                  <a:cubicBezTo>
                    <a:pt x="6" y="244"/>
                    <a:pt x="9" y="231"/>
                    <a:pt x="11" y="204"/>
                  </a:cubicBezTo>
                  <a:cubicBezTo>
                    <a:pt x="13" y="177"/>
                    <a:pt x="16" y="124"/>
                    <a:pt x="20" y="104"/>
                  </a:cubicBezTo>
                  <a:cubicBezTo>
                    <a:pt x="24" y="83"/>
                    <a:pt x="30" y="87"/>
                    <a:pt x="36" y="8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3532200">
              <a:off x="7541640" y="4604040"/>
              <a:ext cx="112680" cy="39240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36" y="81"/>
                  </a:moveTo>
                  <a:cubicBezTo>
                    <a:pt x="42" y="76"/>
                    <a:pt x="52" y="77"/>
                    <a:pt x="57" y="70"/>
                  </a:cubicBezTo>
                  <a:cubicBezTo>
                    <a:pt x="63" y="62"/>
                    <a:pt x="66" y="46"/>
                    <a:pt x="70" y="35"/>
                  </a:cubicBezTo>
                  <a:cubicBezTo>
                    <a:pt x="73" y="24"/>
                    <a:pt x="76" y="8"/>
                    <a:pt x="82" y="4"/>
                  </a:cubicBezTo>
                  <a:cubicBezTo>
                    <a:pt x="87" y="0"/>
                    <a:pt x="94" y="5"/>
                    <a:pt x="100" y="12"/>
                  </a:cubicBezTo>
                  <a:cubicBezTo>
                    <a:pt x="106" y="18"/>
                    <a:pt x="118" y="27"/>
                    <a:pt x="117" y="43"/>
                  </a:cubicBezTo>
                  <a:cubicBezTo>
                    <a:pt x="116" y="58"/>
                    <a:pt x="98" y="76"/>
                    <a:pt x="94" y="104"/>
                  </a:cubicBezTo>
                  <a:cubicBezTo>
                    <a:pt x="90" y="132"/>
                    <a:pt x="95" y="178"/>
                    <a:pt x="93" y="211"/>
                  </a:cubicBezTo>
                  <a:cubicBezTo>
                    <a:pt x="90" y="243"/>
                    <a:pt x="87" y="274"/>
                    <a:pt x="82" y="297"/>
                  </a:cubicBezTo>
                  <a:cubicBezTo>
                    <a:pt x="77" y="320"/>
                    <a:pt x="71" y="344"/>
                    <a:pt x="63" y="349"/>
                  </a:cubicBezTo>
                  <a:cubicBezTo>
                    <a:pt x="55" y="354"/>
                    <a:pt x="45" y="332"/>
                    <a:pt x="35" y="328"/>
                  </a:cubicBezTo>
                  <a:cubicBezTo>
                    <a:pt x="25" y="324"/>
                    <a:pt x="10" y="334"/>
                    <a:pt x="5" y="323"/>
                  </a:cubicBezTo>
                  <a:cubicBezTo>
                    <a:pt x="0" y="312"/>
                    <a:pt x="4" y="284"/>
                    <a:pt x="5" y="263"/>
                  </a:cubicBezTo>
                  <a:cubicBezTo>
                    <a:pt x="6" y="244"/>
                    <a:pt x="9" y="231"/>
                    <a:pt x="11" y="204"/>
                  </a:cubicBezTo>
                  <a:cubicBezTo>
                    <a:pt x="13" y="177"/>
                    <a:pt x="16" y="124"/>
                    <a:pt x="20" y="104"/>
                  </a:cubicBezTo>
                  <a:cubicBezTo>
                    <a:pt x="24" y="83"/>
                    <a:pt x="30" y="87"/>
                    <a:pt x="36" y="8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3689400">
              <a:off x="7699320" y="5112000"/>
              <a:ext cx="77760" cy="247680"/>
            </a:xfrm>
            <a:custGeom>
              <a:avLst/>
              <a:gdLst/>
              <a:ahLst/>
              <a:rect l="l" t="t" r="r" b="b"/>
              <a:pathLst>
                <a:path w="70" h="211">
                  <a:moveTo>
                    <a:pt x="16" y="34"/>
                  </a:moveTo>
                  <a:cubicBezTo>
                    <a:pt x="20" y="30"/>
                    <a:pt x="27" y="31"/>
                    <a:pt x="29" y="26"/>
                  </a:cubicBezTo>
                  <a:cubicBezTo>
                    <a:pt x="33" y="20"/>
                    <a:pt x="31" y="6"/>
                    <a:pt x="37" y="3"/>
                  </a:cubicBezTo>
                  <a:cubicBezTo>
                    <a:pt x="43" y="0"/>
                    <a:pt x="64" y="0"/>
                    <a:pt x="67" y="7"/>
                  </a:cubicBezTo>
                  <a:cubicBezTo>
                    <a:pt x="70" y="14"/>
                    <a:pt x="56" y="28"/>
                    <a:pt x="54" y="48"/>
                  </a:cubicBezTo>
                  <a:cubicBezTo>
                    <a:pt x="53" y="66"/>
                    <a:pt x="58" y="95"/>
                    <a:pt x="57" y="116"/>
                  </a:cubicBezTo>
                  <a:cubicBezTo>
                    <a:pt x="56" y="138"/>
                    <a:pt x="55" y="158"/>
                    <a:pt x="53" y="173"/>
                  </a:cubicBezTo>
                  <a:cubicBezTo>
                    <a:pt x="50" y="188"/>
                    <a:pt x="46" y="204"/>
                    <a:pt x="42" y="207"/>
                  </a:cubicBezTo>
                  <a:cubicBezTo>
                    <a:pt x="37" y="211"/>
                    <a:pt x="29" y="197"/>
                    <a:pt x="23" y="194"/>
                  </a:cubicBezTo>
                  <a:cubicBezTo>
                    <a:pt x="16" y="192"/>
                    <a:pt x="7" y="199"/>
                    <a:pt x="3" y="192"/>
                  </a:cubicBezTo>
                  <a:cubicBezTo>
                    <a:pt x="0" y="185"/>
                    <a:pt x="2" y="167"/>
                    <a:pt x="1" y="153"/>
                  </a:cubicBezTo>
                  <a:cubicBezTo>
                    <a:pt x="2" y="141"/>
                    <a:pt x="3" y="132"/>
                    <a:pt x="3" y="115"/>
                  </a:cubicBezTo>
                  <a:cubicBezTo>
                    <a:pt x="4" y="97"/>
                    <a:pt x="4" y="63"/>
                    <a:pt x="6" y="50"/>
                  </a:cubicBezTo>
                  <a:cubicBezTo>
                    <a:pt x="9" y="36"/>
                    <a:pt x="13" y="38"/>
                    <a:pt x="16" y="34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3689400">
              <a:off x="7233120" y="2918160"/>
              <a:ext cx="179280" cy="486000"/>
            </a:xfrm>
            <a:custGeom>
              <a:avLst/>
              <a:gdLst/>
              <a:ahLst/>
              <a:rect l="l" t="t" r="r" b="b"/>
              <a:pathLst>
                <a:path w="352" h="956">
                  <a:moveTo>
                    <a:pt x="133" y="245"/>
                  </a:moveTo>
                  <a:cubicBezTo>
                    <a:pt x="144" y="234"/>
                    <a:pt x="130" y="217"/>
                    <a:pt x="137" y="181"/>
                  </a:cubicBezTo>
                  <a:cubicBezTo>
                    <a:pt x="144" y="149"/>
                    <a:pt x="160" y="61"/>
                    <a:pt x="174" y="31"/>
                  </a:cubicBezTo>
                  <a:cubicBezTo>
                    <a:pt x="188" y="1"/>
                    <a:pt x="201" y="4"/>
                    <a:pt x="223" y="2"/>
                  </a:cubicBezTo>
                  <a:cubicBezTo>
                    <a:pt x="245" y="0"/>
                    <a:pt x="283" y="3"/>
                    <a:pt x="304" y="19"/>
                  </a:cubicBezTo>
                  <a:cubicBezTo>
                    <a:pt x="325" y="35"/>
                    <a:pt x="348" y="61"/>
                    <a:pt x="350" y="100"/>
                  </a:cubicBezTo>
                  <a:cubicBezTo>
                    <a:pt x="352" y="139"/>
                    <a:pt x="324" y="179"/>
                    <a:pt x="314" y="251"/>
                  </a:cubicBezTo>
                  <a:cubicBezTo>
                    <a:pt x="304" y="323"/>
                    <a:pt x="296" y="449"/>
                    <a:pt x="290" y="535"/>
                  </a:cubicBezTo>
                  <a:cubicBezTo>
                    <a:pt x="284" y="621"/>
                    <a:pt x="280" y="701"/>
                    <a:pt x="275" y="767"/>
                  </a:cubicBezTo>
                  <a:cubicBezTo>
                    <a:pt x="270" y="833"/>
                    <a:pt x="273" y="910"/>
                    <a:pt x="262" y="933"/>
                  </a:cubicBezTo>
                  <a:cubicBezTo>
                    <a:pt x="251" y="956"/>
                    <a:pt x="228" y="924"/>
                    <a:pt x="210" y="908"/>
                  </a:cubicBezTo>
                  <a:cubicBezTo>
                    <a:pt x="191" y="892"/>
                    <a:pt x="179" y="845"/>
                    <a:pt x="153" y="832"/>
                  </a:cubicBezTo>
                  <a:cubicBezTo>
                    <a:pt x="127" y="820"/>
                    <a:pt x="78" y="862"/>
                    <a:pt x="53" y="834"/>
                  </a:cubicBezTo>
                  <a:cubicBezTo>
                    <a:pt x="28" y="806"/>
                    <a:pt x="15" y="722"/>
                    <a:pt x="8" y="664"/>
                  </a:cubicBezTo>
                  <a:cubicBezTo>
                    <a:pt x="0" y="608"/>
                    <a:pt x="13" y="546"/>
                    <a:pt x="14" y="493"/>
                  </a:cubicBezTo>
                  <a:cubicBezTo>
                    <a:pt x="14" y="441"/>
                    <a:pt x="2" y="392"/>
                    <a:pt x="11" y="351"/>
                  </a:cubicBezTo>
                  <a:cubicBezTo>
                    <a:pt x="20" y="310"/>
                    <a:pt x="51" y="267"/>
                    <a:pt x="73" y="250"/>
                  </a:cubicBezTo>
                  <a:cubicBezTo>
                    <a:pt x="94" y="235"/>
                    <a:pt x="121" y="258"/>
                    <a:pt x="133" y="245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3689400">
              <a:off x="7243560" y="2795040"/>
              <a:ext cx="155880" cy="441360"/>
            </a:xfrm>
            <a:custGeom>
              <a:avLst/>
              <a:gdLst/>
              <a:ahLst/>
              <a:rect l="l" t="t" r="r" b="b"/>
              <a:pathLst>
                <a:path w="307" h="866">
                  <a:moveTo>
                    <a:pt x="116" y="222"/>
                  </a:moveTo>
                  <a:cubicBezTo>
                    <a:pt x="126" y="212"/>
                    <a:pt x="113" y="197"/>
                    <a:pt x="119" y="164"/>
                  </a:cubicBezTo>
                  <a:cubicBezTo>
                    <a:pt x="126" y="135"/>
                    <a:pt x="140" y="55"/>
                    <a:pt x="152" y="28"/>
                  </a:cubicBezTo>
                  <a:cubicBezTo>
                    <a:pt x="164" y="1"/>
                    <a:pt x="175" y="4"/>
                    <a:pt x="194" y="2"/>
                  </a:cubicBezTo>
                  <a:cubicBezTo>
                    <a:pt x="214" y="0"/>
                    <a:pt x="247" y="3"/>
                    <a:pt x="265" y="17"/>
                  </a:cubicBezTo>
                  <a:cubicBezTo>
                    <a:pt x="283" y="32"/>
                    <a:pt x="304" y="55"/>
                    <a:pt x="305" y="91"/>
                  </a:cubicBezTo>
                  <a:cubicBezTo>
                    <a:pt x="307" y="126"/>
                    <a:pt x="283" y="162"/>
                    <a:pt x="274" y="227"/>
                  </a:cubicBezTo>
                  <a:cubicBezTo>
                    <a:pt x="265" y="292"/>
                    <a:pt x="258" y="407"/>
                    <a:pt x="253" y="484"/>
                  </a:cubicBezTo>
                  <a:cubicBezTo>
                    <a:pt x="248" y="562"/>
                    <a:pt x="244" y="635"/>
                    <a:pt x="240" y="695"/>
                  </a:cubicBezTo>
                  <a:cubicBezTo>
                    <a:pt x="236" y="755"/>
                    <a:pt x="238" y="824"/>
                    <a:pt x="229" y="845"/>
                  </a:cubicBezTo>
                  <a:cubicBezTo>
                    <a:pt x="220" y="866"/>
                    <a:pt x="199" y="837"/>
                    <a:pt x="183" y="822"/>
                  </a:cubicBezTo>
                  <a:cubicBezTo>
                    <a:pt x="167" y="808"/>
                    <a:pt x="156" y="765"/>
                    <a:pt x="133" y="753"/>
                  </a:cubicBezTo>
                  <a:cubicBezTo>
                    <a:pt x="111" y="743"/>
                    <a:pt x="68" y="781"/>
                    <a:pt x="46" y="755"/>
                  </a:cubicBezTo>
                  <a:cubicBezTo>
                    <a:pt x="24" y="730"/>
                    <a:pt x="13" y="654"/>
                    <a:pt x="7" y="601"/>
                  </a:cubicBezTo>
                  <a:cubicBezTo>
                    <a:pt x="0" y="551"/>
                    <a:pt x="11" y="494"/>
                    <a:pt x="12" y="446"/>
                  </a:cubicBezTo>
                  <a:cubicBezTo>
                    <a:pt x="12" y="399"/>
                    <a:pt x="2" y="355"/>
                    <a:pt x="10" y="318"/>
                  </a:cubicBezTo>
                  <a:cubicBezTo>
                    <a:pt x="17" y="281"/>
                    <a:pt x="44" y="242"/>
                    <a:pt x="64" y="226"/>
                  </a:cubicBezTo>
                  <a:cubicBezTo>
                    <a:pt x="82" y="213"/>
                    <a:pt x="106" y="234"/>
                    <a:pt x="116" y="22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3689400">
              <a:off x="6711120" y="3218400"/>
              <a:ext cx="270000" cy="862200"/>
            </a:xfrm>
            <a:custGeom>
              <a:avLst/>
              <a:gdLst/>
              <a:ahLst/>
              <a:rect l="l" t="t" r="r" b="b"/>
              <a:pathLst>
                <a:path w="531" h="1697">
                  <a:moveTo>
                    <a:pt x="102" y="50"/>
                  </a:moveTo>
                  <a:cubicBezTo>
                    <a:pt x="142" y="100"/>
                    <a:pt x="218" y="244"/>
                    <a:pt x="267" y="357"/>
                  </a:cubicBezTo>
                  <a:cubicBezTo>
                    <a:pt x="316" y="470"/>
                    <a:pt x="359" y="608"/>
                    <a:pt x="394" y="725"/>
                  </a:cubicBezTo>
                  <a:cubicBezTo>
                    <a:pt x="429" y="842"/>
                    <a:pt x="457" y="966"/>
                    <a:pt x="477" y="1062"/>
                  </a:cubicBezTo>
                  <a:cubicBezTo>
                    <a:pt x="497" y="1158"/>
                    <a:pt x="507" y="1222"/>
                    <a:pt x="514" y="1302"/>
                  </a:cubicBezTo>
                  <a:cubicBezTo>
                    <a:pt x="521" y="1382"/>
                    <a:pt x="531" y="1485"/>
                    <a:pt x="522" y="1542"/>
                  </a:cubicBezTo>
                  <a:cubicBezTo>
                    <a:pt x="513" y="1599"/>
                    <a:pt x="479" y="1697"/>
                    <a:pt x="462" y="1647"/>
                  </a:cubicBezTo>
                  <a:cubicBezTo>
                    <a:pt x="445" y="1597"/>
                    <a:pt x="436" y="1371"/>
                    <a:pt x="417" y="1242"/>
                  </a:cubicBezTo>
                  <a:cubicBezTo>
                    <a:pt x="398" y="1113"/>
                    <a:pt x="380" y="996"/>
                    <a:pt x="349" y="875"/>
                  </a:cubicBezTo>
                  <a:cubicBezTo>
                    <a:pt x="318" y="754"/>
                    <a:pt x="264" y="605"/>
                    <a:pt x="229" y="515"/>
                  </a:cubicBezTo>
                  <a:cubicBezTo>
                    <a:pt x="194" y="425"/>
                    <a:pt x="174" y="396"/>
                    <a:pt x="139" y="335"/>
                  </a:cubicBezTo>
                  <a:cubicBezTo>
                    <a:pt x="104" y="274"/>
                    <a:pt x="38" y="193"/>
                    <a:pt x="19" y="147"/>
                  </a:cubicBezTo>
                  <a:cubicBezTo>
                    <a:pt x="0" y="101"/>
                    <a:pt x="15" y="72"/>
                    <a:pt x="27" y="57"/>
                  </a:cubicBezTo>
                  <a:cubicBezTo>
                    <a:pt x="39" y="42"/>
                    <a:pt x="62" y="0"/>
                    <a:pt x="102" y="50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3689400">
              <a:off x="6609240" y="3035880"/>
              <a:ext cx="281160" cy="1055520"/>
            </a:xfrm>
            <a:custGeom>
              <a:avLst/>
              <a:gdLst/>
              <a:ahLst/>
              <a:rect l="l" t="t" r="r" b="b"/>
              <a:pathLst>
                <a:path w="553" h="2081">
                  <a:moveTo>
                    <a:pt x="504" y="2023"/>
                  </a:moveTo>
                  <a:cubicBezTo>
                    <a:pt x="511" y="1998"/>
                    <a:pt x="528" y="2012"/>
                    <a:pt x="534" y="1925"/>
                  </a:cubicBezTo>
                  <a:cubicBezTo>
                    <a:pt x="540" y="1838"/>
                    <a:pt x="553" y="1645"/>
                    <a:pt x="542" y="1498"/>
                  </a:cubicBezTo>
                  <a:cubicBezTo>
                    <a:pt x="531" y="1351"/>
                    <a:pt x="508" y="1195"/>
                    <a:pt x="467" y="1040"/>
                  </a:cubicBezTo>
                  <a:cubicBezTo>
                    <a:pt x="426" y="885"/>
                    <a:pt x="339" y="698"/>
                    <a:pt x="294" y="568"/>
                  </a:cubicBezTo>
                  <a:cubicBezTo>
                    <a:pt x="249" y="438"/>
                    <a:pt x="217" y="339"/>
                    <a:pt x="197" y="260"/>
                  </a:cubicBezTo>
                  <a:cubicBezTo>
                    <a:pt x="177" y="181"/>
                    <a:pt x="188" y="132"/>
                    <a:pt x="174" y="95"/>
                  </a:cubicBezTo>
                  <a:cubicBezTo>
                    <a:pt x="160" y="58"/>
                    <a:pt x="138" y="51"/>
                    <a:pt x="111" y="38"/>
                  </a:cubicBezTo>
                  <a:cubicBezTo>
                    <a:pt x="84" y="25"/>
                    <a:pt x="28" y="0"/>
                    <a:pt x="14" y="16"/>
                  </a:cubicBezTo>
                  <a:cubicBezTo>
                    <a:pt x="0" y="32"/>
                    <a:pt x="4" y="75"/>
                    <a:pt x="24" y="133"/>
                  </a:cubicBezTo>
                  <a:cubicBezTo>
                    <a:pt x="44" y="191"/>
                    <a:pt x="101" y="275"/>
                    <a:pt x="137" y="365"/>
                  </a:cubicBezTo>
                  <a:cubicBezTo>
                    <a:pt x="173" y="455"/>
                    <a:pt x="203" y="551"/>
                    <a:pt x="242" y="673"/>
                  </a:cubicBezTo>
                  <a:cubicBezTo>
                    <a:pt x="281" y="795"/>
                    <a:pt x="342" y="982"/>
                    <a:pt x="369" y="1100"/>
                  </a:cubicBezTo>
                  <a:cubicBezTo>
                    <a:pt x="396" y="1218"/>
                    <a:pt x="400" y="1288"/>
                    <a:pt x="407" y="1385"/>
                  </a:cubicBezTo>
                  <a:cubicBezTo>
                    <a:pt x="414" y="1482"/>
                    <a:pt x="414" y="1598"/>
                    <a:pt x="414" y="1685"/>
                  </a:cubicBezTo>
                  <a:cubicBezTo>
                    <a:pt x="414" y="1772"/>
                    <a:pt x="407" y="1849"/>
                    <a:pt x="407" y="1910"/>
                  </a:cubicBezTo>
                  <a:cubicBezTo>
                    <a:pt x="407" y="1971"/>
                    <a:pt x="400" y="2026"/>
                    <a:pt x="414" y="2053"/>
                  </a:cubicBezTo>
                  <a:cubicBezTo>
                    <a:pt x="428" y="2080"/>
                    <a:pt x="473" y="2081"/>
                    <a:pt x="489" y="2075"/>
                  </a:cubicBezTo>
                  <a:cubicBezTo>
                    <a:pt x="505" y="2069"/>
                    <a:pt x="494" y="2044"/>
                    <a:pt x="504" y="2023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3689400">
              <a:off x="6497280" y="2784600"/>
              <a:ext cx="298440" cy="1333440"/>
            </a:xfrm>
            <a:custGeom>
              <a:avLst/>
              <a:gdLst/>
              <a:ahLst/>
              <a:rect l="l" t="t" r="r" b="b"/>
              <a:pathLst>
                <a:path w="590" h="2623">
                  <a:moveTo>
                    <a:pt x="590" y="2089"/>
                  </a:moveTo>
                  <a:cubicBezTo>
                    <a:pt x="586" y="2000"/>
                    <a:pt x="582" y="1784"/>
                    <a:pt x="575" y="1647"/>
                  </a:cubicBezTo>
                  <a:cubicBezTo>
                    <a:pt x="568" y="1510"/>
                    <a:pt x="561" y="1382"/>
                    <a:pt x="545" y="1264"/>
                  </a:cubicBezTo>
                  <a:cubicBezTo>
                    <a:pt x="529" y="1146"/>
                    <a:pt x="511" y="1061"/>
                    <a:pt x="477" y="942"/>
                  </a:cubicBezTo>
                  <a:cubicBezTo>
                    <a:pt x="443" y="823"/>
                    <a:pt x="376" y="652"/>
                    <a:pt x="342" y="552"/>
                  </a:cubicBezTo>
                  <a:cubicBezTo>
                    <a:pt x="308" y="452"/>
                    <a:pt x="289" y="409"/>
                    <a:pt x="275" y="342"/>
                  </a:cubicBezTo>
                  <a:cubicBezTo>
                    <a:pt x="261" y="275"/>
                    <a:pt x="289" y="193"/>
                    <a:pt x="260" y="147"/>
                  </a:cubicBezTo>
                  <a:cubicBezTo>
                    <a:pt x="231" y="101"/>
                    <a:pt x="133" y="88"/>
                    <a:pt x="102" y="64"/>
                  </a:cubicBezTo>
                  <a:cubicBezTo>
                    <a:pt x="71" y="40"/>
                    <a:pt x="87" y="0"/>
                    <a:pt x="72" y="4"/>
                  </a:cubicBezTo>
                  <a:cubicBezTo>
                    <a:pt x="57" y="8"/>
                    <a:pt x="0" y="31"/>
                    <a:pt x="12" y="87"/>
                  </a:cubicBezTo>
                  <a:cubicBezTo>
                    <a:pt x="24" y="143"/>
                    <a:pt x="108" y="255"/>
                    <a:pt x="147" y="342"/>
                  </a:cubicBezTo>
                  <a:cubicBezTo>
                    <a:pt x="186" y="429"/>
                    <a:pt x="209" y="512"/>
                    <a:pt x="245" y="612"/>
                  </a:cubicBezTo>
                  <a:cubicBezTo>
                    <a:pt x="281" y="712"/>
                    <a:pt x="333" y="817"/>
                    <a:pt x="365" y="942"/>
                  </a:cubicBezTo>
                  <a:cubicBezTo>
                    <a:pt x="397" y="1067"/>
                    <a:pt x="425" y="1233"/>
                    <a:pt x="440" y="1362"/>
                  </a:cubicBezTo>
                  <a:cubicBezTo>
                    <a:pt x="455" y="1491"/>
                    <a:pt x="452" y="1594"/>
                    <a:pt x="455" y="1714"/>
                  </a:cubicBezTo>
                  <a:cubicBezTo>
                    <a:pt x="458" y="1834"/>
                    <a:pt x="459" y="1967"/>
                    <a:pt x="455" y="2082"/>
                  </a:cubicBezTo>
                  <a:cubicBezTo>
                    <a:pt x="451" y="2197"/>
                    <a:pt x="438" y="2328"/>
                    <a:pt x="432" y="2404"/>
                  </a:cubicBezTo>
                  <a:cubicBezTo>
                    <a:pt x="426" y="2480"/>
                    <a:pt x="417" y="2503"/>
                    <a:pt x="417" y="2539"/>
                  </a:cubicBezTo>
                  <a:cubicBezTo>
                    <a:pt x="417" y="2575"/>
                    <a:pt x="417" y="2621"/>
                    <a:pt x="432" y="2622"/>
                  </a:cubicBezTo>
                  <a:cubicBezTo>
                    <a:pt x="447" y="2623"/>
                    <a:pt x="487" y="2582"/>
                    <a:pt x="507" y="2547"/>
                  </a:cubicBezTo>
                  <a:cubicBezTo>
                    <a:pt x="527" y="2512"/>
                    <a:pt x="543" y="2434"/>
                    <a:pt x="552" y="2412"/>
                  </a:cubicBezTo>
                  <a:cubicBezTo>
                    <a:pt x="561" y="2390"/>
                    <a:pt x="555" y="2452"/>
                    <a:pt x="560" y="2412"/>
                  </a:cubicBezTo>
                  <a:cubicBezTo>
                    <a:pt x="565" y="2372"/>
                    <a:pt x="577" y="2226"/>
                    <a:pt x="582" y="2172"/>
                  </a:cubicBezTo>
                  <a:cubicBezTo>
                    <a:pt x="587" y="2118"/>
                    <a:pt x="588" y="2106"/>
                    <a:pt x="590" y="2089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1845000">
              <a:off x="7005240" y="4736520"/>
              <a:ext cx="457200" cy="177840"/>
            </a:xfrm>
            <a:custGeom>
              <a:avLst/>
              <a:gdLst/>
              <a:ahLst/>
              <a:rect l="l" t="t" r="r" b="b"/>
              <a:pathLst>
                <a:path w="4513" h="1742">
                  <a:moveTo>
                    <a:pt x="93" y="1357"/>
                  </a:moveTo>
                  <a:cubicBezTo>
                    <a:pt x="303" y="1287"/>
                    <a:pt x="893" y="1312"/>
                    <a:pt x="1233" y="1162"/>
                  </a:cubicBezTo>
                  <a:cubicBezTo>
                    <a:pt x="1573" y="1012"/>
                    <a:pt x="1931" y="649"/>
                    <a:pt x="2133" y="457"/>
                  </a:cubicBezTo>
                  <a:cubicBezTo>
                    <a:pt x="2335" y="265"/>
                    <a:pt x="2298" y="0"/>
                    <a:pt x="2448" y="7"/>
                  </a:cubicBezTo>
                  <a:cubicBezTo>
                    <a:pt x="2598" y="14"/>
                    <a:pt x="2881" y="382"/>
                    <a:pt x="3033" y="502"/>
                  </a:cubicBezTo>
                  <a:cubicBezTo>
                    <a:pt x="3185" y="622"/>
                    <a:pt x="3218" y="684"/>
                    <a:pt x="3363" y="727"/>
                  </a:cubicBezTo>
                  <a:cubicBezTo>
                    <a:pt x="3508" y="770"/>
                    <a:pt x="3743" y="720"/>
                    <a:pt x="3903" y="757"/>
                  </a:cubicBezTo>
                  <a:cubicBezTo>
                    <a:pt x="4063" y="794"/>
                    <a:pt x="4228" y="862"/>
                    <a:pt x="4323" y="952"/>
                  </a:cubicBezTo>
                  <a:cubicBezTo>
                    <a:pt x="4418" y="1042"/>
                    <a:pt x="4513" y="1197"/>
                    <a:pt x="4473" y="1297"/>
                  </a:cubicBezTo>
                  <a:cubicBezTo>
                    <a:pt x="4433" y="1397"/>
                    <a:pt x="4308" y="1550"/>
                    <a:pt x="4083" y="1552"/>
                  </a:cubicBezTo>
                  <a:cubicBezTo>
                    <a:pt x="3858" y="1554"/>
                    <a:pt x="3390" y="1402"/>
                    <a:pt x="3123" y="1312"/>
                  </a:cubicBezTo>
                  <a:cubicBezTo>
                    <a:pt x="2856" y="1222"/>
                    <a:pt x="2733" y="990"/>
                    <a:pt x="2478" y="1012"/>
                  </a:cubicBezTo>
                  <a:cubicBezTo>
                    <a:pt x="2223" y="1034"/>
                    <a:pt x="1943" y="1330"/>
                    <a:pt x="1593" y="1447"/>
                  </a:cubicBezTo>
                  <a:cubicBezTo>
                    <a:pt x="1243" y="1564"/>
                    <a:pt x="635" y="1692"/>
                    <a:pt x="378" y="1717"/>
                  </a:cubicBezTo>
                  <a:cubicBezTo>
                    <a:pt x="121" y="1742"/>
                    <a:pt x="96" y="1657"/>
                    <a:pt x="48" y="1597"/>
                  </a:cubicBezTo>
                  <a:cubicBezTo>
                    <a:pt x="0" y="1537"/>
                    <a:pt x="84" y="1407"/>
                    <a:pt x="93" y="1357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4362600">
              <a:off x="7036200" y="4711320"/>
              <a:ext cx="457200" cy="177840"/>
            </a:xfrm>
            <a:custGeom>
              <a:avLst/>
              <a:gdLst/>
              <a:ahLst/>
              <a:rect l="l" t="t" r="r" b="b"/>
              <a:pathLst>
                <a:path w="4513" h="1742">
                  <a:moveTo>
                    <a:pt x="93" y="1357"/>
                  </a:moveTo>
                  <a:cubicBezTo>
                    <a:pt x="303" y="1287"/>
                    <a:pt x="893" y="1312"/>
                    <a:pt x="1233" y="1162"/>
                  </a:cubicBezTo>
                  <a:cubicBezTo>
                    <a:pt x="1573" y="1012"/>
                    <a:pt x="1931" y="649"/>
                    <a:pt x="2133" y="457"/>
                  </a:cubicBezTo>
                  <a:cubicBezTo>
                    <a:pt x="2335" y="265"/>
                    <a:pt x="2298" y="0"/>
                    <a:pt x="2448" y="7"/>
                  </a:cubicBezTo>
                  <a:cubicBezTo>
                    <a:pt x="2598" y="14"/>
                    <a:pt x="2881" y="382"/>
                    <a:pt x="3033" y="502"/>
                  </a:cubicBezTo>
                  <a:cubicBezTo>
                    <a:pt x="3185" y="622"/>
                    <a:pt x="3218" y="684"/>
                    <a:pt x="3363" y="727"/>
                  </a:cubicBezTo>
                  <a:cubicBezTo>
                    <a:pt x="3508" y="770"/>
                    <a:pt x="3743" y="720"/>
                    <a:pt x="3903" y="757"/>
                  </a:cubicBezTo>
                  <a:cubicBezTo>
                    <a:pt x="4063" y="794"/>
                    <a:pt x="4228" y="862"/>
                    <a:pt x="4323" y="952"/>
                  </a:cubicBezTo>
                  <a:cubicBezTo>
                    <a:pt x="4418" y="1042"/>
                    <a:pt x="4513" y="1197"/>
                    <a:pt x="4473" y="1297"/>
                  </a:cubicBezTo>
                  <a:cubicBezTo>
                    <a:pt x="4433" y="1397"/>
                    <a:pt x="4308" y="1550"/>
                    <a:pt x="4083" y="1552"/>
                  </a:cubicBezTo>
                  <a:cubicBezTo>
                    <a:pt x="3858" y="1554"/>
                    <a:pt x="3390" y="1402"/>
                    <a:pt x="3123" y="1312"/>
                  </a:cubicBezTo>
                  <a:cubicBezTo>
                    <a:pt x="2856" y="1222"/>
                    <a:pt x="2733" y="990"/>
                    <a:pt x="2478" y="1012"/>
                  </a:cubicBezTo>
                  <a:cubicBezTo>
                    <a:pt x="2223" y="1034"/>
                    <a:pt x="1943" y="1330"/>
                    <a:pt x="1593" y="1447"/>
                  </a:cubicBezTo>
                  <a:cubicBezTo>
                    <a:pt x="1243" y="1564"/>
                    <a:pt x="635" y="1692"/>
                    <a:pt x="378" y="1717"/>
                  </a:cubicBezTo>
                  <a:cubicBezTo>
                    <a:pt x="121" y="1742"/>
                    <a:pt x="96" y="1657"/>
                    <a:pt x="48" y="1597"/>
                  </a:cubicBezTo>
                  <a:cubicBezTo>
                    <a:pt x="0" y="1537"/>
                    <a:pt x="84" y="1407"/>
                    <a:pt x="93" y="1357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1298400">
              <a:off x="5614560" y="2766960"/>
              <a:ext cx="3605400" cy="3876840"/>
            </a:xfrm>
            <a:custGeom>
              <a:avLst/>
              <a:gdLst/>
              <a:ahLst/>
              <a:rect l="l" t="t" r="r" b="b"/>
              <a:pathLst>
                <a:path w="2349" h="2526">
                  <a:moveTo>
                    <a:pt x="0" y="1209"/>
                  </a:moveTo>
                  <a:cubicBezTo>
                    <a:pt x="37" y="1223"/>
                    <a:pt x="133" y="1256"/>
                    <a:pt x="237" y="1296"/>
                  </a:cubicBezTo>
                  <a:cubicBezTo>
                    <a:pt x="341" y="1336"/>
                    <a:pt x="489" y="1402"/>
                    <a:pt x="624" y="1452"/>
                  </a:cubicBezTo>
                  <a:cubicBezTo>
                    <a:pt x="758" y="1502"/>
                    <a:pt x="912" y="1553"/>
                    <a:pt x="1045" y="1596"/>
                  </a:cubicBezTo>
                  <a:cubicBezTo>
                    <a:pt x="1177" y="1638"/>
                    <a:pt x="1339" y="1659"/>
                    <a:pt x="1418" y="1707"/>
                  </a:cubicBezTo>
                  <a:cubicBezTo>
                    <a:pt x="1497" y="1756"/>
                    <a:pt x="1517" y="1798"/>
                    <a:pt x="1521" y="1884"/>
                  </a:cubicBezTo>
                  <a:cubicBezTo>
                    <a:pt x="1524" y="1970"/>
                    <a:pt x="1465" y="2136"/>
                    <a:pt x="1447" y="2222"/>
                  </a:cubicBezTo>
                  <a:cubicBezTo>
                    <a:pt x="1428" y="2309"/>
                    <a:pt x="1411" y="2351"/>
                    <a:pt x="1409" y="2401"/>
                  </a:cubicBezTo>
                  <a:cubicBezTo>
                    <a:pt x="1407" y="2452"/>
                    <a:pt x="1416" y="2526"/>
                    <a:pt x="1437" y="2525"/>
                  </a:cubicBezTo>
                  <a:cubicBezTo>
                    <a:pt x="1459" y="2524"/>
                    <a:pt x="1511" y="2442"/>
                    <a:pt x="1538" y="2397"/>
                  </a:cubicBezTo>
                  <a:cubicBezTo>
                    <a:pt x="1566" y="2351"/>
                    <a:pt x="1578" y="2297"/>
                    <a:pt x="1603" y="2251"/>
                  </a:cubicBezTo>
                  <a:cubicBezTo>
                    <a:pt x="1628" y="2204"/>
                    <a:pt x="1647" y="2182"/>
                    <a:pt x="1691" y="2118"/>
                  </a:cubicBezTo>
                  <a:cubicBezTo>
                    <a:pt x="1735" y="2055"/>
                    <a:pt x="1829" y="1928"/>
                    <a:pt x="1865" y="1871"/>
                  </a:cubicBezTo>
                  <a:cubicBezTo>
                    <a:pt x="1900" y="1813"/>
                    <a:pt x="1907" y="1805"/>
                    <a:pt x="1905" y="1772"/>
                  </a:cubicBezTo>
                  <a:cubicBezTo>
                    <a:pt x="1903" y="1739"/>
                    <a:pt x="1854" y="1680"/>
                    <a:pt x="1855" y="1672"/>
                  </a:cubicBezTo>
                  <a:cubicBezTo>
                    <a:pt x="1857" y="1664"/>
                    <a:pt x="1873" y="1743"/>
                    <a:pt x="1914" y="1721"/>
                  </a:cubicBezTo>
                  <a:cubicBezTo>
                    <a:pt x="1956" y="1701"/>
                    <a:pt x="2050" y="1580"/>
                    <a:pt x="2103" y="1545"/>
                  </a:cubicBezTo>
                  <a:cubicBezTo>
                    <a:pt x="2156" y="1511"/>
                    <a:pt x="2190" y="1524"/>
                    <a:pt x="2231" y="1512"/>
                  </a:cubicBezTo>
                  <a:cubicBezTo>
                    <a:pt x="2271" y="1498"/>
                    <a:pt x="2342" y="1484"/>
                    <a:pt x="2345" y="1464"/>
                  </a:cubicBezTo>
                  <a:cubicBezTo>
                    <a:pt x="2349" y="1446"/>
                    <a:pt x="2297" y="1406"/>
                    <a:pt x="2253" y="1395"/>
                  </a:cubicBezTo>
                  <a:cubicBezTo>
                    <a:pt x="2209" y="1385"/>
                    <a:pt x="2139" y="1384"/>
                    <a:pt x="2080" y="1402"/>
                  </a:cubicBezTo>
                  <a:cubicBezTo>
                    <a:pt x="2023" y="1421"/>
                    <a:pt x="1954" y="1493"/>
                    <a:pt x="1899" y="1510"/>
                  </a:cubicBezTo>
                  <a:cubicBezTo>
                    <a:pt x="1845" y="1526"/>
                    <a:pt x="1799" y="1541"/>
                    <a:pt x="1754" y="1504"/>
                  </a:cubicBezTo>
                  <a:cubicBezTo>
                    <a:pt x="1710" y="1468"/>
                    <a:pt x="1675" y="1360"/>
                    <a:pt x="1631" y="1293"/>
                  </a:cubicBezTo>
                  <a:cubicBezTo>
                    <a:pt x="1586" y="1226"/>
                    <a:pt x="1536" y="1182"/>
                    <a:pt x="1491" y="1102"/>
                  </a:cubicBezTo>
                  <a:cubicBezTo>
                    <a:pt x="1444" y="1022"/>
                    <a:pt x="1394" y="891"/>
                    <a:pt x="1356" y="814"/>
                  </a:cubicBezTo>
                  <a:cubicBezTo>
                    <a:pt x="1319" y="737"/>
                    <a:pt x="1303" y="712"/>
                    <a:pt x="1267" y="641"/>
                  </a:cubicBezTo>
                  <a:cubicBezTo>
                    <a:pt x="1232" y="569"/>
                    <a:pt x="1185" y="462"/>
                    <a:pt x="1145" y="388"/>
                  </a:cubicBezTo>
                  <a:cubicBezTo>
                    <a:pt x="1106" y="314"/>
                    <a:pt x="1074" y="263"/>
                    <a:pt x="1028" y="199"/>
                  </a:cubicBezTo>
                  <a:cubicBezTo>
                    <a:pt x="983" y="135"/>
                    <a:pt x="926" y="66"/>
                    <a:pt x="870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1298400">
              <a:off x="6887880" y="4519440"/>
              <a:ext cx="642960" cy="6177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268200" y="2014560"/>
            <a:ext cx="804960" cy="48240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331920" y="4687920"/>
            <a:ext cx="804600" cy="48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129960"/>
            <a:ext cx="9144000" cy="91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cc"/>
                </a:solidFill>
                <a:latin typeface="Eras Bold ITC"/>
              </a:rPr>
              <a:t>3 COMPARATIVE ANATOMY</a:t>
            </a: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44520" y="1695600"/>
            <a:ext cx="69120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Vestigial structures show: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152000" y="2734920"/>
            <a:ext cx="551844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an organism’s evolutionary past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a common ancestor with species that have similar structures that are still functioning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5210640" y="2134440"/>
            <a:ext cx="4262040" cy="4478400"/>
            <a:chOff x="5210640" y="2134440"/>
            <a:chExt cx="4262040" cy="4478400"/>
          </a:xfrm>
        </p:grpSpPr>
        <p:sp>
          <p:nvSpPr>
            <p:cNvPr id="508" name=""/>
            <p:cNvSpPr/>
            <p:nvPr/>
          </p:nvSpPr>
          <p:spPr>
            <a:xfrm rot="2876400">
              <a:off x="7520400" y="4321080"/>
              <a:ext cx="110880" cy="37764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36" y="81"/>
                  </a:moveTo>
                  <a:cubicBezTo>
                    <a:pt x="42" y="76"/>
                    <a:pt x="52" y="77"/>
                    <a:pt x="57" y="70"/>
                  </a:cubicBezTo>
                  <a:cubicBezTo>
                    <a:pt x="63" y="62"/>
                    <a:pt x="66" y="46"/>
                    <a:pt x="70" y="35"/>
                  </a:cubicBezTo>
                  <a:cubicBezTo>
                    <a:pt x="73" y="24"/>
                    <a:pt x="76" y="8"/>
                    <a:pt x="82" y="4"/>
                  </a:cubicBezTo>
                  <a:cubicBezTo>
                    <a:pt x="87" y="0"/>
                    <a:pt x="94" y="5"/>
                    <a:pt x="100" y="12"/>
                  </a:cubicBezTo>
                  <a:cubicBezTo>
                    <a:pt x="106" y="18"/>
                    <a:pt x="118" y="27"/>
                    <a:pt x="117" y="43"/>
                  </a:cubicBezTo>
                  <a:cubicBezTo>
                    <a:pt x="116" y="58"/>
                    <a:pt x="98" y="76"/>
                    <a:pt x="94" y="104"/>
                  </a:cubicBezTo>
                  <a:cubicBezTo>
                    <a:pt x="90" y="132"/>
                    <a:pt x="95" y="178"/>
                    <a:pt x="93" y="211"/>
                  </a:cubicBezTo>
                  <a:cubicBezTo>
                    <a:pt x="90" y="243"/>
                    <a:pt x="87" y="274"/>
                    <a:pt x="82" y="297"/>
                  </a:cubicBezTo>
                  <a:cubicBezTo>
                    <a:pt x="77" y="320"/>
                    <a:pt x="71" y="344"/>
                    <a:pt x="63" y="349"/>
                  </a:cubicBezTo>
                  <a:cubicBezTo>
                    <a:pt x="55" y="354"/>
                    <a:pt x="45" y="332"/>
                    <a:pt x="35" y="328"/>
                  </a:cubicBezTo>
                  <a:cubicBezTo>
                    <a:pt x="25" y="324"/>
                    <a:pt x="10" y="334"/>
                    <a:pt x="5" y="323"/>
                  </a:cubicBezTo>
                  <a:cubicBezTo>
                    <a:pt x="0" y="312"/>
                    <a:pt x="4" y="284"/>
                    <a:pt x="5" y="263"/>
                  </a:cubicBezTo>
                  <a:cubicBezTo>
                    <a:pt x="6" y="244"/>
                    <a:pt x="9" y="231"/>
                    <a:pt x="11" y="204"/>
                  </a:cubicBezTo>
                  <a:cubicBezTo>
                    <a:pt x="13" y="177"/>
                    <a:pt x="16" y="124"/>
                    <a:pt x="20" y="104"/>
                  </a:cubicBezTo>
                  <a:cubicBezTo>
                    <a:pt x="24" y="83"/>
                    <a:pt x="30" y="87"/>
                    <a:pt x="36" y="8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2876400">
              <a:off x="7552080" y="4406400"/>
              <a:ext cx="120240" cy="37116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36" y="81"/>
                  </a:moveTo>
                  <a:cubicBezTo>
                    <a:pt x="42" y="76"/>
                    <a:pt x="52" y="77"/>
                    <a:pt x="57" y="70"/>
                  </a:cubicBezTo>
                  <a:cubicBezTo>
                    <a:pt x="63" y="62"/>
                    <a:pt x="66" y="46"/>
                    <a:pt x="70" y="35"/>
                  </a:cubicBezTo>
                  <a:cubicBezTo>
                    <a:pt x="73" y="24"/>
                    <a:pt x="76" y="8"/>
                    <a:pt x="82" y="4"/>
                  </a:cubicBezTo>
                  <a:cubicBezTo>
                    <a:pt x="87" y="0"/>
                    <a:pt x="94" y="5"/>
                    <a:pt x="100" y="12"/>
                  </a:cubicBezTo>
                  <a:cubicBezTo>
                    <a:pt x="106" y="18"/>
                    <a:pt x="118" y="27"/>
                    <a:pt x="117" y="43"/>
                  </a:cubicBezTo>
                  <a:cubicBezTo>
                    <a:pt x="116" y="58"/>
                    <a:pt x="98" y="76"/>
                    <a:pt x="94" y="104"/>
                  </a:cubicBezTo>
                  <a:cubicBezTo>
                    <a:pt x="90" y="132"/>
                    <a:pt x="95" y="178"/>
                    <a:pt x="93" y="211"/>
                  </a:cubicBezTo>
                  <a:cubicBezTo>
                    <a:pt x="90" y="243"/>
                    <a:pt x="87" y="274"/>
                    <a:pt x="82" y="297"/>
                  </a:cubicBezTo>
                  <a:cubicBezTo>
                    <a:pt x="77" y="320"/>
                    <a:pt x="71" y="344"/>
                    <a:pt x="63" y="349"/>
                  </a:cubicBezTo>
                  <a:cubicBezTo>
                    <a:pt x="55" y="354"/>
                    <a:pt x="45" y="332"/>
                    <a:pt x="35" y="328"/>
                  </a:cubicBezTo>
                  <a:cubicBezTo>
                    <a:pt x="25" y="324"/>
                    <a:pt x="10" y="334"/>
                    <a:pt x="5" y="323"/>
                  </a:cubicBezTo>
                  <a:cubicBezTo>
                    <a:pt x="0" y="312"/>
                    <a:pt x="4" y="284"/>
                    <a:pt x="5" y="263"/>
                  </a:cubicBezTo>
                  <a:cubicBezTo>
                    <a:pt x="6" y="244"/>
                    <a:pt x="9" y="231"/>
                    <a:pt x="11" y="204"/>
                  </a:cubicBezTo>
                  <a:cubicBezTo>
                    <a:pt x="13" y="177"/>
                    <a:pt x="16" y="124"/>
                    <a:pt x="20" y="104"/>
                  </a:cubicBezTo>
                  <a:cubicBezTo>
                    <a:pt x="24" y="83"/>
                    <a:pt x="30" y="87"/>
                    <a:pt x="36" y="8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2876400">
              <a:off x="7598520" y="4491720"/>
              <a:ext cx="107640" cy="33768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36" y="81"/>
                  </a:moveTo>
                  <a:cubicBezTo>
                    <a:pt x="42" y="76"/>
                    <a:pt x="52" y="77"/>
                    <a:pt x="57" y="70"/>
                  </a:cubicBezTo>
                  <a:cubicBezTo>
                    <a:pt x="63" y="62"/>
                    <a:pt x="66" y="46"/>
                    <a:pt x="70" y="35"/>
                  </a:cubicBezTo>
                  <a:cubicBezTo>
                    <a:pt x="73" y="24"/>
                    <a:pt x="76" y="8"/>
                    <a:pt x="82" y="4"/>
                  </a:cubicBezTo>
                  <a:cubicBezTo>
                    <a:pt x="87" y="0"/>
                    <a:pt x="94" y="5"/>
                    <a:pt x="100" y="12"/>
                  </a:cubicBezTo>
                  <a:cubicBezTo>
                    <a:pt x="106" y="18"/>
                    <a:pt x="118" y="27"/>
                    <a:pt x="117" y="43"/>
                  </a:cubicBezTo>
                  <a:cubicBezTo>
                    <a:pt x="116" y="58"/>
                    <a:pt x="98" y="76"/>
                    <a:pt x="94" y="104"/>
                  </a:cubicBezTo>
                  <a:cubicBezTo>
                    <a:pt x="90" y="132"/>
                    <a:pt x="95" y="178"/>
                    <a:pt x="93" y="211"/>
                  </a:cubicBezTo>
                  <a:cubicBezTo>
                    <a:pt x="90" y="243"/>
                    <a:pt x="87" y="274"/>
                    <a:pt x="82" y="297"/>
                  </a:cubicBezTo>
                  <a:cubicBezTo>
                    <a:pt x="77" y="320"/>
                    <a:pt x="71" y="344"/>
                    <a:pt x="63" y="349"/>
                  </a:cubicBezTo>
                  <a:cubicBezTo>
                    <a:pt x="55" y="354"/>
                    <a:pt x="45" y="332"/>
                    <a:pt x="35" y="328"/>
                  </a:cubicBezTo>
                  <a:cubicBezTo>
                    <a:pt x="25" y="324"/>
                    <a:pt x="10" y="334"/>
                    <a:pt x="5" y="323"/>
                  </a:cubicBezTo>
                  <a:cubicBezTo>
                    <a:pt x="0" y="312"/>
                    <a:pt x="4" y="284"/>
                    <a:pt x="5" y="263"/>
                  </a:cubicBezTo>
                  <a:cubicBezTo>
                    <a:pt x="6" y="244"/>
                    <a:pt x="9" y="231"/>
                    <a:pt x="11" y="204"/>
                  </a:cubicBezTo>
                  <a:cubicBezTo>
                    <a:pt x="13" y="177"/>
                    <a:pt x="16" y="124"/>
                    <a:pt x="20" y="104"/>
                  </a:cubicBezTo>
                  <a:cubicBezTo>
                    <a:pt x="24" y="83"/>
                    <a:pt x="30" y="87"/>
                    <a:pt x="36" y="8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2876400">
              <a:off x="7642800" y="4551120"/>
              <a:ext cx="101160" cy="32040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36" y="81"/>
                  </a:moveTo>
                  <a:cubicBezTo>
                    <a:pt x="42" y="76"/>
                    <a:pt x="52" y="77"/>
                    <a:pt x="57" y="70"/>
                  </a:cubicBezTo>
                  <a:cubicBezTo>
                    <a:pt x="63" y="62"/>
                    <a:pt x="66" y="46"/>
                    <a:pt x="70" y="35"/>
                  </a:cubicBezTo>
                  <a:cubicBezTo>
                    <a:pt x="73" y="24"/>
                    <a:pt x="76" y="8"/>
                    <a:pt x="82" y="4"/>
                  </a:cubicBezTo>
                  <a:cubicBezTo>
                    <a:pt x="87" y="0"/>
                    <a:pt x="94" y="5"/>
                    <a:pt x="100" y="12"/>
                  </a:cubicBezTo>
                  <a:cubicBezTo>
                    <a:pt x="106" y="18"/>
                    <a:pt x="118" y="27"/>
                    <a:pt x="117" y="43"/>
                  </a:cubicBezTo>
                  <a:cubicBezTo>
                    <a:pt x="116" y="58"/>
                    <a:pt x="98" y="76"/>
                    <a:pt x="94" y="104"/>
                  </a:cubicBezTo>
                  <a:cubicBezTo>
                    <a:pt x="90" y="132"/>
                    <a:pt x="95" y="178"/>
                    <a:pt x="93" y="211"/>
                  </a:cubicBezTo>
                  <a:cubicBezTo>
                    <a:pt x="90" y="243"/>
                    <a:pt x="87" y="274"/>
                    <a:pt x="82" y="297"/>
                  </a:cubicBezTo>
                  <a:cubicBezTo>
                    <a:pt x="77" y="320"/>
                    <a:pt x="71" y="344"/>
                    <a:pt x="63" y="349"/>
                  </a:cubicBezTo>
                  <a:cubicBezTo>
                    <a:pt x="55" y="354"/>
                    <a:pt x="45" y="332"/>
                    <a:pt x="35" y="328"/>
                  </a:cubicBezTo>
                  <a:cubicBezTo>
                    <a:pt x="25" y="324"/>
                    <a:pt x="10" y="334"/>
                    <a:pt x="5" y="323"/>
                  </a:cubicBezTo>
                  <a:cubicBezTo>
                    <a:pt x="0" y="312"/>
                    <a:pt x="4" y="284"/>
                    <a:pt x="5" y="263"/>
                  </a:cubicBezTo>
                  <a:cubicBezTo>
                    <a:pt x="6" y="244"/>
                    <a:pt x="9" y="231"/>
                    <a:pt x="11" y="204"/>
                  </a:cubicBezTo>
                  <a:cubicBezTo>
                    <a:pt x="13" y="177"/>
                    <a:pt x="16" y="124"/>
                    <a:pt x="20" y="104"/>
                  </a:cubicBezTo>
                  <a:cubicBezTo>
                    <a:pt x="24" y="83"/>
                    <a:pt x="30" y="87"/>
                    <a:pt x="36" y="8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2876400">
              <a:off x="7680600" y="4625280"/>
              <a:ext cx="98280" cy="29196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36" y="81"/>
                  </a:moveTo>
                  <a:cubicBezTo>
                    <a:pt x="42" y="76"/>
                    <a:pt x="52" y="77"/>
                    <a:pt x="57" y="70"/>
                  </a:cubicBezTo>
                  <a:cubicBezTo>
                    <a:pt x="63" y="62"/>
                    <a:pt x="66" y="46"/>
                    <a:pt x="70" y="35"/>
                  </a:cubicBezTo>
                  <a:cubicBezTo>
                    <a:pt x="73" y="24"/>
                    <a:pt x="76" y="8"/>
                    <a:pt x="82" y="4"/>
                  </a:cubicBezTo>
                  <a:cubicBezTo>
                    <a:pt x="87" y="0"/>
                    <a:pt x="94" y="5"/>
                    <a:pt x="100" y="12"/>
                  </a:cubicBezTo>
                  <a:cubicBezTo>
                    <a:pt x="106" y="18"/>
                    <a:pt x="118" y="27"/>
                    <a:pt x="117" y="43"/>
                  </a:cubicBezTo>
                  <a:cubicBezTo>
                    <a:pt x="116" y="58"/>
                    <a:pt x="98" y="76"/>
                    <a:pt x="94" y="104"/>
                  </a:cubicBezTo>
                  <a:cubicBezTo>
                    <a:pt x="90" y="132"/>
                    <a:pt x="95" y="178"/>
                    <a:pt x="93" y="211"/>
                  </a:cubicBezTo>
                  <a:cubicBezTo>
                    <a:pt x="90" y="243"/>
                    <a:pt x="87" y="274"/>
                    <a:pt x="82" y="297"/>
                  </a:cubicBezTo>
                  <a:cubicBezTo>
                    <a:pt x="77" y="320"/>
                    <a:pt x="71" y="344"/>
                    <a:pt x="63" y="349"/>
                  </a:cubicBezTo>
                  <a:cubicBezTo>
                    <a:pt x="55" y="354"/>
                    <a:pt x="45" y="332"/>
                    <a:pt x="35" y="328"/>
                  </a:cubicBezTo>
                  <a:cubicBezTo>
                    <a:pt x="25" y="324"/>
                    <a:pt x="10" y="334"/>
                    <a:pt x="5" y="323"/>
                  </a:cubicBezTo>
                  <a:cubicBezTo>
                    <a:pt x="0" y="312"/>
                    <a:pt x="4" y="284"/>
                    <a:pt x="5" y="263"/>
                  </a:cubicBezTo>
                  <a:cubicBezTo>
                    <a:pt x="6" y="244"/>
                    <a:pt x="9" y="231"/>
                    <a:pt x="11" y="204"/>
                  </a:cubicBezTo>
                  <a:cubicBezTo>
                    <a:pt x="13" y="177"/>
                    <a:pt x="16" y="124"/>
                    <a:pt x="20" y="104"/>
                  </a:cubicBezTo>
                  <a:cubicBezTo>
                    <a:pt x="24" y="83"/>
                    <a:pt x="30" y="87"/>
                    <a:pt x="36" y="8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3033000">
              <a:off x="7754760" y="4762800"/>
              <a:ext cx="77400" cy="221760"/>
            </a:xfrm>
            <a:custGeom>
              <a:avLst/>
              <a:gdLst/>
              <a:ahLst/>
              <a:rect l="l" t="t" r="r" b="b"/>
              <a:pathLst>
                <a:path w="70" h="211">
                  <a:moveTo>
                    <a:pt x="16" y="34"/>
                  </a:moveTo>
                  <a:cubicBezTo>
                    <a:pt x="20" y="30"/>
                    <a:pt x="27" y="31"/>
                    <a:pt x="29" y="26"/>
                  </a:cubicBezTo>
                  <a:cubicBezTo>
                    <a:pt x="33" y="20"/>
                    <a:pt x="31" y="6"/>
                    <a:pt x="37" y="3"/>
                  </a:cubicBezTo>
                  <a:cubicBezTo>
                    <a:pt x="43" y="0"/>
                    <a:pt x="64" y="0"/>
                    <a:pt x="67" y="7"/>
                  </a:cubicBezTo>
                  <a:cubicBezTo>
                    <a:pt x="70" y="14"/>
                    <a:pt x="56" y="28"/>
                    <a:pt x="54" y="48"/>
                  </a:cubicBezTo>
                  <a:cubicBezTo>
                    <a:pt x="53" y="66"/>
                    <a:pt x="58" y="95"/>
                    <a:pt x="57" y="116"/>
                  </a:cubicBezTo>
                  <a:cubicBezTo>
                    <a:pt x="56" y="138"/>
                    <a:pt x="55" y="158"/>
                    <a:pt x="53" y="173"/>
                  </a:cubicBezTo>
                  <a:cubicBezTo>
                    <a:pt x="50" y="188"/>
                    <a:pt x="46" y="204"/>
                    <a:pt x="42" y="207"/>
                  </a:cubicBezTo>
                  <a:cubicBezTo>
                    <a:pt x="37" y="211"/>
                    <a:pt x="29" y="197"/>
                    <a:pt x="23" y="194"/>
                  </a:cubicBezTo>
                  <a:cubicBezTo>
                    <a:pt x="16" y="192"/>
                    <a:pt x="7" y="199"/>
                    <a:pt x="3" y="192"/>
                  </a:cubicBezTo>
                  <a:cubicBezTo>
                    <a:pt x="0" y="185"/>
                    <a:pt x="2" y="167"/>
                    <a:pt x="1" y="153"/>
                  </a:cubicBezTo>
                  <a:cubicBezTo>
                    <a:pt x="2" y="141"/>
                    <a:pt x="3" y="132"/>
                    <a:pt x="3" y="115"/>
                  </a:cubicBezTo>
                  <a:cubicBezTo>
                    <a:pt x="4" y="97"/>
                    <a:pt x="4" y="63"/>
                    <a:pt x="6" y="50"/>
                  </a:cubicBezTo>
                  <a:cubicBezTo>
                    <a:pt x="9" y="36"/>
                    <a:pt x="13" y="38"/>
                    <a:pt x="16" y="34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3033000">
              <a:off x="7797600" y="4822200"/>
              <a:ext cx="59760" cy="180360"/>
            </a:xfrm>
            <a:custGeom>
              <a:avLst/>
              <a:gdLst/>
              <a:ahLst/>
              <a:rect l="l" t="t" r="r" b="b"/>
              <a:pathLst>
                <a:path w="52" h="155">
                  <a:moveTo>
                    <a:pt x="14" y="8"/>
                  </a:moveTo>
                  <a:cubicBezTo>
                    <a:pt x="18" y="5"/>
                    <a:pt x="20" y="0"/>
                    <a:pt x="26" y="2"/>
                  </a:cubicBezTo>
                  <a:cubicBezTo>
                    <a:pt x="32" y="4"/>
                    <a:pt x="44" y="8"/>
                    <a:pt x="48" y="20"/>
                  </a:cubicBezTo>
                  <a:cubicBezTo>
                    <a:pt x="52" y="32"/>
                    <a:pt x="51" y="59"/>
                    <a:pt x="50" y="76"/>
                  </a:cubicBezTo>
                  <a:cubicBezTo>
                    <a:pt x="50" y="94"/>
                    <a:pt x="49" y="111"/>
                    <a:pt x="47" y="123"/>
                  </a:cubicBezTo>
                  <a:cubicBezTo>
                    <a:pt x="44" y="136"/>
                    <a:pt x="41" y="149"/>
                    <a:pt x="37" y="152"/>
                  </a:cubicBezTo>
                  <a:cubicBezTo>
                    <a:pt x="33" y="155"/>
                    <a:pt x="26" y="143"/>
                    <a:pt x="20" y="141"/>
                  </a:cubicBezTo>
                  <a:cubicBezTo>
                    <a:pt x="14" y="139"/>
                    <a:pt x="6" y="145"/>
                    <a:pt x="3" y="139"/>
                  </a:cubicBezTo>
                  <a:cubicBezTo>
                    <a:pt x="0" y="133"/>
                    <a:pt x="2" y="119"/>
                    <a:pt x="1" y="107"/>
                  </a:cubicBezTo>
                  <a:cubicBezTo>
                    <a:pt x="2" y="97"/>
                    <a:pt x="3" y="89"/>
                    <a:pt x="3" y="75"/>
                  </a:cubicBezTo>
                  <a:cubicBezTo>
                    <a:pt x="4" y="60"/>
                    <a:pt x="4" y="32"/>
                    <a:pt x="5" y="21"/>
                  </a:cubicBezTo>
                  <a:cubicBezTo>
                    <a:pt x="8" y="10"/>
                    <a:pt x="12" y="12"/>
                    <a:pt x="14" y="8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3033000">
              <a:off x="7839360" y="4887720"/>
              <a:ext cx="61560" cy="139320"/>
            </a:xfrm>
            <a:custGeom>
              <a:avLst/>
              <a:gdLst/>
              <a:ahLst/>
              <a:rect l="l" t="t" r="r" b="b"/>
              <a:pathLst>
                <a:path w="52" h="155">
                  <a:moveTo>
                    <a:pt x="14" y="8"/>
                  </a:moveTo>
                  <a:cubicBezTo>
                    <a:pt x="18" y="5"/>
                    <a:pt x="20" y="0"/>
                    <a:pt x="26" y="2"/>
                  </a:cubicBezTo>
                  <a:cubicBezTo>
                    <a:pt x="32" y="4"/>
                    <a:pt x="44" y="8"/>
                    <a:pt x="48" y="20"/>
                  </a:cubicBezTo>
                  <a:cubicBezTo>
                    <a:pt x="52" y="32"/>
                    <a:pt x="51" y="59"/>
                    <a:pt x="50" y="76"/>
                  </a:cubicBezTo>
                  <a:cubicBezTo>
                    <a:pt x="50" y="94"/>
                    <a:pt x="49" y="111"/>
                    <a:pt x="47" y="123"/>
                  </a:cubicBezTo>
                  <a:cubicBezTo>
                    <a:pt x="44" y="136"/>
                    <a:pt x="41" y="149"/>
                    <a:pt x="37" y="152"/>
                  </a:cubicBezTo>
                  <a:cubicBezTo>
                    <a:pt x="33" y="155"/>
                    <a:pt x="26" y="143"/>
                    <a:pt x="20" y="141"/>
                  </a:cubicBezTo>
                  <a:cubicBezTo>
                    <a:pt x="14" y="139"/>
                    <a:pt x="6" y="145"/>
                    <a:pt x="3" y="139"/>
                  </a:cubicBezTo>
                  <a:cubicBezTo>
                    <a:pt x="0" y="133"/>
                    <a:pt x="2" y="119"/>
                    <a:pt x="1" y="107"/>
                  </a:cubicBezTo>
                  <a:cubicBezTo>
                    <a:pt x="2" y="97"/>
                    <a:pt x="3" y="89"/>
                    <a:pt x="3" y="75"/>
                  </a:cubicBezTo>
                  <a:cubicBezTo>
                    <a:pt x="4" y="60"/>
                    <a:pt x="4" y="32"/>
                    <a:pt x="5" y="21"/>
                  </a:cubicBezTo>
                  <a:cubicBezTo>
                    <a:pt x="8" y="10"/>
                    <a:pt x="12" y="12"/>
                    <a:pt x="14" y="8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3033000">
              <a:off x="7886160" y="4943880"/>
              <a:ext cx="45360" cy="115560"/>
            </a:xfrm>
            <a:custGeom>
              <a:avLst/>
              <a:gdLst/>
              <a:ahLst/>
              <a:rect l="l" t="t" r="r" b="b"/>
              <a:pathLst>
                <a:path w="52" h="155">
                  <a:moveTo>
                    <a:pt x="14" y="8"/>
                  </a:moveTo>
                  <a:cubicBezTo>
                    <a:pt x="18" y="5"/>
                    <a:pt x="20" y="0"/>
                    <a:pt x="26" y="2"/>
                  </a:cubicBezTo>
                  <a:cubicBezTo>
                    <a:pt x="32" y="4"/>
                    <a:pt x="44" y="8"/>
                    <a:pt x="48" y="20"/>
                  </a:cubicBezTo>
                  <a:cubicBezTo>
                    <a:pt x="52" y="32"/>
                    <a:pt x="51" y="59"/>
                    <a:pt x="50" y="76"/>
                  </a:cubicBezTo>
                  <a:cubicBezTo>
                    <a:pt x="50" y="94"/>
                    <a:pt x="49" y="111"/>
                    <a:pt x="47" y="123"/>
                  </a:cubicBezTo>
                  <a:cubicBezTo>
                    <a:pt x="44" y="136"/>
                    <a:pt x="41" y="149"/>
                    <a:pt x="37" y="152"/>
                  </a:cubicBezTo>
                  <a:cubicBezTo>
                    <a:pt x="33" y="155"/>
                    <a:pt x="26" y="143"/>
                    <a:pt x="20" y="141"/>
                  </a:cubicBezTo>
                  <a:cubicBezTo>
                    <a:pt x="14" y="139"/>
                    <a:pt x="6" y="145"/>
                    <a:pt x="3" y="139"/>
                  </a:cubicBezTo>
                  <a:cubicBezTo>
                    <a:pt x="0" y="133"/>
                    <a:pt x="2" y="119"/>
                    <a:pt x="1" y="107"/>
                  </a:cubicBezTo>
                  <a:cubicBezTo>
                    <a:pt x="2" y="97"/>
                    <a:pt x="3" y="89"/>
                    <a:pt x="3" y="75"/>
                  </a:cubicBezTo>
                  <a:cubicBezTo>
                    <a:pt x="4" y="60"/>
                    <a:pt x="4" y="32"/>
                    <a:pt x="5" y="21"/>
                  </a:cubicBezTo>
                  <a:cubicBezTo>
                    <a:pt x="8" y="10"/>
                    <a:pt x="12" y="12"/>
                    <a:pt x="14" y="8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3033000">
              <a:off x="7917120" y="4983120"/>
              <a:ext cx="43920" cy="99720"/>
            </a:xfrm>
            <a:custGeom>
              <a:avLst/>
              <a:gdLst/>
              <a:ahLst/>
              <a:rect l="l" t="t" r="r" b="b"/>
              <a:pathLst>
                <a:path w="52" h="155">
                  <a:moveTo>
                    <a:pt x="14" y="8"/>
                  </a:moveTo>
                  <a:cubicBezTo>
                    <a:pt x="18" y="5"/>
                    <a:pt x="20" y="0"/>
                    <a:pt x="26" y="2"/>
                  </a:cubicBezTo>
                  <a:cubicBezTo>
                    <a:pt x="32" y="4"/>
                    <a:pt x="44" y="8"/>
                    <a:pt x="48" y="20"/>
                  </a:cubicBezTo>
                  <a:cubicBezTo>
                    <a:pt x="52" y="32"/>
                    <a:pt x="51" y="59"/>
                    <a:pt x="50" y="76"/>
                  </a:cubicBezTo>
                  <a:cubicBezTo>
                    <a:pt x="50" y="94"/>
                    <a:pt x="49" y="111"/>
                    <a:pt x="47" y="123"/>
                  </a:cubicBezTo>
                  <a:cubicBezTo>
                    <a:pt x="44" y="136"/>
                    <a:pt x="41" y="149"/>
                    <a:pt x="37" y="152"/>
                  </a:cubicBezTo>
                  <a:cubicBezTo>
                    <a:pt x="33" y="155"/>
                    <a:pt x="26" y="143"/>
                    <a:pt x="20" y="141"/>
                  </a:cubicBezTo>
                  <a:cubicBezTo>
                    <a:pt x="14" y="139"/>
                    <a:pt x="6" y="145"/>
                    <a:pt x="3" y="139"/>
                  </a:cubicBezTo>
                  <a:cubicBezTo>
                    <a:pt x="0" y="133"/>
                    <a:pt x="2" y="119"/>
                    <a:pt x="1" y="107"/>
                  </a:cubicBezTo>
                  <a:cubicBezTo>
                    <a:pt x="2" y="97"/>
                    <a:pt x="3" y="89"/>
                    <a:pt x="3" y="75"/>
                  </a:cubicBezTo>
                  <a:cubicBezTo>
                    <a:pt x="4" y="60"/>
                    <a:pt x="4" y="32"/>
                    <a:pt x="5" y="21"/>
                  </a:cubicBezTo>
                  <a:cubicBezTo>
                    <a:pt x="8" y="10"/>
                    <a:pt x="12" y="12"/>
                    <a:pt x="14" y="8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3033000">
              <a:off x="7947360" y="5028480"/>
              <a:ext cx="56880" cy="80640"/>
            </a:xfrm>
            <a:custGeom>
              <a:avLst/>
              <a:gdLst/>
              <a:ahLst/>
              <a:rect l="l" t="t" r="r" b="b"/>
              <a:pathLst>
                <a:path w="52" h="155">
                  <a:moveTo>
                    <a:pt x="14" y="8"/>
                  </a:moveTo>
                  <a:cubicBezTo>
                    <a:pt x="18" y="5"/>
                    <a:pt x="20" y="0"/>
                    <a:pt x="26" y="2"/>
                  </a:cubicBezTo>
                  <a:cubicBezTo>
                    <a:pt x="32" y="4"/>
                    <a:pt x="44" y="8"/>
                    <a:pt x="48" y="20"/>
                  </a:cubicBezTo>
                  <a:cubicBezTo>
                    <a:pt x="52" y="32"/>
                    <a:pt x="51" y="59"/>
                    <a:pt x="50" y="76"/>
                  </a:cubicBezTo>
                  <a:cubicBezTo>
                    <a:pt x="50" y="94"/>
                    <a:pt x="49" y="111"/>
                    <a:pt x="47" y="123"/>
                  </a:cubicBezTo>
                  <a:cubicBezTo>
                    <a:pt x="44" y="136"/>
                    <a:pt x="41" y="149"/>
                    <a:pt x="37" y="152"/>
                  </a:cubicBezTo>
                  <a:cubicBezTo>
                    <a:pt x="33" y="155"/>
                    <a:pt x="26" y="143"/>
                    <a:pt x="20" y="141"/>
                  </a:cubicBezTo>
                  <a:cubicBezTo>
                    <a:pt x="14" y="139"/>
                    <a:pt x="6" y="145"/>
                    <a:pt x="3" y="139"/>
                  </a:cubicBezTo>
                  <a:cubicBezTo>
                    <a:pt x="0" y="133"/>
                    <a:pt x="2" y="119"/>
                    <a:pt x="1" y="107"/>
                  </a:cubicBezTo>
                  <a:cubicBezTo>
                    <a:pt x="2" y="97"/>
                    <a:pt x="3" y="89"/>
                    <a:pt x="3" y="75"/>
                  </a:cubicBezTo>
                  <a:cubicBezTo>
                    <a:pt x="4" y="60"/>
                    <a:pt x="4" y="32"/>
                    <a:pt x="5" y="21"/>
                  </a:cubicBezTo>
                  <a:cubicBezTo>
                    <a:pt x="8" y="10"/>
                    <a:pt x="12" y="12"/>
                    <a:pt x="14" y="8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3033000">
              <a:off x="7965360" y="5100480"/>
              <a:ext cx="147240" cy="64800"/>
            </a:xfrm>
            <a:custGeom>
              <a:avLst/>
              <a:gdLst/>
              <a:ahLst/>
              <a:rect l="l" t="t" r="r" b="b"/>
              <a:pathLst>
                <a:path w="116" h="51">
                  <a:moveTo>
                    <a:pt x="24" y="1"/>
                  </a:moveTo>
                  <a:cubicBezTo>
                    <a:pt x="35" y="0"/>
                    <a:pt x="61" y="1"/>
                    <a:pt x="75" y="2"/>
                  </a:cubicBezTo>
                  <a:cubicBezTo>
                    <a:pt x="89" y="3"/>
                    <a:pt x="101" y="6"/>
                    <a:pt x="107" y="10"/>
                  </a:cubicBezTo>
                  <a:cubicBezTo>
                    <a:pt x="113" y="14"/>
                    <a:pt x="116" y="21"/>
                    <a:pt x="111" y="26"/>
                  </a:cubicBezTo>
                  <a:cubicBezTo>
                    <a:pt x="106" y="31"/>
                    <a:pt x="84" y="38"/>
                    <a:pt x="77" y="42"/>
                  </a:cubicBezTo>
                  <a:cubicBezTo>
                    <a:pt x="70" y="46"/>
                    <a:pt x="74" y="49"/>
                    <a:pt x="67" y="50"/>
                  </a:cubicBezTo>
                  <a:cubicBezTo>
                    <a:pt x="60" y="51"/>
                    <a:pt x="40" y="49"/>
                    <a:pt x="33" y="48"/>
                  </a:cubicBezTo>
                  <a:cubicBezTo>
                    <a:pt x="26" y="47"/>
                    <a:pt x="28" y="48"/>
                    <a:pt x="23" y="46"/>
                  </a:cubicBezTo>
                  <a:cubicBezTo>
                    <a:pt x="18" y="44"/>
                    <a:pt x="6" y="39"/>
                    <a:pt x="3" y="36"/>
                  </a:cubicBezTo>
                  <a:cubicBezTo>
                    <a:pt x="0" y="33"/>
                    <a:pt x="6" y="30"/>
                    <a:pt x="6" y="25"/>
                  </a:cubicBezTo>
                  <a:cubicBezTo>
                    <a:pt x="7" y="19"/>
                    <a:pt x="7" y="9"/>
                    <a:pt x="9" y="5"/>
                  </a:cubicBezTo>
                  <a:cubicBezTo>
                    <a:pt x="14" y="2"/>
                    <a:pt x="20" y="2"/>
                    <a:pt x="24" y="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3033000">
              <a:off x="6901200" y="2777760"/>
              <a:ext cx="202680" cy="501120"/>
            </a:xfrm>
            <a:custGeom>
              <a:avLst/>
              <a:gdLst/>
              <a:ahLst/>
              <a:rect l="l" t="t" r="r" b="b"/>
              <a:pathLst>
                <a:path w="401" h="988">
                  <a:moveTo>
                    <a:pt x="163" y="273"/>
                  </a:moveTo>
                  <a:cubicBezTo>
                    <a:pt x="175" y="263"/>
                    <a:pt x="163" y="245"/>
                    <a:pt x="173" y="210"/>
                  </a:cubicBezTo>
                  <a:cubicBezTo>
                    <a:pt x="183" y="178"/>
                    <a:pt x="205" y="98"/>
                    <a:pt x="223" y="63"/>
                  </a:cubicBezTo>
                  <a:cubicBezTo>
                    <a:pt x="241" y="30"/>
                    <a:pt x="261" y="0"/>
                    <a:pt x="283" y="0"/>
                  </a:cubicBezTo>
                  <a:cubicBezTo>
                    <a:pt x="306" y="0"/>
                    <a:pt x="335" y="38"/>
                    <a:pt x="353" y="63"/>
                  </a:cubicBezTo>
                  <a:cubicBezTo>
                    <a:pt x="371" y="88"/>
                    <a:pt x="401" y="108"/>
                    <a:pt x="391" y="148"/>
                  </a:cubicBezTo>
                  <a:cubicBezTo>
                    <a:pt x="381" y="188"/>
                    <a:pt x="306" y="233"/>
                    <a:pt x="293" y="305"/>
                  </a:cubicBezTo>
                  <a:cubicBezTo>
                    <a:pt x="280" y="377"/>
                    <a:pt x="311" y="491"/>
                    <a:pt x="313" y="580"/>
                  </a:cubicBezTo>
                  <a:cubicBezTo>
                    <a:pt x="315" y="669"/>
                    <a:pt x="316" y="775"/>
                    <a:pt x="303" y="840"/>
                  </a:cubicBezTo>
                  <a:cubicBezTo>
                    <a:pt x="291" y="905"/>
                    <a:pt x="253" y="953"/>
                    <a:pt x="233" y="970"/>
                  </a:cubicBezTo>
                  <a:cubicBezTo>
                    <a:pt x="213" y="988"/>
                    <a:pt x="200" y="958"/>
                    <a:pt x="183" y="940"/>
                  </a:cubicBezTo>
                  <a:cubicBezTo>
                    <a:pt x="165" y="923"/>
                    <a:pt x="158" y="875"/>
                    <a:pt x="133" y="860"/>
                  </a:cubicBezTo>
                  <a:cubicBezTo>
                    <a:pt x="108" y="845"/>
                    <a:pt x="55" y="883"/>
                    <a:pt x="33" y="853"/>
                  </a:cubicBezTo>
                  <a:cubicBezTo>
                    <a:pt x="10" y="823"/>
                    <a:pt x="5" y="738"/>
                    <a:pt x="3" y="680"/>
                  </a:cubicBezTo>
                  <a:cubicBezTo>
                    <a:pt x="0" y="623"/>
                    <a:pt x="18" y="563"/>
                    <a:pt x="23" y="510"/>
                  </a:cubicBezTo>
                  <a:cubicBezTo>
                    <a:pt x="28" y="458"/>
                    <a:pt x="20" y="408"/>
                    <a:pt x="33" y="368"/>
                  </a:cubicBezTo>
                  <a:cubicBezTo>
                    <a:pt x="45" y="328"/>
                    <a:pt x="80" y="288"/>
                    <a:pt x="103" y="273"/>
                  </a:cubicBezTo>
                  <a:cubicBezTo>
                    <a:pt x="125" y="260"/>
                    <a:pt x="150" y="285"/>
                    <a:pt x="163" y="273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3033000">
              <a:off x="6948000" y="2912040"/>
              <a:ext cx="183960" cy="506160"/>
            </a:xfrm>
            <a:custGeom>
              <a:avLst/>
              <a:gdLst/>
              <a:ahLst/>
              <a:rect l="l" t="t" r="r" b="b"/>
              <a:pathLst>
                <a:path w="364" h="998">
                  <a:moveTo>
                    <a:pt x="148" y="283"/>
                  </a:moveTo>
                  <a:cubicBezTo>
                    <a:pt x="160" y="273"/>
                    <a:pt x="153" y="255"/>
                    <a:pt x="158" y="221"/>
                  </a:cubicBezTo>
                  <a:cubicBezTo>
                    <a:pt x="163" y="187"/>
                    <a:pt x="164" y="113"/>
                    <a:pt x="176" y="76"/>
                  </a:cubicBezTo>
                  <a:cubicBezTo>
                    <a:pt x="188" y="39"/>
                    <a:pt x="201" y="2"/>
                    <a:pt x="228" y="1"/>
                  </a:cubicBezTo>
                  <a:cubicBezTo>
                    <a:pt x="255" y="0"/>
                    <a:pt x="317" y="48"/>
                    <a:pt x="338" y="73"/>
                  </a:cubicBezTo>
                  <a:cubicBezTo>
                    <a:pt x="359" y="98"/>
                    <a:pt x="364" y="112"/>
                    <a:pt x="356" y="151"/>
                  </a:cubicBezTo>
                  <a:cubicBezTo>
                    <a:pt x="348" y="190"/>
                    <a:pt x="298" y="236"/>
                    <a:pt x="288" y="309"/>
                  </a:cubicBezTo>
                  <a:cubicBezTo>
                    <a:pt x="278" y="382"/>
                    <a:pt x="298" y="501"/>
                    <a:pt x="298" y="591"/>
                  </a:cubicBezTo>
                  <a:cubicBezTo>
                    <a:pt x="298" y="681"/>
                    <a:pt x="300" y="786"/>
                    <a:pt x="288" y="851"/>
                  </a:cubicBezTo>
                  <a:cubicBezTo>
                    <a:pt x="275" y="916"/>
                    <a:pt x="238" y="963"/>
                    <a:pt x="218" y="981"/>
                  </a:cubicBezTo>
                  <a:cubicBezTo>
                    <a:pt x="198" y="998"/>
                    <a:pt x="185" y="968"/>
                    <a:pt x="168" y="951"/>
                  </a:cubicBezTo>
                  <a:cubicBezTo>
                    <a:pt x="150" y="933"/>
                    <a:pt x="143" y="886"/>
                    <a:pt x="118" y="871"/>
                  </a:cubicBezTo>
                  <a:cubicBezTo>
                    <a:pt x="93" y="856"/>
                    <a:pt x="35" y="888"/>
                    <a:pt x="18" y="863"/>
                  </a:cubicBezTo>
                  <a:cubicBezTo>
                    <a:pt x="0" y="838"/>
                    <a:pt x="3" y="768"/>
                    <a:pt x="8" y="721"/>
                  </a:cubicBezTo>
                  <a:cubicBezTo>
                    <a:pt x="13" y="673"/>
                    <a:pt x="45" y="638"/>
                    <a:pt x="48" y="581"/>
                  </a:cubicBezTo>
                  <a:cubicBezTo>
                    <a:pt x="50" y="523"/>
                    <a:pt x="10" y="428"/>
                    <a:pt x="18" y="378"/>
                  </a:cubicBezTo>
                  <a:cubicBezTo>
                    <a:pt x="25" y="328"/>
                    <a:pt x="65" y="298"/>
                    <a:pt x="88" y="283"/>
                  </a:cubicBezTo>
                  <a:cubicBezTo>
                    <a:pt x="110" y="271"/>
                    <a:pt x="135" y="296"/>
                    <a:pt x="148" y="283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3033000">
              <a:off x="6980760" y="3059280"/>
              <a:ext cx="190080" cy="499680"/>
            </a:xfrm>
            <a:custGeom>
              <a:avLst/>
              <a:gdLst/>
              <a:ahLst/>
              <a:rect l="l" t="t" r="r" b="b"/>
              <a:pathLst>
                <a:path w="374" h="988">
                  <a:moveTo>
                    <a:pt x="148" y="273"/>
                  </a:moveTo>
                  <a:cubicBezTo>
                    <a:pt x="160" y="263"/>
                    <a:pt x="148" y="245"/>
                    <a:pt x="158" y="210"/>
                  </a:cubicBezTo>
                  <a:cubicBezTo>
                    <a:pt x="168" y="178"/>
                    <a:pt x="190" y="98"/>
                    <a:pt x="208" y="63"/>
                  </a:cubicBezTo>
                  <a:cubicBezTo>
                    <a:pt x="225" y="30"/>
                    <a:pt x="245" y="0"/>
                    <a:pt x="268" y="0"/>
                  </a:cubicBezTo>
                  <a:cubicBezTo>
                    <a:pt x="290" y="0"/>
                    <a:pt x="321" y="40"/>
                    <a:pt x="338" y="63"/>
                  </a:cubicBezTo>
                  <a:cubicBezTo>
                    <a:pt x="355" y="86"/>
                    <a:pt x="374" y="101"/>
                    <a:pt x="372" y="140"/>
                  </a:cubicBezTo>
                  <a:cubicBezTo>
                    <a:pt x="370" y="179"/>
                    <a:pt x="340" y="222"/>
                    <a:pt x="328" y="295"/>
                  </a:cubicBezTo>
                  <a:cubicBezTo>
                    <a:pt x="316" y="368"/>
                    <a:pt x="305" y="490"/>
                    <a:pt x="298" y="580"/>
                  </a:cubicBezTo>
                  <a:cubicBezTo>
                    <a:pt x="290" y="670"/>
                    <a:pt x="300" y="775"/>
                    <a:pt x="288" y="840"/>
                  </a:cubicBezTo>
                  <a:cubicBezTo>
                    <a:pt x="275" y="905"/>
                    <a:pt x="238" y="953"/>
                    <a:pt x="218" y="970"/>
                  </a:cubicBezTo>
                  <a:cubicBezTo>
                    <a:pt x="198" y="988"/>
                    <a:pt x="185" y="958"/>
                    <a:pt x="168" y="940"/>
                  </a:cubicBezTo>
                  <a:cubicBezTo>
                    <a:pt x="150" y="923"/>
                    <a:pt x="143" y="875"/>
                    <a:pt x="118" y="860"/>
                  </a:cubicBezTo>
                  <a:cubicBezTo>
                    <a:pt x="93" y="845"/>
                    <a:pt x="35" y="875"/>
                    <a:pt x="18" y="853"/>
                  </a:cubicBezTo>
                  <a:cubicBezTo>
                    <a:pt x="0" y="830"/>
                    <a:pt x="18" y="768"/>
                    <a:pt x="18" y="720"/>
                  </a:cubicBezTo>
                  <a:cubicBezTo>
                    <a:pt x="18" y="673"/>
                    <a:pt x="18" y="615"/>
                    <a:pt x="18" y="560"/>
                  </a:cubicBezTo>
                  <a:cubicBezTo>
                    <a:pt x="18" y="505"/>
                    <a:pt x="5" y="438"/>
                    <a:pt x="18" y="390"/>
                  </a:cubicBezTo>
                  <a:cubicBezTo>
                    <a:pt x="30" y="343"/>
                    <a:pt x="65" y="293"/>
                    <a:pt x="88" y="273"/>
                  </a:cubicBezTo>
                  <a:cubicBezTo>
                    <a:pt x="110" y="253"/>
                    <a:pt x="135" y="285"/>
                    <a:pt x="148" y="273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3033000">
              <a:off x="7012800" y="3204720"/>
              <a:ext cx="194760" cy="501480"/>
            </a:xfrm>
            <a:custGeom>
              <a:avLst/>
              <a:gdLst/>
              <a:ahLst/>
              <a:rect l="l" t="t" r="r" b="b"/>
              <a:pathLst>
                <a:path w="384" h="987">
                  <a:moveTo>
                    <a:pt x="147" y="272"/>
                  </a:moveTo>
                  <a:cubicBezTo>
                    <a:pt x="160" y="262"/>
                    <a:pt x="147" y="245"/>
                    <a:pt x="157" y="210"/>
                  </a:cubicBezTo>
                  <a:cubicBezTo>
                    <a:pt x="167" y="177"/>
                    <a:pt x="190" y="97"/>
                    <a:pt x="207" y="62"/>
                  </a:cubicBezTo>
                  <a:cubicBezTo>
                    <a:pt x="224" y="30"/>
                    <a:pt x="244" y="0"/>
                    <a:pt x="267" y="0"/>
                  </a:cubicBezTo>
                  <a:cubicBezTo>
                    <a:pt x="289" y="0"/>
                    <a:pt x="318" y="39"/>
                    <a:pt x="337" y="62"/>
                  </a:cubicBezTo>
                  <a:cubicBezTo>
                    <a:pt x="356" y="85"/>
                    <a:pt x="384" y="99"/>
                    <a:pt x="382" y="138"/>
                  </a:cubicBezTo>
                  <a:cubicBezTo>
                    <a:pt x="380" y="177"/>
                    <a:pt x="341" y="221"/>
                    <a:pt x="327" y="295"/>
                  </a:cubicBezTo>
                  <a:cubicBezTo>
                    <a:pt x="313" y="369"/>
                    <a:pt x="304" y="490"/>
                    <a:pt x="297" y="580"/>
                  </a:cubicBezTo>
                  <a:cubicBezTo>
                    <a:pt x="289" y="670"/>
                    <a:pt x="299" y="775"/>
                    <a:pt x="287" y="840"/>
                  </a:cubicBezTo>
                  <a:cubicBezTo>
                    <a:pt x="274" y="905"/>
                    <a:pt x="237" y="952"/>
                    <a:pt x="217" y="970"/>
                  </a:cubicBezTo>
                  <a:cubicBezTo>
                    <a:pt x="197" y="987"/>
                    <a:pt x="185" y="957"/>
                    <a:pt x="167" y="940"/>
                  </a:cubicBezTo>
                  <a:cubicBezTo>
                    <a:pt x="150" y="922"/>
                    <a:pt x="142" y="875"/>
                    <a:pt x="117" y="860"/>
                  </a:cubicBezTo>
                  <a:cubicBezTo>
                    <a:pt x="92" y="845"/>
                    <a:pt x="35" y="882"/>
                    <a:pt x="17" y="852"/>
                  </a:cubicBezTo>
                  <a:cubicBezTo>
                    <a:pt x="0" y="822"/>
                    <a:pt x="5" y="757"/>
                    <a:pt x="7" y="680"/>
                  </a:cubicBezTo>
                  <a:cubicBezTo>
                    <a:pt x="10" y="602"/>
                    <a:pt x="25" y="457"/>
                    <a:pt x="37" y="390"/>
                  </a:cubicBezTo>
                  <a:cubicBezTo>
                    <a:pt x="50" y="322"/>
                    <a:pt x="70" y="292"/>
                    <a:pt x="87" y="272"/>
                  </a:cubicBezTo>
                  <a:cubicBezTo>
                    <a:pt x="105" y="252"/>
                    <a:pt x="135" y="285"/>
                    <a:pt x="147" y="27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3033000">
              <a:off x="7043400" y="3350160"/>
              <a:ext cx="172800" cy="480600"/>
            </a:xfrm>
            <a:custGeom>
              <a:avLst/>
              <a:gdLst/>
              <a:ahLst/>
              <a:rect l="l" t="t" r="r" b="b"/>
              <a:pathLst>
                <a:path w="156" h="378">
                  <a:moveTo>
                    <a:pt x="49" y="84"/>
                  </a:moveTo>
                  <a:cubicBezTo>
                    <a:pt x="57" y="78"/>
                    <a:pt x="70" y="80"/>
                    <a:pt x="77" y="72"/>
                  </a:cubicBezTo>
                  <a:cubicBezTo>
                    <a:pt x="84" y="64"/>
                    <a:pt x="88" y="47"/>
                    <a:pt x="93" y="36"/>
                  </a:cubicBezTo>
                  <a:cubicBezTo>
                    <a:pt x="98" y="25"/>
                    <a:pt x="102" y="8"/>
                    <a:pt x="109" y="4"/>
                  </a:cubicBezTo>
                  <a:cubicBezTo>
                    <a:pt x="116" y="0"/>
                    <a:pt x="125" y="5"/>
                    <a:pt x="133" y="12"/>
                  </a:cubicBezTo>
                  <a:cubicBezTo>
                    <a:pt x="141" y="19"/>
                    <a:pt x="156" y="28"/>
                    <a:pt x="155" y="44"/>
                  </a:cubicBezTo>
                  <a:cubicBezTo>
                    <a:pt x="154" y="60"/>
                    <a:pt x="130" y="79"/>
                    <a:pt x="125" y="107"/>
                  </a:cubicBezTo>
                  <a:cubicBezTo>
                    <a:pt x="120" y="136"/>
                    <a:pt x="126" y="184"/>
                    <a:pt x="123" y="218"/>
                  </a:cubicBezTo>
                  <a:cubicBezTo>
                    <a:pt x="120" y="251"/>
                    <a:pt x="112" y="282"/>
                    <a:pt x="109" y="307"/>
                  </a:cubicBezTo>
                  <a:cubicBezTo>
                    <a:pt x="106" y="332"/>
                    <a:pt x="109" y="361"/>
                    <a:pt x="105" y="369"/>
                  </a:cubicBezTo>
                  <a:cubicBezTo>
                    <a:pt x="101" y="378"/>
                    <a:pt x="92" y="366"/>
                    <a:pt x="84" y="360"/>
                  </a:cubicBezTo>
                  <a:cubicBezTo>
                    <a:pt x="77" y="354"/>
                    <a:pt x="74" y="335"/>
                    <a:pt x="62" y="331"/>
                  </a:cubicBezTo>
                  <a:cubicBezTo>
                    <a:pt x="50" y="327"/>
                    <a:pt x="18" y="343"/>
                    <a:pt x="9" y="334"/>
                  </a:cubicBezTo>
                  <a:cubicBezTo>
                    <a:pt x="0" y="324"/>
                    <a:pt x="8" y="293"/>
                    <a:pt x="9" y="272"/>
                  </a:cubicBezTo>
                  <a:cubicBezTo>
                    <a:pt x="10" y="252"/>
                    <a:pt x="14" y="239"/>
                    <a:pt x="17" y="211"/>
                  </a:cubicBezTo>
                  <a:cubicBezTo>
                    <a:pt x="20" y="183"/>
                    <a:pt x="24" y="128"/>
                    <a:pt x="29" y="107"/>
                  </a:cubicBezTo>
                  <a:cubicBezTo>
                    <a:pt x="34" y="86"/>
                    <a:pt x="41" y="90"/>
                    <a:pt x="49" y="84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3033000">
              <a:off x="7079760" y="3473640"/>
              <a:ext cx="172800" cy="480600"/>
            </a:xfrm>
            <a:custGeom>
              <a:avLst/>
              <a:gdLst/>
              <a:ahLst/>
              <a:rect l="l" t="t" r="r" b="b"/>
              <a:pathLst>
                <a:path w="156" h="378">
                  <a:moveTo>
                    <a:pt x="49" y="84"/>
                  </a:moveTo>
                  <a:cubicBezTo>
                    <a:pt x="57" y="78"/>
                    <a:pt x="70" y="80"/>
                    <a:pt x="77" y="72"/>
                  </a:cubicBezTo>
                  <a:cubicBezTo>
                    <a:pt x="84" y="64"/>
                    <a:pt x="88" y="47"/>
                    <a:pt x="93" y="36"/>
                  </a:cubicBezTo>
                  <a:cubicBezTo>
                    <a:pt x="98" y="25"/>
                    <a:pt x="102" y="8"/>
                    <a:pt x="109" y="4"/>
                  </a:cubicBezTo>
                  <a:cubicBezTo>
                    <a:pt x="116" y="0"/>
                    <a:pt x="125" y="5"/>
                    <a:pt x="133" y="12"/>
                  </a:cubicBezTo>
                  <a:cubicBezTo>
                    <a:pt x="141" y="19"/>
                    <a:pt x="156" y="28"/>
                    <a:pt x="155" y="44"/>
                  </a:cubicBezTo>
                  <a:cubicBezTo>
                    <a:pt x="154" y="60"/>
                    <a:pt x="130" y="79"/>
                    <a:pt x="125" y="107"/>
                  </a:cubicBezTo>
                  <a:cubicBezTo>
                    <a:pt x="120" y="136"/>
                    <a:pt x="126" y="184"/>
                    <a:pt x="123" y="218"/>
                  </a:cubicBezTo>
                  <a:cubicBezTo>
                    <a:pt x="120" y="251"/>
                    <a:pt x="112" y="282"/>
                    <a:pt x="109" y="307"/>
                  </a:cubicBezTo>
                  <a:cubicBezTo>
                    <a:pt x="106" y="332"/>
                    <a:pt x="109" y="361"/>
                    <a:pt x="105" y="369"/>
                  </a:cubicBezTo>
                  <a:cubicBezTo>
                    <a:pt x="101" y="378"/>
                    <a:pt x="92" y="366"/>
                    <a:pt x="84" y="360"/>
                  </a:cubicBezTo>
                  <a:cubicBezTo>
                    <a:pt x="77" y="354"/>
                    <a:pt x="74" y="335"/>
                    <a:pt x="62" y="331"/>
                  </a:cubicBezTo>
                  <a:cubicBezTo>
                    <a:pt x="50" y="327"/>
                    <a:pt x="18" y="343"/>
                    <a:pt x="9" y="334"/>
                  </a:cubicBezTo>
                  <a:cubicBezTo>
                    <a:pt x="0" y="324"/>
                    <a:pt x="8" y="293"/>
                    <a:pt x="9" y="272"/>
                  </a:cubicBezTo>
                  <a:cubicBezTo>
                    <a:pt x="10" y="252"/>
                    <a:pt x="14" y="239"/>
                    <a:pt x="17" y="211"/>
                  </a:cubicBezTo>
                  <a:cubicBezTo>
                    <a:pt x="20" y="183"/>
                    <a:pt x="24" y="128"/>
                    <a:pt x="29" y="107"/>
                  </a:cubicBezTo>
                  <a:cubicBezTo>
                    <a:pt x="34" y="86"/>
                    <a:pt x="41" y="90"/>
                    <a:pt x="49" y="84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3033000">
              <a:off x="7131600" y="3583080"/>
              <a:ext cx="152280" cy="464760"/>
            </a:xfrm>
            <a:custGeom>
              <a:avLst/>
              <a:gdLst/>
              <a:ahLst/>
              <a:rect l="l" t="t" r="r" b="b"/>
              <a:pathLst>
                <a:path w="156" h="378">
                  <a:moveTo>
                    <a:pt x="49" y="84"/>
                  </a:moveTo>
                  <a:cubicBezTo>
                    <a:pt x="57" y="78"/>
                    <a:pt x="70" y="80"/>
                    <a:pt x="77" y="72"/>
                  </a:cubicBezTo>
                  <a:cubicBezTo>
                    <a:pt x="84" y="64"/>
                    <a:pt x="88" y="47"/>
                    <a:pt x="93" y="36"/>
                  </a:cubicBezTo>
                  <a:cubicBezTo>
                    <a:pt x="98" y="25"/>
                    <a:pt x="102" y="8"/>
                    <a:pt x="109" y="4"/>
                  </a:cubicBezTo>
                  <a:cubicBezTo>
                    <a:pt x="116" y="0"/>
                    <a:pt x="125" y="5"/>
                    <a:pt x="133" y="12"/>
                  </a:cubicBezTo>
                  <a:cubicBezTo>
                    <a:pt x="141" y="19"/>
                    <a:pt x="156" y="28"/>
                    <a:pt x="155" y="44"/>
                  </a:cubicBezTo>
                  <a:cubicBezTo>
                    <a:pt x="154" y="60"/>
                    <a:pt x="130" y="79"/>
                    <a:pt x="125" y="107"/>
                  </a:cubicBezTo>
                  <a:cubicBezTo>
                    <a:pt x="120" y="136"/>
                    <a:pt x="126" y="184"/>
                    <a:pt x="123" y="218"/>
                  </a:cubicBezTo>
                  <a:cubicBezTo>
                    <a:pt x="120" y="251"/>
                    <a:pt x="112" y="282"/>
                    <a:pt x="109" y="307"/>
                  </a:cubicBezTo>
                  <a:cubicBezTo>
                    <a:pt x="106" y="332"/>
                    <a:pt x="109" y="361"/>
                    <a:pt x="105" y="369"/>
                  </a:cubicBezTo>
                  <a:cubicBezTo>
                    <a:pt x="101" y="378"/>
                    <a:pt x="92" y="366"/>
                    <a:pt x="84" y="360"/>
                  </a:cubicBezTo>
                  <a:cubicBezTo>
                    <a:pt x="77" y="354"/>
                    <a:pt x="74" y="335"/>
                    <a:pt x="62" y="331"/>
                  </a:cubicBezTo>
                  <a:cubicBezTo>
                    <a:pt x="50" y="327"/>
                    <a:pt x="18" y="343"/>
                    <a:pt x="9" y="334"/>
                  </a:cubicBezTo>
                  <a:cubicBezTo>
                    <a:pt x="0" y="324"/>
                    <a:pt x="8" y="293"/>
                    <a:pt x="9" y="272"/>
                  </a:cubicBezTo>
                  <a:cubicBezTo>
                    <a:pt x="10" y="252"/>
                    <a:pt x="14" y="239"/>
                    <a:pt x="17" y="211"/>
                  </a:cubicBezTo>
                  <a:cubicBezTo>
                    <a:pt x="20" y="183"/>
                    <a:pt x="24" y="128"/>
                    <a:pt x="29" y="107"/>
                  </a:cubicBezTo>
                  <a:cubicBezTo>
                    <a:pt x="34" y="86"/>
                    <a:pt x="41" y="90"/>
                    <a:pt x="49" y="84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2876400">
              <a:off x="7181280" y="3679200"/>
              <a:ext cx="149040" cy="44892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36" y="81"/>
                  </a:moveTo>
                  <a:cubicBezTo>
                    <a:pt x="42" y="76"/>
                    <a:pt x="52" y="77"/>
                    <a:pt x="57" y="70"/>
                  </a:cubicBezTo>
                  <a:cubicBezTo>
                    <a:pt x="63" y="62"/>
                    <a:pt x="66" y="46"/>
                    <a:pt x="70" y="35"/>
                  </a:cubicBezTo>
                  <a:cubicBezTo>
                    <a:pt x="73" y="24"/>
                    <a:pt x="76" y="8"/>
                    <a:pt x="82" y="4"/>
                  </a:cubicBezTo>
                  <a:cubicBezTo>
                    <a:pt x="87" y="0"/>
                    <a:pt x="94" y="5"/>
                    <a:pt x="100" y="12"/>
                  </a:cubicBezTo>
                  <a:cubicBezTo>
                    <a:pt x="106" y="18"/>
                    <a:pt x="118" y="27"/>
                    <a:pt x="117" y="43"/>
                  </a:cubicBezTo>
                  <a:cubicBezTo>
                    <a:pt x="116" y="58"/>
                    <a:pt x="98" y="76"/>
                    <a:pt x="94" y="104"/>
                  </a:cubicBezTo>
                  <a:cubicBezTo>
                    <a:pt x="90" y="132"/>
                    <a:pt x="95" y="178"/>
                    <a:pt x="93" y="211"/>
                  </a:cubicBezTo>
                  <a:cubicBezTo>
                    <a:pt x="90" y="243"/>
                    <a:pt x="87" y="274"/>
                    <a:pt x="82" y="297"/>
                  </a:cubicBezTo>
                  <a:cubicBezTo>
                    <a:pt x="77" y="320"/>
                    <a:pt x="71" y="344"/>
                    <a:pt x="63" y="349"/>
                  </a:cubicBezTo>
                  <a:cubicBezTo>
                    <a:pt x="55" y="354"/>
                    <a:pt x="45" y="332"/>
                    <a:pt x="35" y="328"/>
                  </a:cubicBezTo>
                  <a:cubicBezTo>
                    <a:pt x="25" y="324"/>
                    <a:pt x="10" y="334"/>
                    <a:pt x="5" y="323"/>
                  </a:cubicBezTo>
                  <a:cubicBezTo>
                    <a:pt x="0" y="312"/>
                    <a:pt x="4" y="284"/>
                    <a:pt x="5" y="263"/>
                  </a:cubicBezTo>
                  <a:cubicBezTo>
                    <a:pt x="6" y="244"/>
                    <a:pt x="9" y="231"/>
                    <a:pt x="11" y="204"/>
                  </a:cubicBezTo>
                  <a:cubicBezTo>
                    <a:pt x="13" y="177"/>
                    <a:pt x="16" y="124"/>
                    <a:pt x="20" y="104"/>
                  </a:cubicBezTo>
                  <a:cubicBezTo>
                    <a:pt x="24" y="83"/>
                    <a:pt x="30" y="87"/>
                    <a:pt x="36" y="8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2876400">
              <a:off x="7239960" y="3763080"/>
              <a:ext cx="148680" cy="44892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36" y="81"/>
                  </a:moveTo>
                  <a:cubicBezTo>
                    <a:pt x="42" y="76"/>
                    <a:pt x="52" y="77"/>
                    <a:pt x="57" y="70"/>
                  </a:cubicBezTo>
                  <a:cubicBezTo>
                    <a:pt x="63" y="62"/>
                    <a:pt x="66" y="46"/>
                    <a:pt x="70" y="35"/>
                  </a:cubicBezTo>
                  <a:cubicBezTo>
                    <a:pt x="73" y="24"/>
                    <a:pt x="76" y="8"/>
                    <a:pt x="82" y="4"/>
                  </a:cubicBezTo>
                  <a:cubicBezTo>
                    <a:pt x="87" y="0"/>
                    <a:pt x="94" y="5"/>
                    <a:pt x="100" y="12"/>
                  </a:cubicBezTo>
                  <a:cubicBezTo>
                    <a:pt x="106" y="18"/>
                    <a:pt x="118" y="27"/>
                    <a:pt x="117" y="43"/>
                  </a:cubicBezTo>
                  <a:cubicBezTo>
                    <a:pt x="116" y="58"/>
                    <a:pt x="98" y="76"/>
                    <a:pt x="94" y="104"/>
                  </a:cubicBezTo>
                  <a:cubicBezTo>
                    <a:pt x="90" y="132"/>
                    <a:pt x="95" y="178"/>
                    <a:pt x="93" y="211"/>
                  </a:cubicBezTo>
                  <a:cubicBezTo>
                    <a:pt x="90" y="243"/>
                    <a:pt x="87" y="274"/>
                    <a:pt x="82" y="297"/>
                  </a:cubicBezTo>
                  <a:cubicBezTo>
                    <a:pt x="77" y="320"/>
                    <a:pt x="71" y="344"/>
                    <a:pt x="63" y="349"/>
                  </a:cubicBezTo>
                  <a:cubicBezTo>
                    <a:pt x="55" y="354"/>
                    <a:pt x="45" y="332"/>
                    <a:pt x="35" y="328"/>
                  </a:cubicBezTo>
                  <a:cubicBezTo>
                    <a:pt x="25" y="324"/>
                    <a:pt x="10" y="334"/>
                    <a:pt x="5" y="323"/>
                  </a:cubicBezTo>
                  <a:cubicBezTo>
                    <a:pt x="0" y="312"/>
                    <a:pt x="4" y="284"/>
                    <a:pt x="5" y="263"/>
                  </a:cubicBezTo>
                  <a:cubicBezTo>
                    <a:pt x="6" y="244"/>
                    <a:pt x="9" y="231"/>
                    <a:pt x="11" y="204"/>
                  </a:cubicBezTo>
                  <a:cubicBezTo>
                    <a:pt x="13" y="177"/>
                    <a:pt x="16" y="124"/>
                    <a:pt x="20" y="104"/>
                  </a:cubicBezTo>
                  <a:cubicBezTo>
                    <a:pt x="24" y="83"/>
                    <a:pt x="30" y="87"/>
                    <a:pt x="36" y="8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2876400">
              <a:off x="7288560" y="3867480"/>
              <a:ext cx="148680" cy="42516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36" y="81"/>
                  </a:moveTo>
                  <a:cubicBezTo>
                    <a:pt x="42" y="76"/>
                    <a:pt x="52" y="77"/>
                    <a:pt x="57" y="70"/>
                  </a:cubicBezTo>
                  <a:cubicBezTo>
                    <a:pt x="63" y="62"/>
                    <a:pt x="66" y="46"/>
                    <a:pt x="70" y="35"/>
                  </a:cubicBezTo>
                  <a:cubicBezTo>
                    <a:pt x="73" y="24"/>
                    <a:pt x="76" y="8"/>
                    <a:pt x="82" y="4"/>
                  </a:cubicBezTo>
                  <a:cubicBezTo>
                    <a:pt x="87" y="0"/>
                    <a:pt x="94" y="5"/>
                    <a:pt x="100" y="12"/>
                  </a:cubicBezTo>
                  <a:cubicBezTo>
                    <a:pt x="106" y="18"/>
                    <a:pt x="118" y="27"/>
                    <a:pt x="117" y="43"/>
                  </a:cubicBezTo>
                  <a:cubicBezTo>
                    <a:pt x="116" y="58"/>
                    <a:pt x="98" y="76"/>
                    <a:pt x="94" y="104"/>
                  </a:cubicBezTo>
                  <a:cubicBezTo>
                    <a:pt x="90" y="132"/>
                    <a:pt x="95" y="178"/>
                    <a:pt x="93" y="211"/>
                  </a:cubicBezTo>
                  <a:cubicBezTo>
                    <a:pt x="90" y="243"/>
                    <a:pt x="87" y="274"/>
                    <a:pt x="82" y="297"/>
                  </a:cubicBezTo>
                  <a:cubicBezTo>
                    <a:pt x="77" y="320"/>
                    <a:pt x="71" y="344"/>
                    <a:pt x="63" y="349"/>
                  </a:cubicBezTo>
                  <a:cubicBezTo>
                    <a:pt x="55" y="354"/>
                    <a:pt x="45" y="332"/>
                    <a:pt x="35" y="328"/>
                  </a:cubicBezTo>
                  <a:cubicBezTo>
                    <a:pt x="25" y="324"/>
                    <a:pt x="10" y="334"/>
                    <a:pt x="5" y="323"/>
                  </a:cubicBezTo>
                  <a:cubicBezTo>
                    <a:pt x="0" y="312"/>
                    <a:pt x="4" y="284"/>
                    <a:pt x="5" y="263"/>
                  </a:cubicBezTo>
                  <a:cubicBezTo>
                    <a:pt x="6" y="244"/>
                    <a:pt x="9" y="231"/>
                    <a:pt x="11" y="204"/>
                  </a:cubicBezTo>
                  <a:cubicBezTo>
                    <a:pt x="13" y="177"/>
                    <a:pt x="16" y="124"/>
                    <a:pt x="20" y="104"/>
                  </a:cubicBezTo>
                  <a:cubicBezTo>
                    <a:pt x="24" y="83"/>
                    <a:pt x="30" y="87"/>
                    <a:pt x="36" y="8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2876400">
              <a:off x="7345440" y="3959640"/>
              <a:ext cx="137520" cy="42840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36" y="81"/>
                  </a:moveTo>
                  <a:cubicBezTo>
                    <a:pt x="42" y="76"/>
                    <a:pt x="52" y="77"/>
                    <a:pt x="57" y="70"/>
                  </a:cubicBezTo>
                  <a:cubicBezTo>
                    <a:pt x="63" y="62"/>
                    <a:pt x="66" y="46"/>
                    <a:pt x="70" y="35"/>
                  </a:cubicBezTo>
                  <a:cubicBezTo>
                    <a:pt x="73" y="24"/>
                    <a:pt x="76" y="8"/>
                    <a:pt x="82" y="4"/>
                  </a:cubicBezTo>
                  <a:cubicBezTo>
                    <a:pt x="87" y="0"/>
                    <a:pt x="94" y="5"/>
                    <a:pt x="100" y="12"/>
                  </a:cubicBezTo>
                  <a:cubicBezTo>
                    <a:pt x="106" y="18"/>
                    <a:pt x="118" y="27"/>
                    <a:pt x="117" y="43"/>
                  </a:cubicBezTo>
                  <a:cubicBezTo>
                    <a:pt x="116" y="58"/>
                    <a:pt x="98" y="76"/>
                    <a:pt x="94" y="104"/>
                  </a:cubicBezTo>
                  <a:cubicBezTo>
                    <a:pt x="90" y="132"/>
                    <a:pt x="95" y="178"/>
                    <a:pt x="93" y="211"/>
                  </a:cubicBezTo>
                  <a:cubicBezTo>
                    <a:pt x="90" y="243"/>
                    <a:pt x="87" y="274"/>
                    <a:pt x="82" y="297"/>
                  </a:cubicBezTo>
                  <a:cubicBezTo>
                    <a:pt x="77" y="320"/>
                    <a:pt x="71" y="344"/>
                    <a:pt x="63" y="349"/>
                  </a:cubicBezTo>
                  <a:cubicBezTo>
                    <a:pt x="55" y="354"/>
                    <a:pt x="45" y="332"/>
                    <a:pt x="35" y="328"/>
                  </a:cubicBezTo>
                  <a:cubicBezTo>
                    <a:pt x="25" y="324"/>
                    <a:pt x="10" y="334"/>
                    <a:pt x="5" y="323"/>
                  </a:cubicBezTo>
                  <a:cubicBezTo>
                    <a:pt x="0" y="312"/>
                    <a:pt x="4" y="284"/>
                    <a:pt x="5" y="263"/>
                  </a:cubicBezTo>
                  <a:cubicBezTo>
                    <a:pt x="6" y="244"/>
                    <a:pt x="9" y="231"/>
                    <a:pt x="11" y="204"/>
                  </a:cubicBezTo>
                  <a:cubicBezTo>
                    <a:pt x="13" y="177"/>
                    <a:pt x="16" y="124"/>
                    <a:pt x="20" y="104"/>
                  </a:cubicBezTo>
                  <a:cubicBezTo>
                    <a:pt x="24" y="83"/>
                    <a:pt x="30" y="87"/>
                    <a:pt x="36" y="8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2876400">
              <a:off x="7387920" y="4051440"/>
              <a:ext cx="137520" cy="42840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36" y="81"/>
                  </a:moveTo>
                  <a:cubicBezTo>
                    <a:pt x="42" y="76"/>
                    <a:pt x="52" y="77"/>
                    <a:pt x="57" y="70"/>
                  </a:cubicBezTo>
                  <a:cubicBezTo>
                    <a:pt x="63" y="62"/>
                    <a:pt x="66" y="46"/>
                    <a:pt x="70" y="35"/>
                  </a:cubicBezTo>
                  <a:cubicBezTo>
                    <a:pt x="73" y="24"/>
                    <a:pt x="76" y="8"/>
                    <a:pt x="82" y="4"/>
                  </a:cubicBezTo>
                  <a:cubicBezTo>
                    <a:pt x="87" y="0"/>
                    <a:pt x="94" y="5"/>
                    <a:pt x="100" y="12"/>
                  </a:cubicBezTo>
                  <a:cubicBezTo>
                    <a:pt x="106" y="18"/>
                    <a:pt x="118" y="27"/>
                    <a:pt x="117" y="43"/>
                  </a:cubicBezTo>
                  <a:cubicBezTo>
                    <a:pt x="116" y="58"/>
                    <a:pt x="98" y="76"/>
                    <a:pt x="94" y="104"/>
                  </a:cubicBezTo>
                  <a:cubicBezTo>
                    <a:pt x="90" y="132"/>
                    <a:pt x="95" y="178"/>
                    <a:pt x="93" y="211"/>
                  </a:cubicBezTo>
                  <a:cubicBezTo>
                    <a:pt x="90" y="243"/>
                    <a:pt x="87" y="274"/>
                    <a:pt x="82" y="297"/>
                  </a:cubicBezTo>
                  <a:cubicBezTo>
                    <a:pt x="77" y="320"/>
                    <a:pt x="71" y="344"/>
                    <a:pt x="63" y="349"/>
                  </a:cubicBezTo>
                  <a:cubicBezTo>
                    <a:pt x="55" y="354"/>
                    <a:pt x="45" y="332"/>
                    <a:pt x="35" y="328"/>
                  </a:cubicBezTo>
                  <a:cubicBezTo>
                    <a:pt x="25" y="324"/>
                    <a:pt x="10" y="334"/>
                    <a:pt x="5" y="323"/>
                  </a:cubicBezTo>
                  <a:cubicBezTo>
                    <a:pt x="0" y="312"/>
                    <a:pt x="4" y="284"/>
                    <a:pt x="5" y="263"/>
                  </a:cubicBezTo>
                  <a:cubicBezTo>
                    <a:pt x="6" y="244"/>
                    <a:pt x="9" y="231"/>
                    <a:pt x="11" y="204"/>
                  </a:cubicBezTo>
                  <a:cubicBezTo>
                    <a:pt x="13" y="177"/>
                    <a:pt x="16" y="124"/>
                    <a:pt x="20" y="104"/>
                  </a:cubicBezTo>
                  <a:cubicBezTo>
                    <a:pt x="24" y="83"/>
                    <a:pt x="30" y="87"/>
                    <a:pt x="36" y="8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2876400">
              <a:off x="7423560" y="4162680"/>
              <a:ext cx="133200" cy="39024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36" y="81"/>
                  </a:moveTo>
                  <a:cubicBezTo>
                    <a:pt x="42" y="76"/>
                    <a:pt x="52" y="77"/>
                    <a:pt x="57" y="70"/>
                  </a:cubicBezTo>
                  <a:cubicBezTo>
                    <a:pt x="63" y="62"/>
                    <a:pt x="66" y="46"/>
                    <a:pt x="70" y="35"/>
                  </a:cubicBezTo>
                  <a:cubicBezTo>
                    <a:pt x="73" y="24"/>
                    <a:pt x="76" y="8"/>
                    <a:pt x="82" y="4"/>
                  </a:cubicBezTo>
                  <a:cubicBezTo>
                    <a:pt x="87" y="0"/>
                    <a:pt x="94" y="5"/>
                    <a:pt x="100" y="12"/>
                  </a:cubicBezTo>
                  <a:cubicBezTo>
                    <a:pt x="106" y="18"/>
                    <a:pt x="118" y="27"/>
                    <a:pt x="117" y="43"/>
                  </a:cubicBezTo>
                  <a:cubicBezTo>
                    <a:pt x="116" y="58"/>
                    <a:pt x="98" y="76"/>
                    <a:pt x="94" y="104"/>
                  </a:cubicBezTo>
                  <a:cubicBezTo>
                    <a:pt x="90" y="132"/>
                    <a:pt x="95" y="178"/>
                    <a:pt x="93" y="211"/>
                  </a:cubicBezTo>
                  <a:cubicBezTo>
                    <a:pt x="90" y="243"/>
                    <a:pt x="87" y="274"/>
                    <a:pt x="82" y="297"/>
                  </a:cubicBezTo>
                  <a:cubicBezTo>
                    <a:pt x="77" y="320"/>
                    <a:pt x="71" y="344"/>
                    <a:pt x="63" y="349"/>
                  </a:cubicBezTo>
                  <a:cubicBezTo>
                    <a:pt x="55" y="354"/>
                    <a:pt x="45" y="332"/>
                    <a:pt x="35" y="328"/>
                  </a:cubicBezTo>
                  <a:cubicBezTo>
                    <a:pt x="25" y="324"/>
                    <a:pt x="10" y="334"/>
                    <a:pt x="5" y="323"/>
                  </a:cubicBezTo>
                  <a:cubicBezTo>
                    <a:pt x="0" y="312"/>
                    <a:pt x="4" y="284"/>
                    <a:pt x="5" y="263"/>
                  </a:cubicBezTo>
                  <a:cubicBezTo>
                    <a:pt x="6" y="244"/>
                    <a:pt x="9" y="231"/>
                    <a:pt x="11" y="204"/>
                  </a:cubicBezTo>
                  <a:cubicBezTo>
                    <a:pt x="13" y="177"/>
                    <a:pt x="16" y="124"/>
                    <a:pt x="20" y="104"/>
                  </a:cubicBezTo>
                  <a:cubicBezTo>
                    <a:pt x="24" y="83"/>
                    <a:pt x="30" y="87"/>
                    <a:pt x="36" y="8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2876400">
              <a:off x="7480440" y="4235760"/>
              <a:ext cx="112320" cy="39204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36" y="81"/>
                  </a:moveTo>
                  <a:cubicBezTo>
                    <a:pt x="42" y="76"/>
                    <a:pt x="52" y="77"/>
                    <a:pt x="57" y="70"/>
                  </a:cubicBezTo>
                  <a:cubicBezTo>
                    <a:pt x="63" y="62"/>
                    <a:pt x="66" y="46"/>
                    <a:pt x="70" y="35"/>
                  </a:cubicBezTo>
                  <a:cubicBezTo>
                    <a:pt x="73" y="24"/>
                    <a:pt x="76" y="8"/>
                    <a:pt x="82" y="4"/>
                  </a:cubicBezTo>
                  <a:cubicBezTo>
                    <a:pt x="87" y="0"/>
                    <a:pt x="94" y="5"/>
                    <a:pt x="100" y="12"/>
                  </a:cubicBezTo>
                  <a:cubicBezTo>
                    <a:pt x="106" y="18"/>
                    <a:pt x="118" y="27"/>
                    <a:pt x="117" y="43"/>
                  </a:cubicBezTo>
                  <a:cubicBezTo>
                    <a:pt x="116" y="58"/>
                    <a:pt x="98" y="76"/>
                    <a:pt x="94" y="104"/>
                  </a:cubicBezTo>
                  <a:cubicBezTo>
                    <a:pt x="90" y="132"/>
                    <a:pt x="95" y="178"/>
                    <a:pt x="93" y="211"/>
                  </a:cubicBezTo>
                  <a:cubicBezTo>
                    <a:pt x="90" y="243"/>
                    <a:pt x="87" y="274"/>
                    <a:pt x="82" y="297"/>
                  </a:cubicBezTo>
                  <a:cubicBezTo>
                    <a:pt x="77" y="320"/>
                    <a:pt x="71" y="344"/>
                    <a:pt x="63" y="349"/>
                  </a:cubicBezTo>
                  <a:cubicBezTo>
                    <a:pt x="55" y="354"/>
                    <a:pt x="45" y="332"/>
                    <a:pt x="35" y="328"/>
                  </a:cubicBezTo>
                  <a:cubicBezTo>
                    <a:pt x="25" y="324"/>
                    <a:pt x="10" y="334"/>
                    <a:pt x="5" y="323"/>
                  </a:cubicBezTo>
                  <a:cubicBezTo>
                    <a:pt x="0" y="312"/>
                    <a:pt x="4" y="284"/>
                    <a:pt x="5" y="263"/>
                  </a:cubicBezTo>
                  <a:cubicBezTo>
                    <a:pt x="6" y="244"/>
                    <a:pt x="9" y="231"/>
                    <a:pt x="11" y="204"/>
                  </a:cubicBezTo>
                  <a:cubicBezTo>
                    <a:pt x="13" y="177"/>
                    <a:pt x="16" y="124"/>
                    <a:pt x="20" y="104"/>
                  </a:cubicBezTo>
                  <a:cubicBezTo>
                    <a:pt x="24" y="83"/>
                    <a:pt x="30" y="87"/>
                    <a:pt x="36" y="8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3033000">
              <a:off x="7718040" y="4709160"/>
              <a:ext cx="77400" cy="247320"/>
            </a:xfrm>
            <a:custGeom>
              <a:avLst/>
              <a:gdLst/>
              <a:ahLst/>
              <a:rect l="l" t="t" r="r" b="b"/>
              <a:pathLst>
                <a:path w="70" h="211">
                  <a:moveTo>
                    <a:pt x="16" y="34"/>
                  </a:moveTo>
                  <a:cubicBezTo>
                    <a:pt x="20" y="30"/>
                    <a:pt x="27" y="31"/>
                    <a:pt x="29" y="26"/>
                  </a:cubicBezTo>
                  <a:cubicBezTo>
                    <a:pt x="33" y="20"/>
                    <a:pt x="31" y="6"/>
                    <a:pt x="37" y="3"/>
                  </a:cubicBezTo>
                  <a:cubicBezTo>
                    <a:pt x="43" y="0"/>
                    <a:pt x="64" y="0"/>
                    <a:pt x="67" y="7"/>
                  </a:cubicBezTo>
                  <a:cubicBezTo>
                    <a:pt x="70" y="14"/>
                    <a:pt x="56" y="28"/>
                    <a:pt x="54" y="48"/>
                  </a:cubicBezTo>
                  <a:cubicBezTo>
                    <a:pt x="53" y="66"/>
                    <a:pt x="58" y="95"/>
                    <a:pt x="57" y="116"/>
                  </a:cubicBezTo>
                  <a:cubicBezTo>
                    <a:pt x="56" y="138"/>
                    <a:pt x="55" y="158"/>
                    <a:pt x="53" y="173"/>
                  </a:cubicBezTo>
                  <a:cubicBezTo>
                    <a:pt x="50" y="188"/>
                    <a:pt x="46" y="204"/>
                    <a:pt x="42" y="207"/>
                  </a:cubicBezTo>
                  <a:cubicBezTo>
                    <a:pt x="37" y="211"/>
                    <a:pt x="29" y="197"/>
                    <a:pt x="23" y="194"/>
                  </a:cubicBezTo>
                  <a:cubicBezTo>
                    <a:pt x="16" y="192"/>
                    <a:pt x="7" y="199"/>
                    <a:pt x="3" y="192"/>
                  </a:cubicBezTo>
                  <a:cubicBezTo>
                    <a:pt x="0" y="185"/>
                    <a:pt x="2" y="167"/>
                    <a:pt x="1" y="153"/>
                  </a:cubicBezTo>
                  <a:cubicBezTo>
                    <a:pt x="2" y="141"/>
                    <a:pt x="3" y="132"/>
                    <a:pt x="3" y="115"/>
                  </a:cubicBezTo>
                  <a:cubicBezTo>
                    <a:pt x="4" y="97"/>
                    <a:pt x="4" y="63"/>
                    <a:pt x="6" y="50"/>
                  </a:cubicBezTo>
                  <a:cubicBezTo>
                    <a:pt x="9" y="36"/>
                    <a:pt x="13" y="38"/>
                    <a:pt x="16" y="34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3033000">
              <a:off x="6865560" y="2632320"/>
              <a:ext cx="178920" cy="485640"/>
            </a:xfrm>
            <a:custGeom>
              <a:avLst/>
              <a:gdLst/>
              <a:ahLst/>
              <a:rect l="l" t="t" r="r" b="b"/>
              <a:pathLst>
                <a:path w="352" h="956">
                  <a:moveTo>
                    <a:pt x="133" y="245"/>
                  </a:moveTo>
                  <a:cubicBezTo>
                    <a:pt x="144" y="234"/>
                    <a:pt x="130" y="217"/>
                    <a:pt x="137" y="181"/>
                  </a:cubicBezTo>
                  <a:cubicBezTo>
                    <a:pt x="144" y="149"/>
                    <a:pt x="160" y="61"/>
                    <a:pt x="174" y="31"/>
                  </a:cubicBezTo>
                  <a:cubicBezTo>
                    <a:pt x="188" y="1"/>
                    <a:pt x="201" y="4"/>
                    <a:pt x="223" y="2"/>
                  </a:cubicBezTo>
                  <a:cubicBezTo>
                    <a:pt x="245" y="0"/>
                    <a:pt x="283" y="3"/>
                    <a:pt x="304" y="19"/>
                  </a:cubicBezTo>
                  <a:cubicBezTo>
                    <a:pt x="325" y="35"/>
                    <a:pt x="348" y="61"/>
                    <a:pt x="350" y="100"/>
                  </a:cubicBezTo>
                  <a:cubicBezTo>
                    <a:pt x="352" y="139"/>
                    <a:pt x="324" y="179"/>
                    <a:pt x="314" y="251"/>
                  </a:cubicBezTo>
                  <a:cubicBezTo>
                    <a:pt x="304" y="323"/>
                    <a:pt x="296" y="449"/>
                    <a:pt x="290" y="535"/>
                  </a:cubicBezTo>
                  <a:cubicBezTo>
                    <a:pt x="284" y="621"/>
                    <a:pt x="280" y="701"/>
                    <a:pt x="275" y="767"/>
                  </a:cubicBezTo>
                  <a:cubicBezTo>
                    <a:pt x="270" y="833"/>
                    <a:pt x="273" y="910"/>
                    <a:pt x="262" y="933"/>
                  </a:cubicBezTo>
                  <a:cubicBezTo>
                    <a:pt x="251" y="956"/>
                    <a:pt x="228" y="924"/>
                    <a:pt x="210" y="908"/>
                  </a:cubicBezTo>
                  <a:cubicBezTo>
                    <a:pt x="191" y="892"/>
                    <a:pt x="179" y="845"/>
                    <a:pt x="153" y="832"/>
                  </a:cubicBezTo>
                  <a:cubicBezTo>
                    <a:pt x="127" y="820"/>
                    <a:pt x="78" y="862"/>
                    <a:pt x="53" y="834"/>
                  </a:cubicBezTo>
                  <a:cubicBezTo>
                    <a:pt x="28" y="806"/>
                    <a:pt x="15" y="722"/>
                    <a:pt x="8" y="664"/>
                  </a:cubicBezTo>
                  <a:cubicBezTo>
                    <a:pt x="0" y="608"/>
                    <a:pt x="13" y="546"/>
                    <a:pt x="14" y="493"/>
                  </a:cubicBezTo>
                  <a:cubicBezTo>
                    <a:pt x="14" y="441"/>
                    <a:pt x="2" y="392"/>
                    <a:pt x="11" y="351"/>
                  </a:cubicBezTo>
                  <a:cubicBezTo>
                    <a:pt x="20" y="310"/>
                    <a:pt x="51" y="267"/>
                    <a:pt x="73" y="250"/>
                  </a:cubicBezTo>
                  <a:cubicBezTo>
                    <a:pt x="94" y="235"/>
                    <a:pt x="121" y="258"/>
                    <a:pt x="133" y="245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3033000">
              <a:off x="6848280" y="2511720"/>
              <a:ext cx="155520" cy="441000"/>
            </a:xfrm>
            <a:custGeom>
              <a:avLst/>
              <a:gdLst/>
              <a:ahLst/>
              <a:rect l="l" t="t" r="r" b="b"/>
              <a:pathLst>
                <a:path w="307" h="866">
                  <a:moveTo>
                    <a:pt x="116" y="222"/>
                  </a:moveTo>
                  <a:cubicBezTo>
                    <a:pt x="126" y="212"/>
                    <a:pt x="113" y="197"/>
                    <a:pt x="119" y="164"/>
                  </a:cubicBezTo>
                  <a:cubicBezTo>
                    <a:pt x="126" y="135"/>
                    <a:pt x="140" y="55"/>
                    <a:pt x="152" y="28"/>
                  </a:cubicBezTo>
                  <a:cubicBezTo>
                    <a:pt x="164" y="1"/>
                    <a:pt x="175" y="4"/>
                    <a:pt x="194" y="2"/>
                  </a:cubicBezTo>
                  <a:cubicBezTo>
                    <a:pt x="214" y="0"/>
                    <a:pt x="247" y="3"/>
                    <a:pt x="265" y="17"/>
                  </a:cubicBezTo>
                  <a:cubicBezTo>
                    <a:pt x="283" y="32"/>
                    <a:pt x="304" y="55"/>
                    <a:pt x="305" y="91"/>
                  </a:cubicBezTo>
                  <a:cubicBezTo>
                    <a:pt x="307" y="126"/>
                    <a:pt x="283" y="162"/>
                    <a:pt x="274" y="227"/>
                  </a:cubicBezTo>
                  <a:cubicBezTo>
                    <a:pt x="265" y="292"/>
                    <a:pt x="258" y="407"/>
                    <a:pt x="253" y="484"/>
                  </a:cubicBezTo>
                  <a:cubicBezTo>
                    <a:pt x="248" y="562"/>
                    <a:pt x="244" y="635"/>
                    <a:pt x="240" y="695"/>
                  </a:cubicBezTo>
                  <a:cubicBezTo>
                    <a:pt x="236" y="755"/>
                    <a:pt x="238" y="824"/>
                    <a:pt x="229" y="845"/>
                  </a:cubicBezTo>
                  <a:cubicBezTo>
                    <a:pt x="220" y="866"/>
                    <a:pt x="199" y="837"/>
                    <a:pt x="183" y="822"/>
                  </a:cubicBezTo>
                  <a:cubicBezTo>
                    <a:pt x="167" y="808"/>
                    <a:pt x="156" y="765"/>
                    <a:pt x="133" y="753"/>
                  </a:cubicBezTo>
                  <a:cubicBezTo>
                    <a:pt x="111" y="743"/>
                    <a:pt x="68" y="781"/>
                    <a:pt x="46" y="755"/>
                  </a:cubicBezTo>
                  <a:cubicBezTo>
                    <a:pt x="24" y="730"/>
                    <a:pt x="13" y="654"/>
                    <a:pt x="7" y="601"/>
                  </a:cubicBezTo>
                  <a:cubicBezTo>
                    <a:pt x="0" y="551"/>
                    <a:pt x="11" y="494"/>
                    <a:pt x="12" y="446"/>
                  </a:cubicBezTo>
                  <a:cubicBezTo>
                    <a:pt x="12" y="399"/>
                    <a:pt x="2" y="355"/>
                    <a:pt x="10" y="318"/>
                  </a:cubicBezTo>
                  <a:cubicBezTo>
                    <a:pt x="17" y="281"/>
                    <a:pt x="44" y="242"/>
                    <a:pt x="64" y="226"/>
                  </a:cubicBezTo>
                  <a:cubicBezTo>
                    <a:pt x="82" y="213"/>
                    <a:pt x="106" y="234"/>
                    <a:pt x="116" y="22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3033000">
              <a:off x="6445080" y="3013920"/>
              <a:ext cx="269640" cy="861840"/>
            </a:xfrm>
            <a:custGeom>
              <a:avLst/>
              <a:gdLst/>
              <a:ahLst/>
              <a:rect l="l" t="t" r="r" b="b"/>
              <a:pathLst>
                <a:path w="531" h="1697">
                  <a:moveTo>
                    <a:pt x="102" y="50"/>
                  </a:moveTo>
                  <a:cubicBezTo>
                    <a:pt x="142" y="100"/>
                    <a:pt x="218" y="244"/>
                    <a:pt x="267" y="357"/>
                  </a:cubicBezTo>
                  <a:cubicBezTo>
                    <a:pt x="316" y="470"/>
                    <a:pt x="359" y="608"/>
                    <a:pt x="394" y="725"/>
                  </a:cubicBezTo>
                  <a:cubicBezTo>
                    <a:pt x="429" y="842"/>
                    <a:pt x="457" y="966"/>
                    <a:pt x="477" y="1062"/>
                  </a:cubicBezTo>
                  <a:cubicBezTo>
                    <a:pt x="497" y="1158"/>
                    <a:pt x="507" y="1222"/>
                    <a:pt x="514" y="1302"/>
                  </a:cubicBezTo>
                  <a:cubicBezTo>
                    <a:pt x="521" y="1382"/>
                    <a:pt x="531" y="1485"/>
                    <a:pt x="522" y="1542"/>
                  </a:cubicBezTo>
                  <a:cubicBezTo>
                    <a:pt x="513" y="1599"/>
                    <a:pt x="479" y="1697"/>
                    <a:pt x="462" y="1647"/>
                  </a:cubicBezTo>
                  <a:cubicBezTo>
                    <a:pt x="445" y="1597"/>
                    <a:pt x="436" y="1371"/>
                    <a:pt x="417" y="1242"/>
                  </a:cubicBezTo>
                  <a:cubicBezTo>
                    <a:pt x="398" y="1113"/>
                    <a:pt x="380" y="996"/>
                    <a:pt x="349" y="875"/>
                  </a:cubicBezTo>
                  <a:cubicBezTo>
                    <a:pt x="318" y="754"/>
                    <a:pt x="264" y="605"/>
                    <a:pt x="229" y="515"/>
                  </a:cubicBezTo>
                  <a:cubicBezTo>
                    <a:pt x="194" y="425"/>
                    <a:pt x="174" y="396"/>
                    <a:pt x="139" y="335"/>
                  </a:cubicBezTo>
                  <a:cubicBezTo>
                    <a:pt x="104" y="274"/>
                    <a:pt x="38" y="193"/>
                    <a:pt x="19" y="147"/>
                  </a:cubicBezTo>
                  <a:cubicBezTo>
                    <a:pt x="0" y="101"/>
                    <a:pt x="15" y="72"/>
                    <a:pt x="27" y="57"/>
                  </a:cubicBezTo>
                  <a:cubicBezTo>
                    <a:pt x="39" y="42"/>
                    <a:pt x="62" y="0"/>
                    <a:pt x="102" y="50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3033000">
              <a:off x="6328080" y="2850840"/>
              <a:ext cx="280800" cy="1055160"/>
            </a:xfrm>
            <a:custGeom>
              <a:avLst/>
              <a:gdLst/>
              <a:ahLst/>
              <a:rect l="l" t="t" r="r" b="b"/>
              <a:pathLst>
                <a:path w="553" h="2081">
                  <a:moveTo>
                    <a:pt x="504" y="2023"/>
                  </a:moveTo>
                  <a:cubicBezTo>
                    <a:pt x="511" y="1998"/>
                    <a:pt x="528" y="2012"/>
                    <a:pt x="534" y="1925"/>
                  </a:cubicBezTo>
                  <a:cubicBezTo>
                    <a:pt x="540" y="1838"/>
                    <a:pt x="553" y="1645"/>
                    <a:pt x="542" y="1498"/>
                  </a:cubicBezTo>
                  <a:cubicBezTo>
                    <a:pt x="531" y="1351"/>
                    <a:pt x="508" y="1195"/>
                    <a:pt x="467" y="1040"/>
                  </a:cubicBezTo>
                  <a:cubicBezTo>
                    <a:pt x="426" y="885"/>
                    <a:pt x="339" y="698"/>
                    <a:pt x="294" y="568"/>
                  </a:cubicBezTo>
                  <a:cubicBezTo>
                    <a:pt x="249" y="438"/>
                    <a:pt x="217" y="339"/>
                    <a:pt x="197" y="260"/>
                  </a:cubicBezTo>
                  <a:cubicBezTo>
                    <a:pt x="177" y="181"/>
                    <a:pt x="188" y="132"/>
                    <a:pt x="174" y="95"/>
                  </a:cubicBezTo>
                  <a:cubicBezTo>
                    <a:pt x="160" y="58"/>
                    <a:pt x="138" y="51"/>
                    <a:pt x="111" y="38"/>
                  </a:cubicBezTo>
                  <a:cubicBezTo>
                    <a:pt x="84" y="25"/>
                    <a:pt x="28" y="0"/>
                    <a:pt x="14" y="16"/>
                  </a:cubicBezTo>
                  <a:cubicBezTo>
                    <a:pt x="0" y="32"/>
                    <a:pt x="4" y="75"/>
                    <a:pt x="24" y="133"/>
                  </a:cubicBezTo>
                  <a:cubicBezTo>
                    <a:pt x="44" y="191"/>
                    <a:pt x="101" y="275"/>
                    <a:pt x="137" y="365"/>
                  </a:cubicBezTo>
                  <a:cubicBezTo>
                    <a:pt x="173" y="455"/>
                    <a:pt x="203" y="551"/>
                    <a:pt x="242" y="673"/>
                  </a:cubicBezTo>
                  <a:cubicBezTo>
                    <a:pt x="281" y="795"/>
                    <a:pt x="342" y="982"/>
                    <a:pt x="369" y="1100"/>
                  </a:cubicBezTo>
                  <a:cubicBezTo>
                    <a:pt x="396" y="1218"/>
                    <a:pt x="400" y="1288"/>
                    <a:pt x="407" y="1385"/>
                  </a:cubicBezTo>
                  <a:cubicBezTo>
                    <a:pt x="414" y="1482"/>
                    <a:pt x="414" y="1598"/>
                    <a:pt x="414" y="1685"/>
                  </a:cubicBezTo>
                  <a:cubicBezTo>
                    <a:pt x="414" y="1772"/>
                    <a:pt x="407" y="1849"/>
                    <a:pt x="407" y="1910"/>
                  </a:cubicBezTo>
                  <a:cubicBezTo>
                    <a:pt x="407" y="1971"/>
                    <a:pt x="400" y="2026"/>
                    <a:pt x="414" y="2053"/>
                  </a:cubicBezTo>
                  <a:cubicBezTo>
                    <a:pt x="428" y="2080"/>
                    <a:pt x="473" y="2081"/>
                    <a:pt x="489" y="2075"/>
                  </a:cubicBezTo>
                  <a:cubicBezTo>
                    <a:pt x="505" y="2069"/>
                    <a:pt x="494" y="2044"/>
                    <a:pt x="504" y="2023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3033000">
              <a:off x="6197400" y="2621880"/>
              <a:ext cx="298080" cy="1333080"/>
            </a:xfrm>
            <a:custGeom>
              <a:avLst/>
              <a:gdLst/>
              <a:ahLst/>
              <a:rect l="l" t="t" r="r" b="b"/>
              <a:pathLst>
                <a:path w="590" h="2623">
                  <a:moveTo>
                    <a:pt x="590" y="2089"/>
                  </a:moveTo>
                  <a:cubicBezTo>
                    <a:pt x="586" y="2000"/>
                    <a:pt x="582" y="1784"/>
                    <a:pt x="575" y="1647"/>
                  </a:cubicBezTo>
                  <a:cubicBezTo>
                    <a:pt x="568" y="1510"/>
                    <a:pt x="561" y="1382"/>
                    <a:pt x="545" y="1264"/>
                  </a:cubicBezTo>
                  <a:cubicBezTo>
                    <a:pt x="529" y="1146"/>
                    <a:pt x="511" y="1061"/>
                    <a:pt x="477" y="942"/>
                  </a:cubicBezTo>
                  <a:cubicBezTo>
                    <a:pt x="443" y="823"/>
                    <a:pt x="376" y="652"/>
                    <a:pt x="342" y="552"/>
                  </a:cubicBezTo>
                  <a:cubicBezTo>
                    <a:pt x="308" y="452"/>
                    <a:pt x="289" y="409"/>
                    <a:pt x="275" y="342"/>
                  </a:cubicBezTo>
                  <a:cubicBezTo>
                    <a:pt x="261" y="275"/>
                    <a:pt x="289" y="193"/>
                    <a:pt x="260" y="147"/>
                  </a:cubicBezTo>
                  <a:cubicBezTo>
                    <a:pt x="231" y="101"/>
                    <a:pt x="133" y="88"/>
                    <a:pt x="102" y="64"/>
                  </a:cubicBezTo>
                  <a:cubicBezTo>
                    <a:pt x="71" y="40"/>
                    <a:pt x="87" y="0"/>
                    <a:pt x="72" y="4"/>
                  </a:cubicBezTo>
                  <a:cubicBezTo>
                    <a:pt x="57" y="8"/>
                    <a:pt x="0" y="31"/>
                    <a:pt x="12" y="87"/>
                  </a:cubicBezTo>
                  <a:cubicBezTo>
                    <a:pt x="24" y="143"/>
                    <a:pt x="108" y="255"/>
                    <a:pt x="147" y="342"/>
                  </a:cubicBezTo>
                  <a:cubicBezTo>
                    <a:pt x="186" y="429"/>
                    <a:pt x="209" y="512"/>
                    <a:pt x="245" y="612"/>
                  </a:cubicBezTo>
                  <a:cubicBezTo>
                    <a:pt x="281" y="712"/>
                    <a:pt x="333" y="817"/>
                    <a:pt x="365" y="942"/>
                  </a:cubicBezTo>
                  <a:cubicBezTo>
                    <a:pt x="397" y="1067"/>
                    <a:pt x="425" y="1233"/>
                    <a:pt x="440" y="1362"/>
                  </a:cubicBezTo>
                  <a:cubicBezTo>
                    <a:pt x="455" y="1491"/>
                    <a:pt x="452" y="1594"/>
                    <a:pt x="455" y="1714"/>
                  </a:cubicBezTo>
                  <a:cubicBezTo>
                    <a:pt x="458" y="1834"/>
                    <a:pt x="459" y="1967"/>
                    <a:pt x="455" y="2082"/>
                  </a:cubicBezTo>
                  <a:cubicBezTo>
                    <a:pt x="451" y="2197"/>
                    <a:pt x="438" y="2328"/>
                    <a:pt x="432" y="2404"/>
                  </a:cubicBezTo>
                  <a:cubicBezTo>
                    <a:pt x="426" y="2480"/>
                    <a:pt x="417" y="2503"/>
                    <a:pt x="417" y="2539"/>
                  </a:cubicBezTo>
                  <a:cubicBezTo>
                    <a:pt x="417" y="2575"/>
                    <a:pt x="417" y="2621"/>
                    <a:pt x="432" y="2622"/>
                  </a:cubicBezTo>
                  <a:cubicBezTo>
                    <a:pt x="447" y="2623"/>
                    <a:pt x="487" y="2582"/>
                    <a:pt x="507" y="2547"/>
                  </a:cubicBezTo>
                  <a:cubicBezTo>
                    <a:pt x="527" y="2512"/>
                    <a:pt x="543" y="2434"/>
                    <a:pt x="552" y="2412"/>
                  </a:cubicBezTo>
                  <a:cubicBezTo>
                    <a:pt x="561" y="2390"/>
                    <a:pt x="555" y="2452"/>
                    <a:pt x="560" y="2412"/>
                  </a:cubicBezTo>
                  <a:cubicBezTo>
                    <a:pt x="565" y="2372"/>
                    <a:pt x="577" y="2226"/>
                    <a:pt x="582" y="2172"/>
                  </a:cubicBezTo>
                  <a:cubicBezTo>
                    <a:pt x="587" y="2118"/>
                    <a:pt x="588" y="2106"/>
                    <a:pt x="590" y="2089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1188600">
              <a:off x="6955200" y="4437360"/>
              <a:ext cx="456840" cy="177480"/>
            </a:xfrm>
            <a:custGeom>
              <a:avLst/>
              <a:gdLst/>
              <a:ahLst/>
              <a:rect l="l" t="t" r="r" b="b"/>
              <a:pathLst>
                <a:path w="4513" h="1742">
                  <a:moveTo>
                    <a:pt x="93" y="1357"/>
                  </a:moveTo>
                  <a:cubicBezTo>
                    <a:pt x="303" y="1287"/>
                    <a:pt x="893" y="1312"/>
                    <a:pt x="1233" y="1162"/>
                  </a:cubicBezTo>
                  <a:cubicBezTo>
                    <a:pt x="1573" y="1012"/>
                    <a:pt x="1931" y="649"/>
                    <a:pt x="2133" y="457"/>
                  </a:cubicBezTo>
                  <a:cubicBezTo>
                    <a:pt x="2335" y="265"/>
                    <a:pt x="2298" y="0"/>
                    <a:pt x="2448" y="7"/>
                  </a:cubicBezTo>
                  <a:cubicBezTo>
                    <a:pt x="2598" y="14"/>
                    <a:pt x="2881" y="382"/>
                    <a:pt x="3033" y="502"/>
                  </a:cubicBezTo>
                  <a:cubicBezTo>
                    <a:pt x="3185" y="622"/>
                    <a:pt x="3218" y="684"/>
                    <a:pt x="3363" y="727"/>
                  </a:cubicBezTo>
                  <a:cubicBezTo>
                    <a:pt x="3508" y="770"/>
                    <a:pt x="3743" y="720"/>
                    <a:pt x="3903" y="757"/>
                  </a:cubicBezTo>
                  <a:cubicBezTo>
                    <a:pt x="4063" y="794"/>
                    <a:pt x="4228" y="862"/>
                    <a:pt x="4323" y="952"/>
                  </a:cubicBezTo>
                  <a:cubicBezTo>
                    <a:pt x="4418" y="1042"/>
                    <a:pt x="4513" y="1197"/>
                    <a:pt x="4473" y="1297"/>
                  </a:cubicBezTo>
                  <a:cubicBezTo>
                    <a:pt x="4433" y="1397"/>
                    <a:pt x="4308" y="1550"/>
                    <a:pt x="4083" y="1552"/>
                  </a:cubicBezTo>
                  <a:cubicBezTo>
                    <a:pt x="3858" y="1554"/>
                    <a:pt x="3390" y="1402"/>
                    <a:pt x="3123" y="1312"/>
                  </a:cubicBezTo>
                  <a:cubicBezTo>
                    <a:pt x="2856" y="1222"/>
                    <a:pt x="2733" y="990"/>
                    <a:pt x="2478" y="1012"/>
                  </a:cubicBezTo>
                  <a:cubicBezTo>
                    <a:pt x="2223" y="1034"/>
                    <a:pt x="1943" y="1330"/>
                    <a:pt x="1593" y="1447"/>
                  </a:cubicBezTo>
                  <a:cubicBezTo>
                    <a:pt x="1243" y="1564"/>
                    <a:pt x="635" y="1692"/>
                    <a:pt x="378" y="1717"/>
                  </a:cubicBezTo>
                  <a:cubicBezTo>
                    <a:pt x="121" y="1742"/>
                    <a:pt x="96" y="1657"/>
                    <a:pt x="48" y="1597"/>
                  </a:cubicBezTo>
                  <a:cubicBezTo>
                    <a:pt x="0" y="1537"/>
                    <a:pt x="84" y="1407"/>
                    <a:pt x="93" y="1357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3705600">
              <a:off x="6980400" y="4406400"/>
              <a:ext cx="456840" cy="177480"/>
            </a:xfrm>
            <a:custGeom>
              <a:avLst/>
              <a:gdLst/>
              <a:ahLst/>
              <a:rect l="l" t="t" r="r" b="b"/>
              <a:pathLst>
                <a:path w="4513" h="1742">
                  <a:moveTo>
                    <a:pt x="93" y="1357"/>
                  </a:moveTo>
                  <a:cubicBezTo>
                    <a:pt x="303" y="1287"/>
                    <a:pt x="893" y="1312"/>
                    <a:pt x="1233" y="1162"/>
                  </a:cubicBezTo>
                  <a:cubicBezTo>
                    <a:pt x="1573" y="1012"/>
                    <a:pt x="1931" y="649"/>
                    <a:pt x="2133" y="457"/>
                  </a:cubicBezTo>
                  <a:cubicBezTo>
                    <a:pt x="2335" y="265"/>
                    <a:pt x="2298" y="0"/>
                    <a:pt x="2448" y="7"/>
                  </a:cubicBezTo>
                  <a:cubicBezTo>
                    <a:pt x="2598" y="14"/>
                    <a:pt x="2881" y="382"/>
                    <a:pt x="3033" y="502"/>
                  </a:cubicBezTo>
                  <a:cubicBezTo>
                    <a:pt x="3185" y="622"/>
                    <a:pt x="3218" y="684"/>
                    <a:pt x="3363" y="727"/>
                  </a:cubicBezTo>
                  <a:cubicBezTo>
                    <a:pt x="3508" y="770"/>
                    <a:pt x="3743" y="720"/>
                    <a:pt x="3903" y="757"/>
                  </a:cubicBezTo>
                  <a:cubicBezTo>
                    <a:pt x="4063" y="794"/>
                    <a:pt x="4228" y="862"/>
                    <a:pt x="4323" y="952"/>
                  </a:cubicBezTo>
                  <a:cubicBezTo>
                    <a:pt x="4418" y="1042"/>
                    <a:pt x="4513" y="1197"/>
                    <a:pt x="4473" y="1297"/>
                  </a:cubicBezTo>
                  <a:cubicBezTo>
                    <a:pt x="4433" y="1397"/>
                    <a:pt x="4308" y="1550"/>
                    <a:pt x="4083" y="1552"/>
                  </a:cubicBezTo>
                  <a:cubicBezTo>
                    <a:pt x="3858" y="1554"/>
                    <a:pt x="3390" y="1402"/>
                    <a:pt x="3123" y="1312"/>
                  </a:cubicBezTo>
                  <a:cubicBezTo>
                    <a:pt x="2856" y="1222"/>
                    <a:pt x="2733" y="990"/>
                    <a:pt x="2478" y="1012"/>
                  </a:cubicBezTo>
                  <a:cubicBezTo>
                    <a:pt x="2223" y="1034"/>
                    <a:pt x="1943" y="1330"/>
                    <a:pt x="1593" y="1447"/>
                  </a:cubicBezTo>
                  <a:cubicBezTo>
                    <a:pt x="1243" y="1564"/>
                    <a:pt x="635" y="1692"/>
                    <a:pt x="378" y="1717"/>
                  </a:cubicBezTo>
                  <a:cubicBezTo>
                    <a:pt x="121" y="1742"/>
                    <a:pt x="96" y="1657"/>
                    <a:pt x="48" y="1597"/>
                  </a:cubicBezTo>
                  <a:cubicBezTo>
                    <a:pt x="0" y="1537"/>
                    <a:pt x="84" y="1407"/>
                    <a:pt x="93" y="1357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642000">
              <a:off x="5538960" y="2435400"/>
              <a:ext cx="3605040" cy="3876480"/>
            </a:xfrm>
            <a:custGeom>
              <a:avLst/>
              <a:gdLst/>
              <a:ahLst/>
              <a:rect l="l" t="t" r="r" b="b"/>
              <a:pathLst>
                <a:path w="2349" h="2526">
                  <a:moveTo>
                    <a:pt x="0" y="1209"/>
                  </a:moveTo>
                  <a:cubicBezTo>
                    <a:pt x="37" y="1223"/>
                    <a:pt x="133" y="1256"/>
                    <a:pt x="237" y="1296"/>
                  </a:cubicBezTo>
                  <a:cubicBezTo>
                    <a:pt x="341" y="1336"/>
                    <a:pt x="489" y="1402"/>
                    <a:pt x="624" y="1452"/>
                  </a:cubicBezTo>
                  <a:cubicBezTo>
                    <a:pt x="758" y="1502"/>
                    <a:pt x="912" y="1553"/>
                    <a:pt x="1045" y="1596"/>
                  </a:cubicBezTo>
                  <a:cubicBezTo>
                    <a:pt x="1177" y="1638"/>
                    <a:pt x="1339" y="1659"/>
                    <a:pt x="1418" y="1707"/>
                  </a:cubicBezTo>
                  <a:cubicBezTo>
                    <a:pt x="1497" y="1756"/>
                    <a:pt x="1517" y="1798"/>
                    <a:pt x="1521" y="1884"/>
                  </a:cubicBezTo>
                  <a:cubicBezTo>
                    <a:pt x="1524" y="1970"/>
                    <a:pt x="1465" y="2136"/>
                    <a:pt x="1447" y="2222"/>
                  </a:cubicBezTo>
                  <a:cubicBezTo>
                    <a:pt x="1428" y="2309"/>
                    <a:pt x="1411" y="2351"/>
                    <a:pt x="1409" y="2401"/>
                  </a:cubicBezTo>
                  <a:cubicBezTo>
                    <a:pt x="1407" y="2452"/>
                    <a:pt x="1416" y="2526"/>
                    <a:pt x="1437" y="2525"/>
                  </a:cubicBezTo>
                  <a:cubicBezTo>
                    <a:pt x="1459" y="2524"/>
                    <a:pt x="1511" y="2442"/>
                    <a:pt x="1538" y="2397"/>
                  </a:cubicBezTo>
                  <a:cubicBezTo>
                    <a:pt x="1566" y="2351"/>
                    <a:pt x="1578" y="2297"/>
                    <a:pt x="1603" y="2251"/>
                  </a:cubicBezTo>
                  <a:cubicBezTo>
                    <a:pt x="1628" y="2204"/>
                    <a:pt x="1647" y="2182"/>
                    <a:pt x="1691" y="2118"/>
                  </a:cubicBezTo>
                  <a:cubicBezTo>
                    <a:pt x="1735" y="2055"/>
                    <a:pt x="1829" y="1928"/>
                    <a:pt x="1865" y="1871"/>
                  </a:cubicBezTo>
                  <a:cubicBezTo>
                    <a:pt x="1900" y="1813"/>
                    <a:pt x="1907" y="1805"/>
                    <a:pt x="1905" y="1772"/>
                  </a:cubicBezTo>
                  <a:cubicBezTo>
                    <a:pt x="1903" y="1739"/>
                    <a:pt x="1854" y="1680"/>
                    <a:pt x="1855" y="1672"/>
                  </a:cubicBezTo>
                  <a:cubicBezTo>
                    <a:pt x="1857" y="1664"/>
                    <a:pt x="1873" y="1743"/>
                    <a:pt x="1914" y="1721"/>
                  </a:cubicBezTo>
                  <a:cubicBezTo>
                    <a:pt x="1956" y="1701"/>
                    <a:pt x="2050" y="1580"/>
                    <a:pt x="2103" y="1545"/>
                  </a:cubicBezTo>
                  <a:cubicBezTo>
                    <a:pt x="2156" y="1511"/>
                    <a:pt x="2190" y="1524"/>
                    <a:pt x="2231" y="1512"/>
                  </a:cubicBezTo>
                  <a:cubicBezTo>
                    <a:pt x="2271" y="1498"/>
                    <a:pt x="2342" y="1484"/>
                    <a:pt x="2345" y="1464"/>
                  </a:cubicBezTo>
                  <a:cubicBezTo>
                    <a:pt x="2349" y="1446"/>
                    <a:pt x="2297" y="1406"/>
                    <a:pt x="2253" y="1395"/>
                  </a:cubicBezTo>
                  <a:cubicBezTo>
                    <a:pt x="2209" y="1385"/>
                    <a:pt x="2139" y="1384"/>
                    <a:pt x="2080" y="1402"/>
                  </a:cubicBezTo>
                  <a:cubicBezTo>
                    <a:pt x="2023" y="1421"/>
                    <a:pt x="1954" y="1493"/>
                    <a:pt x="1899" y="1510"/>
                  </a:cubicBezTo>
                  <a:cubicBezTo>
                    <a:pt x="1845" y="1526"/>
                    <a:pt x="1799" y="1541"/>
                    <a:pt x="1754" y="1504"/>
                  </a:cubicBezTo>
                  <a:cubicBezTo>
                    <a:pt x="1710" y="1468"/>
                    <a:pt x="1675" y="1360"/>
                    <a:pt x="1631" y="1293"/>
                  </a:cubicBezTo>
                  <a:cubicBezTo>
                    <a:pt x="1586" y="1226"/>
                    <a:pt x="1536" y="1182"/>
                    <a:pt x="1491" y="1102"/>
                  </a:cubicBezTo>
                  <a:cubicBezTo>
                    <a:pt x="1444" y="1022"/>
                    <a:pt x="1394" y="891"/>
                    <a:pt x="1356" y="814"/>
                  </a:cubicBezTo>
                  <a:cubicBezTo>
                    <a:pt x="1319" y="737"/>
                    <a:pt x="1303" y="712"/>
                    <a:pt x="1267" y="641"/>
                  </a:cubicBezTo>
                  <a:cubicBezTo>
                    <a:pt x="1232" y="569"/>
                    <a:pt x="1185" y="462"/>
                    <a:pt x="1145" y="388"/>
                  </a:cubicBezTo>
                  <a:cubicBezTo>
                    <a:pt x="1106" y="314"/>
                    <a:pt x="1074" y="263"/>
                    <a:pt x="1028" y="199"/>
                  </a:cubicBezTo>
                  <a:cubicBezTo>
                    <a:pt x="983" y="135"/>
                    <a:pt x="926" y="66"/>
                    <a:pt x="870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642000">
              <a:off x="6838920" y="4224960"/>
              <a:ext cx="642600" cy="6174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307800" y="2795760"/>
            <a:ext cx="804960" cy="48240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3"/>
          <a:stretch/>
        </p:blipFill>
        <p:spPr>
          <a:xfrm>
            <a:off x="307800" y="4017960"/>
            <a:ext cx="804960" cy="4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0" y="129960"/>
            <a:ext cx="905184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cc"/>
                </a:solidFill>
                <a:latin typeface="Eras Bold ITC"/>
              </a:rPr>
              <a:t>3 COMPARATIVE ANATOMY</a:t>
            </a: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70000" y="1565280"/>
            <a:ext cx="7493040" cy="25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Franklin Gothic Heavy"/>
              </a:rPr>
              <a:t>EMBRYOLOGY</a:t>
            </a:r>
            <a:endParaRPr b="0" lang="en-US" sz="4000" spc="-1" strike="noStrike">
              <a:solidFill>
                <a:srgbClr val="00ffff"/>
              </a:solidFill>
              <a:latin typeface="Franklin Gothic Heavy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  <a:ea typeface="Arial"/>
              </a:rPr>
              <a:t>Embryos of different species may appear similar in early stages of development 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1123560" y="4343040"/>
            <a:ext cx="464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ex:  vertebrate development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5100480" y="4548240"/>
            <a:ext cx="3932280" cy="1908000"/>
            <a:chOff x="5100480" y="4548240"/>
            <a:chExt cx="3932280" cy="1908000"/>
          </a:xfrm>
        </p:grpSpPr>
        <p:grpSp>
          <p:nvGrpSpPr>
            <p:cNvPr id="550" name=""/>
            <p:cNvGrpSpPr/>
            <p:nvPr/>
          </p:nvGrpSpPr>
          <p:grpSpPr>
            <a:xfrm>
              <a:off x="5100480" y="4654440"/>
              <a:ext cx="925560" cy="1695600"/>
              <a:chOff x="5100480" y="4654440"/>
              <a:chExt cx="925560" cy="1695600"/>
            </a:xfrm>
          </p:grpSpPr>
          <p:sp>
            <p:nvSpPr>
              <p:cNvPr id="551" name=""/>
              <p:cNvSpPr/>
              <p:nvPr/>
            </p:nvSpPr>
            <p:spPr>
              <a:xfrm>
                <a:off x="5100480" y="4654440"/>
                <a:ext cx="925560" cy="1695600"/>
              </a:xfrm>
              <a:custGeom>
                <a:avLst/>
                <a:gdLst/>
                <a:ahLst/>
                <a:rect l="l" t="t" r="r" b="b"/>
                <a:pathLst>
                  <a:path w="970" h="1778">
                    <a:moveTo>
                      <a:pt x="366" y="44"/>
                    </a:moveTo>
                    <a:cubicBezTo>
                      <a:pt x="344" y="71"/>
                      <a:pt x="300" y="139"/>
                      <a:pt x="284" y="179"/>
                    </a:cubicBezTo>
                    <a:cubicBezTo>
                      <a:pt x="268" y="219"/>
                      <a:pt x="283" y="248"/>
                      <a:pt x="269" y="284"/>
                    </a:cubicBezTo>
                    <a:cubicBezTo>
                      <a:pt x="255" y="320"/>
                      <a:pt x="211" y="354"/>
                      <a:pt x="201" y="396"/>
                    </a:cubicBezTo>
                    <a:cubicBezTo>
                      <a:pt x="191" y="438"/>
                      <a:pt x="180" y="505"/>
                      <a:pt x="209" y="539"/>
                    </a:cubicBezTo>
                    <a:cubicBezTo>
                      <a:pt x="238" y="573"/>
                      <a:pt x="334" y="598"/>
                      <a:pt x="374" y="599"/>
                    </a:cubicBezTo>
                    <a:cubicBezTo>
                      <a:pt x="414" y="600"/>
                      <a:pt x="430" y="567"/>
                      <a:pt x="449" y="546"/>
                    </a:cubicBezTo>
                    <a:cubicBezTo>
                      <a:pt x="468" y="525"/>
                      <a:pt x="474" y="495"/>
                      <a:pt x="486" y="471"/>
                    </a:cubicBezTo>
                    <a:cubicBezTo>
                      <a:pt x="498" y="447"/>
                      <a:pt x="524" y="397"/>
                      <a:pt x="524" y="404"/>
                    </a:cubicBezTo>
                    <a:cubicBezTo>
                      <a:pt x="524" y="411"/>
                      <a:pt x="487" y="491"/>
                      <a:pt x="486" y="516"/>
                    </a:cubicBezTo>
                    <a:cubicBezTo>
                      <a:pt x="485" y="541"/>
                      <a:pt x="499" y="559"/>
                      <a:pt x="516" y="554"/>
                    </a:cubicBezTo>
                    <a:cubicBezTo>
                      <a:pt x="533" y="549"/>
                      <a:pt x="586" y="486"/>
                      <a:pt x="591" y="486"/>
                    </a:cubicBezTo>
                    <a:cubicBezTo>
                      <a:pt x="596" y="486"/>
                      <a:pt x="542" y="534"/>
                      <a:pt x="546" y="554"/>
                    </a:cubicBezTo>
                    <a:cubicBezTo>
                      <a:pt x="550" y="574"/>
                      <a:pt x="592" y="605"/>
                      <a:pt x="614" y="606"/>
                    </a:cubicBezTo>
                    <a:cubicBezTo>
                      <a:pt x="636" y="607"/>
                      <a:pt x="681" y="562"/>
                      <a:pt x="681" y="561"/>
                    </a:cubicBezTo>
                    <a:cubicBezTo>
                      <a:pt x="681" y="560"/>
                      <a:pt x="626" y="585"/>
                      <a:pt x="614" y="599"/>
                    </a:cubicBezTo>
                    <a:cubicBezTo>
                      <a:pt x="602" y="613"/>
                      <a:pt x="596" y="637"/>
                      <a:pt x="606" y="644"/>
                    </a:cubicBezTo>
                    <a:cubicBezTo>
                      <a:pt x="616" y="651"/>
                      <a:pt x="654" y="649"/>
                      <a:pt x="674" y="644"/>
                    </a:cubicBezTo>
                    <a:cubicBezTo>
                      <a:pt x="694" y="639"/>
                      <a:pt x="727" y="613"/>
                      <a:pt x="726" y="614"/>
                    </a:cubicBezTo>
                    <a:cubicBezTo>
                      <a:pt x="725" y="615"/>
                      <a:pt x="683" y="641"/>
                      <a:pt x="666" y="651"/>
                    </a:cubicBezTo>
                    <a:cubicBezTo>
                      <a:pt x="649" y="661"/>
                      <a:pt x="626" y="660"/>
                      <a:pt x="621" y="674"/>
                    </a:cubicBezTo>
                    <a:cubicBezTo>
                      <a:pt x="616" y="688"/>
                      <a:pt x="641" y="717"/>
                      <a:pt x="636" y="734"/>
                    </a:cubicBezTo>
                    <a:cubicBezTo>
                      <a:pt x="631" y="751"/>
                      <a:pt x="601" y="749"/>
                      <a:pt x="591" y="779"/>
                    </a:cubicBezTo>
                    <a:cubicBezTo>
                      <a:pt x="581" y="809"/>
                      <a:pt x="573" y="864"/>
                      <a:pt x="576" y="914"/>
                    </a:cubicBezTo>
                    <a:cubicBezTo>
                      <a:pt x="579" y="964"/>
                      <a:pt x="603" y="994"/>
                      <a:pt x="606" y="1079"/>
                    </a:cubicBezTo>
                    <a:cubicBezTo>
                      <a:pt x="609" y="1164"/>
                      <a:pt x="606" y="1339"/>
                      <a:pt x="591" y="1424"/>
                    </a:cubicBezTo>
                    <a:cubicBezTo>
                      <a:pt x="576" y="1509"/>
                      <a:pt x="561" y="1550"/>
                      <a:pt x="516" y="1589"/>
                    </a:cubicBezTo>
                    <a:cubicBezTo>
                      <a:pt x="471" y="1628"/>
                      <a:pt x="377" y="1650"/>
                      <a:pt x="321" y="1656"/>
                    </a:cubicBezTo>
                    <a:cubicBezTo>
                      <a:pt x="265" y="1662"/>
                      <a:pt x="219" y="1642"/>
                      <a:pt x="179" y="1626"/>
                    </a:cubicBezTo>
                    <a:cubicBezTo>
                      <a:pt x="139" y="1610"/>
                      <a:pt x="110" y="1571"/>
                      <a:pt x="81" y="1559"/>
                    </a:cubicBezTo>
                    <a:cubicBezTo>
                      <a:pt x="52" y="1547"/>
                      <a:pt x="0" y="1527"/>
                      <a:pt x="6" y="1551"/>
                    </a:cubicBezTo>
                    <a:cubicBezTo>
                      <a:pt x="12" y="1575"/>
                      <a:pt x="65" y="1664"/>
                      <a:pt x="119" y="1701"/>
                    </a:cubicBezTo>
                    <a:cubicBezTo>
                      <a:pt x="173" y="1738"/>
                      <a:pt x="250" y="1774"/>
                      <a:pt x="329" y="1776"/>
                    </a:cubicBezTo>
                    <a:cubicBezTo>
                      <a:pt x="408" y="1778"/>
                      <a:pt x="510" y="1761"/>
                      <a:pt x="591" y="1716"/>
                    </a:cubicBezTo>
                    <a:cubicBezTo>
                      <a:pt x="672" y="1671"/>
                      <a:pt x="769" y="1598"/>
                      <a:pt x="816" y="1506"/>
                    </a:cubicBezTo>
                    <a:cubicBezTo>
                      <a:pt x="863" y="1414"/>
                      <a:pt x="859" y="1281"/>
                      <a:pt x="876" y="1161"/>
                    </a:cubicBezTo>
                    <a:cubicBezTo>
                      <a:pt x="893" y="1041"/>
                      <a:pt x="907" y="893"/>
                      <a:pt x="921" y="786"/>
                    </a:cubicBezTo>
                    <a:cubicBezTo>
                      <a:pt x="935" y="679"/>
                      <a:pt x="970" y="597"/>
                      <a:pt x="959" y="516"/>
                    </a:cubicBezTo>
                    <a:cubicBezTo>
                      <a:pt x="948" y="435"/>
                      <a:pt x="898" y="352"/>
                      <a:pt x="854" y="299"/>
                    </a:cubicBezTo>
                    <a:cubicBezTo>
                      <a:pt x="810" y="246"/>
                      <a:pt x="732" y="242"/>
                      <a:pt x="696" y="201"/>
                    </a:cubicBezTo>
                    <a:cubicBezTo>
                      <a:pt x="660" y="160"/>
                      <a:pt x="657" y="83"/>
                      <a:pt x="636" y="51"/>
                    </a:cubicBezTo>
                    <a:cubicBezTo>
                      <a:pt x="615" y="19"/>
                      <a:pt x="605" y="12"/>
                      <a:pt x="569" y="6"/>
                    </a:cubicBezTo>
                    <a:cubicBezTo>
                      <a:pt x="533" y="0"/>
                      <a:pt x="451" y="7"/>
                      <a:pt x="419" y="14"/>
                    </a:cubicBezTo>
                    <a:cubicBezTo>
                      <a:pt x="387" y="21"/>
                      <a:pt x="388" y="17"/>
                      <a:pt x="366" y="44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506920" y="5497200"/>
                <a:ext cx="365400" cy="783000"/>
              </a:xfrm>
              <a:custGeom>
                <a:avLst/>
                <a:gdLst/>
                <a:ahLst/>
                <a:rect l="l" t="t" r="r" b="b"/>
                <a:pathLst>
                  <a:path w="383" h="821">
                    <a:moveTo>
                      <a:pt x="383" y="0"/>
                    </a:moveTo>
                    <a:cubicBezTo>
                      <a:pt x="378" y="51"/>
                      <a:pt x="373" y="102"/>
                      <a:pt x="368" y="157"/>
                    </a:cubicBezTo>
                    <a:cubicBezTo>
                      <a:pt x="363" y="212"/>
                      <a:pt x="365" y="274"/>
                      <a:pt x="353" y="330"/>
                    </a:cubicBezTo>
                    <a:cubicBezTo>
                      <a:pt x="341" y="386"/>
                      <a:pt x="318" y="441"/>
                      <a:pt x="293" y="495"/>
                    </a:cubicBezTo>
                    <a:cubicBezTo>
                      <a:pt x="268" y="549"/>
                      <a:pt x="239" y="602"/>
                      <a:pt x="203" y="652"/>
                    </a:cubicBezTo>
                    <a:cubicBezTo>
                      <a:pt x="167" y="702"/>
                      <a:pt x="109" y="769"/>
                      <a:pt x="75" y="795"/>
                    </a:cubicBezTo>
                    <a:cubicBezTo>
                      <a:pt x="41" y="821"/>
                      <a:pt x="20" y="815"/>
                      <a:pt x="0" y="810"/>
                    </a:cubicBezTo>
                  </a:path>
                </a:pathLst>
              </a:custGeom>
              <a:noFill/>
              <a:ln w="190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53" name=""/>
              <p:cNvGrpSpPr/>
              <p:nvPr/>
            </p:nvGrpSpPr>
            <p:grpSpPr>
              <a:xfrm>
                <a:off x="5396040" y="4940280"/>
                <a:ext cx="165960" cy="177120"/>
                <a:chOff x="5396040" y="4940280"/>
                <a:chExt cx="165960" cy="17712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5396040" y="4940280"/>
                  <a:ext cx="165960" cy="177120"/>
                </a:xfrm>
                <a:custGeom>
                  <a:avLst/>
                  <a:gdLst/>
                  <a:ahLst/>
                  <a:rect l="l" t="t" r="r" b="b"/>
                  <a:pathLst>
                    <a:path w="182" h="193">
                      <a:moveTo>
                        <a:pt x="34" y="14"/>
                      </a:moveTo>
                      <a:cubicBezTo>
                        <a:pt x="51" y="0"/>
                        <a:pt x="88" y="9"/>
                        <a:pt x="109" y="14"/>
                      </a:cubicBezTo>
                      <a:cubicBezTo>
                        <a:pt x="130" y="19"/>
                        <a:pt x="151" y="24"/>
                        <a:pt x="162" y="44"/>
                      </a:cubicBezTo>
                      <a:cubicBezTo>
                        <a:pt x="173" y="64"/>
                        <a:pt x="182" y="112"/>
                        <a:pt x="177" y="134"/>
                      </a:cubicBezTo>
                      <a:cubicBezTo>
                        <a:pt x="172" y="156"/>
                        <a:pt x="156" y="172"/>
                        <a:pt x="132" y="179"/>
                      </a:cubicBezTo>
                      <a:cubicBezTo>
                        <a:pt x="108" y="186"/>
                        <a:pt x="55" y="193"/>
                        <a:pt x="34" y="179"/>
                      </a:cubicBezTo>
                      <a:cubicBezTo>
                        <a:pt x="13" y="165"/>
                        <a:pt x="8" y="121"/>
                        <a:pt x="4" y="96"/>
                      </a:cubicBezTo>
                      <a:cubicBezTo>
                        <a:pt x="0" y="71"/>
                        <a:pt x="17" y="28"/>
                        <a:pt x="34" y="1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5443560" y="4986720"/>
                  <a:ext cx="65520" cy="93240"/>
                </a:xfrm>
                <a:custGeom>
                  <a:avLst/>
                  <a:gdLst/>
                  <a:ahLst/>
                  <a:rect l="l" t="t" r="r" b="b"/>
                  <a:pathLst>
                    <a:path w="69" h="98">
                      <a:moveTo>
                        <a:pt x="0" y="2"/>
                      </a:moveTo>
                      <a:cubicBezTo>
                        <a:pt x="11" y="0"/>
                        <a:pt x="51" y="12"/>
                        <a:pt x="60" y="24"/>
                      </a:cubicBezTo>
                      <a:cubicBezTo>
                        <a:pt x="69" y="36"/>
                        <a:pt x="61" y="66"/>
                        <a:pt x="52" y="77"/>
                      </a:cubicBezTo>
                      <a:cubicBezTo>
                        <a:pt x="43" y="88"/>
                        <a:pt x="12" y="98"/>
                        <a:pt x="7" y="92"/>
                      </a:cubicBezTo>
                      <a:cubicBezTo>
                        <a:pt x="2" y="86"/>
                        <a:pt x="23" y="54"/>
                        <a:pt x="22" y="39"/>
                      </a:cubicBezTo>
                      <a:cubicBezTo>
                        <a:pt x="21" y="24"/>
                        <a:pt x="5" y="10"/>
                        <a:pt x="0" y="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6" name=""/>
              <p:cNvSpPr/>
              <p:nvPr/>
            </p:nvSpPr>
            <p:spPr>
              <a:xfrm>
                <a:off x="5635800" y="4874760"/>
                <a:ext cx="86760" cy="90360"/>
              </a:xfrm>
              <a:custGeom>
                <a:avLst/>
                <a:gdLst/>
                <a:ahLst/>
                <a:rect l="l" t="t" r="r" b="b"/>
                <a:pathLst>
                  <a:path w="91" h="95">
                    <a:moveTo>
                      <a:pt x="44" y="6"/>
                    </a:moveTo>
                    <a:cubicBezTo>
                      <a:pt x="58" y="0"/>
                      <a:pt x="87" y="22"/>
                      <a:pt x="89" y="36"/>
                    </a:cubicBezTo>
                    <a:cubicBezTo>
                      <a:pt x="91" y="50"/>
                      <a:pt x="73" y="83"/>
                      <a:pt x="59" y="89"/>
                    </a:cubicBezTo>
                    <a:cubicBezTo>
                      <a:pt x="45" y="95"/>
                      <a:pt x="14" y="84"/>
                      <a:pt x="7" y="74"/>
                    </a:cubicBezTo>
                    <a:cubicBezTo>
                      <a:pt x="0" y="64"/>
                      <a:pt x="30" y="12"/>
                      <a:pt x="44" y="6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6070680" y="4548240"/>
              <a:ext cx="836640" cy="1908000"/>
              <a:chOff x="6070680" y="4548240"/>
              <a:chExt cx="836640" cy="1908000"/>
            </a:xfrm>
          </p:grpSpPr>
          <p:sp>
            <p:nvSpPr>
              <p:cNvPr id="558" name=""/>
              <p:cNvSpPr/>
              <p:nvPr/>
            </p:nvSpPr>
            <p:spPr>
              <a:xfrm>
                <a:off x="6070680" y="4548240"/>
                <a:ext cx="836640" cy="1908000"/>
              </a:xfrm>
              <a:custGeom>
                <a:avLst/>
                <a:gdLst/>
                <a:ahLst/>
                <a:rect l="l" t="t" r="r" b="b"/>
                <a:pathLst>
                  <a:path w="928" h="2115">
                    <a:moveTo>
                      <a:pt x="351" y="17"/>
                    </a:moveTo>
                    <a:cubicBezTo>
                      <a:pt x="315" y="28"/>
                      <a:pt x="296" y="45"/>
                      <a:pt x="276" y="70"/>
                    </a:cubicBezTo>
                    <a:cubicBezTo>
                      <a:pt x="256" y="95"/>
                      <a:pt x="252" y="140"/>
                      <a:pt x="231" y="167"/>
                    </a:cubicBezTo>
                    <a:cubicBezTo>
                      <a:pt x="210" y="194"/>
                      <a:pt x="168" y="208"/>
                      <a:pt x="149" y="235"/>
                    </a:cubicBezTo>
                    <a:cubicBezTo>
                      <a:pt x="130" y="262"/>
                      <a:pt x="114" y="297"/>
                      <a:pt x="119" y="332"/>
                    </a:cubicBezTo>
                    <a:cubicBezTo>
                      <a:pt x="124" y="367"/>
                      <a:pt x="157" y="420"/>
                      <a:pt x="179" y="445"/>
                    </a:cubicBezTo>
                    <a:cubicBezTo>
                      <a:pt x="201" y="470"/>
                      <a:pt x="230" y="475"/>
                      <a:pt x="254" y="482"/>
                    </a:cubicBezTo>
                    <a:cubicBezTo>
                      <a:pt x="278" y="489"/>
                      <a:pt x="299" y="480"/>
                      <a:pt x="321" y="490"/>
                    </a:cubicBezTo>
                    <a:cubicBezTo>
                      <a:pt x="343" y="500"/>
                      <a:pt x="364" y="542"/>
                      <a:pt x="389" y="542"/>
                    </a:cubicBezTo>
                    <a:cubicBezTo>
                      <a:pt x="414" y="542"/>
                      <a:pt x="462" y="485"/>
                      <a:pt x="471" y="490"/>
                    </a:cubicBezTo>
                    <a:cubicBezTo>
                      <a:pt x="480" y="495"/>
                      <a:pt x="440" y="553"/>
                      <a:pt x="441" y="572"/>
                    </a:cubicBezTo>
                    <a:cubicBezTo>
                      <a:pt x="442" y="591"/>
                      <a:pt x="462" y="601"/>
                      <a:pt x="479" y="602"/>
                    </a:cubicBezTo>
                    <a:cubicBezTo>
                      <a:pt x="496" y="603"/>
                      <a:pt x="544" y="578"/>
                      <a:pt x="546" y="580"/>
                    </a:cubicBezTo>
                    <a:cubicBezTo>
                      <a:pt x="548" y="582"/>
                      <a:pt x="494" y="605"/>
                      <a:pt x="494" y="617"/>
                    </a:cubicBezTo>
                    <a:cubicBezTo>
                      <a:pt x="494" y="629"/>
                      <a:pt x="529" y="649"/>
                      <a:pt x="546" y="655"/>
                    </a:cubicBezTo>
                    <a:cubicBezTo>
                      <a:pt x="563" y="661"/>
                      <a:pt x="606" y="653"/>
                      <a:pt x="599" y="655"/>
                    </a:cubicBezTo>
                    <a:cubicBezTo>
                      <a:pt x="592" y="657"/>
                      <a:pt x="523" y="653"/>
                      <a:pt x="501" y="670"/>
                    </a:cubicBezTo>
                    <a:cubicBezTo>
                      <a:pt x="479" y="687"/>
                      <a:pt x="475" y="719"/>
                      <a:pt x="464" y="760"/>
                    </a:cubicBezTo>
                    <a:cubicBezTo>
                      <a:pt x="453" y="801"/>
                      <a:pt x="437" y="852"/>
                      <a:pt x="434" y="917"/>
                    </a:cubicBezTo>
                    <a:cubicBezTo>
                      <a:pt x="431" y="982"/>
                      <a:pt x="437" y="1086"/>
                      <a:pt x="449" y="1150"/>
                    </a:cubicBezTo>
                    <a:cubicBezTo>
                      <a:pt x="461" y="1214"/>
                      <a:pt x="505" y="1246"/>
                      <a:pt x="509" y="1300"/>
                    </a:cubicBezTo>
                    <a:cubicBezTo>
                      <a:pt x="513" y="1354"/>
                      <a:pt x="487" y="1407"/>
                      <a:pt x="471" y="1472"/>
                    </a:cubicBezTo>
                    <a:cubicBezTo>
                      <a:pt x="455" y="1537"/>
                      <a:pt x="431" y="1628"/>
                      <a:pt x="411" y="1690"/>
                    </a:cubicBezTo>
                    <a:cubicBezTo>
                      <a:pt x="391" y="1752"/>
                      <a:pt x="381" y="1803"/>
                      <a:pt x="351" y="1847"/>
                    </a:cubicBezTo>
                    <a:cubicBezTo>
                      <a:pt x="321" y="1891"/>
                      <a:pt x="279" y="1923"/>
                      <a:pt x="231" y="1952"/>
                    </a:cubicBezTo>
                    <a:cubicBezTo>
                      <a:pt x="183" y="1981"/>
                      <a:pt x="100" y="1995"/>
                      <a:pt x="66" y="2020"/>
                    </a:cubicBezTo>
                    <a:cubicBezTo>
                      <a:pt x="32" y="2045"/>
                      <a:pt x="0" y="2090"/>
                      <a:pt x="29" y="2102"/>
                    </a:cubicBezTo>
                    <a:cubicBezTo>
                      <a:pt x="58" y="2114"/>
                      <a:pt x="163" y="2115"/>
                      <a:pt x="239" y="2095"/>
                    </a:cubicBezTo>
                    <a:cubicBezTo>
                      <a:pt x="315" y="2075"/>
                      <a:pt x="406" y="2052"/>
                      <a:pt x="486" y="1982"/>
                    </a:cubicBezTo>
                    <a:cubicBezTo>
                      <a:pt x="566" y="1912"/>
                      <a:pt x="657" y="1776"/>
                      <a:pt x="719" y="1675"/>
                    </a:cubicBezTo>
                    <a:cubicBezTo>
                      <a:pt x="781" y="1574"/>
                      <a:pt x="827" y="1508"/>
                      <a:pt x="861" y="1375"/>
                    </a:cubicBezTo>
                    <a:cubicBezTo>
                      <a:pt x="895" y="1242"/>
                      <a:pt x="914" y="1010"/>
                      <a:pt x="921" y="880"/>
                    </a:cubicBezTo>
                    <a:cubicBezTo>
                      <a:pt x="928" y="750"/>
                      <a:pt x="911" y="674"/>
                      <a:pt x="906" y="595"/>
                    </a:cubicBezTo>
                    <a:cubicBezTo>
                      <a:pt x="901" y="516"/>
                      <a:pt x="898" y="457"/>
                      <a:pt x="891" y="407"/>
                    </a:cubicBezTo>
                    <a:cubicBezTo>
                      <a:pt x="884" y="357"/>
                      <a:pt x="885" y="325"/>
                      <a:pt x="861" y="295"/>
                    </a:cubicBezTo>
                    <a:cubicBezTo>
                      <a:pt x="837" y="265"/>
                      <a:pt x="781" y="253"/>
                      <a:pt x="749" y="227"/>
                    </a:cubicBezTo>
                    <a:cubicBezTo>
                      <a:pt x="717" y="201"/>
                      <a:pt x="692" y="168"/>
                      <a:pt x="666" y="137"/>
                    </a:cubicBezTo>
                    <a:cubicBezTo>
                      <a:pt x="640" y="106"/>
                      <a:pt x="619" y="62"/>
                      <a:pt x="591" y="40"/>
                    </a:cubicBezTo>
                    <a:cubicBezTo>
                      <a:pt x="563" y="18"/>
                      <a:pt x="531" y="4"/>
                      <a:pt x="494" y="2"/>
                    </a:cubicBezTo>
                    <a:cubicBezTo>
                      <a:pt x="457" y="0"/>
                      <a:pt x="387" y="6"/>
                      <a:pt x="351" y="17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413400" y="5274000"/>
                <a:ext cx="354600" cy="1007280"/>
              </a:xfrm>
              <a:custGeom>
                <a:avLst/>
                <a:gdLst/>
                <a:ahLst/>
                <a:rect l="l" t="t" r="r" b="b"/>
                <a:pathLst>
                  <a:path w="393" h="1117">
                    <a:moveTo>
                      <a:pt x="345" y="0"/>
                    </a:moveTo>
                    <a:cubicBezTo>
                      <a:pt x="369" y="90"/>
                      <a:pt x="393" y="181"/>
                      <a:pt x="383" y="292"/>
                    </a:cubicBezTo>
                    <a:cubicBezTo>
                      <a:pt x="373" y="403"/>
                      <a:pt x="326" y="558"/>
                      <a:pt x="285" y="667"/>
                    </a:cubicBezTo>
                    <a:cubicBezTo>
                      <a:pt x="244" y="776"/>
                      <a:pt x="182" y="870"/>
                      <a:pt x="135" y="945"/>
                    </a:cubicBezTo>
                    <a:cubicBezTo>
                      <a:pt x="88" y="1020"/>
                      <a:pt x="44" y="1068"/>
                      <a:pt x="0" y="1117"/>
                    </a:cubicBezTo>
                  </a:path>
                </a:pathLst>
              </a:custGeom>
              <a:noFill/>
              <a:ln w="28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552720" y="4805640"/>
                <a:ext cx="111240" cy="83880"/>
              </a:xfrm>
              <a:custGeom>
                <a:avLst/>
                <a:gdLst/>
                <a:ahLst/>
                <a:rect l="l" t="t" r="r" b="b"/>
                <a:pathLst>
                  <a:path w="124" h="94">
                    <a:moveTo>
                      <a:pt x="34" y="10"/>
                    </a:moveTo>
                    <a:cubicBezTo>
                      <a:pt x="46" y="0"/>
                      <a:pt x="71" y="19"/>
                      <a:pt x="86" y="25"/>
                    </a:cubicBezTo>
                    <a:cubicBezTo>
                      <a:pt x="101" y="31"/>
                      <a:pt x="124" y="37"/>
                      <a:pt x="124" y="47"/>
                    </a:cubicBezTo>
                    <a:cubicBezTo>
                      <a:pt x="124" y="57"/>
                      <a:pt x="105" y="79"/>
                      <a:pt x="86" y="85"/>
                    </a:cubicBezTo>
                    <a:cubicBezTo>
                      <a:pt x="67" y="91"/>
                      <a:pt x="22" y="94"/>
                      <a:pt x="11" y="85"/>
                    </a:cubicBezTo>
                    <a:cubicBezTo>
                      <a:pt x="0" y="76"/>
                      <a:pt x="22" y="20"/>
                      <a:pt x="34" y="10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61" name=""/>
              <p:cNvGrpSpPr/>
              <p:nvPr/>
            </p:nvGrpSpPr>
            <p:grpSpPr>
              <a:xfrm>
                <a:off x="6368760" y="4739040"/>
                <a:ext cx="127440" cy="156240"/>
                <a:chOff x="6368760" y="4739040"/>
                <a:chExt cx="127440" cy="15624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6368760" y="4739040"/>
                  <a:ext cx="127440" cy="156240"/>
                </a:xfrm>
                <a:custGeom>
                  <a:avLst/>
                  <a:gdLst/>
                  <a:ahLst/>
                  <a:rect l="l" t="t" r="r" b="b"/>
                  <a:pathLst>
                    <a:path w="141" h="174">
                      <a:moveTo>
                        <a:pt x="73" y="8"/>
                      </a:moveTo>
                      <a:cubicBezTo>
                        <a:pt x="59" y="10"/>
                        <a:pt x="46" y="15"/>
                        <a:pt x="35" y="30"/>
                      </a:cubicBezTo>
                      <a:cubicBezTo>
                        <a:pt x="24" y="45"/>
                        <a:pt x="0" y="76"/>
                        <a:pt x="5" y="98"/>
                      </a:cubicBezTo>
                      <a:cubicBezTo>
                        <a:pt x="10" y="120"/>
                        <a:pt x="45" y="156"/>
                        <a:pt x="65" y="165"/>
                      </a:cubicBezTo>
                      <a:cubicBezTo>
                        <a:pt x="85" y="174"/>
                        <a:pt x="113" y="161"/>
                        <a:pt x="125" y="150"/>
                      </a:cubicBezTo>
                      <a:cubicBezTo>
                        <a:pt x="137" y="139"/>
                        <a:pt x="141" y="120"/>
                        <a:pt x="140" y="98"/>
                      </a:cubicBezTo>
                      <a:cubicBezTo>
                        <a:pt x="139" y="76"/>
                        <a:pt x="129" y="30"/>
                        <a:pt x="118" y="15"/>
                      </a:cubicBezTo>
                      <a:cubicBezTo>
                        <a:pt x="107" y="0"/>
                        <a:pt x="87" y="6"/>
                        <a:pt x="73" y="8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6405840" y="4782960"/>
                  <a:ext cx="64800" cy="68040"/>
                </a:xfrm>
                <a:custGeom>
                  <a:avLst/>
                  <a:gdLst/>
                  <a:ahLst/>
                  <a:rect l="l" t="t" r="r" b="b"/>
                  <a:pathLst>
                    <a:path w="72" h="76">
                      <a:moveTo>
                        <a:pt x="31" y="4"/>
                      </a:moveTo>
                      <a:cubicBezTo>
                        <a:pt x="20" y="8"/>
                        <a:pt x="0" y="38"/>
                        <a:pt x="1" y="49"/>
                      </a:cubicBezTo>
                      <a:cubicBezTo>
                        <a:pt x="2" y="60"/>
                        <a:pt x="28" y="76"/>
                        <a:pt x="39" y="72"/>
                      </a:cubicBezTo>
                      <a:cubicBezTo>
                        <a:pt x="50" y="68"/>
                        <a:pt x="72" y="37"/>
                        <a:pt x="69" y="27"/>
                      </a:cubicBezTo>
                      <a:cubicBezTo>
                        <a:pt x="66" y="17"/>
                        <a:pt x="42" y="0"/>
                        <a:pt x="31" y="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4" name=""/>
            <p:cNvGrpSpPr/>
            <p:nvPr/>
          </p:nvGrpSpPr>
          <p:grpSpPr>
            <a:xfrm>
              <a:off x="7157880" y="4778280"/>
              <a:ext cx="873360" cy="1446120"/>
              <a:chOff x="7157880" y="4778280"/>
              <a:chExt cx="873360" cy="1446120"/>
            </a:xfrm>
          </p:grpSpPr>
          <p:sp>
            <p:nvSpPr>
              <p:cNvPr id="565" name=""/>
              <p:cNvSpPr/>
              <p:nvPr/>
            </p:nvSpPr>
            <p:spPr>
              <a:xfrm>
                <a:off x="7157880" y="4778280"/>
                <a:ext cx="873360" cy="1446120"/>
              </a:xfrm>
              <a:custGeom>
                <a:avLst/>
                <a:gdLst/>
                <a:ahLst/>
                <a:rect l="l" t="t" r="r" b="b"/>
                <a:pathLst>
                  <a:path w="913" h="1514">
                    <a:moveTo>
                      <a:pt x="192" y="28"/>
                    </a:moveTo>
                    <a:cubicBezTo>
                      <a:pt x="146" y="54"/>
                      <a:pt x="73" y="116"/>
                      <a:pt x="42" y="163"/>
                    </a:cubicBezTo>
                    <a:cubicBezTo>
                      <a:pt x="11" y="210"/>
                      <a:pt x="8" y="274"/>
                      <a:pt x="4" y="313"/>
                    </a:cubicBezTo>
                    <a:cubicBezTo>
                      <a:pt x="0" y="352"/>
                      <a:pt x="4" y="350"/>
                      <a:pt x="19" y="396"/>
                    </a:cubicBezTo>
                    <a:cubicBezTo>
                      <a:pt x="34" y="442"/>
                      <a:pt x="66" y="542"/>
                      <a:pt x="94" y="591"/>
                    </a:cubicBezTo>
                    <a:cubicBezTo>
                      <a:pt x="122" y="640"/>
                      <a:pt x="149" y="678"/>
                      <a:pt x="184" y="688"/>
                    </a:cubicBezTo>
                    <a:cubicBezTo>
                      <a:pt x="219" y="698"/>
                      <a:pt x="276" y="671"/>
                      <a:pt x="304" y="651"/>
                    </a:cubicBezTo>
                    <a:cubicBezTo>
                      <a:pt x="332" y="631"/>
                      <a:pt x="346" y="592"/>
                      <a:pt x="349" y="568"/>
                    </a:cubicBezTo>
                    <a:cubicBezTo>
                      <a:pt x="352" y="544"/>
                      <a:pt x="323" y="530"/>
                      <a:pt x="319" y="508"/>
                    </a:cubicBezTo>
                    <a:cubicBezTo>
                      <a:pt x="315" y="486"/>
                      <a:pt x="325" y="432"/>
                      <a:pt x="327" y="433"/>
                    </a:cubicBezTo>
                    <a:cubicBezTo>
                      <a:pt x="329" y="434"/>
                      <a:pt x="322" y="506"/>
                      <a:pt x="334" y="516"/>
                    </a:cubicBezTo>
                    <a:cubicBezTo>
                      <a:pt x="346" y="526"/>
                      <a:pt x="390" y="514"/>
                      <a:pt x="402" y="493"/>
                    </a:cubicBezTo>
                    <a:cubicBezTo>
                      <a:pt x="414" y="472"/>
                      <a:pt x="409" y="387"/>
                      <a:pt x="409" y="388"/>
                    </a:cubicBezTo>
                    <a:cubicBezTo>
                      <a:pt x="409" y="389"/>
                      <a:pt x="396" y="477"/>
                      <a:pt x="402" y="501"/>
                    </a:cubicBezTo>
                    <a:cubicBezTo>
                      <a:pt x="408" y="525"/>
                      <a:pt x="437" y="540"/>
                      <a:pt x="447" y="531"/>
                    </a:cubicBezTo>
                    <a:cubicBezTo>
                      <a:pt x="457" y="522"/>
                      <a:pt x="454" y="468"/>
                      <a:pt x="462" y="448"/>
                    </a:cubicBezTo>
                    <a:cubicBezTo>
                      <a:pt x="470" y="428"/>
                      <a:pt x="493" y="401"/>
                      <a:pt x="492" y="411"/>
                    </a:cubicBezTo>
                    <a:cubicBezTo>
                      <a:pt x="491" y="421"/>
                      <a:pt x="460" y="484"/>
                      <a:pt x="454" y="508"/>
                    </a:cubicBezTo>
                    <a:cubicBezTo>
                      <a:pt x="448" y="532"/>
                      <a:pt x="442" y="555"/>
                      <a:pt x="454" y="553"/>
                    </a:cubicBezTo>
                    <a:cubicBezTo>
                      <a:pt x="466" y="551"/>
                      <a:pt x="524" y="497"/>
                      <a:pt x="529" y="493"/>
                    </a:cubicBezTo>
                    <a:cubicBezTo>
                      <a:pt x="534" y="489"/>
                      <a:pt x="490" y="517"/>
                      <a:pt x="484" y="531"/>
                    </a:cubicBezTo>
                    <a:cubicBezTo>
                      <a:pt x="478" y="545"/>
                      <a:pt x="482" y="566"/>
                      <a:pt x="492" y="576"/>
                    </a:cubicBezTo>
                    <a:cubicBezTo>
                      <a:pt x="502" y="586"/>
                      <a:pt x="543" y="589"/>
                      <a:pt x="544" y="591"/>
                    </a:cubicBezTo>
                    <a:cubicBezTo>
                      <a:pt x="545" y="593"/>
                      <a:pt x="516" y="589"/>
                      <a:pt x="499" y="591"/>
                    </a:cubicBezTo>
                    <a:cubicBezTo>
                      <a:pt x="482" y="593"/>
                      <a:pt x="453" y="590"/>
                      <a:pt x="439" y="606"/>
                    </a:cubicBezTo>
                    <a:cubicBezTo>
                      <a:pt x="425" y="622"/>
                      <a:pt x="411" y="652"/>
                      <a:pt x="417" y="688"/>
                    </a:cubicBezTo>
                    <a:cubicBezTo>
                      <a:pt x="423" y="724"/>
                      <a:pt x="458" y="793"/>
                      <a:pt x="477" y="823"/>
                    </a:cubicBezTo>
                    <a:cubicBezTo>
                      <a:pt x="496" y="853"/>
                      <a:pt x="513" y="863"/>
                      <a:pt x="529" y="868"/>
                    </a:cubicBezTo>
                    <a:cubicBezTo>
                      <a:pt x="545" y="873"/>
                      <a:pt x="576" y="852"/>
                      <a:pt x="574" y="853"/>
                    </a:cubicBezTo>
                    <a:cubicBezTo>
                      <a:pt x="572" y="854"/>
                      <a:pt x="524" y="852"/>
                      <a:pt x="514" y="876"/>
                    </a:cubicBezTo>
                    <a:cubicBezTo>
                      <a:pt x="504" y="900"/>
                      <a:pt x="513" y="955"/>
                      <a:pt x="514" y="996"/>
                    </a:cubicBezTo>
                    <a:cubicBezTo>
                      <a:pt x="515" y="1037"/>
                      <a:pt x="526" y="1089"/>
                      <a:pt x="522" y="1123"/>
                    </a:cubicBezTo>
                    <a:cubicBezTo>
                      <a:pt x="518" y="1157"/>
                      <a:pt x="517" y="1176"/>
                      <a:pt x="492" y="1198"/>
                    </a:cubicBezTo>
                    <a:cubicBezTo>
                      <a:pt x="467" y="1220"/>
                      <a:pt x="403" y="1233"/>
                      <a:pt x="372" y="1258"/>
                    </a:cubicBezTo>
                    <a:cubicBezTo>
                      <a:pt x="341" y="1283"/>
                      <a:pt x="336" y="1347"/>
                      <a:pt x="304" y="1348"/>
                    </a:cubicBezTo>
                    <a:cubicBezTo>
                      <a:pt x="272" y="1349"/>
                      <a:pt x="202" y="1302"/>
                      <a:pt x="177" y="1266"/>
                    </a:cubicBezTo>
                    <a:cubicBezTo>
                      <a:pt x="152" y="1230"/>
                      <a:pt x="153" y="1181"/>
                      <a:pt x="154" y="1131"/>
                    </a:cubicBezTo>
                    <a:cubicBezTo>
                      <a:pt x="155" y="1081"/>
                      <a:pt x="178" y="1011"/>
                      <a:pt x="184" y="966"/>
                    </a:cubicBezTo>
                    <a:cubicBezTo>
                      <a:pt x="190" y="921"/>
                      <a:pt x="208" y="845"/>
                      <a:pt x="192" y="861"/>
                    </a:cubicBezTo>
                    <a:cubicBezTo>
                      <a:pt x="176" y="877"/>
                      <a:pt x="103" y="998"/>
                      <a:pt x="87" y="1063"/>
                    </a:cubicBezTo>
                    <a:cubicBezTo>
                      <a:pt x="71" y="1128"/>
                      <a:pt x="72" y="1186"/>
                      <a:pt x="94" y="1251"/>
                    </a:cubicBezTo>
                    <a:cubicBezTo>
                      <a:pt x="116" y="1316"/>
                      <a:pt x="150" y="1412"/>
                      <a:pt x="222" y="1453"/>
                    </a:cubicBezTo>
                    <a:cubicBezTo>
                      <a:pt x="294" y="1494"/>
                      <a:pt x="449" y="1514"/>
                      <a:pt x="529" y="1498"/>
                    </a:cubicBezTo>
                    <a:cubicBezTo>
                      <a:pt x="609" y="1482"/>
                      <a:pt x="647" y="1425"/>
                      <a:pt x="702" y="1356"/>
                    </a:cubicBezTo>
                    <a:cubicBezTo>
                      <a:pt x="757" y="1287"/>
                      <a:pt x="825" y="1196"/>
                      <a:pt x="859" y="1086"/>
                    </a:cubicBezTo>
                    <a:cubicBezTo>
                      <a:pt x="893" y="976"/>
                      <a:pt x="913" y="810"/>
                      <a:pt x="904" y="696"/>
                    </a:cubicBezTo>
                    <a:cubicBezTo>
                      <a:pt x="895" y="582"/>
                      <a:pt x="848" y="489"/>
                      <a:pt x="807" y="403"/>
                    </a:cubicBezTo>
                    <a:cubicBezTo>
                      <a:pt x="766" y="317"/>
                      <a:pt x="715" y="234"/>
                      <a:pt x="657" y="178"/>
                    </a:cubicBezTo>
                    <a:cubicBezTo>
                      <a:pt x="599" y="122"/>
                      <a:pt x="518" y="95"/>
                      <a:pt x="462" y="66"/>
                    </a:cubicBezTo>
                    <a:cubicBezTo>
                      <a:pt x="406" y="37"/>
                      <a:pt x="364" y="12"/>
                      <a:pt x="319" y="6"/>
                    </a:cubicBezTo>
                    <a:cubicBezTo>
                      <a:pt x="274" y="0"/>
                      <a:pt x="227" y="1"/>
                      <a:pt x="192" y="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66" name=""/>
              <p:cNvGrpSpPr/>
              <p:nvPr/>
            </p:nvGrpSpPr>
            <p:grpSpPr>
              <a:xfrm>
                <a:off x="7336800" y="5070600"/>
                <a:ext cx="143280" cy="153720"/>
                <a:chOff x="7336800" y="5070600"/>
                <a:chExt cx="143280" cy="15372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7336800" y="5070600"/>
                  <a:ext cx="143280" cy="15372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9" y="22"/>
                      </a:moveTo>
                      <a:cubicBezTo>
                        <a:pt x="37" y="11"/>
                        <a:pt x="88" y="0"/>
                        <a:pt x="109" y="7"/>
                      </a:cubicBezTo>
                      <a:cubicBezTo>
                        <a:pt x="130" y="14"/>
                        <a:pt x="142" y="50"/>
                        <a:pt x="146" y="67"/>
                      </a:cubicBezTo>
                      <a:cubicBezTo>
                        <a:pt x="150" y="84"/>
                        <a:pt x="144" y="98"/>
                        <a:pt x="131" y="112"/>
                      </a:cubicBezTo>
                      <a:cubicBezTo>
                        <a:pt x="118" y="126"/>
                        <a:pt x="91" y="143"/>
                        <a:pt x="71" y="149"/>
                      </a:cubicBezTo>
                      <a:cubicBezTo>
                        <a:pt x="51" y="155"/>
                        <a:pt x="22" y="161"/>
                        <a:pt x="11" y="149"/>
                      </a:cubicBezTo>
                      <a:cubicBezTo>
                        <a:pt x="0" y="137"/>
                        <a:pt x="3" y="95"/>
                        <a:pt x="4" y="74"/>
                      </a:cubicBezTo>
                      <a:cubicBezTo>
                        <a:pt x="5" y="53"/>
                        <a:pt x="1" y="33"/>
                        <a:pt x="19" y="2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7398720" y="5134320"/>
                  <a:ext cx="27720" cy="27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9" name=""/>
              <p:cNvSpPr/>
              <p:nvPr/>
            </p:nvSpPr>
            <p:spPr>
              <a:xfrm>
                <a:off x="7599600" y="5242320"/>
                <a:ext cx="265680" cy="823320"/>
              </a:xfrm>
              <a:custGeom>
                <a:avLst/>
                <a:gdLst/>
                <a:ahLst/>
                <a:rect l="l" t="t" r="r" b="b"/>
                <a:pathLst>
                  <a:path w="278" h="862">
                    <a:moveTo>
                      <a:pt x="217" y="0"/>
                    </a:moveTo>
                    <a:cubicBezTo>
                      <a:pt x="239" y="64"/>
                      <a:pt x="262" y="128"/>
                      <a:pt x="270" y="202"/>
                    </a:cubicBezTo>
                    <a:cubicBezTo>
                      <a:pt x="278" y="276"/>
                      <a:pt x="267" y="371"/>
                      <a:pt x="262" y="442"/>
                    </a:cubicBezTo>
                    <a:cubicBezTo>
                      <a:pt x="257" y="513"/>
                      <a:pt x="265" y="571"/>
                      <a:pt x="240" y="630"/>
                    </a:cubicBezTo>
                    <a:cubicBezTo>
                      <a:pt x="215" y="689"/>
                      <a:pt x="152" y="756"/>
                      <a:pt x="112" y="795"/>
                    </a:cubicBezTo>
                    <a:cubicBezTo>
                      <a:pt x="72" y="834"/>
                      <a:pt x="36" y="848"/>
                      <a:pt x="0" y="862"/>
                    </a:cubicBezTo>
                  </a:path>
                </a:pathLst>
              </a:custGeom>
              <a:noFill/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440840" y="4905360"/>
                <a:ext cx="87120" cy="90720"/>
              </a:xfrm>
              <a:custGeom>
                <a:avLst/>
                <a:gdLst/>
                <a:ahLst/>
                <a:rect l="l" t="t" r="r" b="b"/>
                <a:pathLst>
                  <a:path w="91" h="95">
                    <a:moveTo>
                      <a:pt x="44" y="6"/>
                    </a:moveTo>
                    <a:cubicBezTo>
                      <a:pt x="58" y="0"/>
                      <a:pt x="87" y="22"/>
                      <a:pt x="89" y="36"/>
                    </a:cubicBezTo>
                    <a:cubicBezTo>
                      <a:pt x="91" y="50"/>
                      <a:pt x="73" y="83"/>
                      <a:pt x="59" y="89"/>
                    </a:cubicBezTo>
                    <a:cubicBezTo>
                      <a:pt x="45" y="95"/>
                      <a:pt x="14" y="84"/>
                      <a:pt x="7" y="74"/>
                    </a:cubicBezTo>
                    <a:cubicBezTo>
                      <a:pt x="0" y="64"/>
                      <a:pt x="30" y="12"/>
                      <a:pt x="44" y="6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8139240" y="4694040"/>
              <a:ext cx="893520" cy="1616400"/>
              <a:chOff x="8139240" y="4694040"/>
              <a:chExt cx="893520" cy="1616400"/>
            </a:xfrm>
          </p:grpSpPr>
          <p:sp>
            <p:nvSpPr>
              <p:cNvPr id="572" name=""/>
              <p:cNvSpPr/>
              <p:nvPr/>
            </p:nvSpPr>
            <p:spPr>
              <a:xfrm>
                <a:off x="8139240" y="4694040"/>
                <a:ext cx="893520" cy="1616400"/>
              </a:xfrm>
              <a:custGeom>
                <a:avLst/>
                <a:gdLst/>
                <a:ahLst/>
                <a:rect l="l" t="t" r="r" b="b"/>
                <a:pathLst>
                  <a:path w="937" h="1695">
                    <a:moveTo>
                      <a:pt x="195" y="85"/>
                    </a:moveTo>
                    <a:cubicBezTo>
                      <a:pt x="171" y="116"/>
                      <a:pt x="175" y="169"/>
                      <a:pt x="158" y="213"/>
                    </a:cubicBezTo>
                    <a:cubicBezTo>
                      <a:pt x="141" y="257"/>
                      <a:pt x="106" y="296"/>
                      <a:pt x="90" y="348"/>
                    </a:cubicBezTo>
                    <a:cubicBezTo>
                      <a:pt x="74" y="400"/>
                      <a:pt x="46" y="478"/>
                      <a:pt x="60" y="528"/>
                    </a:cubicBezTo>
                    <a:cubicBezTo>
                      <a:pt x="74" y="578"/>
                      <a:pt x="133" y="631"/>
                      <a:pt x="173" y="648"/>
                    </a:cubicBezTo>
                    <a:cubicBezTo>
                      <a:pt x="213" y="665"/>
                      <a:pt x="271" y="650"/>
                      <a:pt x="300" y="633"/>
                    </a:cubicBezTo>
                    <a:cubicBezTo>
                      <a:pt x="329" y="616"/>
                      <a:pt x="335" y="567"/>
                      <a:pt x="345" y="543"/>
                    </a:cubicBezTo>
                    <a:cubicBezTo>
                      <a:pt x="355" y="519"/>
                      <a:pt x="354" y="507"/>
                      <a:pt x="360" y="490"/>
                    </a:cubicBezTo>
                    <a:cubicBezTo>
                      <a:pt x="366" y="473"/>
                      <a:pt x="389" y="453"/>
                      <a:pt x="383" y="438"/>
                    </a:cubicBezTo>
                    <a:cubicBezTo>
                      <a:pt x="377" y="423"/>
                      <a:pt x="332" y="421"/>
                      <a:pt x="323" y="400"/>
                    </a:cubicBezTo>
                    <a:cubicBezTo>
                      <a:pt x="314" y="379"/>
                      <a:pt x="320" y="322"/>
                      <a:pt x="330" y="310"/>
                    </a:cubicBezTo>
                    <a:cubicBezTo>
                      <a:pt x="340" y="298"/>
                      <a:pt x="374" y="313"/>
                      <a:pt x="383" y="325"/>
                    </a:cubicBezTo>
                    <a:cubicBezTo>
                      <a:pt x="392" y="337"/>
                      <a:pt x="390" y="386"/>
                      <a:pt x="383" y="385"/>
                    </a:cubicBezTo>
                    <a:cubicBezTo>
                      <a:pt x="376" y="384"/>
                      <a:pt x="350" y="323"/>
                      <a:pt x="338" y="318"/>
                    </a:cubicBezTo>
                    <a:cubicBezTo>
                      <a:pt x="326" y="313"/>
                      <a:pt x="303" y="338"/>
                      <a:pt x="308" y="355"/>
                    </a:cubicBezTo>
                    <a:cubicBezTo>
                      <a:pt x="313" y="372"/>
                      <a:pt x="359" y="396"/>
                      <a:pt x="368" y="423"/>
                    </a:cubicBezTo>
                    <a:cubicBezTo>
                      <a:pt x="377" y="450"/>
                      <a:pt x="350" y="496"/>
                      <a:pt x="360" y="520"/>
                    </a:cubicBezTo>
                    <a:cubicBezTo>
                      <a:pt x="370" y="544"/>
                      <a:pt x="408" y="566"/>
                      <a:pt x="428" y="565"/>
                    </a:cubicBezTo>
                    <a:cubicBezTo>
                      <a:pt x="448" y="564"/>
                      <a:pt x="466" y="528"/>
                      <a:pt x="480" y="513"/>
                    </a:cubicBezTo>
                    <a:cubicBezTo>
                      <a:pt x="494" y="498"/>
                      <a:pt x="509" y="470"/>
                      <a:pt x="510" y="475"/>
                    </a:cubicBezTo>
                    <a:cubicBezTo>
                      <a:pt x="511" y="480"/>
                      <a:pt x="478" y="536"/>
                      <a:pt x="488" y="543"/>
                    </a:cubicBezTo>
                    <a:cubicBezTo>
                      <a:pt x="498" y="550"/>
                      <a:pt x="563" y="516"/>
                      <a:pt x="570" y="520"/>
                    </a:cubicBezTo>
                    <a:cubicBezTo>
                      <a:pt x="577" y="524"/>
                      <a:pt x="533" y="553"/>
                      <a:pt x="533" y="565"/>
                    </a:cubicBezTo>
                    <a:cubicBezTo>
                      <a:pt x="533" y="577"/>
                      <a:pt x="555" y="593"/>
                      <a:pt x="570" y="595"/>
                    </a:cubicBezTo>
                    <a:cubicBezTo>
                      <a:pt x="585" y="597"/>
                      <a:pt x="627" y="579"/>
                      <a:pt x="623" y="580"/>
                    </a:cubicBezTo>
                    <a:cubicBezTo>
                      <a:pt x="619" y="581"/>
                      <a:pt x="549" y="593"/>
                      <a:pt x="548" y="603"/>
                    </a:cubicBezTo>
                    <a:cubicBezTo>
                      <a:pt x="547" y="613"/>
                      <a:pt x="616" y="634"/>
                      <a:pt x="615" y="640"/>
                    </a:cubicBezTo>
                    <a:cubicBezTo>
                      <a:pt x="614" y="646"/>
                      <a:pt x="560" y="646"/>
                      <a:pt x="540" y="640"/>
                    </a:cubicBezTo>
                    <a:cubicBezTo>
                      <a:pt x="520" y="634"/>
                      <a:pt x="517" y="606"/>
                      <a:pt x="495" y="603"/>
                    </a:cubicBezTo>
                    <a:cubicBezTo>
                      <a:pt x="473" y="600"/>
                      <a:pt x="429" y="596"/>
                      <a:pt x="405" y="625"/>
                    </a:cubicBezTo>
                    <a:cubicBezTo>
                      <a:pt x="381" y="654"/>
                      <a:pt x="361" y="730"/>
                      <a:pt x="353" y="775"/>
                    </a:cubicBezTo>
                    <a:cubicBezTo>
                      <a:pt x="345" y="820"/>
                      <a:pt x="341" y="859"/>
                      <a:pt x="360" y="895"/>
                    </a:cubicBezTo>
                    <a:cubicBezTo>
                      <a:pt x="379" y="931"/>
                      <a:pt x="427" y="974"/>
                      <a:pt x="465" y="993"/>
                    </a:cubicBezTo>
                    <a:cubicBezTo>
                      <a:pt x="503" y="1012"/>
                      <a:pt x="558" y="1013"/>
                      <a:pt x="585" y="1008"/>
                    </a:cubicBezTo>
                    <a:cubicBezTo>
                      <a:pt x="612" y="1003"/>
                      <a:pt x="615" y="978"/>
                      <a:pt x="630" y="963"/>
                    </a:cubicBezTo>
                    <a:cubicBezTo>
                      <a:pt x="645" y="948"/>
                      <a:pt x="681" y="908"/>
                      <a:pt x="675" y="918"/>
                    </a:cubicBezTo>
                    <a:cubicBezTo>
                      <a:pt x="669" y="928"/>
                      <a:pt x="609" y="988"/>
                      <a:pt x="593" y="1023"/>
                    </a:cubicBezTo>
                    <a:cubicBezTo>
                      <a:pt x="577" y="1058"/>
                      <a:pt x="583" y="1088"/>
                      <a:pt x="578" y="1128"/>
                    </a:cubicBezTo>
                    <a:cubicBezTo>
                      <a:pt x="573" y="1168"/>
                      <a:pt x="561" y="1232"/>
                      <a:pt x="563" y="1263"/>
                    </a:cubicBezTo>
                    <a:cubicBezTo>
                      <a:pt x="565" y="1294"/>
                      <a:pt x="578" y="1306"/>
                      <a:pt x="593" y="1315"/>
                    </a:cubicBezTo>
                    <a:cubicBezTo>
                      <a:pt x="608" y="1324"/>
                      <a:pt x="655" y="1310"/>
                      <a:pt x="653" y="1315"/>
                    </a:cubicBezTo>
                    <a:cubicBezTo>
                      <a:pt x="651" y="1320"/>
                      <a:pt x="603" y="1324"/>
                      <a:pt x="578" y="1345"/>
                    </a:cubicBezTo>
                    <a:cubicBezTo>
                      <a:pt x="553" y="1366"/>
                      <a:pt x="520" y="1417"/>
                      <a:pt x="503" y="1443"/>
                    </a:cubicBezTo>
                    <a:cubicBezTo>
                      <a:pt x="486" y="1469"/>
                      <a:pt x="497" y="1488"/>
                      <a:pt x="473" y="1503"/>
                    </a:cubicBezTo>
                    <a:cubicBezTo>
                      <a:pt x="449" y="1518"/>
                      <a:pt x="401" y="1527"/>
                      <a:pt x="360" y="1533"/>
                    </a:cubicBezTo>
                    <a:cubicBezTo>
                      <a:pt x="319" y="1539"/>
                      <a:pt x="265" y="1552"/>
                      <a:pt x="225" y="1540"/>
                    </a:cubicBezTo>
                    <a:cubicBezTo>
                      <a:pt x="185" y="1528"/>
                      <a:pt x="145" y="1487"/>
                      <a:pt x="120" y="1458"/>
                    </a:cubicBezTo>
                    <a:cubicBezTo>
                      <a:pt x="95" y="1429"/>
                      <a:pt x="89" y="1394"/>
                      <a:pt x="75" y="1368"/>
                    </a:cubicBezTo>
                    <a:cubicBezTo>
                      <a:pt x="61" y="1342"/>
                      <a:pt x="48" y="1284"/>
                      <a:pt x="38" y="1300"/>
                    </a:cubicBezTo>
                    <a:cubicBezTo>
                      <a:pt x="28" y="1316"/>
                      <a:pt x="0" y="1416"/>
                      <a:pt x="15" y="1465"/>
                    </a:cubicBezTo>
                    <a:cubicBezTo>
                      <a:pt x="30" y="1514"/>
                      <a:pt x="87" y="1558"/>
                      <a:pt x="128" y="1593"/>
                    </a:cubicBezTo>
                    <a:cubicBezTo>
                      <a:pt x="169" y="1628"/>
                      <a:pt x="187" y="1666"/>
                      <a:pt x="263" y="1675"/>
                    </a:cubicBezTo>
                    <a:cubicBezTo>
                      <a:pt x="339" y="1684"/>
                      <a:pt x="494" y="1695"/>
                      <a:pt x="585" y="1645"/>
                    </a:cubicBezTo>
                    <a:cubicBezTo>
                      <a:pt x="676" y="1595"/>
                      <a:pt x="756" y="1484"/>
                      <a:pt x="810" y="1375"/>
                    </a:cubicBezTo>
                    <a:cubicBezTo>
                      <a:pt x="864" y="1266"/>
                      <a:pt x="889" y="1115"/>
                      <a:pt x="908" y="993"/>
                    </a:cubicBezTo>
                    <a:cubicBezTo>
                      <a:pt x="927" y="871"/>
                      <a:pt x="937" y="750"/>
                      <a:pt x="923" y="640"/>
                    </a:cubicBezTo>
                    <a:cubicBezTo>
                      <a:pt x="909" y="530"/>
                      <a:pt x="871" y="409"/>
                      <a:pt x="825" y="333"/>
                    </a:cubicBezTo>
                    <a:cubicBezTo>
                      <a:pt x="779" y="257"/>
                      <a:pt x="686" y="227"/>
                      <a:pt x="645" y="183"/>
                    </a:cubicBezTo>
                    <a:cubicBezTo>
                      <a:pt x="604" y="139"/>
                      <a:pt x="612" y="99"/>
                      <a:pt x="578" y="70"/>
                    </a:cubicBezTo>
                    <a:cubicBezTo>
                      <a:pt x="544" y="41"/>
                      <a:pt x="483" y="20"/>
                      <a:pt x="443" y="10"/>
                    </a:cubicBezTo>
                    <a:cubicBezTo>
                      <a:pt x="403" y="0"/>
                      <a:pt x="365" y="6"/>
                      <a:pt x="338" y="10"/>
                    </a:cubicBezTo>
                    <a:cubicBezTo>
                      <a:pt x="311" y="14"/>
                      <a:pt x="287" y="29"/>
                      <a:pt x="278" y="33"/>
                    </a:cubicBezTo>
                    <a:cubicBezTo>
                      <a:pt x="269" y="37"/>
                      <a:pt x="290" y="30"/>
                      <a:pt x="285" y="33"/>
                    </a:cubicBezTo>
                    <a:cubicBezTo>
                      <a:pt x="280" y="36"/>
                      <a:pt x="246" y="49"/>
                      <a:pt x="248" y="48"/>
                    </a:cubicBezTo>
                    <a:cubicBezTo>
                      <a:pt x="250" y="47"/>
                      <a:pt x="309" y="19"/>
                      <a:pt x="300" y="25"/>
                    </a:cubicBezTo>
                    <a:cubicBezTo>
                      <a:pt x="291" y="31"/>
                      <a:pt x="219" y="54"/>
                      <a:pt x="195" y="85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8553960" y="4889520"/>
                <a:ext cx="86400" cy="90360"/>
              </a:xfrm>
              <a:custGeom>
                <a:avLst/>
                <a:gdLst/>
                <a:ahLst/>
                <a:rect l="l" t="t" r="r" b="b"/>
                <a:pathLst>
                  <a:path w="91" h="95">
                    <a:moveTo>
                      <a:pt x="44" y="6"/>
                    </a:moveTo>
                    <a:cubicBezTo>
                      <a:pt x="58" y="0"/>
                      <a:pt x="87" y="22"/>
                      <a:pt x="89" y="36"/>
                    </a:cubicBezTo>
                    <a:cubicBezTo>
                      <a:pt x="91" y="50"/>
                      <a:pt x="73" y="83"/>
                      <a:pt x="59" y="89"/>
                    </a:cubicBezTo>
                    <a:cubicBezTo>
                      <a:pt x="45" y="95"/>
                      <a:pt x="14" y="84"/>
                      <a:pt x="7" y="74"/>
                    </a:cubicBezTo>
                    <a:cubicBezTo>
                      <a:pt x="0" y="64"/>
                      <a:pt x="30" y="12"/>
                      <a:pt x="44" y="6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21720" y="5278320"/>
                <a:ext cx="145800" cy="879120"/>
              </a:xfrm>
              <a:custGeom>
                <a:avLst/>
                <a:gdLst/>
                <a:ahLst/>
                <a:rect l="l" t="t" r="r" b="b"/>
                <a:pathLst>
                  <a:path w="153" h="922">
                    <a:moveTo>
                      <a:pt x="147" y="0"/>
                    </a:moveTo>
                    <a:cubicBezTo>
                      <a:pt x="147" y="32"/>
                      <a:pt x="153" y="112"/>
                      <a:pt x="150" y="191"/>
                    </a:cubicBezTo>
                    <a:cubicBezTo>
                      <a:pt x="147" y="270"/>
                      <a:pt x="144" y="377"/>
                      <a:pt x="132" y="472"/>
                    </a:cubicBezTo>
                    <a:cubicBezTo>
                      <a:pt x="120" y="567"/>
                      <a:pt x="97" y="686"/>
                      <a:pt x="75" y="761"/>
                    </a:cubicBezTo>
                    <a:cubicBezTo>
                      <a:pt x="53" y="836"/>
                      <a:pt x="16" y="888"/>
                      <a:pt x="0" y="922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75" name="" descr=""/>
          <p:cNvPicPr/>
          <p:nvPr/>
        </p:nvPicPr>
        <p:blipFill>
          <a:blip r:embed="rId6"/>
          <a:stretch/>
        </p:blipFill>
        <p:spPr>
          <a:xfrm>
            <a:off x="307800" y="2395440"/>
            <a:ext cx="804960" cy="48276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7"/>
          <a:stretch/>
        </p:blipFill>
        <p:spPr>
          <a:xfrm>
            <a:off x="304920" y="4448160"/>
            <a:ext cx="804600" cy="48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2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1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38400" y="630360"/>
            <a:ext cx="7632720" cy="19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cc"/>
                </a:solidFill>
                <a:latin typeface="Eras Bold ITC"/>
              </a:rPr>
              <a:t>EVIDENCES OF EVOLUTION</a:t>
            </a:r>
            <a:endParaRPr b="0" lang="en-US" sz="60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8200" y="2927160"/>
            <a:ext cx="7282080" cy="34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Fossil Record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Biochemical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Comparative Anatomy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Biogeography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Observable Events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0" y="129960"/>
            <a:ext cx="9051840" cy="96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cc"/>
                </a:solidFill>
                <a:latin typeface="Eras Bold ITC"/>
              </a:rPr>
              <a:t>3 COMPARATIVE ANATOMY</a:t>
            </a: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170000" y="1498320"/>
            <a:ext cx="3790800" cy="22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  <a:ea typeface="Arial"/>
              </a:rPr>
              <a:t>Comparison of similarities in embryos can show: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1125360" y="4243320"/>
            <a:ext cx="3686400" cy="18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Relationship to a common ancestor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5041800" y="1692360"/>
            <a:ext cx="925560" cy="1695240"/>
            <a:chOff x="5041800" y="1692360"/>
            <a:chExt cx="925560" cy="1695240"/>
          </a:xfrm>
        </p:grpSpPr>
        <p:sp>
          <p:nvSpPr>
            <p:cNvPr id="581" name=""/>
            <p:cNvSpPr/>
            <p:nvPr/>
          </p:nvSpPr>
          <p:spPr>
            <a:xfrm>
              <a:off x="5041800" y="1692360"/>
              <a:ext cx="925560" cy="1695240"/>
            </a:xfrm>
            <a:custGeom>
              <a:avLst/>
              <a:gdLst/>
              <a:ahLst/>
              <a:rect l="l" t="t" r="r" b="b"/>
              <a:pathLst>
                <a:path w="970" h="1778">
                  <a:moveTo>
                    <a:pt x="366" y="44"/>
                  </a:moveTo>
                  <a:cubicBezTo>
                    <a:pt x="344" y="71"/>
                    <a:pt x="300" y="139"/>
                    <a:pt x="284" y="179"/>
                  </a:cubicBezTo>
                  <a:cubicBezTo>
                    <a:pt x="268" y="219"/>
                    <a:pt x="283" y="248"/>
                    <a:pt x="269" y="284"/>
                  </a:cubicBezTo>
                  <a:cubicBezTo>
                    <a:pt x="255" y="320"/>
                    <a:pt x="211" y="354"/>
                    <a:pt x="201" y="396"/>
                  </a:cubicBezTo>
                  <a:cubicBezTo>
                    <a:pt x="191" y="438"/>
                    <a:pt x="180" y="505"/>
                    <a:pt x="209" y="539"/>
                  </a:cubicBezTo>
                  <a:cubicBezTo>
                    <a:pt x="238" y="573"/>
                    <a:pt x="334" y="598"/>
                    <a:pt x="374" y="599"/>
                  </a:cubicBezTo>
                  <a:cubicBezTo>
                    <a:pt x="414" y="600"/>
                    <a:pt x="430" y="567"/>
                    <a:pt x="449" y="546"/>
                  </a:cubicBezTo>
                  <a:cubicBezTo>
                    <a:pt x="468" y="525"/>
                    <a:pt x="474" y="495"/>
                    <a:pt x="486" y="471"/>
                  </a:cubicBezTo>
                  <a:cubicBezTo>
                    <a:pt x="498" y="447"/>
                    <a:pt x="524" y="397"/>
                    <a:pt x="524" y="404"/>
                  </a:cubicBezTo>
                  <a:cubicBezTo>
                    <a:pt x="524" y="411"/>
                    <a:pt x="487" y="491"/>
                    <a:pt x="486" y="516"/>
                  </a:cubicBezTo>
                  <a:cubicBezTo>
                    <a:pt x="485" y="541"/>
                    <a:pt x="499" y="559"/>
                    <a:pt x="516" y="554"/>
                  </a:cubicBezTo>
                  <a:cubicBezTo>
                    <a:pt x="533" y="549"/>
                    <a:pt x="586" y="486"/>
                    <a:pt x="591" y="486"/>
                  </a:cubicBezTo>
                  <a:cubicBezTo>
                    <a:pt x="596" y="486"/>
                    <a:pt x="542" y="534"/>
                    <a:pt x="546" y="554"/>
                  </a:cubicBezTo>
                  <a:cubicBezTo>
                    <a:pt x="550" y="574"/>
                    <a:pt x="592" y="605"/>
                    <a:pt x="614" y="606"/>
                  </a:cubicBezTo>
                  <a:cubicBezTo>
                    <a:pt x="636" y="607"/>
                    <a:pt x="681" y="562"/>
                    <a:pt x="681" y="561"/>
                  </a:cubicBezTo>
                  <a:cubicBezTo>
                    <a:pt x="681" y="560"/>
                    <a:pt x="626" y="585"/>
                    <a:pt x="614" y="599"/>
                  </a:cubicBezTo>
                  <a:cubicBezTo>
                    <a:pt x="602" y="613"/>
                    <a:pt x="596" y="637"/>
                    <a:pt x="606" y="644"/>
                  </a:cubicBezTo>
                  <a:cubicBezTo>
                    <a:pt x="616" y="651"/>
                    <a:pt x="654" y="649"/>
                    <a:pt x="674" y="644"/>
                  </a:cubicBezTo>
                  <a:cubicBezTo>
                    <a:pt x="694" y="639"/>
                    <a:pt x="727" y="613"/>
                    <a:pt x="726" y="614"/>
                  </a:cubicBezTo>
                  <a:cubicBezTo>
                    <a:pt x="725" y="615"/>
                    <a:pt x="683" y="641"/>
                    <a:pt x="666" y="651"/>
                  </a:cubicBezTo>
                  <a:cubicBezTo>
                    <a:pt x="649" y="661"/>
                    <a:pt x="626" y="660"/>
                    <a:pt x="621" y="674"/>
                  </a:cubicBezTo>
                  <a:cubicBezTo>
                    <a:pt x="616" y="688"/>
                    <a:pt x="641" y="717"/>
                    <a:pt x="636" y="734"/>
                  </a:cubicBezTo>
                  <a:cubicBezTo>
                    <a:pt x="631" y="751"/>
                    <a:pt x="601" y="749"/>
                    <a:pt x="591" y="779"/>
                  </a:cubicBezTo>
                  <a:cubicBezTo>
                    <a:pt x="581" y="809"/>
                    <a:pt x="573" y="864"/>
                    <a:pt x="576" y="914"/>
                  </a:cubicBezTo>
                  <a:cubicBezTo>
                    <a:pt x="579" y="964"/>
                    <a:pt x="603" y="994"/>
                    <a:pt x="606" y="1079"/>
                  </a:cubicBezTo>
                  <a:cubicBezTo>
                    <a:pt x="609" y="1164"/>
                    <a:pt x="606" y="1339"/>
                    <a:pt x="591" y="1424"/>
                  </a:cubicBezTo>
                  <a:cubicBezTo>
                    <a:pt x="576" y="1509"/>
                    <a:pt x="561" y="1550"/>
                    <a:pt x="516" y="1589"/>
                  </a:cubicBezTo>
                  <a:cubicBezTo>
                    <a:pt x="471" y="1628"/>
                    <a:pt x="377" y="1650"/>
                    <a:pt x="321" y="1656"/>
                  </a:cubicBezTo>
                  <a:cubicBezTo>
                    <a:pt x="265" y="1662"/>
                    <a:pt x="219" y="1642"/>
                    <a:pt x="179" y="1626"/>
                  </a:cubicBezTo>
                  <a:cubicBezTo>
                    <a:pt x="139" y="1610"/>
                    <a:pt x="110" y="1571"/>
                    <a:pt x="81" y="1559"/>
                  </a:cubicBezTo>
                  <a:cubicBezTo>
                    <a:pt x="52" y="1547"/>
                    <a:pt x="0" y="1527"/>
                    <a:pt x="6" y="1551"/>
                  </a:cubicBezTo>
                  <a:cubicBezTo>
                    <a:pt x="12" y="1575"/>
                    <a:pt x="65" y="1664"/>
                    <a:pt x="119" y="1701"/>
                  </a:cubicBezTo>
                  <a:cubicBezTo>
                    <a:pt x="173" y="1738"/>
                    <a:pt x="250" y="1774"/>
                    <a:pt x="329" y="1776"/>
                  </a:cubicBezTo>
                  <a:cubicBezTo>
                    <a:pt x="408" y="1778"/>
                    <a:pt x="510" y="1761"/>
                    <a:pt x="591" y="1716"/>
                  </a:cubicBezTo>
                  <a:cubicBezTo>
                    <a:pt x="672" y="1671"/>
                    <a:pt x="769" y="1598"/>
                    <a:pt x="816" y="1506"/>
                  </a:cubicBezTo>
                  <a:cubicBezTo>
                    <a:pt x="863" y="1414"/>
                    <a:pt x="859" y="1281"/>
                    <a:pt x="876" y="1161"/>
                  </a:cubicBezTo>
                  <a:cubicBezTo>
                    <a:pt x="893" y="1041"/>
                    <a:pt x="907" y="893"/>
                    <a:pt x="921" y="786"/>
                  </a:cubicBezTo>
                  <a:cubicBezTo>
                    <a:pt x="935" y="679"/>
                    <a:pt x="970" y="597"/>
                    <a:pt x="959" y="516"/>
                  </a:cubicBezTo>
                  <a:cubicBezTo>
                    <a:pt x="948" y="435"/>
                    <a:pt x="898" y="352"/>
                    <a:pt x="854" y="299"/>
                  </a:cubicBezTo>
                  <a:cubicBezTo>
                    <a:pt x="810" y="246"/>
                    <a:pt x="732" y="242"/>
                    <a:pt x="696" y="201"/>
                  </a:cubicBezTo>
                  <a:cubicBezTo>
                    <a:pt x="660" y="160"/>
                    <a:pt x="657" y="83"/>
                    <a:pt x="636" y="51"/>
                  </a:cubicBezTo>
                  <a:cubicBezTo>
                    <a:pt x="615" y="19"/>
                    <a:pt x="605" y="12"/>
                    <a:pt x="569" y="6"/>
                  </a:cubicBezTo>
                  <a:cubicBezTo>
                    <a:pt x="533" y="0"/>
                    <a:pt x="451" y="7"/>
                    <a:pt x="419" y="14"/>
                  </a:cubicBezTo>
                  <a:cubicBezTo>
                    <a:pt x="387" y="21"/>
                    <a:pt x="388" y="17"/>
                    <a:pt x="366" y="44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448240" y="2535120"/>
              <a:ext cx="365400" cy="783000"/>
            </a:xfrm>
            <a:custGeom>
              <a:avLst/>
              <a:gdLst/>
              <a:ahLst/>
              <a:rect l="l" t="t" r="r" b="b"/>
              <a:pathLst>
                <a:path w="383" h="821">
                  <a:moveTo>
                    <a:pt x="383" y="0"/>
                  </a:moveTo>
                  <a:cubicBezTo>
                    <a:pt x="378" y="51"/>
                    <a:pt x="373" y="102"/>
                    <a:pt x="368" y="157"/>
                  </a:cubicBezTo>
                  <a:cubicBezTo>
                    <a:pt x="363" y="212"/>
                    <a:pt x="365" y="274"/>
                    <a:pt x="353" y="330"/>
                  </a:cubicBezTo>
                  <a:cubicBezTo>
                    <a:pt x="341" y="386"/>
                    <a:pt x="318" y="441"/>
                    <a:pt x="293" y="495"/>
                  </a:cubicBezTo>
                  <a:cubicBezTo>
                    <a:pt x="268" y="549"/>
                    <a:pt x="239" y="602"/>
                    <a:pt x="203" y="652"/>
                  </a:cubicBezTo>
                  <a:cubicBezTo>
                    <a:pt x="167" y="702"/>
                    <a:pt x="109" y="769"/>
                    <a:pt x="75" y="795"/>
                  </a:cubicBezTo>
                  <a:cubicBezTo>
                    <a:pt x="41" y="821"/>
                    <a:pt x="20" y="815"/>
                    <a:pt x="0" y="810"/>
                  </a:cubicBez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3" name=""/>
            <p:cNvGrpSpPr/>
            <p:nvPr/>
          </p:nvGrpSpPr>
          <p:grpSpPr>
            <a:xfrm>
              <a:off x="5337360" y="1978200"/>
              <a:ext cx="165960" cy="177120"/>
              <a:chOff x="5337360" y="1978200"/>
              <a:chExt cx="165960" cy="177120"/>
            </a:xfrm>
          </p:grpSpPr>
          <p:sp>
            <p:nvSpPr>
              <p:cNvPr id="584" name=""/>
              <p:cNvSpPr/>
              <p:nvPr/>
            </p:nvSpPr>
            <p:spPr>
              <a:xfrm>
                <a:off x="5337360" y="1978200"/>
                <a:ext cx="165960" cy="177120"/>
              </a:xfrm>
              <a:custGeom>
                <a:avLst/>
                <a:gdLst/>
                <a:ahLst/>
                <a:rect l="l" t="t" r="r" b="b"/>
                <a:pathLst>
                  <a:path w="182" h="193">
                    <a:moveTo>
                      <a:pt x="34" y="14"/>
                    </a:moveTo>
                    <a:cubicBezTo>
                      <a:pt x="51" y="0"/>
                      <a:pt x="88" y="9"/>
                      <a:pt x="109" y="14"/>
                    </a:cubicBezTo>
                    <a:cubicBezTo>
                      <a:pt x="130" y="19"/>
                      <a:pt x="151" y="24"/>
                      <a:pt x="162" y="44"/>
                    </a:cubicBezTo>
                    <a:cubicBezTo>
                      <a:pt x="173" y="64"/>
                      <a:pt x="182" y="112"/>
                      <a:pt x="177" y="134"/>
                    </a:cubicBezTo>
                    <a:cubicBezTo>
                      <a:pt x="172" y="156"/>
                      <a:pt x="156" y="172"/>
                      <a:pt x="132" y="179"/>
                    </a:cubicBezTo>
                    <a:cubicBezTo>
                      <a:pt x="108" y="186"/>
                      <a:pt x="55" y="193"/>
                      <a:pt x="34" y="179"/>
                    </a:cubicBezTo>
                    <a:cubicBezTo>
                      <a:pt x="13" y="165"/>
                      <a:pt x="8" y="121"/>
                      <a:pt x="4" y="96"/>
                    </a:cubicBezTo>
                    <a:cubicBezTo>
                      <a:pt x="0" y="71"/>
                      <a:pt x="17" y="28"/>
                      <a:pt x="34" y="14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384880" y="2024640"/>
                <a:ext cx="65520" cy="93240"/>
              </a:xfrm>
              <a:custGeom>
                <a:avLst/>
                <a:gdLst/>
                <a:ahLst/>
                <a:rect l="l" t="t" r="r" b="b"/>
                <a:pathLst>
                  <a:path w="69" h="98">
                    <a:moveTo>
                      <a:pt x="0" y="2"/>
                    </a:moveTo>
                    <a:cubicBezTo>
                      <a:pt x="11" y="0"/>
                      <a:pt x="51" y="12"/>
                      <a:pt x="60" y="24"/>
                    </a:cubicBezTo>
                    <a:cubicBezTo>
                      <a:pt x="69" y="36"/>
                      <a:pt x="61" y="66"/>
                      <a:pt x="52" y="77"/>
                    </a:cubicBezTo>
                    <a:cubicBezTo>
                      <a:pt x="43" y="88"/>
                      <a:pt x="12" y="98"/>
                      <a:pt x="7" y="92"/>
                    </a:cubicBezTo>
                    <a:cubicBezTo>
                      <a:pt x="2" y="86"/>
                      <a:pt x="23" y="54"/>
                      <a:pt x="22" y="39"/>
                    </a:cubicBezTo>
                    <a:cubicBezTo>
                      <a:pt x="21" y="24"/>
                      <a:pt x="5" y="10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6" name=""/>
            <p:cNvSpPr/>
            <p:nvPr/>
          </p:nvSpPr>
          <p:spPr>
            <a:xfrm>
              <a:off x="5577120" y="1912680"/>
              <a:ext cx="86760" cy="90360"/>
            </a:xfrm>
            <a:custGeom>
              <a:avLst/>
              <a:gdLst/>
              <a:ahLst/>
              <a:rect l="l" t="t" r="r" b="b"/>
              <a:pathLst>
                <a:path w="91" h="95">
                  <a:moveTo>
                    <a:pt x="44" y="6"/>
                  </a:moveTo>
                  <a:cubicBezTo>
                    <a:pt x="58" y="0"/>
                    <a:pt x="87" y="22"/>
                    <a:pt x="89" y="36"/>
                  </a:cubicBezTo>
                  <a:cubicBezTo>
                    <a:pt x="91" y="50"/>
                    <a:pt x="73" y="83"/>
                    <a:pt x="59" y="89"/>
                  </a:cubicBezTo>
                  <a:cubicBezTo>
                    <a:pt x="45" y="95"/>
                    <a:pt x="14" y="84"/>
                    <a:pt x="7" y="74"/>
                  </a:cubicBezTo>
                  <a:cubicBezTo>
                    <a:pt x="0" y="64"/>
                    <a:pt x="30" y="12"/>
                    <a:pt x="44" y="6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5964120" y="1585800"/>
            <a:ext cx="836640" cy="1908360"/>
            <a:chOff x="5964120" y="1585800"/>
            <a:chExt cx="836640" cy="1908360"/>
          </a:xfrm>
        </p:grpSpPr>
        <p:sp>
          <p:nvSpPr>
            <p:cNvPr id="588" name=""/>
            <p:cNvSpPr/>
            <p:nvPr/>
          </p:nvSpPr>
          <p:spPr>
            <a:xfrm>
              <a:off x="5964120" y="1585800"/>
              <a:ext cx="836640" cy="1908360"/>
            </a:xfrm>
            <a:custGeom>
              <a:avLst/>
              <a:gdLst/>
              <a:ahLst/>
              <a:rect l="l" t="t" r="r" b="b"/>
              <a:pathLst>
                <a:path w="928" h="2115">
                  <a:moveTo>
                    <a:pt x="351" y="17"/>
                  </a:moveTo>
                  <a:cubicBezTo>
                    <a:pt x="315" y="28"/>
                    <a:pt x="296" y="45"/>
                    <a:pt x="276" y="70"/>
                  </a:cubicBezTo>
                  <a:cubicBezTo>
                    <a:pt x="256" y="95"/>
                    <a:pt x="252" y="140"/>
                    <a:pt x="231" y="167"/>
                  </a:cubicBezTo>
                  <a:cubicBezTo>
                    <a:pt x="210" y="194"/>
                    <a:pt x="168" y="208"/>
                    <a:pt x="149" y="235"/>
                  </a:cubicBezTo>
                  <a:cubicBezTo>
                    <a:pt x="130" y="262"/>
                    <a:pt x="114" y="297"/>
                    <a:pt x="119" y="332"/>
                  </a:cubicBezTo>
                  <a:cubicBezTo>
                    <a:pt x="124" y="367"/>
                    <a:pt x="157" y="420"/>
                    <a:pt x="179" y="445"/>
                  </a:cubicBezTo>
                  <a:cubicBezTo>
                    <a:pt x="201" y="470"/>
                    <a:pt x="230" y="475"/>
                    <a:pt x="254" y="482"/>
                  </a:cubicBezTo>
                  <a:cubicBezTo>
                    <a:pt x="278" y="489"/>
                    <a:pt x="299" y="480"/>
                    <a:pt x="321" y="490"/>
                  </a:cubicBezTo>
                  <a:cubicBezTo>
                    <a:pt x="343" y="500"/>
                    <a:pt x="364" y="542"/>
                    <a:pt x="389" y="542"/>
                  </a:cubicBezTo>
                  <a:cubicBezTo>
                    <a:pt x="414" y="542"/>
                    <a:pt x="462" y="485"/>
                    <a:pt x="471" y="490"/>
                  </a:cubicBezTo>
                  <a:cubicBezTo>
                    <a:pt x="480" y="495"/>
                    <a:pt x="440" y="553"/>
                    <a:pt x="441" y="572"/>
                  </a:cubicBezTo>
                  <a:cubicBezTo>
                    <a:pt x="442" y="591"/>
                    <a:pt x="462" y="601"/>
                    <a:pt x="479" y="602"/>
                  </a:cubicBezTo>
                  <a:cubicBezTo>
                    <a:pt x="496" y="603"/>
                    <a:pt x="544" y="578"/>
                    <a:pt x="546" y="580"/>
                  </a:cubicBezTo>
                  <a:cubicBezTo>
                    <a:pt x="548" y="582"/>
                    <a:pt x="494" y="605"/>
                    <a:pt x="494" y="617"/>
                  </a:cubicBezTo>
                  <a:cubicBezTo>
                    <a:pt x="494" y="629"/>
                    <a:pt x="529" y="649"/>
                    <a:pt x="546" y="655"/>
                  </a:cubicBezTo>
                  <a:cubicBezTo>
                    <a:pt x="563" y="661"/>
                    <a:pt x="606" y="653"/>
                    <a:pt x="599" y="655"/>
                  </a:cubicBezTo>
                  <a:cubicBezTo>
                    <a:pt x="592" y="657"/>
                    <a:pt x="523" y="653"/>
                    <a:pt x="501" y="670"/>
                  </a:cubicBezTo>
                  <a:cubicBezTo>
                    <a:pt x="479" y="687"/>
                    <a:pt x="475" y="719"/>
                    <a:pt x="464" y="760"/>
                  </a:cubicBezTo>
                  <a:cubicBezTo>
                    <a:pt x="453" y="801"/>
                    <a:pt x="437" y="852"/>
                    <a:pt x="434" y="917"/>
                  </a:cubicBezTo>
                  <a:cubicBezTo>
                    <a:pt x="431" y="982"/>
                    <a:pt x="437" y="1086"/>
                    <a:pt x="449" y="1150"/>
                  </a:cubicBezTo>
                  <a:cubicBezTo>
                    <a:pt x="461" y="1214"/>
                    <a:pt x="505" y="1246"/>
                    <a:pt x="509" y="1300"/>
                  </a:cubicBezTo>
                  <a:cubicBezTo>
                    <a:pt x="513" y="1354"/>
                    <a:pt x="487" y="1407"/>
                    <a:pt x="471" y="1472"/>
                  </a:cubicBezTo>
                  <a:cubicBezTo>
                    <a:pt x="455" y="1537"/>
                    <a:pt x="431" y="1628"/>
                    <a:pt x="411" y="1690"/>
                  </a:cubicBezTo>
                  <a:cubicBezTo>
                    <a:pt x="391" y="1752"/>
                    <a:pt x="381" y="1803"/>
                    <a:pt x="351" y="1847"/>
                  </a:cubicBezTo>
                  <a:cubicBezTo>
                    <a:pt x="321" y="1891"/>
                    <a:pt x="279" y="1923"/>
                    <a:pt x="231" y="1952"/>
                  </a:cubicBezTo>
                  <a:cubicBezTo>
                    <a:pt x="183" y="1981"/>
                    <a:pt x="100" y="1995"/>
                    <a:pt x="66" y="2020"/>
                  </a:cubicBezTo>
                  <a:cubicBezTo>
                    <a:pt x="32" y="2045"/>
                    <a:pt x="0" y="2090"/>
                    <a:pt x="29" y="2102"/>
                  </a:cubicBezTo>
                  <a:cubicBezTo>
                    <a:pt x="58" y="2114"/>
                    <a:pt x="163" y="2115"/>
                    <a:pt x="239" y="2095"/>
                  </a:cubicBezTo>
                  <a:cubicBezTo>
                    <a:pt x="315" y="2075"/>
                    <a:pt x="406" y="2052"/>
                    <a:pt x="486" y="1982"/>
                  </a:cubicBezTo>
                  <a:cubicBezTo>
                    <a:pt x="566" y="1912"/>
                    <a:pt x="657" y="1776"/>
                    <a:pt x="719" y="1675"/>
                  </a:cubicBezTo>
                  <a:cubicBezTo>
                    <a:pt x="781" y="1574"/>
                    <a:pt x="827" y="1508"/>
                    <a:pt x="861" y="1375"/>
                  </a:cubicBezTo>
                  <a:cubicBezTo>
                    <a:pt x="895" y="1242"/>
                    <a:pt x="914" y="1010"/>
                    <a:pt x="921" y="880"/>
                  </a:cubicBezTo>
                  <a:cubicBezTo>
                    <a:pt x="928" y="750"/>
                    <a:pt x="911" y="674"/>
                    <a:pt x="906" y="595"/>
                  </a:cubicBezTo>
                  <a:cubicBezTo>
                    <a:pt x="901" y="516"/>
                    <a:pt x="898" y="457"/>
                    <a:pt x="891" y="407"/>
                  </a:cubicBezTo>
                  <a:cubicBezTo>
                    <a:pt x="884" y="357"/>
                    <a:pt x="885" y="325"/>
                    <a:pt x="861" y="295"/>
                  </a:cubicBezTo>
                  <a:cubicBezTo>
                    <a:pt x="837" y="265"/>
                    <a:pt x="781" y="253"/>
                    <a:pt x="749" y="227"/>
                  </a:cubicBezTo>
                  <a:cubicBezTo>
                    <a:pt x="717" y="201"/>
                    <a:pt x="692" y="168"/>
                    <a:pt x="666" y="137"/>
                  </a:cubicBezTo>
                  <a:cubicBezTo>
                    <a:pt x="640" y="106"/>
                    <a:pt x="619" y="62"/>
                    <a:pt x="591" y="40"/>
                  </a:cubicBezTo>
                  <a:cubicBezTo>
                    <a:pt x="563" y="18"/>
                    <a:pt x="531" y="4"/>
                    <a:pt x="494" y="2"/>
                  </a:cubicBezTo>
                  <a:cubicBezTo>
                    <a:pt x="457" y="0"/>
                    <a:pt x="387" y="6"/>
                    <a:pt x="351" y="17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306840" y="2311560"/>
              <a:ext cx="354600" cy="1007640"/>
            </a:xfrm>
            <a:custGeom>
              <a:avLst/>
              <a:gdLst/>
              <a:ahLst/>
              <a:rect l="l" t="t" r="r" b="b"/>
              <a:pathLst>
                <a:path w="393" h="1117">
                  <a:moveTo>
                    <a:pt x="345" y="0"/>
                  </a:moveTo>
                  <a:cubicBezTo>
                    <a:pt x="369" y="90"/>
                    <a:pt x="393" y="181"/>
                    <a:pt x="383" y="292"/>
                  </a:cubicBezTo>
                  <a:cubicBezTo>
                    <a:pt x="373" y="403"/>
                    <a:pt x="326" y="558"/>
                    <a:pt x="285" y="667"/>
                  </a:cubicBezTo>
                  <a:cubicBezTo>
                    <a:pt x="244" y="776"/>
                    <a:pt x="182" y="870"/>
                    <a:pt x="135" y="945"/>
                  </a:cubicBezTo>
                  <a:cubicBezTo>
                    <a:pt x="88" y="1020"/>
                    <a:pt x="44" y="1068"/>
                    <a:pt x="0" y="1117"/>
                  </a:cubicBezTo>
                </a:path>
              </a:pathLst>
            </a:custGeom>
            <a:noFill/>
            <a:ln w="28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446160" y="1843200"/>
              <a:ext cx="111240" cy="83880"/>
            </a:xfrm>
            <a:custGeom>
              <a:avLst/>
              <a:gdLst/>
              <a:ahLst/>
              <a:rect l="l" t="t" r="r" b="b"/>
              <a:pathLst>
                <a:path w="124" h="94">
                  <a:moveTo>
                    <a:pt x="34" y="10"/>
                  </a:moveTo>
                  <a:cubicBezTo>
                    <a:pt x="46" y="0"/>
                    <a:pt x="71" y="19"/>
                    <a:pt x="86" y="25"/>
                  </a:cubicBezTo>
                  <a:cubicBezTo>
                    <a:pt x="101" y="31"/>
                    <a:pt x="124" y="37"/>
                    <a:pt x="124" y="47"/>
                  </a:cubicBezTo>
                  <a:cubicBezTo>
                    <a:pt x="124" y="57"/>
                    <a:pt x="105" y="79"/>
                    <a:pt x="86" y="85"/>
                  </a:cubicBezTo>
                  <a:cubicBezTo>
                    <a:pt x="67" y="91"/>
                    <a:pt x="22" y="94"/>
                    <a:pt x="11" y="85"/>
                  </a:cubicBezTo>
                  <a:cubicBezTo>
                    <a:pt x="0" y="76"/>
                    <a:pt x="22" y="20"/>
                    <a:pt x="34" y="1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6262200" y="1776600"/>
              <a:ext cx="127440" cy="156240"/>
              <a:chOff x="6262200" y="1776600"/>
              <a:chExt cx="127440" cy="156240"/>
            </a:xfrm>
          </p:grpSpPr>
          <p:sp>
            <p:nvSpPr>
              <p:cNvPr id="592" name=""/>
              <p:cNvSpPr/>
              <p:nvPr/>
            </p:nvSpPr>
            <p:spPr>
              <a:xfrm>
                <a:off x="6262200" y="1776600"/>
                <a:ext cx="127440" cy="156240"/>
              </a:xfrm>
              <a:custGeom>
                <a:avLst/>
                <a:gdLst/>
                <a:ahLst/>
                <a:rect l="l" t="t" r="r" b="b"/>
                <a:pathLst>
                  <a:path w="141" h="174">
                    <a:moveTo>
                      <a:pt x="73" y="8"/>
                    </a:moveTo>
                    <a:cubicBezTo>
                      <a:pt x="59" y="10"/>
                      <a:pt x="46" y="15"/>
                      <a:pt x="35" y="30"/>
                    </a:cubicBezTo>
                    <a:cubicBezTo>
                      <a:pt x="24" y="45"/>
                      <a:pt x="0" y="76"/>
                      <a:pt x="5" y="98"/>
                    </a:cubicBezTo>
                    <a:cubicBezTo>
                      <a:pt x="10" y="120"/>
                      <a:pt x="45" y="156"/>
                      <a:pt x="65" y="165"/>
                    </a:cubicBezTo>
                    <a:cubicBezTo>
                      <a:pt x="85" y="174"/>
                      <a:pt x="113" y="161"/>
                      <a:pt x="125" y="150"/>
                    </a:cubicBezTo>
                    <a:cubicBezTo>
                      <a:pt x="137" y="139"/>
                      <a:pt x="141" y="120"/>
                      <a:pt x="140" y="98"/>
                    </a:cubicBezTo>
                    <a:cubicBezTo>
                      <a:pt x="139" y="76"/>
                      <a:pt x="129" y="30"/>
                      <a:pt x="118" y="15"/>
                    </a:cubicBezTo>
                    <a:cubicBezTo>
                      <a:pt x="107" y="0"/>
                      <a:pt x="87" y="6"/>
                      <a:pt x="73" y="8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299280" y="1820520"/>
                <a:ext cx="64800" cy="68040"/>
              </a:xfrm>
              <a:custGeom>
                <a:avLst/>
                <a:gdLst/>
                <a:ahLst/>
                <a:rect l="l" t="t" r="r" b="b"/>
                <a:pathLst>
                  <a:path w="72" h="76">
                    <a:moveTo>
                      <a:pt x="31" y="4"/>
                    </a:moveTo>
                    <a:cubicBezTo>
                      <a:pt x="20" y="8"/>
                      <a:pt x="0" y="38"/>
                      <a:pt x="1" y="49"/>
                    </a:cubicBezTo>
                    <a:cubicBezTo>
                      <a:pt x="2" y="60"/>
                      <a:pt x="28" y="76"/>
                      <a:pt x="39" y="72"/>
                    </a:cubicBezTo>
                    <a:cubicBezTo>
                      <a:pt x="50" y="68"/>
                      <a:pt x="72" y="37"/>
                      <a:pt x="69" y="27"/>
                    </a:cubicBezTo>
                    <a:cubicBezTo>
                      <a:pt x="66" y="17"/>
                      <a:pt x="42" y="0"/>
                      <a:pt x="3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4" name=""/>
          <p:cNvGrpSpPr/>
          <p:nvPr/>
        </p:nvGrpSpPr>
        <p:grpSpPr>
          <a:xfrm>
            <a:off x="6962760" y="1816200"/>
            <a:ext cx="873000" cy="1446120"/>
            <a:chOff x="6962760" y="1816200"/>
            <a:chExt cx="873000" cy="1446120"/>
          </a:xfrm>
        </p:grpSpPr>
        <p:sp>
          <p:nvSpPr>
            <p:cNvPr id="595" name=""/>
            <p:cNvSpPr/>
            <p:nvPr/>
          </p:nvSpPr>
          <p:spPr>
            <a:xfrm>
              <a:off x="6962760" y="1816200"/>
              <a:ext cx="873000" cy="1446120"/>
            </a:xfrm>
            <a:custGeom>
              <a:avLst/>
              <a:gdLst/>
              <a:ahLst/>
              <a:rect l="l" t="t" r="r" b="b"/>
              <a:pathLst>
                <a:path w="913" h="1514">
                  <a:moveTo>
                    <a:pt x="192" y="28"/>
                  </a:moveTo>
                  <a:cubicBezTo>
                    <a:pt x="146" y="54"/>
                    <a:pt x="73" y="116"/>
                    <a:pt x="42" y="163"/>
                  </a:cubicBezTo>
                  <a:cubicBezTo>
                    <a:pt x="11" y="210"/>
                    <a:pt x="8" y="274"/>
                    <a:pt x="4" y="313"/>
                  </a:cubicBezTo>
                  <a:cubicBezTo>
                    <a:pt x="0" y="352"/>
                    <a:pt x="4" y="350"/>
                    <a:pt x="19" y="396"/>
                  </a:cubicBezTo>
                  <a:cubicBezTo>
                    <a:pt x="34" y="442"/>
                    <a:pt x="66" y="542"/>
                    <a:pt x="94" y="591"/>
                  </a:cubicBezTo>
                  <a:cubicBezTo>
                    <a:pt x="122" y="640"/>
                    <a:pt x="149" y="678"/>
                    <a:pt x="184" y="688"/>
                  </a:cubicBezTo>
                  <a:cubicBezTo>
                    <a:pt x="219" y="698"/>
                    <a:pt x="276" y="671"/>
                    <a:pt x="304" y="651"/>
                  </a:cubicBezTo>
                  <a:cubicBezTo>
                    <a:pt x="332" y="631"/>
                    <a:pt x="346" y="592"/>
                    <a:pt x="349" y="568"/>
                  </a:cubicBezTo>
                  <a:cubicBezTo>
                    <a:pt x="352" y="544"/>
                    <a:pt x="323" y="530"/>
                    <a:pt x="319" y="508"/>
                  </a:cubicBezTo>
                  <a:cubicBezTo>
                    <a:pt x="315" y="486"/>
                    <a:pt x="325" y="432"/>
                    <a:pt x="327" y="433"/>
                  </a:cubicBezTo>
                  <a:cubicBezTo>
                    <a:pt x="329" y="434"/>
                    <a:pt x="322" y="506"/>
                    <a:pt x="334" y="516"/>
                  </a:cubicBezTo>
                  <a:cubicBezTo>
                    <a:pt x="346" y="526"/>
                    <a:pt x="390" y="514"/>
                    <a:pt x="402" y="493"/>
                  </a:cubicBezTo>
                  <a:cubicBezTo>
                    <a:pt x="414" y="472"/>
                    <a:pt x="409" y="387"/>
                    <a:pt x="409" y="388"/>
                  </a:cubicBezTo>
                  <a:cubicBezTo>
                    <a:pt x="409" y="389"/>
                    <a:pt x="396" y="477"/>
                    <a:pt x="402" y="501"/>
                  </a:cubicBezTo>
                  <a:cubicBezTo>
                    <a:pt x="408" y="525"/>
                    <a:pt x="437" y="540"/>
                    <a:pt x="447" y="531"/>
                  </a:cubicBezTo>
                  <a:cubicBezTo>
                    <a:pt x="457" y="522"/>
                    <a:pt x="454" y="468"/>
                    <a:pt x="462" y="448"/>
                  </a:cubicBezTo>
                  <a:cubicBezTo>
                    <a:pt x="470" y="428"/>
                    <a:pt x="493" y="401"/>
                    <a:pt x="492" y="411"/>
                  </a:cubicBezTo>
                  <a:cubicBezTo>
                    <a:pt x="491" y="421"/>
                    <a:pt x="460" y="484"/>
                    <a:pt x="454" y="508"/>
                  </a:cubicBezTo>
                  <a:cubicBezTo>
                    <a:pt x="448" y="532"/>
                    <a:pt x="442" y="555"/>
                    <a:pt x="454" y="553"/>
                  </a:cubicBezTo>
                  <a:cubicBezTo>
                    <a:pt x="466" y="551"/>
                    <a:pt x="524" y="497"/>
                    <a:pt x="529" y="493"/>
                  </a:cubicBezTo>
                  <a:cubicBezTo>
                    <a:pt x="534" y="489"/>
                    <a:pt x="490" y="517"/>
                    <a:pt x="484" y="531"/>
                  </a:cubicBezTo>
                  <a:cubicBezTo>
                    <a:pt x="478" y="545"/>
                    <a:pt x="482" y="566"/>
                    <a:pt x="492" y="576"/>
                  </a:cubicBezTo>
                  <a:cubicBezTo>
                    <a:pt x="502" y="586"/>
                    <a:pt x="543" y="589"/>
                    <a:pt x="544" y="591"/>
                  </a:cubicBezTo>
                  <a:cubicBezTo>
                    <a:pt x="545" y="593"/>
                    <a:pt x="516" y="589"/>
                    <a:pt x="499" y="591"/>
                  </a:cubicBezTo>
                  <a:cubicBezTo>
                    <a:pt x="482" y="593"/>
                    <a:pt x="453" y="590"/>
                    <a:pt x="439" y="606"/>
                  </a:cubicBezTo>
                  <a:cubicBezTo>
                    <a:pt x="425" y="622"/>
                    <a:pt x="411" y="652"/>
                    <a:pt x="417" y="688"/>
                  </a:cubicBezTo>
                  <a:cubicBezTo>
                    <a:pt x="423" y="724"/>
                    <a:pt x="458" y="793"/>
                    <a:pt x="477" y="823"/>
                  </a:cubicBezTo>
                  <a:cubicBezTo>
                    <a:pt x="496" y="853"/>
                    <a:pt x="513" y="863"/>
                    <a:pt x="529" y="868"/>
                  </a:cubicBezTo>
                  <a:cubicBezTo>
                    <a:pt x="545" y="873"/>
                    <a:pt x="576" y="852"/>
                    <a:pt x="574" y="853"/>
                  </a:cubicBezTo>
                  <a:cubicBezTo>
                    <a:pt x="572" y="854"/>
                    <a:pt x="524" y="852"/>
                    <a:pt x="514" y="876"/>
                  </a:cubicBezTo>
                  <a:cubicBezTo>
                    <a:pt x="504" y="900"/>
                    <a:pt x="513" y="955"/>
                    <a:pt x="514" y="996"/>
                  </a:cubicBezTo>
                  <a:cubicBezTo>
                    <a:pt x="515" y="1037"/>
                    <a:pt x="526" y="1089"/>
                    <a:pt x="522" y="1123"/>
                  </a:cubicBezTo>
                  <a:cubicBezTo>
                    <a:pt x="518" y="1157"/>
                    <a:pt x="517" y="1176"/>
                    <a:pt x="492" y="1198"/>
                  </a:cubicBezTo>
                  <a:cubicBezTo>
                    <a:pt x="467" y="1220"/>
                    <a:pt x="403" y="1233"/>
                    <a:pt x="372" y="1258"/>
                  </a:cubicBezTo>
                  <a:cubicBezTo>
                    <a:pt x="341" y="1283"/>
                    <a:pt x="336" y="1347"/>
                    <a:pt x="304" y="1348"/>
                  </a:cubicBezTo>
                  <a:cubicBezTo>
                    <a:pt x="272" y="1349"/>
                    <a:pt x="202" y="1302"/>
                    <a:pt x="177" y="1266"/>
                  </a:cubicBezTo>
                  <a:cubicBezTo>
                    <a:pt x="152" y="1230"/>
                    <a:pt x="153" y="1181"/>
                    <a:pt x="154" y="1131"/>
                  </a:cubicBezTo>
                  <a:cubicBezTo>
                    <a:pt x="155" y="1081"/>
                    <a:pt x="178" y="1011"/>
                    <a:pt x="184" y="966"/>
                  </a:cubicBezTo>
                  <a:cubicBezTo>
                    <a:pt x="190" y="921"/>
                    <a:pt x="208" y="845"/>
                    <a:pt x="192" y="861"/>
                  </a:cubicBezTo>
                  <a:cubicBezTo>
                    <a:pt x="176" y="877"/>
                    <a:pt x="103" y="998"/>
                    <a:pt x="87" y="1063"/>
                  </a:cubicBezTo>
                  <a:cubicBezTo>
                    <a:pt x="71" y="1128"/>
                    <a:pt x="72" y="1186"/>
                    <a:pt x="94" y="1251"/>
                  </a:cubicBezTo>
                  <a:cubicBezTo>
                    <a:pt x="116" y="1316"/>
                    <a:pt x="150" y="1412"/>
                    <a:pt x="222" y="1453"/>
                  </a:cubicBezTo>
                  <a:cubicBezTo>
                    <a:pt x="294" y="1494"/>
                    <a:pt x="449" y="1514"/>
                    <a:pt x="529" y="1498"/>
                  </a:cubicBezTo>
                  <a:cubicBezTo>
                    <a:pt x="609" y="1482"/>
                    <a:pt x="647" y="1425"/>
                    <a:pt x="702" y="1356"/>
                  </a:cubicBezTo>
                  <a:cubicBezTo>
                    <a:pt x="757" y="1287"/>
                    <a:pt x="825" y="1196"/>
                    <a:pt x="859" y="1086"/>
                  </a:cubicBezTo>
                  <a:cubicBezTo>
                    <a:pt x="893" y="976"/>
                    <a:pt x="913" y="810"/>
                    <a:pt x="904" y="696"/>
                  </a:cubicBezTo>
                  <a:cubicBezTo>
                    <a:pt x="895" y="582"/>
                    <a:pt x="848" y="489"/>
                    <a:pt x="807" y="403"/>
                  </a:cubicBezTo>
                  <a:cubicBezTo>
                    <a:pt x="766" y="317"/>
                    <a:pt x="715" y="234"/>
                    <a:pt x="657" y="178"/>
                  </a:cubicBezTo>
                  <a:cubicBezTo>
                    <a:pt x="599" y="122"/>
                    <a:pt x="518" y="95"/>
                    <a:pt x="462" y="66"/>
                  </a:cubicBezTo>
                  <a:cubicBezTo>
                    <a:pt x="406" y="37"/>
                    <a:pt x="364" y="12"/>
                    <a:pt x="319" y="6"/>
                  </a:cubicBezTo>
                  <a:cubicBezTo>
                    <a:pt x="274" y="0"/>
                    <a:pt x="227" y="1"/>
                    <a:pt x="192" y="28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7141680" y="2108520"/>
              <a:ext cx="143280" cy="153720"/>
              <a:chOff x="7141680" y="2108520"/>
              <a:chExt cx="143280" cy="153720"/>
            </a:xfrm>
          </p:grpSpPr>
          <p:sp>
            <p:nvSpPr>
              <p:cNvPr id="597" name=""/>
              <p:cNvSpPr/>
              <p:nvPr/>
            </p:nvSpPr>
            <p:spPr>
              <a:xfrm>
                <a:off x="7141680" y="2108520"/>
                <a:ext cx="143280" cy="153720"/>
              </a:xfrm>
              <a:custGeom>
                <a:avLst/>
                <a:gdLst/>
                <a:ahLst/>
                <a:rect l="l" t="t" r="r" b="b"/>
                <a:pathLst>
                  <a:path w="150" h="161">
                    <a:moveTo>
                      <a:pt x="19" y="22"/>
                    </a:moveTo>
                    <a:cubicBezTo>
                      <a:pt x="37" y="11"/>
                      <a:pt x="88" y="0"/>
                      <a:pt x="109" y="7"/>
                    </a:cubicBezTo>
                    <a:cubicBezTo>
                      <a:pt x="130" y="14"/>
                      <a:pt x="142" y="50"/>
                      <a:pt x="146" y="67"/>
                    </a:cubicBezTo>
                    <a:cubicBezTo>
                      <a:pt x="150" y="84"/>
                      <a:pt x="144" y="98"/>
                      <a:pt x="131" y="112"/>
                    </a:cubicBezTo>
                    <a:cubicBezTo>
                      <a:pt x="118" y="126"/>
                      <a:pt x="91" y="143"/>
                      <a:pt x="71" y="149"/>
                    </a:cubicBezTo>
                    <a:cubicBezTo>
                      <a:pt x="51" y="155"/>
                      <a:pt x="22" y="161"/>
                      <a:pt x="11" y="149"/>
                    </a:cubicBezTo>
                    <a:cubicBezTo>
                      <a:pt x="0" y="137"/>
                      <a:pt x="3" y="95"/>
                      <a:pt x="4" y="74"/>
                    </a:cubicBezTo>
                    <a:cubicBezTo>
                      <a:pt x="5" y="53"/>
                      <a:pt x="1" y="33"/>
                      <a:pt x="19" y="22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203600" y="2172240"/>
                <a:ext cx="27720" cy="27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7404480" y="2280240"/>
              <a:ext cx="265680" cy="823320"/>
            </a:xfrm>
            <a:custGeom>
              <a:avLst/>
              <a:gdLst/>
              <a:ahLst/>
              <a:rect l="l" t="t" r="r" b="b"/>
              <a:pathLst>
                <a:path w="278" h="862">
                  <a:moveTo>
                    <a:pt x="217" y="0"/>
                  </a:moveTo>
                  <a:cubicBezTo>
                    <a:pt x="239" y="64"/>
                    <a:pt x="262" y="128"/>
                    <a:pt x="270" y="202"/>
                  </a:cubicBezTo>
                  <a:cubicBezTo>
                    <a:pt x="278" y="276"/>
                    <a:pt x="267" y="371"/>
                    <a:pt x="262" y="442"/>
                  </a:cubicBezTo>
                  <a:cubicBezTo>
                    <a:pt x="257" y="513"/>
                    <a:pt x="265" y="571"/>
                    <a:pt x="240" y="630"/>
                  </a:cubicBezTo>
                  <a:cubicBezTo>
                    <a:pt x="215" y="689"/>
                    <a:pt x="152" y="756"/>
                    <a:pt x="112" y="795"/>
                  </a:cubicBezTo>
                  <a:cubicBezTo>
                    <a:pt x="72" y="834"/>
                    <a:pt x="36" y="848"/>
                    <a:pt x="0" y="862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245720" y="1943280"/>
              <a:ext cx="87120" cy="90720"/>
            </a:xfrm>
            <a:custGeom>
              <a:avLst/>
              <a:gdLst/>
              <a:ahLst/>
              <a:rect l="l" t="t" r="r" b="b"/>
              <a:pathLst>
                <a:path w="91" h="95">
                  <a:moveTo>
                    <a:pt x="44" y="6"/>
                  </a:moveTo>
                  <a:cubicBezTo>
                    <a:pt x="58" y="0"/>
                    <a:pt x="87" y="22"/>
                    <a:pt x="89" y="36"/>
                  </a:cubicBezTo>
                  <a:cubicBezTo>
                    <a:pt x="91" y="50"/>
                    <a:pt x="73" y="83"/>
                    <a:pt x="59" y="89"/>
                  </a:cubicBezTo>
                  <a:cubicBezTo>
                    <a:pt x="45" y="95"/>
                    <a:pt x="14" y="84"/>
                    <a:pt x="7" y="74"/>
                  </a:cubicBezTo>
                  <a:cubicBezTo>
                    <a:pt x="0" y="64"/>
                    <a:pt x="30" y="12"/>
                    <a:pt x="44" y="6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7905600" y="1731960"/>
            <a:ext cx="893880" cy="1616040"/>
            <a:chOff x="7905600" y="1731960"/>
            <a:chExt cx="893880" cy="1616040"/>
          </a:xfrm>
        </p:grpSpPr>
        <p:sp>
          <p:nvSpPr>
            <p:cNvPr id="602" name=""/>
            <p:cNvSpPr/>
            <p:nvPr/>
          </p:nvSpPr>
          <p:spPr>
            <a:xfrm>
              <a:off x="7905600" y="1731960"/>
              <a:ext cx="893880" cy="1616040"/>
            </a:xfrm>
            <a:custGeom>
              <a:avLst/>
              <a:gdLst/>
              <a:ahLst/>
              <a:rect l="l" t="t" r="r" b="b"/>
              <a:pathLst>
                <a:path w="937" h="1695">
                  <a:moveTo>
                    <a:pt x="195" y="85"/>
                  </a:moveTo>
                  <a:cubicBezTo>
                    <a:pt x="171" y="116"/>
                    <a:pt x="175" y="169"/>
                    <a:pt x="158" y="213"/>
                  </a:cubicBezTo>
                  <a:cubicBezTo>
                    <a:pt x="141" y="257"/>
                    <a:pt x="106" y="296"/>
                    <a:pt x="90" y="348"/>
                  </a:cubicBezTo>
                  <a:cubicBezTo>
                    <a:pt x="74" y="400"/>
                    <a:pt x="46" y="478"/>
                    <a:pt x="60" y="528"/>
                  </a:cubicBezTo>
                  <a:cubicBezTo>
                    <a:pt x="74" y="578"/>
                    <a:pt x="133" y="631"/>
                    <a:pt x="173" y="648"/>
                  </a:cubicBezTo>
                  <a:cubicBezTo>
                    <a:pt x="213" y="665"/>
                    <a:pt x="271" y="650"/>
                    <a:pt x="300" y="633"/>
                  </a:cubicBezTo>
                  <a:cubicBezTo>
                    <a:pt x="329" y="616"/>
                    <a:pt x="335" y="567"/>
                    <a:pt x="345" y="543"/>
                  </a:cubicBezTo>
                  <a:cubicBezTo>
                    <a:pt x="355" y="519"/>
                    <a:pt x="354" y="507"/>
                    <a:pt x="360" y="490"/>
                  </a:cubicBezTo>
                  <a:cubicBezTo>
                    <a:pt x="366" y="473"/>
                    <a:pt x="389" y="453"/>
                    <a:pt x="383" y="438"/>
                  </a:cubicBezTo>
                  <a:cubicBezTo>
                    <a:pt x="377" y="423"/>
                    <a:pt x="332" y="421"/>
                    <a:pt x="323" y="400"/>
                  </a:cubicBezTo>
                  <a:cubicBezTo>
                    <a:pt x="314" y="379"/>
                    <a:pt x="320" y="322"/>
                    <a:pt x="330" y="310"/>
                  </a:cubicBezTo>
                  <a:cubicBezTo>
                    <a:pt x="340" y="298"/>
                    <a:pt x="374" y="313"/>
                    <a:pt x="383" y="325"/>
                  </a:cubicBezTo>
                  <a:cubicBezTo>
                    <a:pt x="392" y="337"/>
                    <a:pt x="390" y="386"/>
                    <a:pt x="383" y="385"/>
                  </a:cubicBezTo>
                  <a:cubicBezTo>
                    <a:pt x="376" y="384"/>
                    <a:pt x="350" y="323"/>
                    <a:pt x="338" y="318"/>
                  </a:cubicBezTo>
                  <a:cubicBezTo>
                    <a:pt x="326" y="313"/>
                    <a:pt x="303" y="338"/>
                    <a:pt x="308" y="355"/>
                  </a:cubicBezTo>
                  <a:cubicBezTo>
                    <a:pt x="313" y="372"/>
                    <a:pt x="359" y="396"/>
                    <a:pt x="368" y="423"/>
                  </a:cubicBezTo>
                  <a:cubicBezTo>
                    <a:pt x="377" y="450"/>
                    <a:pt x="350" y="496"/>
                    <a:pt x="360" y="520"/>
                  </a:cubicBezTo>
                  <a:cubicBezTo>
                    <a:pt x="370" y="544"/>
                    <a:pt x="408" y="566"/>
                    <a:pt x="428" y="565"/>
                  </a:cubicBezTo>
                  <a:cubicBezTo>
                    <a:pt x="448" y="564"/>
                    <a:pt x="466" y="528"/>
                    <a:pt x="480" y="513"/>
                  </a:cubicBezTo>
                  <a:cubicBezTo>
                    <a:pt x="494" y="498"/>
                    <a:pt x="509" y="470"/>
                    <a:pt x="510" y="475"/>
                  </a:cubicBezTo>
                  <a:cubicBezTo>
                    <a:pt x="511" y="480"/>
                    <a:pt x="478" y="536"/>
                    <a:pt x="488" y="543"/>
                  </a:cubicBezTo>
                  <a:cubicBezTo>
                    <a:pt x="498" y="550"/>
                    <a:pt x="563" y="516"/>
                    <a:pt x="570" y="520"/>
                  </a:cubicBezTo>
                  <a:cubicBezTo>
                    <a:pt x="577" y="524"/>
                    <a:pt x="533" y="553"/>
                    <a:pt x="533" y="565"/>
                  </a:cubicBezTo>
                  <a:cubicBezTo>
                    <a:pt x="533" y="577"/>
                    <a:pt x="555" y="593"/>
                    <a:pt x="570" y="595"/>
                  </a:cubicBezTo>
                  <a:cubicBezTo>
                    <a:pt x="585" y="597"/>
                    <a:pt x="627" y="579"/>
                    <a:pt x="623" y="580"/>
                  </a:cubicBezTo>
                  <a:cubicBezTo>
                    <a:pt x="619" y="581"/>
                    <a:pt x="549" y="593"/>
                    <a:pt x="548" y="603"/>
                  </a:cubicBezTo>
                  <a:cubicBezTo>
                    <a:pt x="547" y="613"/>
                    <a:pt x="616" y="634"/>
                    <a:pt x="615" y="640"/>
                  </a:cubicBezTo>
                  <a:cubicBezTo>
                    <a:pt x="614" y="646"/>
                    <a:pt x="560" y="646"/>
                    <a:pt x="540" y="640"/>
                  </a:cubicBezTo>
                  <a:cubicBezTo>
                    <a:pt x="520" y="634"/>
                    <a:pt x="517" y="606"/>
                    <a:pt x="495" y="603"/>
                  </a:cubicBezTo>
                  <a:cubicBezTo>
                    <a:pt x="473" y="600"/>
                    <a:pt x="429" y="596"/>
                    <a:pt x="405" y="625"/>
                  </a:cubicBezTo>
                  <a:cubicBezTo>
                    <a:pt x="381" y="654"/>
                    <a:pt x="361" y="730"/>
                    <a:pt x="353" y="775"/>
                  </a:cubicBezTo>
                  <a:cubicBezTo>
                    <a:pt x="345" y="820"/>
                    <a:pt x="341" y="859"/>
                    <a:pt x="360" y="895"/>
                  </a:cubicBezTo>
                  <a:cubicBezTo>
                    <a:pt x="379" y="931"/>
                    <a:pt x="427" y="974"/>
                    <a:pt x="465" y="993"/>
                  </a:cubicBezTo>
                  <a:cubicBezTo>
                    <a:pt x="503" y="1012"/>
                    <a:pt x="558" y="1013"/>
                    <a:pt x="585" y="1008"/>
                  </a:cubicBezTo>
                  <a:cubicBezTo>
                    <a:pt x="612" y="1003"/>
                    <a:pt x="615" y="978"/>
                    <a:pt x="630" y="963"/>
                  </a:cubicBezTo>
                  <a:cubicBezTo>
                    <a:pt x="645" y="948"/>
                    <a:pt x="681" y="908"/>
                    <a:pt x="675" y="918"/>
                  </a:cubicBezTo>
                  <a:cubicBezTo>
                    <a:pt x="669" y="928"/>
                    <a:pt x="609" y="988"/>
                    <a:pt x="593" y="1023"/>
                  </a:cubicBezTo>
                  <a:cubicBezTo>
                    <a:pt x="577" y="1058"/>
                    <a:pt x="583" y="1088"/>
                    <a:pt x="578" y="1128"/>
                  </a:cubicBezTo>
                  <a:cubicBezTo>
                    <a:pt x="573" y="1168"/>
                    <a:pt x="561" y="1232"/>
                    <a:pt x="563" y="1263"/>
                  </a:cubicBezTo>
                  <a:cubicBezTo>
                    <a:pt x="565" y="1294"/>
                    <a:pt x="578" y="1306"/>
                    <a:pt x="593" y="1315"/>
                  </a:cubicBezTo>
                  <a:cubicBezTo>
                    <a:pt x="608" y="1324"/>
                    <a:pt x="655" y="1310"/>
                    <a:pt x="653" y="1315"/>
                  </a:cubicBezTo>
                  <a:cubicBezTo>
                    <a:pt x="651" y="1320"/>
                    <a:pt x="603" y="1324"/>
                    <a:pt x="578" y="1345"/>
                  </a:cubicBezTo>
                  <a:cubicBezTo>
                    <a:pt x="553" y="1366"/>
                    <a:pt x="520" y="1417"/>
                    <a:pt x="503" y="1443"/>
                  </a:cubicBezTo>
                  <a:cubicBezTo>
                    <a:pt x="486" y="1469"/>
                    <a:pt x="497" y="1488"/>
                    <a:pt x="473" y="1503"/>
                  </a:cubicBezTo>
                  <a:cubicBezTo>
                    <a:pt x="449" y="1518"/>
                    <a:pt x="401" y="1527"/>
                    <a:pt x="360" y="1533"/>
                  </a:cubicBezTo>
                  <a:cubicBezTo>
                    <a:pt x="319" y="1539"/>
                    <a:pt x="265" y="1552"/>
                    <a:pt x="225" y="1540"/>
                  </a:cubicBezTo>
                  <a:cubicBezTo>
                    <a:pt x="185" y="1528"/>
                    <a:pt x="145" y="1487"/>
                    <a:pt x="120" y="1458"/>
                  </a:cubicBezTo>
                  <a:cubicBezTo>
                    <a:pt x="95" y="1429"/>
                    <a:pt x="89" y="1394"/>
                    <a:pt x="75" y="1368"/>
                  </a:cubicBezTo>
                  <a:cubicBezTo>
                    <a:pt x="61" y="1342"/>
                    <a:pt x="48" y="1284"/>
                    <a:pt x="38" y="1300"/>
                  </a:cubicBezTo>
                  <a:cubicBezTo>
                    <a:pt x="28" y="1316"/>
                    <a:pt x="0" y="1416"/>
                    <a:pt x="15" y="1465"/>
                  </a:cubicBezTo>
                  <a:cubicBezTo>
                    <a:pt x="30" y="1514"/>
                    <a:pt x="87" y="1558"/>
                    <a:pt x="128" y="1593"/>
                  </a:cubicBezTo>
                  <a:cubicBezTo>
                    <a:pt x="169" y="1628"/>
                    <a:pt x="187" y="1666"/>
                    <a:pt x="263" y="1675"/>
                  </a:cubicBezTo>
                  <a:cubicBezTo>
                    <a:pt x="339" y="1684"/>
                    <a:pt x="494" y="1695"/>
                    <a:pt x="585" y="1645"/>
                  </a:cubicBezTo>
                  <a:cubicBezTo>
                    <a:pt x="676" y="1595"/>
                    <a:pt x="756" y="1484"/>
                    <a:pt x="810" y="1375"/>
                  </a:cubicBezTo>
                  <a:cubicBezTo>
                    <a:pt x="864" y="1266"/>
                    <a:pt x="889" y="1115"/>
                    <a:pt x="908" y="993"/>
                  </a:cubicBezTo>
                  <a:cubicBezTo>
                    <a:pt x="927" y="871"/>
                    <a:pt x="937" y="750"/>
                    <a:pt x="923" y="640"/>
                  </a:cubicBezTo>
                  <a:cubicBezTo>
                    <a:pt x="909" y="530"/>
                    <a:pt x="871" y="409"/>
                    <a:pt x="825" y="333"/>
                  </a:cubicBezTo>
                  <a:cubicBezTo>
                    <a:pt x="779" y="257"/>
                    <a:pt x="686" y="227"/>
                    <a:pt x="645" y="183"/>
                  </a:cubicBezTo>
                  <a:cubicBezTo>
                    <a:pt x="604" y="139"/>
                    <a:pt x="612" y="99"/>
                    <a:pt x="578" y="70"/>
                  </a:cubicBezTo>
                  <a:cubicBezTo>
                    <a:pt x="544" y="41"/>
                    <a:pt x="483" y="20"/>
                    <a:pt x="443" y="10"/>
                  </a:cubicBezTo>
                  <a:cubicBezTo>
                    <a:pt x="403" y="0"/>
                    <a:pt x="365" y="6"/>
                    <a:pt x="338" y="10"/>
                  </a:cubicBezTo>
                  <a:cubicBezTo>
                    <a:pt x="311" y="14"/>
                    <a:pt x="287" y="29"/>
                    <a:pt x="278" y="33"/>
                  </a:cubicBezTo>
                  <a:cubicBezTo>
                    <a:pt x="269" y="37"/>
                    <a:pt x="290" y="30"/>
                    <a:pt x="285" y="33"/>
                  </a:cubicBezTo>
                  <a:cubicBezTo>
                    <a:pt x="280" y="36"/>
                    <a:pt x="246" y="49"/>
                    <a:pt x="248" y="48"/>
                  </a:cubicBezTo>
                  <a:cubicBezTo>
                    <a:pt x="250" y="47"/>
                    <a:pt x="309" y="19"/>
                    <a:pt x="300" y="25"/>
                  </a:cubicBezTo>
                  <a:cubicBezTo>
                    <a:pt x="291" y="31"/>
                    <a:pt x="219" y="54"/>
                    <a:pt x="195" y="85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320320" y="1927080"/>
              <a:ext cx="86760" cy="90360"/>
            </a:xfrm>
            <a:custGeom>
              <a:avLst/>
              <a:gdLst/>
              <a:ahLst/>
              <a:rect l="l" t="t" r="r" b="b"/>
              <a:pathLst>
                <a:path w="91" h="95">
                  <a:moveTo>
                    <a:pt x="44" y="6"/>
                  </a:moveTo>
                  <a:cubicBezTo>
                    <a:pt x="58" y="0"/>
                    <a:pt x="87" y="22"/>
                    <a:pt x="89" y="36"/>
                  </a:cubicBezTo>
                  <a:cubicBezTo>
                    <a:pt x="91" y="50"/>
                    <a:pt x="73" y="83"/>
                    <a:pt x="59" y="89"/>
                  </a:cubicBezTo>
                  <a:cubicBezTo>
                    <a:pt x="45" y="95"/>
                    <a:pt x="14" y="84"/>
                    <a:pt x="7" y="74"/>
                  </a:cubicBezTo>
                  <a:cubicBezTo>
                    <a:pt x="0" y="64"/>
                    <a:pt x="30" y="12"/>
                    <a:pt x="44" y="6"/>
                  </a:cubicBez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488440" y="2316240"/>
              <a:ext cx="145800" cy="878760"/>
            </a:xfrm>
            <a:custGeom>
              <a:avLst/>
              <a:gdLst/>
              <a:ahLst/>
              <a:rect l="l" t="t" r="r" b="b"/>
              <a:pathLst>
                <a:path w="153" h="922">
                  <a:moveTo>
                    <a:pt x="147" y="0"/>
                  </a:moveTo>
                  <a:cubicBezTo>
                    <a:pt x="147" y="32"/>
                    <a:pt x="153" y="112"/>
                    <a:pt x="150" y="191"/>
                  </a:cubicBezTo>
                  <a:cubicBezTo>
                    <a:pt x="147" y="270"/>
                    <a:pt x="144" y="377"/>
                    <a:pt x="132" y="472"/>
                  </a:cubicBezTo>
                  <a:cubicBezTo>
                    <a:pt x="120" y="567"/>
                    <a:pt x="97" y="686"/>
                    <a:pt x="75" y="761"/>
                  </a:cubicBezTo>
                  <a:cubicBezTo>
                    <a:pt x="53" y="836"/>
                    <a:pt x="16" y="888"/>
                    <a:pt x="0" y="92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5276880" y="3776760"/>
            <a:ext cx="579240" cy="2744640"/>
            <a:chOff x="5276880" y="3776760"/>
            <a:chExt cx="579240" cy="2744640"/>
          </a:xfrm>
        </p:grpSpPr>
        <p:sp>
          <p:nvSpPr>
            <p:cNvPr id="606" name=""/>
            <p:cNvSpPr/>
            <p:nvPr/>
          </p:nvSpPr>
          <p:spPr>
            <a:xfrm>
              <a:off x="5337720" y="3776760"/>
              <a:ext cx="518400" cy="2744640"/>
            </a:xfrm>
            <a:custGeom>
              <a:avLst/>
              <a:gdLst/>
              <a:ahLst/>
              <a:rect l="l" t="t" r="r" b="b"/>
              <a:pathLst>
                <a:path w="544" h="2881">
                  <a:moveTo>
                    <a:pt x="396" y="583"/>
                  </a:moveTo>
                  <a:cubicBezTo>
                    <a:pt x="397" y="539"/>
                    <a:pt x="411" y="451"/>
                    <a:pt x="411" y="396"/>
                  </a:cubicBezTo>
                  <a:cubicBezTo>
                    <a:pt x="411" y="341"/>
                    <a:pt x="408" y="297"/>
                    <a:pt x="396" y="253"/>
                  </a:cubicBezTo>
                  <a:cubicBezTo>
                    <a:pt x="384" y="209"/>
                    <a:pt x="359" y="166"/>
                    <a:pt x="336" y="133"/>
                  </a:cubicBezTo>
                  <a:cubicBezTo>
                    <a:pt x="313" y="100"/>
                    <a:pt x="280" y="79"/>
                    <a:pt x="261" y="58"/>
                  </a:cubicBezTo>
                  <a:cubicBezTo>
                    <a:pt x="242" y="37"/>
                    <a:pt x="240" y="12"/>
                    <a:pt x="223" y="6"/>
                  </a:cubicBezTo>
                  <a:cubicBezTo>
                    <a:pt x="206" y="0"/>
                    <a:pt x="176" y="1"/>
                    <a:pt x="156" y="21"/>
                  </a:cubicBezTo>
                  <a:cubicBezTo>
                    <a:pt x="136" y="41"/>
                    <a:pt x="112" y="101"/>
                    <a:pt x="103" y="126"/>
                  </a:cubicBezTo>
                  <a:cubicBezTo>
                    <a:pt x="94" y="151"/>
                    <a:pt x="102" y="152"/>
                    <a:pt x="103" y="171"/>
                  </a:cubicBezTo>
                  <a:cubicBezTo>
                    <a:pt x="104" y="190"/>
                    <a:pt x="111" y="236"/>
                    <a:pt x="111" y="238"/>
                  </a:cubicBezTo>
                  <a:cubicBezTo>
                    <a:pt x="111" y="240"/>
                    <a:pt x="110" y="187"/>
                    <a:pt x="103" y="186"/>
                  </a:cubicBezTo>
                  <a:cubicBezTo>
                    <a:pt x="96" y="185"/>
                    <a:pt x="73" y="195"/>
                    <a:pt x="66" y="231"/>
                  </a:cubicBezTo>
                  <a:cubicBezTo>
                    <a:pt x="59" y="267"/>
                    <a:pt x="62" y="333"/>
                    <a:pt x="58" y="403"/>
                  </a:cubicBezTo>
                  <a:cubicBezTo>
                    <a:pt x="54" y="473"/>
                    <a:pt x="46" y="581"/>
                    <a:pt x="43" y="651"/>
                  </a:cubicBezTo>
                  <a:cubicBezTo>
                    <a:pt x="40" y="721"/>
                    <a:pt x="49" y="762"/>
                    <a:pt x="43" y="823"/>
                  </a:cubicBezTo>
                  <a:cubicBezTo>
                    <a:pt x="37" y="884"/>
                    <a:pt x="12" y="967"/>
                    <a:pt x="6" y="1018"/>
                  </a:cubicBezTo>
                  <a:cubicBezTo>
                    <a:pt x="0" y="1069"/>
                    <a:pt x="1" y="1090"/>
                    <a:pt x="6" y="1131"/>
                  </a:cubicBezTo>
                  <a:cubicBezTo>
                    <a:pt x="11" y="1172"/>
                    <a:pt x="27" y="1226"/>
                    <a:pt x="36" y="1266"/>
                  </a:cubicBezTo>
                  <a:cubicBezTo>
                    <a:pt x="45" y="1306"/>
                    <a:pt x="46" y="1330"/>
                    <a:pt x="58" y="1371"/>
                  </a:cubicBezTo>
                  <a:cubicBezTo>
                    <a:pt x="70" y="1412"/>
                    <a:pt x="102" y="1464"/>
                    <a:pt x="111" y="1513"/>
                  </a:cubicBezTo>
                  <a:cubicBezTo>
                    <a:pt x="120" y="1562"/>
                    <a:pt x="118" y="1606"/>
                    <a:pt x="111" y="1663"/>
                  </a:cubicBezTo>
                  <a:cubicBezTo>
                    <a:pt x="104" y="1720"/>
                    <a:pt x="80" y="1797"/>
                    <a:pt x="66" y="1858"/>
                  </a:cubicBezTo>
                  <a:cubicBezTo>
                    <a:pt x="52" y="1919"/>
                    <a:pt x="29" y="1986"/>
                    <a:pt x="28" y="2031"/>
                  </a:cubicBezTo>
                  <a:cubicBezTo>
                    <a:pt x="27" y="2076"/>
                    <a:pt x="37" y="2103"/>
                    <a:pt x="58" y="2128"/>
                  </a:cubicBezTo>
                  <a:cubicBezTo>
                    <a:pt x="79" y="2153"/>
                    <a:pt x="144" y="2131"/>
                    <a:pt x="156" y="2181"/>
                  </a:cubicBezTo>
                  <a:cubicBezTo>
                    <a:pt x="168" y="2231"/>
                    <a:pt x="128" y="2359"/>
                    <a:pt x="133" y="2428"/>
                  </a:cubicBezTo>
                  <a:cubicBezTo>
                    <a:pt x="138" y="2497"/>
                    <a:pt x="160" y="2537"/>
                    <a:pt x="186" y="2593"/>
                  </a:cubicBezTo>
                  <a:cubicBezTo>
                    <a:pt x="212" y="2649"/>
                    <a:pt x="247" y="2720"/>
                    <a:pt x="291" y="2766"/>
                  </a:cubicBezTo>
                  <a:cubicBezTo>
                    <a:pt x="335" y="2812"/>
                    <a:pt x="416" y="2881"/>
                    <a:pt x="448" y="2871"/>
                  </a:cubicBezTo>
                  <a:cubicBezTo>
                    <a:pt x="480" y="2861"/>
                    <a:pt x="487" y="2767"/>
                    <a:pt x="486" y="2706"/>
                  </a:cubicBezTo>
                  <a:cubicBezTo>
                    <a:pt x="485" y="2645"/>
                    <a:pt x="461" y="2585"/>
                    <a:pt x="441" y="2503"/>
                  </a:cubicBezTo>
                  <a:cubicBezTo>
                    <a:pt x="421" y="2421"/>
                    <a:pt x="378" y="2280"/>
                    <a:pt x="366" y="2211"/>
                  </a:cubicBezTo>
                  <a:cubicBezTo>
                    <a:pt x="354" y="2142"/>
                    <a:pt x="352" y="2145"/>
                    <a:pt x="366" y="2091"/>
                  </a:cubicBezTo>
                  <a:cubicBezTo>
                    <a:pt x="380" y="2037"/>
                    <a:pt x="439" y="1950"/>
                    <a:pt x="448" y="1888"/>
                  </a:cubicBezTo>
                  <a:cubicBezTo>
                    <a:pt x="457" y="1826"/>
                    <a:pt x="423" y="1766"/>
                    <a:pt x="418" y="1716"/>
                  </a:cubicBezTo>
                  <a:cubicBezTo>
                    <a:pt x="413" y="1666"/>
                    <a:pt x="404" y="1624"/>
                    <a:pt x="418" y="1588"/>
                  </a:cubicBezTo>
                  <a:cubicBezTo>
                    <a:pt x="432" y="1552"/>
                    <a:pt x="481" y="1539"/>
                    <a:pt x="501" y="1498"/>
                  </a:cubicBezTo>
                  <a:cubicBezTo>
                    <a:pt x="521" y="1457"/>
                    <a:pt x="544" y="1407"/>
                    <a:pt x="538" y="1341"/>
                  </a:cubicBezTo>
                  <a:cubicBezTo>
                    <a:pt x="532" y="1275"/>
                    <a:pt x="484" y="1177"/>
                    <a:pt x="463" y="1101"/>
                  </a:cubicBezTo>
                  <a:cubicBezTo>
                    <a:pt x="442" y="1025"/>
                    <a:pt x="421" y="957"/>
                    <a:pt x="411" y="883"/>
                  </a:cubicBezTo>
                  <a:cubicBezTo>
                    <a:pt x="401" y="809"/>
                    <a:pt x="404" y="714"/>
                    <a:pt x="403" y="658"/>
                  </a:cubicBezTo>
                  <a:cubicBezTo>
                    <a:pt x="402" y="602"/>
                    <a:pt x="395" y="627"/>
                    <a:pt x="396" y="583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07" name=""/>
            <p:cNvGrpSpPr/>
            <p:nvPr/>
          </p:nvGrpSpPr>
          <p:grpSpPr>
            <a:xfrm>
              <a:off x="5351040" y="4886640"/>
              <a:ext cx="227160" cy="422640"/>
              <a:chOff x="5351040" y="4886640"/>
              <a:chExt cx="227160" cy="422640"/>
            </a:xfrm>
          </p:grpSpPr>
          <p:sp>
            <p:nvSpPr>
              <p:cNvPr id="608" name=""/>
              <p:cNvSpPr/>
              <p:nvPr/>
            </p:nvSpPr>
            <p:spPr>
              <a:xfrm>
                <a:off x="5351040" y="4959000"/>
                <a:ext cx="214200" cy="350280"/>
              </a:xfrm>
              <a:custGeom>
                <a:avLst/>
                <a:gdLst/>
                <a:ahLst/>
                <a:rect l="l" t="t" r="r" b="b"/>
                <a:pathLst>
                  <a:path w="225" h="368">
                    <a:moveTo>
                      <a:pt x="82" y="17"/>
                    </a:moveTo>
                    <a:cubicBezTo>
                      <a:pt x="53" y="34"/>
                      <a:pt x="49" y="123"/>
                      <a:pt x="37" y="167"/>
                    </a:cubicBezTo>
                    <a:cubicBezTo>
                      <a:pt x="25" y="211"/>
                      <a:pt x="11" y="248"/>
                      <a:pt x="7" y="280"/>
                    </a:cubicBezTo>
                    <a:cubicBezTo>
                      <a:pt x="3" y="312"/>
                      <a:pt x="0" y="356"/>
                      <a:pt x="14" y="362"/>
                    </a:cubicBezTo>
                    <a:cubicBezTo>
                      <a:pt x="28" y="368"/>
                      <a:pt x="69" y="331"/>
                      <a:pt x="89" y="317"/>
                    </a:cubicBezTo>
                    <a:cubicBezTo>
                      <a:pt x="109" y="303"/>
                      <a:pt x="119" y="296"/>
                      <a:pt x="134" y="280"/>
                    </a:cubicBezTo>
                    <a:cubicBezTo>
                      <a:pt x="149" y="264"/>
                      <a:pt x="172" y="244"/>
                      <a:pt x="179" y="220"/>
                    </a:cubicBezTo>
                    <a:cubicBezTo>
                      <a:pt x="186" y="196"/>
                      <a:pt x="174" y="163"/>
                      <a:pt x="179" y="137"/>
                    </a:cubicBezTo>
                    <a:cubicBezTo>
                      <a:pt x="184" y="111"/>
                      <a:pt x="225" y="79"/>
                      <a:pt x="209" y="62"/>
                    </a:cubicBezTo>
                    <a:cubicBezTo>
                      <a:pt x="193" y="45"/>
                      <a:pt x="111" y="0"/>
                      <a:pt x="82" y="17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429880" y="4886640"/>
                <a:ext cx="148320" cy="190440"/>
              </a:xfrm>
              <a:custGeom>
                <a:avLst/>
                <a:gdLst/>
                <a:ahLst/>
                <a:rect l="l" t="t" r="r" b="b"/>
                <a:pathLst>
                  <a:path w="156" h="200">
                    <a:moveTo>
                      <a:pt x="36" y="11"/>
                    </a:moveTo>
                    <a:cubicBezTo>
                      <a:pt x="22" y="22"/>
                      <a:pt x="0" y="72"/>
                      <a:pt x="6" y="101"/>
                    </a:cubicBezTo>
                    <a:cubicBezTo>
                      <a:pt x="12" y="130"/>
                      <a:pt x="53" y="169"/>
                      <a:pt x="74" y="183"/>
                    </a:cubicBezTo>
                    <a:cubicBezTo>
                      <a:pt x="95" y="197"/>
                      <a:pt x="122" y="200"/>
                      <a:pt x="134" y="183"/>
                    </a:cubicBezTo>
                    <a:cubicBezTo>
                      <a:pt x="146" y="166"/>
                      <a:pt x="156" y="103"/>
                      <a:pt x="149" y="78"/>
                    </a:cubicBezTo>
                    <a:cubicBezTo>
                      <a:pt x="142" y="53"/>
                      <a:pt x="108" y="42"/>
                      <a:pt x="89" y="33"/>
                    </a:cubicBezTo>
                    <a:cubicBezTo>
                      <a:pt x="70" y="24"/>
                      <a:pt x="50" y="0"/>
                      <a:pt x="36" y="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5276880" y="4283280"/>
              <a:ext cx="301680" cy="404280"/>
              <a:chOff x="5276880" y="4283280"/>
              <a:chExt cx="301680" cy="404280"/>
            </a:xfrm>
          </p:grpSpPr>
          <p:sp>
            <p:nvSpPr>
              <p:cNvPr id="611" name=""/>
              <p:cNvSpPr/>
              <p:nvPr/>
            </p:nvSpPr>
            <p:spPr>
              <a:xfrm>
                <a:off x="5276880" y="4309560"/>
                <a:ext cx="267480" cy="378000"/>
              </a:xfrm>
              <a:custGeom>
                <a:avLst/>
                <a:gdLst/>
                <a:ahLst/>
                <a:rect l="l" t="t" r="r" b="b"/>
                <a:pathLst>
                  <a:path w="281" h="397">
                    <a:moveTo>
                      <a:pt x="166" y="7"/>
                    </a:moveTo>
                    <a:cubicBezTo>
                      <a:pt x="155" y="14"/>
                      <a:pt x="155" y="65"/>
                      <a:pt x="129" y="105"/>
                    </a:cubicBezTo>
                    <a:cubicBezTo>
                      <a:pt x="103" y="145"/>
                      <a:pt x="18" y="200"/>
                      <a:pt x="9" y="247"/>
                    </a:cubicBezTo>
                    <a:cubicBezTo>
                      <a:pt x="0" y="294"/>
                      <a:pt x="42" y="383"/>
                      <a:pt x="76" y="390"/>
                    </a:cubicBezTo>
                    <a:cubicBezTo>
                      <a:pt x="110" y="397"/>
                      <a:pt x="183" y="330"/>
                      <a:pt x="211" y="292"/>
                    </a:cubicBezTo>
                    <a:cubicBezTo>
                      <a:pt x="239" y="254"/>
                      <a:pt x="230" y="194"/>
                      <a:pt x="241" y="165"/>
                    </a:cubicBezTo>
                    <a:cubicBezTo>
                      <a:pt x="252" y="136"/>
                      <a:pt x="277" y="135"/>
                      <a:pt x="279" y="120"/>
                    </a:cubicBezTo>
                    <a:cubicBezTo>
                      <a:pt x="281" y="105"/>
                      <a:pt x="270" y="85"/>
                      <a:pt x="256" y="75"/>
                    </a:cubicBezTo>
                    <a:cubicBezTo>
                      <a:pt x="242" y="65"/>
                      <a:pt x="212" y="69"/>
                      <a:pt x="196" y="60"/>
                    </a:cubicBezTo>
                    <a:cubicBezTo>
                      <a:pt x="180" y="51"/>
                      <a:pt x="177" y="0"/>
                      <a:pt x="166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414760" y="4283280"/>
                <a:ext cx="163800" cy="159840"/>
              </a:xfrm>
              <a:custGeom>
                <a:avLst/>
                <a:gdLst/>
                <a:ahLst/>
                <a:rect l="l" t="t" r="r" b="b"/>
                <a:pathLst>
                  <a:path w="172" h="168">
                    <a:moveTo>
                      <a:pt x="0" y="44"/>
                    </a:moveTo>
                    <a:cubicBezTo>
                      <a:pt x="0" y="55"/>
                      <a:pt x="36" y="95"/>
                      <a:pt x="52" y="112"/>
                    </a:cubicBezTo>
                    <a:cubicBezTo>
                      <a:pt x="68" y="129"/>
                      <a:pt x="77" y="141"/>
                      <a:pt x="97" y="149"/>
                    </a:cubicBezTo>
                    <a:cubicBezTo>
                      <a:pt x="117" y="157"/>
                      <a:pt x="172" y="168"/>
                      <a:pt x="172" y="157"/>
                    </a:cubicBezTo>
                    <a:cubicBezTo>
                      <a:pt x="172" y="146"/>
                      <a:pt x="122" y="107"/>
                      <a:pt x="97" y="82"/>
                    </a:cubicBezTo>
                    <a:cubicBezTo>
                      <a:pt x="72" y="57"/>
                      <a:pt x="38" y="12"/>
                      <a:pt x="22" y="6"/>
                    </a:cubicBezTo>
                    <a:cubicBezTo>
                      <a:pt x="6" y="0"/>
                      <a:pt x="5" y="36"/>
                      <a:pt x="0" y="4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>
              <a:off x="5466240" y="4803840"/>
              <a:ext cx="311400" cy="1671840"/>
            </a:xfrm>
            <a:custGeom>
              <a:avLst/>
              <a:gdLst/>
              <a:ahLst/>
              <a:rect l="l" t="t" r="r" b="b"/>
              <a:pathLst>
                <a:path w="327" h="1755">
                  <a:moveTo>
                    <a:pt x="291" y="0"/>
                  </a:moveTo>
                  <a:cubicBezTo>
                    <a:pt x="295" y="36"/>
                    <a:pt x="327" y="99"/>
                    <a:pt x="313" y="210"/>
                  </a:cubicBezTo>
                  <a:cubicBezTo>
                    <a:pt x="299" y="321"/>
                    <a:pt x="232" y="518"/>
                    <a:pt x="208" y="668"/>
                  </a:cubicBezTo>
                  <a:cubicBezTo>
                    <a:pt x="184" y="818"/>
                    <a:pt x="172" y="971"/>
                    <a:pt x="171" y="1110"/>
                  </a:cubicBezTo>
                  <a:cubicBezTo>
                    <a:pt x="170" y="1249"/>
                    <a:pt x="184" y="1396"/>
                    <a:pt x="201" y="1500"/>
                  </a:cubicBezTo>
                  <a:cubicBezTo>
                    <a:pt x="218" y="1604"/>
                    <a:pt x="285" y="1755"/>
                    <a:pt x="276" y="1733"/>
                  </a:cubicBezTo>
                  <a:cubicBezTo>
                    <a:pt x="267" y="1711"/>
                    <a:pt x="184" y="1476"/>
                    <a:pt x="148" y="1365"/>
                  </a:cubicBezTo>
                  <a:cubicBezTo>
                    <a:pt x="112" y="1254"/>
                    <a:pt x="82" y="1170"/>
                    <a:pt x="58" y="1065"/>
                  </a:cubicBezTo>
                  <a:cubicBezTo>
                    <a:pt x="34" y="960"/>
                    <a:pt x="12" y="827"/>
                    <a:pt x="6" y="735"/>
                  </a:cubicBezTo>
                  <a:cubicBezTo>
                    <a:pt x="0" y="643"/>
                    <a:pt x="10" y="576"/>
                    <a:pt x="21" y="510"/>
                  </a:cubicBezTo>
                </a:path>
              </a:pathLst>
            </a:custGeom>
            <a:noFill/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478840" y="4146120"/>
              <a:ext cx="56880" cy="3600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0" y="0"/>
                  </a:moveTo>
                  <a:cubicBezTo>
                    <a:pt x="4" y="4"/>
                    <a:pt x="14" y="18"/>
                    <a:pt x="24" y="24"/>
                  </a:cubicBezTo>
                  <a:cubicBezTo>
                    <a:pt x="34" y="30"/>
                    <a:pt x="53" y="35"/>
                    <a:pt x="60" y="3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456880" y="4210920"/>
              <a:ext cx="57240" cy="3600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0" y="0"/>
                  </a:moveTo>
                  <a:cubicBezTo>
                    <a:pt x="4" y="4"/>
                    <a:pt x="14" y="18"/>
                    <a:pt x="24" y="24"/>
                  </a:cubicBezTo>
                  <a:cubicBezTo>
                    <a:pt x="34" y="30"/>
                    <a:pt x="53" y="35"/>
                    <a:pt x="60" y="3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451120" y="4239720"/>
              <a:ext cx="56880" cy="3600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0" y="0"/>
                  </a:moveTo>
                  <a:cubicBezTo>
                    <a:pt x="4" y="4"/>
                    <a:pt x="14" y="18"/>
                    <a:pt x="24" y="24"/>
                  </a:cubicBezTo>
                  <a:cubicBezTo>
                    <a:pt x="34" y="30"/>
                    <a:pt x="53" y="35"/>
                    <a:pt x="60" y="3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464440" y="4174920"/>
              <a:ext cx="56880" cy="3600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0" y="0"/>
                  </a:moveTo>
                  <a:cubicBezTo>
                    <a:pt x="4" y="4"/>
                    <a:pt x="14" y="18"/>
                    <a:pt x="24" y="24"/>
                  </a:cubicBezTo>
                  <a:cubicBezTo>
                    <a:pt x="34" y="30"/>
                    <a:pt x="53" y="35"/>
                    <a:pt x="60" y="3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436720" y="4268160"/>
              <a:ext cx="56880" cy="3600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0" y="0"/>
                  </a:moveTo>
                  <a:cubicBezTo>
                    <a:pt x="4" y="4"/>
                    <a:pt x="14" y="18"/>
                    <a:pt x="24" y="24"/>
                  </a:cubicBezTo>
                  <a:cubicBezTo>
                    <a:pt x="34" y="30"/>
                    <a:pt x="53" y="35"/>
                    <a:pt x="60" y="3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5510160" y="3921480"/>
              <a:ext cx="164880" cy="168480"/>
              <a:chOff x="5510160" y="3921480"/>
              <a:chExt cx="164880" cy="168480"/>
            </a:xfrm>
          </p:grpSpPr>
          <p:sp>
            <p:nvSpPr>
              <p:cNvPr id="620" name=""/>
              <p:cNvSpPr/>
              <p:nvPr/>
            </p:nvSpPr>
            <p:spPr>
              <a:xfrm>
                <a:off x="5510160" y="3921480"/>
                <a:ext cx="164880" cy="168480"/>
              </a:xfrm>
              <a:custGeom>
                <a:avLst/>
                <a:gdLst/>
                <a:ahLst/>
                <a:rect l="l" t="t" r="r" b="b"/>
                <a:pathLst>
                  <a:path w="173" h="177">
                    <a:moveTo>
                      <a:pt x="27" y="34"/>
                    </a:moveTo>
                    <a:cubicBezTo>
                      <a:pt x="37" y="20"/>
                      <a:pt x="56" y="8"/>
                      <a:pt x="72" y="4"/>
                    </a:cubicBezTo>
                    <a:cubicBezTo>
                      <a:pt x="88" y="0"/>
                      <a:pt x="110" y="4"/>
                      <a:pt x="124" y="12"/>
                    </a:cubicBezTo>
                    <a:cubicBezTo>
                      <a:pt x="138" y="20"/>
                      <a:pt x="148" y="27"/>
                      <a:pt x="154" y="49"/>
                    </a:cubicBezTo>
                    <a:cubicBezTo>
                      <a:pt x="160" y="71"/>
                      <a:pt x="173" y="126"/>
                      <a:pt x="162" y="147"/>
                    </a:cubicBezTo>
                    <a:cubicBezTo>
                      <a:pt x="151" y="168"/>
                      <a:pt x="112" y="177"/>
                      <a:pt x="87" y="177"/>
                    </a:cubicBezTo>
                    <a:cubicBezTo>
                      <a:pt x="62" y="177"/>
                      <a:pt x="24" y="162"/>
                      <a:pt x="12" y="147"/>
                    </a:cubicBezTo>
                    <a:cubicBezTo>
                      <a:pt x="0" y="132"/>
                      <a:pt x="11" y="106"/>
                      <a:pt x="12" y="87"/>
                    </a:cubicBezTo>
                    <a:cubicBezTo>
                      <a:pt x="13" y="68"/>
                      <a:pt x="17" y="48"/>
                      <a:pt x="27" y="3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548320" y="3953520"/>
                <a:ext cx="75240" cy="99000"/>
              </a:xfrm>
              <a:custGeom>
                <a:avLst/>
                <a:gdLst/>
                <a:ahLst/>
                <a:rect l="l" t="t" r="r" b="b"/>
                <a:pathLst>
                  <a:path w="79" h="104">
                    <a:moveTo>
                      <a:pt x="8" y="37"/>
                    </a:moveTo>
                    <a:cubicBezTo>
                      <a:pt x="16" y="22"/>
                      <a:pt x="48" y="0"/>
                      <a:pt x="58" y="6"/>
                    </a:cubicBezTo>
                    <a:cubicBezTo>
                      <a:pt x="72" y="14"/>
                      <a:pt x="79" y="57"/>
                      <a:pt x="71" y="72"/>
                    </a:cubicBezTo>
                    <a:cubicBezTo>
                      <a:pt x="63" y="87"/>
                      <a:pt x="22" y="104"/>
                      <a:pt x="12" y="98"/>
                    </a:cubicBezTo>
                    <a:cubicBezTo>
                      <a:pt x="2" y="92"/>
                      <a:pt x="0" y="52"/>
                      <a:pt x="8" y="37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2" name=""/>
          <p:cNvGrpSpPr/>
          <p:nvPr/>
        </p:nvGrpSpPr>
        <p:grpSpPr>
          <a:xfrm>
            <a:off x="6035760" y="3857760"/>
            <a:ext cx="771480" cy="2585520"/>
            <a:chOff x="6035760" y="3857760"/>
            <a:chExt cx="771480" cy="2585520"/>
          </a:xfrm>
        </p:grpSpPr>
        <p:sp>
          <p:nvSpPr>
            <p:cNvPr id="623" name=""/>
            <p:cNvSpPr/>
            <p:nvPr/>
          </p:nvSpPr>
          <p:spPr>
            <a:xfrm>
              <a:off x="6213600" y="4525920"/>
              <a:ext cx="558720" cy="1885320"/>
            </a:xfrm>
            <a:custGeom>
              <a:avLst/>
              <a:gdLst/>
              <a:ahLst/>
              <a:rect l="l" t="t" r="r" b="b"/>
              <a:pathLst>
                <a:path w="587" h="1979">
                  <a:moveTo>
                    <a:pt x="352" y="37"/>
                  </a:moveTo>
                  <a:cubicBezTo>
                    <a:pt x="382" y="74"/>
                    <a:pt x="400" y="260"/>
                    <a:pt x="427" y="352"/>
                  </a:cubicBezTo>
                  <a:cubicBezTo>
                    <a:pt x="454" y="444"/>
                    <a:pt x="492" y="501"/>
                    <a:pt x="517" y="592"/>
                  </a:cubicBezTo>
                  <a:cubicBezTo>
                    <a:pt x="542" y="683"/>
                    <a:pt x="567" y="800"/>
                    <a:pt x="577" y="900"/>
                  </a:cubicBezTo>
                  <a:cubicBezTo>
                    <a:pt x="587" y="1000"/>
                    <a:pt x="584" y="1099"/>
                    <a:pt x="577" y="1192"/>
                  </a:cubicBezTo>
                  <a:cubicBezTo>
                    <a:pt x="570" y="1285"/>
                    <a:pt x="552" y="1376"/>
                    <a:pt x="532" y="1455"/>
                  </a:cubicBezTo>
                  <a:cubicBezTo>
                    <a:pt x="512" y="1534"/>
                    <a:pt x="486" y="1587"/>
                    <a:pt x="457" y="1665"/>
                  </a:cubicBezTo>
                  <a:cubicBezTo>
                    <a:pt x="428" y="1743"/>
                    <a:pt x="388" y="1876"/>
                    <a:pt x="360" y="1927"/>
                  </a:cubicBezTo>
                  <a:cubicBezTo>
                    <a:pt x="332" y="1978"/>
                    <a:pt x="314" y="1979"/>
                    <a:pt x="292" y="1972"/>
                  </a:cubicBezTo>
                  <a:cubicBezTo>
                    <a:pt x="270" y="1965"/>
                    <a:pt x="259" y="1948"/>
                    <a:pt x="225" y="1882"/>
                  </a:cubicBezTo>
                  <a:cubicBezTo>
                    <a:pt x="191" y="1816"/>
                    <a:pt x="126" y="1681"/>
                    <a:pt x="90" y="1575"/>
                  </a:cubicBezTo>
                  <a:cubicBezTo>
                    <a:pt x="54" y="1469"/>
                    <a:pt x="14" y="1359"/>
                    <a:pt x="7" y="1245"/>
                  </a:cubicBezTo>
                  <a:cubicBezTo>
                    <a:pt x="0" y="1131"/>
                    <a:pt x="31" y="999"/>
                    <a:pt x="45" y="892"/>
                  </a:cubicBezTo>
                  <a:cubicBezTo>
                    <a:pt x="59" y="785"/>
                    <a:pt x="56" y="728"/>
                    <a:pt x="90" y="600"/>
                  </a:cubicBezTo>
                  <a:cubicBezTo>
                    <a:pt x="124" y="472"/>
                    <a:pt x="203" y="222"/>
                    <a:pt x="247" y="127"/>
                  </a:cubicBezTo>
                  <a:cubicBezTo>
                    <a:pt x="291" y="32"/>
                    <a:pt x="322" y="0"/>
                    <a:pt x="352" y="37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035760" y="4265280"/>
              <a:ext cx="555480" cy="2178000"/>
            </a:xfrm>
            <a:custGeom>
              <a:avLst/>
              <a:gdLst/>
              <a:ahLst/>
              <a:rect l="l" t="t" r="r" b="b"/>
              <a:pathLst>
                <a:path w="583" h="2286">
                  <a:moveTo>
                    <a:pt x="148" y="93"/>
                  </a:moveTo>
                  <a:cubicBezTo>
                    <a:pt x="125" y="131"/>
                    <a:pt x="97" y="188"/>
                    <a:pt x="73" y="258"/>
                  </a:cubicBezTo>
                  <a:cubicBezTo>
                    <a:pt x="49" y="328"/>
                    <a:pt x="12" y="426"/>
                    <a:pt x="6" y="513"/>
                  </a:cubicBezTo>
                  <a:cubicBezTo>
                    <a:pt x="0" y="600"/>
                    <a:pt x="16" y="697"/>
                    <a:pt x="36" y="783"/>
                  </a:cubicBezTo>
                  <a:cubicBezTo>
                    <a:pt x="56" y="869"/>
                    <a:pt x="96" y="966"/>
                    <a:pt x="126" y="1030"/>
                  </a:cubicBezTo>
                  <a:cubicBezTo>
                    <a:pt x="156" y="1094"/>
                    <a:pt x="186" y="1094"/>
                    <a:pt x="216" y="1165"/>
                  </a:cubicBezTo>
                  <a:cubicBezTo>
                    <a:pt x="246" y="1236"/>
                    <a:pt x="286" y="1378"/>
                    <a:pt x="306" y="1458"/>
                  </a:cubicBezTo>
                  <a:cubicBezTo>
                    <a:pt x="326" y="1538"/>
                    <a:pt x="317" y="1569"/>
                    <a:pt x="336" y="1645"/>
                  </a:cubicBezTo>
                  <a:cubicBezTo>
                    <a:pt x="355" y="1721"/>
                    <a:pt x="398" y="1844"/>
                    <a:pt x="418" y="1915"/>
                  </a:cubicBezTo>
                  <a:cubicBezTo>
                    <a:pt x="438" y="1986"/>
                    <a:pt x="441" y="2016"/>
                    <a:pt x="456" y="2073"/>
                  </a:cubicBezTo>
                  <a:cubicBezTo>
                    <a:pt x="471" y="2130"/>
                    <a:pt x="495" y="2286"/>
                    <a:pt x="508" y="2260"/>
                  </a:cubicBezTo>
                  <a:cubicBezTo>
                    <a:pt x="521" y="2234"/>
                    <a:pt x="522" y="2045"/>
                    <a:pt x="531" y="1915"/>
                  </a:cubicBezTo>
                  <a:cubicBezTo>
                    <a:pt x="540" y="1785"/>
                    <a:pt x="552" y="1644"/>
                    <a:pt x="561" y="1480"/>
                  </a:cubicBezTo>
                  <a:cubicBezTo>
                    <a:pt x="570" y="1316"/>
                    <a:pt x="583" y="1083"/>
                    <a:pt x="583" y="933"/>
                  </a:cubicBezTo>
                  <a:cubicBezTo>
                    <a:pt x="583" y="783"/>
                    <a:pt x="565" y="689"/>
                    <a:pt x="561" y="580"/>
                  </a:cubicBezTo>
                  <a:cubicBezTo>
                    <a:pt x="557" y="471"/>
                    <a:pt x="568" y="361"/>
                    <a:pt x="561" y="280"/>
                  </a:cubicBezTo>
                  <a:cubicBezTo>
                    <a:pt x="554" y="199"/>
                    <a:pt x="542" y="138"/>
                    <a:pt x="516" y="93"/>
                  </a:cubicBezTo>
                  <a:cubicBezTo>
                    <a:pt x="490" y="48"/>
                    <a:pt x="454" y="20"/>
                    <a:pt x="403" y="10"/>
                  </a:cubicBezTo>
                  <a:cubicBezTo>
                    <a:pt x="352" y="0"/>
                    <a:pt x="252" y="17"/>
                    <a:pt x="208" y="33"/>
                  </a:cubicBezTo>
                  <a:cubicBezTo>
                    <a:pt x="164" y="49"/>
                    <a:pt x="171" y="55"/>
                    <a:pt x="148" y="93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6086520" y="4511520"/>
              <a:ext cx="247320" cy="389880"/>
              <a:chOff x="6086520" y="4511520"/>
              <a:chExt cx="247320" cy="389880"/>
            </a:xfrm>
          </p:grpSpPr>
          <p:sp>
            <p:nvSpPr>
              <p:cNvPr id="626" name=""/>
              <p:cNvSpPr/>
              <p:nvPr/>
            </p:nvSpPr>
            <p:spPr>
              <a:xfrm>
                <a:off x="6086520" y="4545360"/>
                <a:ext cx="230400" cy="356040"/>
              </a:xfrm>
              <a:custGeom>
                <a:avLst/>
                <a:gdLst/>
                <a:ahLst/>
                <a:rect l="l" t="t" r="r" b="b"/>
                <a:pathLst>
                  <a:path w="242" h="374">
                    <a:moveTo>
                      <a:pt x="162" y="9"/>
                    </a:moveTo>
                    <a:cubicBezTo>
                      <a:pt x="148" y="18"/>
                      <a:pt x="123" y="82"/>
                      <a:pt x="102" y="114"/>
                    </a:cubicBezTo>
                    <a:cubicBezTo>
                      <a:pt x="81" y="146"/>
                      <a:pt x="50" y="177"/>
                      <a:pt x="34" y="204"/>
                    </a:cubicBezTo>
                    <a:cubicBezTo>
                      <a:pt x="18" y="231"/>
                      <a:pt x="3" y="272"/>
                      <a:pt x="4" y="279"/>
                    </a:cubicBezTo>
                    <a:cubicBezTo>
                      <a:pt x="5" y="286"/>
                      <a:pt x="42" y="237"/>
                      <a:pt x="42" y="249"/>
                    </a:cubicBezTo>
                    <a:cubicBezTo>
                      <a:pt x="42" y="261"/>
                      <a:pt x="0" y="350"/>
                      <a:pt x="4" y="354"/>
                    </a:cubicBezTo>
                    <a:cubicBezTo>
                      <a:pt x="8" y="358"/>
                      <a:pt x="55" y="269"/>
                      <a:pt x="64" y="271"/>
                    </a:cubicBezTo>
                    <a:cubicBezTo>
                      <a:pt x="73" y="273"/>
                      <a:pt x="54" y="364"/>
                      <a:pt x="57" y="369"/>
                    </a:cubicBezTo>
                    <a:cubicBezTo>
                      <a:pt x="60" y="374"/>
                      <a:pt x="74" y="302"/>
                      <a:pt x="79" y="301"/>
                    </a:cubicBezTo>
                    <a:cubicBezTo>
                      <a:pt x="84" y="300"/>
                      <a:pt x="82" y="358"/>
                      <a:pt x="87" y="361"/>
                    </a:cubicBezTo>
                    <a:cubicBezTo>
                      <a:pt x="92" y="364"/>
                      <a:pt x="98" y="337"/>
                      <a:pt x="109" y="316"/>
                    </a:cubicBezTo>
                    <a:cubicBezTo>
                      <a:pt x="120" y="295"/>
                      <a:pt x="133" y="261"/>
                      <a:pt x="154" y="234"/>
                    </a:cubicBezTo>
                    <a:cubicBezTo>
                      <a:pt x="175" y="207"/>
                      <a:pt x="232" y="180"/>
                      <a:pt x="237" y="151"/>
                    </a:cubicBezTo>
                    <a:cubicBezTo>
                      <a:pt x="242" y="122"/>
                      <a:pt x="196" y="84"/>
                      <a:pt x="184" y="61"/>
                    </a:cubicBezTo>
                    <a:cubicBezTo>
                      <a:pt x="172" y="38"/>
                      <a:pt x="176" y="0"/>
                      <a:pt x="162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219720" y="4511520"/>
                <a:ext cx="114120" cy="199800"/>
              </a:xfrm>
              <a:custGeom>
                <a:avLst/>
                <a:gdLst/>
                <a:ahLst/>
                <a:rect l="l" t="t" r="r" b="b"/>
                <a:pathLst>
                  <a:path w="120" h="210">
                    <a:moveTo>
                      <a:pt x="22" y="7"/>
                    </a:moveTo>
                    <a:cubicBezTo>
                      <a:pt x="11" y="14"/>
                      <a:pt x="0" y="88"/>
                      <a:pt x="7" y="120"/>
                    </a:cubicBezTo>
                    <a:cubicBezTo>
                      <a:pt x="14" y="152"/>
                      <a:pt x="48" y="194"/>
                      <a:pt x="67" y="202"/>
                    </a:cubicBezTo>
                    <a:cubicBezTo>
                      <a:pt x="86" y="210"/>
                      <a:pt x="118" y="186"/>
                      <a:pt x="119" y="165"/>
                    </a:cubicBezTo>
                    <a:cubicBezTo>
                      <a:pt x="120" y="144"/>
                      <a:pt x="89" y="99"/>
                      <a:pt x="74" y="75"/>
                    </a:cubicBezTo>
                    <a:cubicBezTo>
                      <a:pt x="59" y="51"/>
                      <a:pt x="33" y="0"/>
                      <a:pt x="22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6134040" y="5122800"/>
              <a:ext cx="276480" cy="575640"/>
              <a:chOff x="6134040" y="5122800"/>
              <a:chExt cx="276480" cy="575640"/>
            </a:xfrm>
          </p:grpSpPr>
          <p:sp>
            <p:nvSpPr>
              <p:cNvPr id="629" name=""/>
              <p:cNvSpPr/>
              <p:nvPr/>
            </p:nvSpPr>
            <p:spPr>
              <a:xfrm>
                <a:off x="6134040" y="5158800"/>
                <a:ext cx="257040" cy="539640"/>
              </a:xfrm>
              <a:custGeom>
                <a:avLst/>
                <a:gdLst/>
                <a:ahLst/>
                <a:rect l="l" t="t" r="r" b="b"/>
                <a:pathLst>
                  <a:path w="270" h="567">
                    <a:moveTo>
                      <a:pt x="180" y="10"/>
                    </a:moveTo>
                    <a:cubicBezTo>
                      <a:pt x="155" y="20"/>
                      <a:pt x="106" y="90"/>
                      <a:pt x="90" y="137"/>
                    </a:cubicBezTo>
                    <a:cubicBezTo>
                      <a:pt x="74" y="184"/>
                      <a:pt x="85" y="253"/>
                      <a:pt x="83" y="295"/>
                    </a:cubicBezTo>
                    <a:cubicBezTo>
                      <a:pt x="81" y="337"/>
                      <a:pt x="89" y="360"/>
                      <a:pt x="75" y="392"/>
                    </a:cubicBezTo>
                    <a:cubicBezTo>
                      <a:pt x="61" y="424"/>
                      <a:pt x="0" y="480"/>
                      <a:pt x="0" y="490"/>
                    </a:cubicBezTo>
                    <a:cubicBezTo>
                      <a:pt x="0" y="500"/>
                      <a:pt x="63" y="442"/>
                      <a:pt x="75" y="452"/>
                    </a:cubicBezTo>
                    <a:cubicBezTo>
                      <a:pt x="87" y="462"/>
                      <a:pt x="68" y="549"/>
                      <a:pt x="75" y="550"/>
                    </a:cubicBezTo>
                    <a:cubicBezTo>
                      <a:pt x="82" y="551"/>
                      <a:pt x="111" y="458"/>
                      <a:pt x="120" y="460"/>
                    </a:cubicBezTo>
                    <a:cubicBezTo>
                      <a:pt x="129" y="462"/>
                      <a:pt x="124" y="563"/>
                      <a:pt x="128" y="565"/>
                    </a:cubicBezTo>
                    <a:cubicBezTo>
                      <a:pt x="132" y="567"/>
                      <a:pt x="137" y="481"/>
                      <a:pt x="143" y="475"/>
                    </a:cubicBezTo>
                    <a:cubicBezTo>
                      <a:pt x="149" y="469"/>
                      <a:pt x="161" y="542"/>
                      <a:pt x="165" y="527"/>
                    </a:cubicBezTo>
                    <a:cubicBezTo>
                      <a:pt x="169" y="512"/>
                      <a:pt x="160" y="435"/>
                      <a:pt x="165" y="385"/>
                    </a:cubicBezTo>
                    <a:cubicBezTo>
                      <a:pt x="170" y="335"/>
                      <a:pt x="179" y="269"/>
                      <a:pt x="195" y="227"/>
                    </a:cubicBezTo>
                    <a:cubicBezTo>
                      <a:pt x="211" y="185"/>
                      <a:pt x="256" y="155"/>
                      <a:pt x="263" y="130"/>
                    </a:cubicBezTo>
                    <a:cubicBezTo>
                      <a:pt x="270" y="105"/>
                      <a:pt x="255" y="96"/>
                      <a:pt x="240" y="77"/>
                    </a:cubicBezTo>
                    <a:cubicBezTo>
                      <a:pt x="225" y="58"/>
                      <a:pt x="205" y="0"/>
                      <a:pt x="18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290280" y="5122800"/>
                <a:ext cx="120240" cy="183600"/>
              </a:xfrm>
              <a:custGeom>
                <a:avLst/>
                <a:gdLst/>
                <a:ahLst/>
                <a:rect l="l" t="t" r="r" b="b"/>
                <a:pathLst>
                  <a:path w="126" h="193">
                    <a:moveTo>
                      <a:pt x="31" y="10"/>
                    </a:moveTo>
                    <a:cubicBezTo>
                      <a:pt x="12" y="0"/>
                      <a:pt x="0" y="49"/>
                      <a:pt x="9" y="78"/>
                    </a:cubicBezTo>
                    <a:cubicBezTo>
                      <a:pt x="18" y="107"/>
                      <a:pt x="65" y="173"/>
                      <a:pt x="84" y="183"/>
                    </a:cubicBezTo>
                    <a:cubicBezTo>
                      <a:pt x="103" y="193"/>
                      <a:pt x="126" y="165"/>
                      <a:pt x="121" y="138"/>
                    </a:cubicBezTo>
                    <a:cubicBezTo>
                      <a:pt x="116" y="111"/>
                      <a:pt x="50" y="20"/>
                      <a:pt x="31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31" name=""/>
            <p:cNvSpPr/>
            <p:nvPr/>
          </p:nvSpPr>
          <p:spPr>
            <a:xfrm>
              <a:off x="6391440" y="4589280"/>
              <a:ext cx="108000" cy="1642680"/>
            </a:xfrm>
            <a:custGeom>
              <a:avLst/>
              <a:gdLst/>
              <a:ahLst/>
              <a:rect l="l" t="t" r="r" b="b"/>
              <a:pathLst>
                <a:path w="113" h="1725">
                  <a:moveTo>
                    <a:pt x="0" y="0"/>
                  </a:moveTo>
                  <a:cubicBezTo>
                    <a:pt x="11" y="64"/>
                    <a:pt x="59" y="269"/>
                    <a:pt x="68" y="375"/>
                  </a:cubicBezTo>
                  <a:cubicBezTo>
                    <a:pt x="77" y="481"/>
                    <a:pt x="55" y="542"/>
                    <a:pt x="53" y="638"/>
                  </a:cubicBezTo>
                  <a:cubicBezTo>
                    <a:pt x="51" y="734"/>
                    <a:pt x="52" y="846"/>
                    <a:pt x="53" y="953"/>
                  </a:cubicBezTo>
                  <a:cubicBezTo>
                    <a:pt x="54" y="1060"/>
                    <a:pt x="53" y="1173"/>
                    <a:pt x="60" y="1283"/>
                  </a:cubicBezTo>
                  <a:cubicBezTo>
                    <a:pt x="67" y="1393"/>
                    <a:pt x="89" y="1539"/>
                    <a:pt x="98" y="1613"/>
                  </a:cubicBezTo>
                  <a:cubicBezTo>
                    <a:pt x="107" y="1687"/>
                    <a:pt x="110" y="1706"/>
                    <a:pt x="113" y="1725"/>
                  </a:cubicBezTo>
                </a:path>
              </a:pathLst>
            </a:custGeom>
            <a:noFill/>
            <a:ln w="28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066000" y="3857760"/>
              <a:ext cx="741240" cy="952200"/>
            </a:xfrm>
            <a:custGeom>
              <a:avLst/>
              <a:gdLst/>
              <a:ahLst/>
              <a:rect l="l" t="t" r="r" b="b"/>
              <a:pathLst>
                <a:path w="778" h="1000">
                  <a:moveTo>
                    <a:pt x="199" y="642"/>
                  </a:moveTo>
                  <a:cubicBezTo>
                    <a:pt x="168" y="621"/>
                    <a:pt x="113" y="633"/>
                    <a:pt x="86" y="619"/>
                  </a:cubicBezTo>
                  <a:cubicBezTo>
                    <a:pt x="59" y="605"/>
                    <a:pt x="48" y="589"/>
                    <a:pt x="34" y="559"/>
                  </a:cubicBezTo>
                  <a:cubicBezTo>
                    <a:pt x="20" y="529"/>
                    <a:pt x="0" y="494"/>
                    <a:pt x="4" y="439"/>
                  </a:cubicBezTo>
                  <a:cubicBezTo>
                    <a:pt x="8" y="384"/>
                    <a:pt x="37" y="288"/>
                    <a:pt x="56" y="229"/>
                  </a:cubicBezTo>
                  <a:cubicBezTo>
                    <a:pt x="75" y="170"/>
                    <a:pt x="93" y="125"/>
                    <a:pt x="116" y="87"/>
                  </a:cubicBezTo>
                  <a:cubicBezTo>
                    <a:pt x="139" y="49"/>
                    <a:pt x="185" y="0"/>
                    <a:pt x="191" y="4"/>
                  </a:cubicBezTo>
                  <a:cubicBezTo>
                    <a:pt x="197" y="8"/>
                    <a:pt x="165" y="75"/>
                    <a:pt x="154" y="109"/>
                  </a:cubicBezTo>
                  <a:cubicBezTo>
                    <a:pt x="143" y="143"/>
                    <a:pt x="122" y="216"/>
                    <a:pt x="124" y="207"/>
                  </a:cubicBezTo>
                  <a:cubicBezTo>
                    <a:pt x="126" y="198"/>
                    <a:pt x="149" y="91"/>
                    <a:pt x="169" y="57"/>
                  </a:cubicBezTo>
                  <a:cubicBezTo>
                    <a:pt x="189" y="23"/>
                    <a:pt x="214" y="8"/>
                    <a:pt x="244" y="4"/>
                  </a:cubicBezTo>
                  <a:cubicBezTo>
                    <a:pt x="274" y="0"/>
                    <a:pt x="313" y="0"/>
                    <a:pt x="349" y="34"/>
                  </a:cubicBezTo>
                  <a:cubicBezTo>
                    <a:pt x="385" y="68"/>
                    <a:pt x="435" y="136"/>
                    <a:pt x="461" y="207"/>
                  </a:cubicBezTo>
                  <a:cubicBezTo>
                    <a:pt x="487" y="278"/>
                    <a:pt x="495" y="398"/>
                    <a:pt x="506" y="462"/>
                  </a:cubicBezTo>
                  <a:cubicBezTo>
                    <a:pt x="517" y="526"/>
                    <a:pt x="524" y="557"/>
                    <a:pt x="529" y="589"/>
                  </a:cubicBezTo>
                  <a:cubicBezTo>
                    <a:pt x="534" y="621"/>
                    <a:pt x="540" y="658"/>
                    <a:pt x="536" y="657"/>
                  </a:cubicBezTo>
                  <a:cubicBezTo>
                    <a:pt x="532" y="656"/>
                    <a:pt x="512" y="586"/>
                    <a:pt x="506" y="582"/>
                  </a:cubicBezTo>
                  <a:cubicBezTo>
                    <a:pt x="500" y="578"/>
                    <a:pt x="506" y="629"/>
                    <a:pt x="499" y="634"/>
                  </a:cubicBezTo>
                  <a:cubicBezTo>
                    <a:pt x="492" y="639"/>
                    <a:pt x="456" y="603"/>
                    <a:pt x="461" y="612"/>
                  </a:cubicBezTo>
                  <a:cubicBezTo>
                    <a:pt x="466" y="621"/>
                    <a:pt x="499" y="666"/>
                    <a:pt x="529" y="687"/>
                  </a:cubicBezTo>
                  <a:cubicBezTo>
                    <a:pt x="559" y="708"/>
                    <a:pt x="610" y="733"/>
                    <a:pt x="641" y="739"/>
                  </a:cubicBezTo>
                  <a:cubicBezTo>
                    <a:pt x="672" y="745"/>
                    <a:pt x="695" y="731"/>
                    <a:pt x="716" y="724"/>
                  </a:cubicBezTo>
                  <a:cubicBezTo>
                    <a:pt x="737" y="717"/>
                    <a:pt x="760" y="692"/>
                    <a:pt x="769" y="694"/>
                  </a:cubicBezTo>
                  <a:cubicBezTo>
                    <a:pt x="778" y="696"/>
                    <a:pt x="776" y="728"/>
                    <a:pt x="769" y="739"/>
                  </a:cubicBezTo>
                  <a:cubicBezTo>
                    <a:pt x="762" y="750"/>
                    <a:pt x="724" y="753"/>
                    <a:pt x="724" y="762"/>
                  </a:cubicBezTo>
                  <a:cubicBezTo>
                    <a:pt x="724" y="771"/>
                    <a:pt x="764" y="780"/>
                    <a:pt x="769" y="792"/>
                  </a:cubicBezTo>
                  <a:cubicBezTo>
                    <a:pt x="774" y="804"/>
                    <a:pt x="765" y="837"/>
                    <a:pt x="754" y="837"/>
                  </a:cubicBezTo>
                  <a:cubicBezTo>
                    <a:pt x="743" y="837"/>
                    <a:pt x="715" y="793"/>
                    <a:pt x="701" y="792"/>
                  </a:cubicBezTo>
                  <a:cubicBezTo>
                    <a:pt x="687" y="791"/>
                    <a:pt x="686" y="822"/>
                    <a:pt x="671" y="829"/>
                  </a:cubicBezTo>
                  <a:cubicBezTo>
                    <a:pt x="656" y="836"/>
                    <a:pt x="626" y="843"/>
                    <a:pt x="611" y="837"/>
                  </a:cubicBezTo>
                  <a:cubicBezTo>
                    <a:pt x="596" y="831"/>
                    <a:pt x="603" y="808"/>
                    <a:pt x="581" y="792"/>
                  </a:cubicBezTo>
                  <a:cubicBezTo>
                    <a:pt x="559" y="776"/>
                    <a:pt x="506" y="763"/>
                    <a:pt x="476" y="739"/>
                  </a:cubicBezTo>
                  <a:cubicBezTo>
                    <a:pt x="446" y="715"/>
                    <a:pt x="389" y="640"/>
                    <a:pt x="401" y="649"/>
                  </a:cubicBezTo>
                  <a:cubicBezTo>
                    <a:pt x="413" y="658"/>
                    <a:pt x="517" y="763"/>
                    <a:pt x="551" y="792"/>
                  </a:cubicBezTo>
                  <a:cubicBezTo>
                    <a:pt x="585" y="821"/>
                    <a:pt x="583" y="812"/>
                    <a:pt x="604" y="822"/>
                  </a:cubicBezTo>
                  <a:cubicBezTo>
                    <a:pt x="625" y="832"/>
                    <a:pt x="679" y="846"/>
                    <a:pt x="679" y="852"/>
                  </a:cubicBezTo>
                  <a:cubicBezTo>
                    <a:pt x="679" y="858"/>
                    <a:pt x="606" y="852"/>
                    <a:pt x="604" y="859"/>
                  </a:cubicBezTo>
                  <a:cubicBezTo>
                    <a:pt x="602" y="866"/>
                    <a:pt x="662" y="883"/>
                    <a:pt x="664" y="897"/>
                  </a:cubicBezTo>
                  <a:cubicBezTo>
                    <a:pt x="666" y="911"/>
                    <a:pt x="633" y="948"/>
                    <a:pt x="619" y="942"/>
                  </a:cubicBezTo>
                  <a:cubicBezTo>
                    <a:pt x="605" y="936"/>
                    <a:pt x="593" y="859"/>
                    <a:pt x="581" y="859"/>
                  </a:cubicBezTo>
                  <a:cubicBezTo>
                    <a:pt x="569" y="859"/>
                    <a:pt x="551" y="943"/>
                    <a:pt x="544" y="942"/>
                  </a:cubicBezTo>
                  <a:cubicBezTo>
                    <a:pt x="537" y="941"/>
                    <a:pt x="545" y="863"/>
                    <a:pt x="536" y="852"/>
                  </a:cubicBezTo>
                  <a:cubicBezTo>
                    <a:pt x="527" y="841"/>
                    <a:pt x="499" y="880"/>
                    <a:pt x="491" y="874"/>
                  </a:cubicBezTo>
                  <a:cubicBezTo>
                    <a:pt x="483" y="868"/>
                    <a:pt x="497" y="813"/>
                    <a:pt x="491" y="814"/>
                  </a:cubicBezTo>
                  <a:cubicBezTo>
                    <a:pt x="485" y="815"/>
                    <a:pt x="464" y="887"/>
                    <a:pt x="454" y="882"/>
                  </a:cubicBezTo>
                  <a:cubicBezTo>
                    <a:pt x="444" y="877"/>
                    <a:pt x="442" y="808"/>
                    <a:pt x="431" y="784"/>
                  </a:cubicBezTo>
                  <a:cubicBezTo>
                    <a:pt x="420" y="760"/>
                    <a:pt x="385" y="730"/>
                    <a:pt x="386" y="739"/>
                  </a:cubicBezTo>
                  <a:cubicBezTo>
                    <a:pt x="387" y="748"/>
                    <a:pt x="417" y="812"/>
                    <a:pt x="439" y="837"/>
                  </a:cubicBezTo>
                  <a:cubicBezTo>
                    <a:pt x="461" y="862"/>
                    <a:pt x="496" y="875"/>
                    <a:pt x="521" y="889"/>
                  </a:cubicBezTo>
                  <a:cubicBezTo>
                    <a:pt x="546" y="903"/>
                    <a:pt x="578" y="903"/>
                    <a:pt x="589" y="919"/>
                  </a:cubicBezTo>
                  <a:cubicBezTo>
                    <a:pt x="600" y="935"/>
                    <a:pt x="600" y="987"/>
                    <a:pt x="589" y="987"/>
                  </a:cubicBezTo>
                  <a:cubicBezTo>
                    <a:pt x="578" y="987"/>
                    <a:pt x="537" y="920"/>
                    <a:pt x="521" y="919"/>
                  </a:cubicBezTo>
                  <a:cubicBezTo>
                    <a:pt x="505" y="918"/>
                    <a:pt x="500" y="980"/>
                    <a:pt x="491" y="979"/>
                  </a:cubicBezTo>
                  <a:cubicBezTo>
                    <a:pt x="482" y="978"/>
                    <a:pt x="480" y="910"/>
                    <a:pt x="469" y="912"/>
                  </a:cubicBezTo>
                  <a:cubicBezTo>
                    <a:pt x="458" y="914"/>
                    <a:pt x="432" y="1000"/>
                    <a:pt x="424" y="994"/>
                  </a:cubicBezTo>
                  <a:cubicBezTo>
                    <a:pt x="416" y="988"/>
                    <a:pt x="430" y="883"/>
                    <a:pt x="424" y="874"/>
                  </a:cubicBezTo>
                  <a:cubicBezTo>
                    <a:pt x="418" y="865"/>
                    <a:pt x="391" y="943"/>
                    <a:pt x="386" y="942"/>
                  </a:cubicBezTo>
                  <a:cubicBezTo>
                    <a:pt x="381" y="941"/>
                    <a:pt x="400" y="865"/>
                    <a:pt x="394" y="867"/>
                  </a:cubicBezTo>
                  <a:cubicBezTo>
                    <a:pt x="388" y="869"/>
                    <a:pt x="354" y="958"/>
                    <a:pt x="349" y="957"/>
                  </a:cubicBezTo>
                  <a:cubicBezTo>
                    <a:pt x="344" y="956"/>
                    <a:pt x="374" y="866"/>
                    <a:pt x="364" y="859"/>
                  </a:cubicBezTo>
                  <a:cubicBezTo>
                    <a:pt x="354" y="852"/>
                    <a:pt x="290" y="921"/>
                    <a:pt x="289" y="912"/>
                  </a:cubicBezTo>
                  <a:cubicBezTo>
                    <a:pt x="288" y="903"/>
                    <a:pt x="362" y="813"/>
                    <a:pt x="356" y="807"/>
                  </a:cubicBezTo>
                  <a:cubicBezTo>
                    <a:pt x="350" y="801"/>
                    <a:pt x="253" y="878"/>
                    <a:pt x="251" y="874"/>
                  </a:cubicBezTo>
                  <a:cubicBezTo>
                    <a:pt x="249" y="870"/>
                    <a:pt x="345" y="791"/>
                    <a:pt x="341" y="784"/>
                  </a:cubicBezTo>
                  <a:cubicBezTo>
                    <a:pt x="337" y="777"/>
                    <a:pt x="240" y="835"/>
                    <a:pt x="229" y="829"/>
                  </a:cubicBezTo>
                  <a:cubicBezTo>
                    <a:pt x="218" y="823"/>
                    <a:pt x="274" y="777"/>
                    <a:pt x="274" y="747"/>
                  </a:cubicBezTo>
                  <a:cubicBezTo>
                    <a:pt x="274" y="717"/>
                    <a:pt x="230" y="663"/>
                    <a:pt x="199" y="64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278760" y="4033800"/>
              <a:ext cx="155520" cy="193320"/>
            </a:xfrm>
            <a:custGeom>
              <a:avLst/>
              <a:gdLst/>
              <a:ahLst/>
              <a:rect l="l" t="t" r="r" b="b"/>
              <a:pathLst>
                <a:path w="164" h="203">
                  <a:moveTo>
                    <a:pt x="51" y="7"/>
                  </a:moveTo>
                  <a:cubicBezTo>
                    <a:pt x="29" y="13"/>
                    <a:pt x="12" y="30"/>
                    <a:pt x="6" y="52"/>
                  </a:cubicBezTo>
                  <a:cubicBezTo>
                    <a:pt x="0" y="74"/>
                    <a:pt x="7" y="118"/>
                    <a:pt x="13" y="142"/>
                  </a:cubicBezTo>
                  <a:cubicBezTo>
                    <a:pt x="19" y="166"/>
                    <a:pt x="27" y="185"/>
                    <a:pt x="43" y="194"/>
                  </a:cubicBezTo>
                  <a:cubicBezTo>
                    <a:pt x="59" y="203"/>
                    <a:pt x="94" y="200"/>
                    <a:pt x="111" y="194"/>
                  </a:cubicBezTo>
                  <a:cubicBezTo>
                    <a:pt x="128" y="188"/>
                    <a:pt x="139" y="174"/>
                    <a:pt x="148" y="157"/>
                  </a:cubicBezTo>
                  <a:cubicBezTo>
                    <a:pt x="157" y="140"/>
                    <a:pt x="164" y="113"/>
                    <a:pt x="163" y="89"/>
                  </a:cubicBezTo>
                  <a:cubicBezTo>
                    <a:pt x="162" y="65"/>
                    <a:pt x="156" y="28"/>
                    <a:pt x="141" y="14"/>
                  </a:cubicBezTo>
                  <a:cubicBezTo>
                    <a:pt x="126" y="0"/>
                    <a:pt x="73" y="1"/>
                    <a:pt x="51" y="7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42120" y="4109760"/>
              <a:ext cx="27000" cy="2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6916680" y="4183200"/>
            <a:ext cx="934920" cy="1933560"/>
            <a:chOff x="6916680" y="4183200"/>
            <a:chExt cx="934920" cy="1933560"/>
          </a:xfrm>
        </p:grpSpPr>
        <p:sp>
          <p:nvSpPr>
            <p:cNvPr id="636" name=""/>
            <p:cNvSpPr/>
            <p:nvPr/>
          </p:nvSpPr>
          <p:spPr>
            <a:xfrm>
              <a:off x="6916680" y="4183200"/>
              <a:ext cx="752040" cy="1933560"/>
            </a:xfrm>
            <a:custGeom>
              <a:avLst/>
              <a:gdLst/>
              <a:ahLst/>
              <a:rect l="l" t="t" r="r" b="b"/>
              <a:pathLst>
                <a:path w="791" h="2028">
                  <a:moveTo>
                    <a:pt x="693" y="98"/>
                  </a:moveTo>
                  <a:cubicBezTo>
                    <a:pt x="668" y="69"/>
                    <a:pt x="639" y="46"/>
                    <a:pt x="610" y="30"/>
                  </a:cubicBezTo>
                  <a:cubicBezTo>
                    <a:pt x="581" y="14"/>
                    <a:pt x="561" y="0"/>
                    <a:pt x="520" y="0"/>
                  </a:cubicBezTo>
                  <a:cubicBezTo>
                    <a:pt x="479" y="0"/>
                    <a:pt x="402" y="9"/>
                    <a:pt x="363" y="30"/>
                  </a:cubicBezTo>
                  <a:cubicBezTo>
                    <a:pt x="324" y="51"/>
                    <a:pt x="322" y="88"/>
                    <a:pt x="288" y="128"/>
                  </a:cubicBezTo>
                  <a:cubicBezTo>
                    <a:pt x="254" y="168"/>
                    <a:pt x="193" y="223"/>
                    <a:pt x="160" y="270"/>
                  </a:cubicBezTo>
                  <a:cubicBezTo>
                    <a:pt x="127" y="317"/>
                    <a:pt x="99" y="366"/>
                    <a:pt x="93" y="413"/>
                  </a:cubicBezTo>
                  <a:cubicBezTo>
                    <a:pt x="87" y="460"/>
                    <a:pt x="113" y="519"/>
                    <a:pt x="123" y="555"/>
                  </a:cubicBezTo>
                  <a:cubicBezTo>
                    <a:pt x="133" y="591"/>
                    <a:pt x="148" y="606"/>
                    <a:pt x="153" y="630"/>
                  </a:cubicBezTo>
                  <a:cubicBezTo>
                    <a:pt x="158" y="654"/>
                    <a:pt x="142" y="678"/>
                    <a:pt x="153" y="698"/>
                  </a:cubicBezTo>
                  <a:cubicBezTo>
                    <a:pt x="164" y="718"/>
                    <a:pt x="201" y="755"/>
                    <a:pt x="220" y="750"/>
                  </a:cubicBezTo>
                  <a:cubicBezTo>
                    <a:pt x="239" y="745"/>
                    <a:pt x="246" y="693"/>
                    <a:pt x="265" y="668"/>
                  </a:cubicBezTo>
                  <a:cubicBezTo>
                    <a:pt x="284" y="643"/>
                    <a:pt x="307" y="624"/>
                    <a:pt x="333" y="600"/>
                  </a:cubicBezTo>
                  <a:cubicBezTo>
                    <a:pt x="359" y="576"/>
                    <a:pt x="422" y="523"/>
                    <a:pt x="423" y="525"/>
                  </a:cubicBezTo>
                  <a:cubicBezTo>
                    <a:pt x="424" y="527"/>
                    <a:pt x="352" y="561"/>
                    <a:pt x="325" y="585"/>
                  </a:cubicBezTo>
                  <a:cubicBezTo>
                    <a:pt x="298" y="609"/>
                    <a:pt x="265" y="646"/>
                    <a:pt x="258" y="668"/>
                  </a:cubicBezTo>
                  <a:cubicBezTo>
                    <a:pt x="251" y="690"/>
                    <a:pt x="265" y="718"/>
                    <a:pt x="280" y="720"/>
                  </a:cubicBezTo>
                  <a:cubicBezTo>
                    <a:pt x="295" y="722"/>
                    <a:pt x="327" y="692"/>
                    <a:pt x="348" y="683"/>
                  </a:cubicBezTo>
                  <a:cubicBezTo>
                    <a:pt x="369" y="674"/>
                    <a:pt x="379" y="679"/>
                    <a:pt x="408" y="668"/>
                  </a:cubicBezTo>
                  <a:cubicBezTo>
                    <a:pt x="437" y="657"/>
                    <a:pt x="492" y="637"/>
                    <a:pt x="520" y="615"/>
                  </a:cubicBezTo>
                  <a:cubicBezTo>
                    <a:pt x="548" y="593"/>
                    <a:pt x="591" y="527"/>
                    <a:pt x="580" y="533"/>
                  </a:cubicBezTo>
                  <a:cubicBezTo>
                    <a:pt x="569" y="539"/>
                    <a:pt x="467" y="628"/>
                    <a:pt x="453" y="653"/>
                  </a:cubicBezTo>
                  <a:cubicBezTo>
                    <a:pt x="439" y="678"/>
                    <a:pt x="476" y="688"/>
                    <a:pt x="498" y="683"/>
                  </a:cubicBezTo>
                  <a:cubicBezTo>
                    <a:pt x="520" y="678"/>
                    <a:pt x="590" y="622"/>
                    <a:pt x="588" y="623"/>
                  </a:cubicBezTo>
                  <a:cubicBezTo>
                    <a:pt x="586" y="624"/>
                    <a:pt x="491" y="676"/>
                    <a:pt x="483" y="690"/>
                  </a:cubicBezTo>
                  <a:cubicBezTo>
                    <a:pt x="475" y="704"/>
                    <a:pt x="544" y="700"/>
                    <a:pt x="543" y="705"/>
                  </a:cubicBezTo>
                  <a:cubicBezTo>
                    <a:pt x="542" y="710"/>
                    <a:pt x="491" y="710"/>
                    <a:pt x="475" y="720"/>
                  </a:cubicBezTo>
                  <a:cubicBezTo>
                    <a:pt x="459" y="730"/>
                    <a:pt x="438" y="756"/>
                    <a:pt x="445" y="765"/>
                  </a:cubicBezTo>
                  <a:cubicBezTo>
                    <a:pt x="452" y="774"/>
                    <a:pt x="520" y="769"/>
                    <a:pt x="520" y="773"/>
                  </a:cubicBezTo>
                  <a:cubicBezTo>
                    <a:pt x="520" y="777"/>
                    <a:pt x="466" y="777"/>
                    <a:pt x="445" y="788"/>
                  </a:cubicBezTo>
                  <a:cubicBezTo>
                    <a:pt x="424" y="799"/>
                    <a:pt x="422" y="814"/>
                    <a:pt x="393" y="840"/>
                  </a:cubicBezTo>
                  <a:cubicBezTo>
                    <a:pt x="364" y="866"/>
                    <a:pt x="305" y="899"/>
                    <a:pt x="273" y="945"/>
                  </a:cubicBezTo>
                  <a:cubicBezTo>
                    <a:pt x="241" y="991"/>
                    <a:pt x="215" y="1046"/>
                    <a:pt x="198" y="1118"/>
                  </a:cubicBezTo>
                  <a:cubicBezTo>
                    <a:pt x="181" y="1190"/>
                    <a:pt x="170" y="1308"/>
                    <a:pt x="168" y="1380"/>
                  </a:cubicBezTo>
                  <a:cubicBezTo>
                    <a:pt x="166" y="1452"/>
                    <a:pt x="165" y="1498"/>
                    <a:pt x="183" y="1553"/>
                  </a:cubicBezTo>
                  <a:cubicBezTo>
                    <a:pt x="201" y="1608"/>
                    <a:pt x="251" y="1671"/>
                    <a:pt x="273" y="1710"/>
                  </a:cubicBezTo>
                  <a:cubicBezTo>
                    <a:pt x="295" y="1749"/>
                    <a:pt x="334" y="1755"/>
                    <a:pt x="318" y="1785"/>
                  </a:cubicBezTo>
                  <a:cubicBezTo>
                    <a:pt x="302" y="1815"/>
                    <a:pt x="214" y="1895"/>
                    <a:pt x="175" y="1890"/>
                  </a:cubicBezTo>
                  <a:cubicBezTo>
                    <a:pt x="136" y="1885"/>
                    <a:pt x="112" y="1797"/>
                    <a:pt x="85" y="1755"/>
                  </a:cubicBezTo>
                  <a:cubicBezTo>
                    <a:pt x="58" y="1713"/>
                    <a:pt x="20" y="1634"/>
                    <a:pt x="10" y="1635"/>
                  </a:cubicBezTo>
                  <a:cubicBezTo>
                    <a:pt x="0" y="1636"/>
                    <a:pt x="6" y="1711"/>
                    <a:pt x="25" y="1763"/>
                  </a:cubicBezTo>
                  <a:cubicBezTo>
                    <a:pt x="44" y="1815"/>
                    <a:pt x="71" y="1907"/>
                    <a:pt x="123" y="1950"/>
                  </a:cubicBezTo>
                  <a:cubicBezTo>
                    <a:pt x="175" y="1993"/>
                    <a:pt x="269" y="2028"/>
                    <a:pt x="340" y="2018"/>
                  </a:cubicBezTo>
                  <a:cubicBezTo>
                    <a:pt x="411" y="2008"/>
                    <a:pt x="493" y="1967"/>
                    <a:pt x="550" y="1890"/>
                  </a:cubicBezTo>
                  <a:cubicBezTo>
                    <a:pt x="607" y="1813"/>
                    <a:pt x="656" y="1672"/>
                    <a:pt x="685" y="1553"/>
                  </a:cubicBezTo>
                  <a:cubicBezTo>
                    <a:pt x="714" y="1434"/>
                    <a:pt x="712" y="1299"/>
                    <a:pt x="723" y="1178"/>
                  </a:cubicBezTo>
                  <a:cubicBezTo>
                    <a:pt x="734" y="1057"/>
                    <a:pt x="744" y="905"/>
                    <a:pt x="753" y="825"/>
                  </a:cubicBezTo>
                  <a:cubicBezTo>
                    <a:pt x="762" y="745"/>
                    <a:pt x="774" y="732"/>
                    <a:pt x="775" y="698"/>
                  </a:cubicBezTo>
                  <a:cubicBezTo>
                    <a:pt x="776" y="664"/>
                    <a:pt x="770" y="629"/>
                    <a:pt x="760" y="623"/>
                  </a:cubicBezTo>
                  <a:cubicBezTo>
                    <a:pt x="750" y="617"/>
                    <a:pt x="716" y="658"/>
                    <a:pt x="715" y="660"/>
                  </a:cubicBezTo>
                  <a:cubicBezTo>
                    <a:pt x="714" y="662"/>
                    <a:pt x="742" y="652"/>
                    <a:pt x="753" y="638"/>
                  </a:cubicBezTo>
                  <a:cubicBezTo>
                    <a:pt x="764" y="624"/>
                    <a:pt x="778" y="607"/>
                    <a:pt x="783" y="578"/>
                  </a:cubicBezTo>
                  <a:cubicBezTo>
                    <a:pt x="788" y="549"/>
                    <a:pt x="791" y="501"/>
                    <a:pt x="783" y="465"/>
                  </a:cubicBezTo>
                  <a:cubicBezTo>
                    <a:pt x="775" y="429"/>
                    <a:pt x="742" y="404"/>
                    <a:pt x="738" y="360"/>
                  </a:cubicBezTo>
                  <a:cubicBezTo>
                    <a:pt x="734" y="316"/>
                    <a:pt x="764" y="244"/>
                    <a:pt x="760" y="203"/>
                  </a:cubicBezTo>
                  <a:cubicBezTo>
                    <a:pt x="756" y="162"/>
                    <a:pt x="718" y="127"/>
                    <a:pt x="693" y="98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018200" y="5535000"/>
              <a:ext cx="354600" cy="326880"/>
            </a:xfrm>
            <a:custGeom>
              <a:avLst/>
              <a:gdLst/>
              <a:ahLst/>
              <a:rect l="l" t="t" r="r" b="b"/>
              <a:pathLst>
                <a:path w="373" h="343">
                  <a:moveTo>
                    <a:pt x="353" y="0"/>
                  </a:moveTo>
                  <a:cubicBezTo>
                    <a:pt x="353" y="0"/>
                    <a:pt x="302" y="38"/>
                    <a:pt x="278" y="52"/>
                  </a:cubicBezTo>
                  <a:cubicBezTo>
                    <a:pt x="254" y="66"/>
                    <a:pt x="238" y="76"/>
                    <a:pt x="211" y="82"/>
                  </a:cubicBezTo>
                  <a:cubicBezTo>
                    <a:pt x="184" y="88"/>
                    <a:pt x="137" y="96"/>
                    <a:pt x="113" y="90"/>
                  </a:cubicBezTo>
                  <a:cubicBezTo>
                    <a:pt x="89" y="84"/>
                    <a:pt x="83" y="51"/>
                    <a:pt x="68" y="45"/>
                  </a:cubicBezTo>
                  <a:cubicBezTo>
                    <a:pt x="53" y="39"/>
                    <a:pt x="24" y="45"/>
                    <a:pt x="23" y="52"/>
                  </a:cubicBezTo>
                  <a:cubicBezTo>
                    <a:pt x="22" y="59"/>
                    <a:pt x="62" y="79"/>
                    <a:pt x="61" y="90"/>
                  </a:cubicBezTo>
                  <a:cubicBezTo>
                    <a:pt x="60" y="101"/>
                    <a:pt x="25" y="105"/>
                    <a:pt x="16" y="120"/>
                  </a:cubicBezTo>
                  <a:cubicBezTo>
                    <a:pt x="7" y="135"/>
                    <a:pt x="1" y="173"/>
                    <a:pt x="8" y="180"/>
                  </a:cubicBezTo>
                  <a:cubicBezTo>
                    <a:pt x="15" y="187"/>
                    <a:pt x="62" y="156"/>
                    <a:pt x="61" y="165"/>
                  </a:cubicBezTo>
                  <a:cubicBezTo>
                    <a:pt x="60" y="174"/>
                    <a:pt x="2" y="217"/>
                    <a:pt x="1" y="232"/>
                  </a:cubicBezTo>
                  <a:cubicBezTo>
                    <a:pt x="0" y="247"/>
                    <a:pt x="41" y="241"/>
                    <a:pt x="53" y="255"/>
                  </a:cubicBezTo>
                  <a:cubicBezTo>
                    <a:pt x="65" y="269"/>
                    <a:pt x="64" y="305"/>
                    <a:pt x="76" y="315"/>
                  </a:cubicBezTo>
                  <a:cubicBezTo>
                    <a:pt x="88" y="325"/>
                    <a:pt x="119" y="324"/>
                    <a:pt x="128" y="315"/>
                  </a:cubicBezTo>
                  <a:cubicBezTo>
                    <a:pt x="137" y="306"/>
                    <a:pt x="128" y="258"/>
                    <a:pt x="128" y="262"/>
                  </a:cubicBezTo>
                  <a:cubicBezTo>
                    <a:pt x="128" y="266"/>
                    <a:pt x="122" y="331"/>
                    <a:pt x="128" y="337"/>
                  </a:cubicBezTo>
                  <a:cubicBezTo>
                    <a:pt x="134" y="343"/>
                    <a:pt x="146" y="317"/>
                    <a:pt x="166" y="300"/>
                  </a:cubicBezTo>
                  <a:cubicBezTo>
                    <a:pt x="186" y="283"/>
                    <a:pt x="218" y="256"/>
                    <a:pt x="248" y="232"/>
                  </a:cubicBezTo>
                  <a:cubicBezTo>
                    <a:pt x="278" y="208"/>
                    <a:pt x="326" y="187"/>
                    <a:pt x="346" y="157"/>
                  </a:cubicBezTo>
                  <a:cubicBezTo>
                    <a:pt x="366" y="127"/>
                    <a:pt x="373" y="73"/>
                    <a:pt x="368" y="52"/>
                  </a:cubicBezTo>
                  <a:cubicBezTo>
                    <a:pt x="363" y="31"/>
                    <a:pt x="331" y="30"/>
                    <a:pt x="316" y="30"/>
                  </a:cubicBezTo>
                  <a:cubicBezTo>
                    <a:pt x="301" y="30"/>
                    <a:pt x="273" y="55"/>
                    <a:pt x="278" y="52"/>
                  </a:cubicBezTo>
                  <a:cubicBezTo>
                    <a:pt x="283" y="49"/>
                    <a:pt x="353" y="0"/>
                    <a:pt x="353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8" name=""/>
            <p:cNvGrpSpPr/>
            <p:nvPr/>
          </p:nvGrpSpPr>
          <p:grpSpPr>
            <a:xfrm>
              <a:off x="7081200" y="4481280"/>
              <a:ext cx="197640" cy="225000"/>
              <a:chOff x="7081200" y="4481280"/>
              <a:chExt cx="197640" cy="225000"/>
            </a:xfrm>
          </p:grpSpPr>
          <p:sp>
            <p:nvSpPr>
              <p:cNvPr id="639" name=""/>
              <p:cNvSpPr/>
              <p:nvPr/>
            </p:nvSpPr>
            <p:spPr>
              <a:xfrm>
                <a:off x="7081200" y="4481280"/>
                <a:ext cx="197640" cy="225000"/>
              </a:xfrm>
              <a:custGeom>
                <a:avLst/>
                <a:gdLst/>
                <a:ahLst/>
                <a:rect l="l" t="t" r="r" b="b"/>
                <a:pathLst>
                  <a:path w="208" h="236">
                    <a:moveTo>
                      <a:pt x="77" y="2"/>
                    </a:moveTo>
                    <a:cubicBezTo>
                      <a:pt x="92" y="0"/>
                      <a:pt x="107" y="8"/>
                      <a:pt x="122" y="10"/>
                    </a:cubicBezTo>
                    <a:cubicBezTo>
                      <a:pt x="137" y="12"/>
                      <a:pt x="154" y="3"/>
                      <a:pt x="167" y="17"/>
                    </a:cubicBezTo>
                    <a:cubicBezTo>
                      <a:pt x="180" y="31"/>
                      <a:pt x="192" y="66"/>
                      <a:pt x="197" y="92"/>
                    </a:cubicBezTo>
                    <a:cubicBezTo>
                      <a:pt x="202" y="118"/>
                      <a:pt x="208" y="155"/>
                      <a:pt x="197" y="175"/>
                    </a:cubicBezTo>
                    <a:cubicBezTo>
                      <a:pt x="186" y="195"/>
                      <a:pt x="152" y="203"/>
                      <a:pt x="130" y="212"/>
                    </a:cubicBezTo>
                    <a:cubicBezTo>
                      <a:pt x="108" y="221"/>
                      <a:pt x="81" y="236"/>
                      <a:pt x="62" y="227"/>
                    </a:cubicBezTo>
                    <a:cubicBezTo>
                      <a:pt x="43" y="218"/>
                      <a:pt x="27" y="182"/>
                      <a:pt x="17" y="160"/>
                    </a:cubicBezTo>
                    <a:cubicBezTo>
                      <a:pt x="7" y="138"/>
                      <a:pt x="0" y="114"/>
                      <a:pt x="2" y="92"/>
                    </a:cubicBezTo>
                    <a:cubicBezTo>
                      <a:pt x="4" y="70"/>
                      <a:pt x="17" y="40"/>
                      <a:pt x="32" y="25"/>
                    </a:cubicBezTo>
                    <a:cubicBezTo>
                      <a:pt x="47" y="10"/>
                      <a:pt x="62" y="4"/>
                      <a:pt x="77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5977200">
                <a:off x="7139520" y="4545720"/>
                <a:ext cx="81720" cy="68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7157160" y="4991400"/>
              <a:ext cx="410400" cy="306360"/>
              <a:chOff x="7157160" y="4991400"/>
              <a:chExt cx="410400" cy="306360"/>
            </a:xfrm>
          </p:grpSpPr>
          <p:sp>
            <p:nvSpPr>
              <p:cNvPr id="642" name=""/>
              <p:cNvSpPr/>
              <p:nvPr/>
            </p:nvSpPr>
            <p:spPr>
              <a:xfrm>
                <a:off x="7157160" y="5016960"/>
                <a:ext cx="382320" cy="280800"/>
              </a:xfrm>
              <a:custGeom>
                <a:avLst/>
                <a:gdLst/>
                <a:ahLst/>
                <a:rect l="l" t="t" r="r" b="b"/>
                <a:pathLst>
                  <a:path w="402" h="295">
                    <a:moveTo>
                      <a:pt x="395" y="93"/>
                    </a:moveTo>
                    <a:cubicBezTo>
                      <a:pt x="388" y="73"/>
                      <a:pt x="357" y="39"/>
                      <a:pt x="335" y="25"/>
                    </a:cubicBezTo>
                    <a:cubicBezTo>
                      <a:pt x="313" y="11"/>
                      <a:pt x="285" y="0"/>
                      <a:pt x="260" y="10"/>
                    </a:cubicBezTo>
                    <a:cubicBezTo>
                      <a:pt x="235" y="20"/>
                      <a:pt x="215" y="66"/>
                      <a:pt x="185" y="85"/>
                    </a:cubicBezTo>
                    <a:cubicBezTo>
                      <a:pt x="155" y="104"/>
                      <a:pt x="110" y="111"/>
                      <a:pt x="80" y="123"/>
                    </a:cubicBezTo>
                    <a:cubicBezTo>
                      <a:pt x="50" y="135"/>
                      <a:pt x="10" y="152"/>
                      <a:pt x="5" y="160"/>
                    </a:cubicBezTo>
                    <a:cubicBezTo>
                      <a:pt x="0" y="168"/>
                      <a:pt x="49" y="163"/>
                      <a:pt x="50" y="168"/>
                    </a:cubicBezTo>
                    <a:cubicBezTo>
                      <a:pt x="51" y="173"/>
                      <a:pt x="18" y="179"/>
                      <a:pt x="12" y="190"/>
                    </a:cubicBezTo>
                    <a:cubicBezTo>
                      <a:pt x="6" y="201"/>
                      <a:pt x="3" y="231"/>
                      <a:pt x="12" y="235"/>
                    </a:cubicBezTo>
                    <a:cubicBezTo>
                      <a:pt x="21" y="239"/>
                      <a:pt x="61" y="209"/>
                      <a:pt x="65" y="213"/>
                    </a:cubicBezTo>
                    <a:cubicBezTo>
                      <a:pt x="69" y="217"/>
                      <a:pt x="31" y="252"/>
                      <a:pt x="35" y="258"/>
                    </a:cubicBezTo>
                    <a:cubicBezTo>
                      <a:pt x="39" y="264"/>
                      <a:pt x="75" y="244"/>
                      <a:pt x="87" y="250"/>
                    </a:cubicBezTo>
                    <a:cubicBezTo>
                      <a:pt x="99" y="256"/>
                      <a:pt x="96" y="295"/>
                      <a:pt x="110" y="295"/>
                    </a:cubicBezTo>
                    <a:cubicBezTo>
                      <a:pt x="124" y="295"/>
                      <a:pt x="149" y="269"/>
                      <a:pt x="170" y="250"/>
                    </a:cubicBezTo>
                    <a:cubicBezTo>
                      <a:pt x="191" y="231"/>
                      <a:pt x="211" y="196"/>
                      <a:pt x="237" y="183"/>
                    </a:cubicBezTo>
                    <a:cubicBezTo>
                      <a:pt x="263" y="170"/>
                      <a:pt x="303" y="181"/>
                      <a:pt x="327" y="175"/>
                    </a:cubicBezTo>
                    <a:cubicBezTo>
                      <a:pt x="351" y="169"/>
                      <a:pt x="370" y="157"/>
                      <a:pt x="380" y="145"/>
                    </a:cubicBezTo>
                    <a:cubicBezTo>
                      <a:pt x="390" y="133"/>
                      <a:pt x="402" y="113"/>
                      <a:pt x="395" y="93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401600" y="4991400"/>
                <a:ext cx="165960" cy="153360"/>
              </a:xfrm>
              <a:custGeom>
                <a:avLst/>
                <a:gdLst/>
                <a:ahLst/>
                <a:rect l="l" t="t" r="r" b="b"/>
                <a:pathLst>
                  <a:path w="175" h="161">
                    <a:moveTo>
                      <a:pt x="10" y="15"/>
                    </a:moveTo>
                    <a:cubicBezTo>
                      <a:pt x="0" y="30"/>
                      <a:pt x="32" y="88"/>
                      <a:pt x="48" y="112"/>
                    </a:cubicBezTo>
                    <a:cubicBezTo>
                      <a:pt x="64" y="136"/>
                      <a:pt x="88" y="153"/>
                      <a:pt x="108" y="157"/>
                    </a:cubicBezTo>
                    <a:cubicBezTo>
                      <a:pt x="128" y="161"/>
                      <a:pt x="161" y="151"/>
                      <a:pt x="168" y="135"/>
                    </a:cubicBezTo>
                    <a:cubicBezTo>
                      <a:pt x="175" y="119"/>
                      <a:pt x="163" y="79"/>
                      <a:pt x="153" y="60"/>
                    </a:cubicBezTo>
                    <a:cubicBezTo>
                      <a:pt x="143" y="41"/>
                      <a:pt x="127" y="32"/>
                      <a:pt x="108" y="22"/>
                    </a:cubicBezTo>
                    <a:cubicBezTo>
                      <a:pt x="89" y="12"/>
                      <a:pt x="20" y="0"/>
                      <a:pt x="1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>
              <a:off x="7256160" y="4826520"/>
              <a:ext cx="595440" cy="1264320"/>
            </a:xfrm>
            <a:custGeom>
              <a:avLst/>
              <a:gdLst/>
              <a:ahLst/>
              <a:rect l="l" t="t" r="r" b="b"/>
              <a:pathLst>
                <a:path w="626" h="1326">
                  <a:moveTo>
                    <a:pt x="441" y="0"/>
                  </a:moveTo>
                  <a:cubicBezTo>
                    <a:pt x="431" y="0"/>
                    <a:pt x="441" y="47"/>
                    <a:pt x="426" y="68"/>
                  </a:cubicBezTo>
                  <a:cubicBezTo>
                    <a:pt x="411" y="89"/>
                    <a:pt x="357" y="107"/>
                    <a:pt x="351" y="128"/>
                  </a:cubicBezTo>
                  <a:cubicBezTo>
                    <a:pt x="345" y="149"/>
                    <a:pt x="389" y="191"/>
                    <a:pt x="388" y="195"/>
                  </a:cubicBezTo>
                  <a:cubicBezTo>
                    <a:pt x="387" y="199"/>
                    <a:pt x="358" y="151"/>
                    <a:pt x="343" y="150"/>
                  </a:cubicBezTo>
                  <a:cubicBezTo>
                    <a:pt x="328" y="149"/>
                    <a:pt x="312" y="173"/>
                    <a:pt x="298" y="188"/>
                  </a:cubicBezTo>
                  <a:cubicBezTo>
                    <a:pt x="284" y="203"/>
                    <a:pt x="259" y="219"/>
                    <a:pt x="261" y="240"/>
                  </a:cubicBezTo>
                  <a:cubicBezTo>
                    <a:pt x="263" y="261"/>
                    <a:pt x="313" y="311"/>
                    <a:pt x="313" y="315"/>
                  </a:cubicBezTo>
                  <a:cubicBezTo>
                    <a:pt x="313" y="319"/>
                    <a:pt x="280" y="265"/>
                    <a:pt x="261" y="263"/>
                  </a:cubicBezTo>
                  <a:cubicBezTo>
                    <a:pt x="242" y="261"/>
                    <a:pt x="217" y="283"/>
                    <a:pt x="201" y="300"/>
                  </a:cubicBezTo>
                  <a:cubicBezTo>
                    <a:pt x="185" y="317"/>
                    <a:pt x="164" y="351"/>
                    <a:pt x="163" y="368"/>
                  </a:cubicBezTo>
                  <a:cubicBezTo>
                    <a:pt x="162" y="385"/>
                    <a:pt x="195" y="401"/>
                    <a:pt x="193" y="405"/>
                  </a:cubicBezTo>
                  <a:cubicBezTo>
                    <a:pt x="191" y="409"/>
                    <a:pt x="166" y="381"/>
                    <a:pt x="148" y="390"/>
                  </a:cubicBezTo>
                  <a:cubicBezTo>
                    <a:pt x="130" y="399"/>
                    <a:pt x="100" y="438"/>
                    <a:pt x="88" y="458"/>
                  </a:cubicBezTo>
                  <a:cubicBezTo>
                    <a:pt x="76" y="478"/>
                    <a:pt x="68" y="496"/>
                    <a:pt x="73" y="510"/>
                  </a:cubicBezTo>
                  <a:cubicBezTo>
                    <a:pt x="78" y="524"/>
                    <a:pt x="124" y="529"/>
                    <a:pt x="118" y="540"/>
                  </a:cubicBezTo>
                  <a:cubicBezTo>
                    <a:pt x="112" y="551"/>
                    <a:pt x="50" y="561"/>
                    <a:pt x="36" y="578"/>
                  </a:cubicBezTo>
                  <a:cubicBezTo>
                    <a:pt x="22" y="595"/>
                    <a:pt x="27" y="633"/>
                    <a:pt x="36" y="645"/>
                  </a:cubicBezTo>
                  <a:cubicBezTo>
                    <a:pt x="45" y="657"/>
                    <a:pt x="89" y="652"/>
                    <a:pt x="88" y="653"/>
                  </a:cubicBezTo>
                  <a:cubicBezTo>
                    <a:pt x="87" y="654"/>
                    <a:pt x="42" y="640"/>
                    <a:pt x="28" y="653"/>
                  </a:cubicBezTo>
                  <a:cubicBezTo>
                    <a:pt x="14" y="666"/>
                    <a:pt x="10" y="706"/>
                    <a:pt x="6" y="728"/>
                  </a:cubicBezTo>
                  <a:cubicBezTo>
                    <a:pt x="2" y="750"/>
                    <a:pt x="0" y="782"/>
                    <a:pt x="6" y="788"/>
                  </a:cubicBezTo>
                  <a:cubicBezTo>
                    <a:pt x="12" y="794"/>
                    <a:pt x="43" y="759"/>
                    <a:pt x="43" y="765"/>
                  </a:cubicBezTo>
                  <a:cubicBezTo>
                    <a:pt x="43" y="771"/>
                    <a:pt x="12" y="805"/>
                    <a:pt x="6" y="825"/>
                  </a:cubicBezTo>
                  <a:cubicBezTo>
                    <a:pt x="0" y="845"/>
                    <a:pt x="5" y="868"/>
                    <a:pt x="6" y="885"/>
                  </a:cubicBezTo>
                  <a:cubicBezTo>
                    <a:pt x="7" y="902"/>
                    <a:pt x="4" y="928"/>
                    <a:pt x="13" y="930"/>
                  </a:cubicBezTo>
                  <a:cubicBezTo>
                    <a:pt x="22" y="932"/>
                    <a:pt x="57" y="896"/>
                    <a:pt x="58" y="900"/>
                  </a:cubicBezTo>
                  <a:cubicBezTo>
                    <a:pt x="59" y="904"/>
                    <a:pt x="27" y="933"/>
                    <a:pt x="21" y="953"/>
                  </a:cubicBezTo>
                  <a:cubicBezTo>
                    <a:pt x="15" y="973"/>
                    <a:pt x="16" y="998"/>
                    <a:pt x="21" y="1020"/>
                  </a:cubicBezTo>
                  <a:cubicBezTo>
                    <a:pt x="26" y="1042"/>
                    <a:pt x="37" y="1080"/>
                    <a:pt x="51" y="1088"/>
                  </a:cubicBezTo>
                  <a:cubicBezTo>
                    <a:pt x="65" y="1096"/>
                    <a:pt x="102" y="1063"/>
                    <a:pt x="103" y="1065"/>
                  </a:cubicBezTo>
                  <a:cubicBezTo>
                    <a:pt x="104" y="1067"/>
                    <a:pt x="64" y="1086"/>
                    <a:pt x="58" y="1103"/>
                  </a:cubicBezTo>
                  <a:cubicBezTo>
                    <a:pt x="52" y="1120"/>
                    <a:pt x="56" y="1161"/>
                    <a:pt x="66" y="1170"/>
                  </a:cubicBezTo>
                  <a:cubicBezTo>
                    <a:pt x="76" y="1179"/>
                    <a:pt x="108" y="1145"/>
                    <a:pt x="118" y="1155"/>
                  </a:cubicBezTo>
                  <a:cubicBezTo>
                    <a:pt x="128" y="1165"/>
                    <a:pt x="114" y="1219"/>
                    <a:pt x="126" y="1230"/>
                  </a:cubicBezTo>
                  <a:cubicBezTo>
                    <a:pt x="138" y="1241"/>
                    <a:pt x="191" y="1216"/>
                    <a:pt x="193" y="1223"/>
                  </a:cubicBezTo>
                  <a:cubicBezTo>
                    <a:pt x="195" y="1230"/>
                    <a:pt x="145" y="1259"/>
                    <a:pt x="141" y="1275"/>
                  </a:cubicBezTo>
                  <a:cubicBezTo>
                    <a:pt x="137" y="1291"/>
                    <a:pt x="156" y="1326"/>
                    <a:pt x="171" y="1320"/>
                  </a:cubicBezTo>
                  <a:cubicBezTo>
                    <a:pt x="186" y="1314"/>
                    <a:pt x="191" y="1269"/>
                    <a:pt x="231" y="1238"/>
                  </a:cubicBezTo>
                  <a:cubicBezTo>
                    <a:pt x="271" y="1207"/>
                    <a:pt x="362" y="1193"/>
                    <a:pt x="411" y="1133"/>
                  </a:cubicBezTo>
                  <a:cubicBezTo>
                    <a:pt x="460" y="1073"/>
                    <a:pt x="493" y="965"/>
                    <a:pt x="523" y="878"/>
                  </a:cubicBezTo>
                  <a:cubicBezTo>
                    <a:pt x="553" y="791"/>
                    <a:pt x="575" y="698"/>
                    <a:pt x="591" y="608"/>
                  </a:cubicBezTo>
                  <a:cubicBezTo>
                    <a:pt x="607" y="518"/>
                    <a:pt x="626" y="414"/>
                    <a:pt x="621" y="338"/>
                  </a:cubicBezTo>
                  <a:cubicBezTo>
                    <a:pt x="616" y="262"/>
                    <a:pt x="584" y="195"/>
                    <a:pt x="561" y="150"/>
                  </a:cubicBezTo>
                  <a:cubicBezTo>
                    <a:pt x="538" y="105"/>
                    <a:pt x="500" y="93"/>
                    <a:pt x="486" y="68"/>
                  </a:cubicBezTo>
                  <a:cubicBezTo>
                    <a:pt x="472" y="43"/>
                    <a:pt x="451" y="0"/>
                    <a:pt x="441" y="0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345440" y="4920120"/>
              <a:ext cx="365040" cy="1064880"/>
            </a:xfrm>
            <a:custGeom>
              <a:avLst/>
              <a:gdLst/>
              <a:ahLst/>
              <a:rect l="l" t="t" r="r" b="b"/>
              <a:pathLst>
                <a:path w="384" h="1117">
                  <a:moveTo>
                    <a:pt x="384" y="0"/>
                  </a:moveTo>
                  <a:cubicBezTo>
                    <a:pt x="361" y="45"/>
                    <a:pt x="338" y="90"/>
                    <a:pt x="302" y="135"/>
                  </a:cubicBezTo>
                  <a:cubicBezTo>
                    <a:pt x="266" y="180"/>
                    <a:pt x="207" y="220"/>
                    <a:pt x="167" y="270"/>
                  </a:cubicBezTo>
                  <a:cubicBezTo>
                    <a:pt x="127" y="320"/>
                    <a:pt x="88" y="375"/>
                    <a:pt x="62" y="435"/>
                  </a:cubicBezTo>
                  <a:cubicBezTo>
                    <a:pt x="36" y="495"/>
                    <a:pt x="18" y="571"/>
                    <a:pt x="9" y="630"/>
                  </a:cubicBezTo>
                  <a:cubicBezTo>
                    <a:pt x="0" y="689"/>
                    <a:pt x="8" y="727"/>
                    <a:pt x="9" y="787"/>
                  </a:cubicBezTo>
                  <a:cubicBezTo>
                    <a:pt x="10" y="847"/>
                    <a:pt x="0" y="935"/>
                    <a:pt x="17" y="990"/>
                  </a:cubicBezTo>
                  <a:cubicBezTo>
                    <a:pt x="34" y="1045"/>
                    <a:pt x="97" y="1096"/>
                    <a:pt x="114" y="111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490160" y="5025960"/>
              <a:ext cx="340560" cy="918000"/>
            </a:xfrm>
            <a:custGeom>
              <a:avLst/>
              <a:gdLst/>
              <a:ahLst/>
              <a:rect l="l" t="t" r="r" b="b"/>
              <a:pathLst>
                <a:path w="358" h="963">
                  <a:moveTo>
                    <a:pt x="301" y="0"/>
                  </a:moveTo>
                  <a:cubicBezTo>
                    <a:pt x="312" y="19"/>
                    <a:pt x="324" y="39"/>
                    <a:pt x="331" y="68"/>
                  </a:cubicBezTo>
                  <a:cubicBezTo>
                    <a:pt x="338" y="97"/>
                    <a:pt x="358" y="151"/>
                    <a:pt x="346" y="173"/>
                  </a:cubicBezTo>
                  <a:cubicBezTo>
                    <a:pt x="334" y="195"/>
                    <a:pt x="280" y="188"/>
                    <a:pt x="256" y="203"/>
                  </a:cubicBezTo>
                  <a:cubicBezTo>
                    <a:pt x="232" y="218"/>
                    <a:pt x="199" y="259"/>
                    <a:pt x="203" y="263"/>
                  </a:cubicBezTo>
                  <a:cubicBezTo>
                    <a:pt x="207" y="267"/>
                    <a:pt x="256" y="234"/>
                    <a:pt x="278" y="225"/>
                  </a:cubicBezTo>
                  <a:cubicBezTo>
                    <a:pt x="300" y="216"/>
                    <a:pt x="328" y="196"/>
                    <a:pt x="338" y="210"/>
                  </a:cubicBezTo>
                  <a:cubicBezTo>
                    <a:pt x="348" y="224"/>
                    <a:pt x="343" y="274"/>
                    <a:pt x="338" y="308"/>
                  </a:cubicBezTo>
                  <a:cubicBezTo>
                    <a:pt x="333" y="342"/>
                    <a:pt x="327" y="393"/>
                    <a:pt x="308" y="413"/>
                  </a:cubicBezTo>
                  <a:cubicBezTo>
                    <a:pt x="289" y="433"/>
                    <a:pt x="224" y="427"/>
                    <a:pt x="226" y="428"/>
                  </a:cubicBezTo>
                  <a:cubicBezTo>
                    <a:pt x="228" y="429"/>
                    <a:pt x="310" y="406"/>
                    <a:pt x="323" y="420"/>
                  </a:cubicBezTo>
                  <a:cubicBezTo>
                    <a:pt x="336" y="434"/>
                    <a:pt x="308" y="481"/>
                    <a:pt x="301" y="510"/>
                  </a:cubicBezTo>
                  <a:cubicBezTo>
                    <a:pt x="294" y="539"/>
                    <a:pt x="287" y="573"/>
                    <a:pt x="278" y="593"/>
                  </a:cubicBezTo>
                  <a:cubicBezTo>
                    <a:pt x="269" y="613"/>
                    <a:pt x="270" y="625"/>
                    <a:pt x="248" y="630"/>
                  </a:cubicBezTo>
                  <a:cubicBezTo>
                    <a:pt x="226" y="635"/>
                    <a:pt x="146" y="628"/>
                    <a:pt x="143" y="623"/>
                  </a:cubicBezTo>
                  <a:cubicBezTo>
                    <a:pt x="140" y="618"/>
                    <a:pt x="218" y="586"/>
                    <a:pt x="233" y="600"/>
                  </a:cubicBezTo>
                  <a:cubicBezTo>
                    <a:pt x="248" y="614"/>
                    <a:pt x="244" y="659"/>
                    <a:pt x="233" y="705"/>
                  </a:cubicBezTo>
                  <a:cubicBezTo>
                    <a:pt x="222" y="751"/>
                    <a:pt x="183" y="853"/>
                    <a:pt x="166" y="878"/>
                  </a:cubicBezTo>
                  <a:cubicBezTo>
                    <a:pt x="149" y="903"/>
                    <a:pt x="138" y="876"/>
                    <a:pt x="128" y="855"/>
                  </a:cubicBezTo>
                  <a:cubicBezTo>
                    <a:pt x="118" y="834"/>
                    <a:pt x="107" y="755"/>
                    <a:pt x="106" y="750"/>
                  </a:cubicBezTo>
                  <a:cubicBezTo>
                    <a:pt x="105" y="745"/>
                    <a:pt x="117" y="803"/>
                    <a:pt x="121" y="825"/>
                  </a:cubicBezTo>
                  <a:cubicBezTo>
                    <a:pt x="125" y="847"/>
                    <a:pt x="128" y="867"/>
                    <a:pt x="128" y="885"/>
                  </a:cubicBezTo>
                  <a:cubicBezTo>
                    <a:pt x="128" y="903"/>
                    <a:pt x="134" y="920"/>
                    <a:pt x="120" y="931"/>
                  </a:cubicBezTo>
                  <a:cubicBezTo>
                    <a:pt x="106" y="942"/>
                    <a:pt x="66" y="963"/>
                    <a:pt x="46" y="953"/>
                  </a:cubicBezTo>
                  <a:cubicBezTo>
                    <a:pt x="26" y="943"/>
                    <a:pt x="2" y="874"/>
                    <a:pt x="1" y="870"/>
                  </a:cubicBezTo>
                  <a:cubicBezTo>
                    <a:pt x="0" y="866"/>
                    <a:pt x="31" y="920"/>
                    <a:pt x="38" y="9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7920000" y="4200480"/>
            <a:ext cx="901800" cy="1900440"/>
            <a:chOff x="7920000" y="4200480"/>
            <a:chExt cx="901800" cy="1900440"/>
          </a:xfrm>
        </p:grpSpPr>
        <p:sp>
          <p:nvSpPr>
            <p:cNvPr id="648" name=""/>
            <p:cNvSpPr/>
            <p:nvPr/>
          </p:nvSpPr>
          <p:spPr>
            <a:xfrm>
              <a:off x="7920000" y="4200480"/>
              <a:ext cx="901800" cy="1900440"/>
            </a:xfrm>
            <a:custGeom>
              <a:avLst/>
              <a:gdLst/>
              <a:ahLst/>
              <a:rect l="l" t="t" r="r" b="b"/>
              <a:pathLst>
                <a:path w="947" h="1996">
                  <a:moveTo>
                    <a:pt x="355" y="14"/>
                  </a:moveTo>
                  <a:cubicBezTo>
                    <a:pt x="300" y="28"/>
                    <a:pt x="249" y="52"/>
                    <a:pt x="213" y="96"/>
                  </a:cubicBezTo>
                  <a:cubicBezTo>
                    <a:pt x="177" y="140"/>
                    <a:pt x="154" y="216"/>
                    <a:pt x="138" y="276"/>
                  </a:cubicBezTo>
                  <a:cubicBezTo>
                    <a:pt x="122" y="336"/>
                    <a:pt x="124" y="412"/>
                    <a:pt x="115" y="456"/>
                  </a:cubicBezTo>
                  <a:cubicBezTo>
                    <a:pt x="106" y="500"/>
                    <a:pt x="85" y="514"/>
                    <a:pt x="85" y="539"/>
                  </a:cubicBezTo>
                  <a:cubicBezTo>
                    <a:pt x="85" y="564"/>
                    <a:pt x="101" y="596"/>
                    <a:pt x="115" y="606"/>
                  </a:cubicBezTo>
                  <a:cubicBezTo>
                    <a:pt x="129" y="616"/>
                    <a:pt x="159" y="593"/>
                    <a:pt x="168" y="599"/>
                  </a:cubicBezTo>
                  <a:cubicBezTo>
                    <a:pt x="177" y="605"/>
                    <a:pt x="154" y="644"/>
                    <a:pt x="168" y="644"/>
                  </a:cubicBezTo>
                  <a:cubicBezTo>
                    <a:pt x="182" y="644"/>
                    <a:pt x="240" y="595"/>
                    <a:pt x="250" y="599"/>
                  </a:cubicBezTo>
                  <a:cubicBezTo>
                    <a:pt x="260" y="603"/>
                    <a:pt x="221" y="651"/>
                    <a:pt x="228" y="666"/>
                  </a:cubicBezTo>
                  <a:cubicBezTo>
                    <a:pt x="235" y="681"/>
                    <a:pt x="270" y="689"/>
                    <a:pt x="295" y="689"/>
                  </a:cubicBezTo>
                  <a:cubicBezTo>
                    <a:pt x="320" y="689"/>
                    <a:pt x="353" y="672"/>
                    <a:pt x="378" y="666"/>
                  </a:cubicBezTo>
                  <a:cubicBezTo>
                    <a:pt x="403" y="660"/>
                    <a:pt x="418" y="662"/>
                    <a:pt x="445" y="651"/>
                  </a:cubicBezTo>
                  <a:cubicBezTo>
                    <a:pt x="472" y="640"/>
                    <a:pt x="545" y="600"/>
                    <a:pt x="543" y="599"/>
                  </a:cubicBezTo>
                  <a:cubicBezTo>
                    <a:pt x="541" y="598"/>
                    <a:pt x="449" y="629"/>
                    <a:pt x="430" y="644"/>
                  </a:cubicBezTo>
                  <a:cubicBezTo>
                    <a:pt x="411" y="659"/>
                    <a:pt x="439" y="654"/>
                    <a:pt x="430" y="689"/>
                  </a:cubicBezTo>
                  <a:cubicBezTo>
                    <a:pt x="421" y="724"/>
                    <a:pt x="393" y="800"/>
                    <a:pt x="378" y="854"/>
                  </a:cubicBezTo>
                  <a:cubicBezTo>
                    <a:pt x="363" y="908"/>
                    <a:pt x="349" y="950"/>
                    <a:pt x="340" y="1011"/>
                  </a:cubicBezTo>
                  <a:cubicBezTo>
                    <a:pt x="331" y="1072"/>
                    <a:pt x="324" y="1160"/>
                    <a:pt x="325" y="1221"/>
                  </a:cubicBezTo>
                  <a:cubicBezTo>
                    <a:pt x="326" y="1282"/>
                    <a:pt x="334" y="1352"/>
                    <a:pt x="348" y="1379"/>
                  </a:cubicBezTo>
                  <a:cubicBezTo>
                    <a:pt x="362" y="1406"/>
                    <a:pt x="381" y="1377"/>
                    <a:pt x="408" y="1386"/>
                  </a:cubicBezTo>
                  <a:cubicBezTo>
                    <a:pt x="435" y="1395"/>
                    <a:pt x="481" y="1417"/>
                    <a:pt x="513" y="1431"/>
                  </a:cubicBezTo>
                  <a:cubicBezTo>
                    <a:pt x="545" y="1445"/>
                    <a:pt x="607" y="1471"/>
                    <a:pt x="603" y="1469"/>
                  </a:cubicBezTo>
                  <a:cubicBezTo>
                    <a:pt x="599" y="1467"/>
                    <a:pt x="517" y="1428"/>
                    <a:pt x="490" y="1416"/>
                  </a:cubicBezTo>
                  <a:cubicBezTo>
                    <a:pt x="463" y="1404"/>
                    <a:pt x="462" y="1398"/>
                    <a:pt x="438" y="1394"/>
                  </a:cubicBezTo>
                  <a:cubicBezTo>
                    <a:pt x="414" y="1390"/>
                    <a:pt x="372" y="1382"/>
                    <a:pt x="348" y="1394"/>
                  </a:cubicBezTo>
                  <a:cubicBezTo>
                    <a:pt x="324" y="1406"/>
                    <a:pt x="304" y="1447"/>
                    <a:pt x="295" y="1469"/>
                  </a:cubicBezTo>
                  <a:cubicBezTo>
                    <a:pt x="286" y="1491"/>
                    <a:pt x="306" y="1520"/>
                    <a:pt x="295" y="1529"/>
                  </a:cubicBezTo>
                  <a:cubicBezTo>
                    <a:pt x="284" y="1538"/>
                    <a:pt x="244" y="1542"/>
                    <a:pt x="228" y="1521"/>
                  </a:cubicBezTo>
                  <a:cubicBezTo>
                    <a:pt x="212" y="1500"/>
                    <a:pt x="212" y="1435"/>
                    <a:pt x="198" y="1401"/>
                  </a:cubicBezTo>
                  <a:cubicBezTo>
                    <a:pt x="184" y="1367"/>
                    <a:pt x="165" y="1345"/>
                    <a:pt x="145" y="1319"/>
                  </a:cubicBezTo>
                  <a:cubicBezTo>
                    <a:pt x="125" y="1293"/>
                    <a:pt x="80" y="1246"/>
                    <a:pt x="78" y="1244"/>
                  </a:cubicBezTo>
                  <a:cubicBezTo>
                    <a:pt x="76" y="1242"/>
                    <a:pt x="139" y="1308"/>
                    <a:pt x="130" y="1304"/>
                  </a:cubicBezTo>
                  <a:cubicBezTo>
                    <a:pt x="121" y="1300"/>
                    <a:pt x="35" y="1220"/>
                    <a:pt x="25" y="1221"/>
                  </a:cubicBezTo>
                  <a:cubicBezTo>
                    <a:pt x="15" y="1222"/>
                    <a:pt x="72" y="1306"/>
                    <a:pt x="70" y="1311"/>
                  </a:cubicBezTo>
                  <a:cubicBezTo>
                    <a:pt x="68" y="1316"/>
                    <a:pt x="20" y="1255"/>
                    <a:pt x="10" y="1251"/>
                  </a:cubicBezTo>
                  <a:cubicBezTo>
                    <a:pt x="0" y="1247"/>
                    <a:pt x="8" y="1274"/>
                    <a:pt x="10" y="1289"/>
                  </a:cubicBezTo>
                  <a:cubicBezTo>
                    <a:pt x="12" y="1304"/>
                    <a:pt x="11" y="1306"/>
                    <a:pt x="25" y="1341"/>
                  </a:cubicBezTo>
                  <a:cubicBezTo>
                    <a:pt x="39" y="1376"/>
                    <a:pt x="71" y="1460"/>
                    <a:pt x="93" y="1499"/>
                  </a:cubicBezTo>
                  <a:cubicBezTo>
                    <a:pt x="115" y="1538"/>
                    <a:pt x="140" y="1542"/>
                    <a:pt x="160" y="1574"/>
                  </a:cubicBezTo>
                  <a:cubicBezTo>
                    <a:pt x="180" y="1606"/>
                    <a:pt x="196" y="1664"/>
                    <a:pt x="213" y="1694"/>
                  </a:cubicBezTo>
                  <a:cubicBezTo>
                    <a:pt x="230" y="1724"/>
                    <a:pt x="246" y="1753"/>
                    <a:pt x="265" y="1754"/>
                  </a:cubicBezTo>
                  <a:cubicBezTo>
                    <a:pt x="284" y="1755"/>
                    <a:pt x="305" y="1710"/>
                    <a:pt x="325" y="1701"/>
                  </a:cubicBezTo>
                  <a:cubicBezTo>
                    <a:pt x="345" y="1692"/>
                    <a:pt x="368" y="1682"/>
                    <a:pt x="385" y="1701"/>
                  </a:cubicBezTo>
                  <a:cubicBezTo>
                    <a:pt x="402" y="1720"/>
                    <a:pt x="414" y="1780"/>
                    <a:pt x="430" y="1814"/>
                  </a:cubicBezTo>
                  <a:cubicBezTo>
                    <a:pt x="446" y="1848"/>
                    <a:pt x="481" y="1883"/>
                    <a:pt x="483" y="1904"/>
                  </a:cubicBezTo>
                  <a:cubicBezTo>
                    <a:pt x="485" y="1925"/>
                    <a:pt x="465" y="1935"/>
                    <a:pt x="445" y="1941"/>
                  </a:cubicBezTo>
                  <a:cubicBezTo>
                    <a:pt x="425" y="1947"/>
                    <a:pt x="388" y="1946"/>
                    <a:pt x="363" y="1941"/>
                  </a:cubicBezTo>
                  <a:cubicBezTo>
                    <a:pt x="338" y="1936"/>
                    <a:pt x="295" y="1904"/>
                    <a:pt x="295" y="1911"/>
                  </a:cubicBezTo>
                  <a:cubicBezTo>
                    <a:pt x="295" y="1918"/>
                    <a:pt x="323" y="1976"/>
                    <a:pt x="363" y="1986"/>
                  </a:cubicBezTo>
                  <a:cubicBezTo>
                    <a:pt x="403" y="1996"/>
                    <a:pt x="484" y="1985"/>
                    <a:pt x="535" y="1971"/>
                  </a:cubicBezTo>
                  <a:cubicBezTo>
                    <a:pt x="586" y="1957"/>
                    <a:pt x="628" y="1935"/>
                    <a:pt x="670" y="1904"/>
                  </a:cubicBezTo>
                  <a:cubicBezTo>
                    <a:pt x="712" y="1873"/>
                    <a:pt x="751" y="1840"/>
                    <a:pt x="790" y="1784"/>
                  </a:cubicBezTo>
                  <a:cubicBezTo>
                    <a:pt x="829" y="1728"/>
                    <a:pt x="878" y="1661"/>
                    <a:pt x="903" y="1566"/>
                  </a:cubicBezTo>
                  <a:cubicBezTo>
                    <a:pt x="928" y="1471"/>
                    <a:pt x="935" y="1316"/>
                    <a:pt x="940" y="1214"/>
                  </a:cubicBezTo>
                  <a:cubicBezTo>
                    <a:pt x="945" y="1112"/>
                    <a:pt x="947" y="1048"/>
                    <a:pt x="933" y="951"/>
                  </a:cubicBezTo>
                  <a:cubicBezTo>
                    <a:pt x="919" y="854"/>
                    <a:pt x="874" y="705"/>
                    <a:pt x="858" y="629"/>
                  </a:cubicBezTo>
                  <a:cubicBezTo>
                    <a:pt x="842" y="553"/>
                    <a:pt x="845" y="556"/>
                    <a:pt x="835" y="494"/>
                  </a:cubicBezTo>
                  <a:cubicBezTo>
                    <a:pt x="825" y="432"/>
                    <a:pt x="820" y="322"/>
                    <a:pt x="798" y="254"/>
                  </a:cubicBezTo>
                  <a:cubicBezTo>
                    <a:pt x="776" y="186"/>
                    <a:pt x="729" y="124"/>
                    <a:pt x="700" y="89"/>
                  </a:cubicBezTo>
                  <a:cubicBezTo>
                    <a:pt x="671" y="54"/>
                    <a:pt x="651" y="56"/>
                    <a:pt x="625" y="44"/>
                  </a:cubicBezTo>
                  <a:cubicBezTo>
                    <a:pt x="599" y="32"/>
                    <a:pt x="588" y="22"/>
                    <a:pt x="543" y="14"/>
                  </a:cubicBezTo>
                  <a:cubicBezTo>
                    <a:pt x="498" y="6"/>
                    <a:pt x="410" y="0"/>
                    <a:pt x="355" y="14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9" name=""/>
            <p:cNvGrpSpPr/>
            <p:nvPr/>
          </p:nvGrpSpPr>
          <p:grpSpPr>
            <a:xfrm>
              <a:off x="8076960" y="4808520"/>
              <a:ext cx="550800" cy="369000"/>
              <a:chOff x="8076960" y="4808520"/>
              <a:chExt cx="550800" cy="369000"/>
            </a:xfrm>
          </p:grpSpPr>
          <p:sp>
            <p:nvSpPr>
              <p:cNvPr id="650" name=""/>
              <p:cNvSpPr/>
              <p:nvPr/>
            </p:nvSpPr>
            <p:spPr>
              <a:xfrm>
                <a:off x="8076960" y="4853160"/>
                <a:ext cx="528120" cy="324360"/>
              </a:xfrm>
              <a:custGeom>
                <a:avLst/>
                <a:gdLst/>
                <a:ahLst/>
                <a:rect l="l" t="t" r="r" b="b"/>
                <a:pathLst>
                  <a:path w="555" h="341">
                    <a:moveTo>
                      <a:pt x="363" y="10"/>
                    </a:moveTo>
                    <a:cubicBezTo>
                      <a:pt x="343" y="20"/>
                      <a:pt x="349" y="105"/>
                      <a:pt x="333" y="130"/>
                    </a:cubicBezTo>
                    <a:cubicBezTo>
                      <a:pt x="317" y="155"/>
                      <a:pt x="285" y="155"/>
                      <a:pt x="265" y="160"/>
                    </a:cubicBezTo>
                    <a:cubicBezTo>
                      <a:pt x="245" y="165"/>
                      <a:pt x="238" y="162"/>
                      <a:pt x="213" y="160"/>
                    </a:cubicBezTo>
                    <a:cubicBezTo>
                      <a:pt x="188" y="158"/>
                      <a:pt x="147" y="140"/>
                      <a:pt x="115" y="145"/>
                    </a:cubicBezTo>
                    <a:cubicBezTo>
                      <a:pt x="83" y="150"/>
                      <a:pt x="36" y="166"/>
                      <a:pt x="18" y="190"/>
                    </a:cubicBezTo>
                    <a:cubicBezTo>
                      <a:pt x="0" y="214"/>
                      <a:pt x="10" y="263"/>
                      <a:pt x="10" y="288"/>
                    </a:cubicBezTo>
                    <a:cubicBezTo>
                      <a:pt x="10" y="313"/>
                      <a:pt x="7" y="341"/>
                      <a:pt x="18" y="340"/>
                    </a:cubicBezTo>
                    <a:cubicBezTo>
                      <a:pt x="29" y="339"/>
                      <a:pt x="47" y="295"/>
                      <a:pt x="78" y="280"/>
                    </a:cubicBezTo>
                    <a:cubicBezTo>
                      <a:pt x="109" y="265"/>
                      <a:pt x="161" y="246"/>
                      <a:pt x="205" y="250"/>
                    </a:cubicBezTo>
                    <a:cubicBezTo>
                      <a:pt x="249" y="254"/>
                      <a:pt x="295" y="298"/>
                      <a:pt x="340" y="303"/>
                    </a:cubicBezTo>
                    <a:cubicBezTo>
                      <a:pt x="385" y="308"/>
                      <a:pt x="444" y="301"/>
                      <a:pt x="475" y="280"/>
                    </a:cubicBezTo>
                    <a:cubicBezTo>
                      <a:pt x="506" y="259"/>
                      <a:pt x="517" y="205"/>
                      <a:pt x="528" y="175"/>
                    </a:cubicBezTo>
                    <a:cubicBezTo>
                      <a:pt x="539" y="145"/>
                      <a:pt x="555" y="117"/>
                      <a:pt x="543" y="100"/>
                    </a:cubicBezTo>
                    <a:cubicBezTo>
                      <a:pt x="531" y="83"/>
                      <a:pt x="477" y="85"/>
                      <a:pt x="453" y="70"/>
                    </a:cubicBezTo>
                    <a:cubicBezTo>
                      <a:pt x="429" y="55"/>
                      <a:pt x="383" y="0"/>
                      <a:pt x="363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412840" y="4808520"/>
                <a:ext cx="214920" cy="144720"/>
              </a:xfrm>
              <a:custGeom>
                <a:avLst/>
                <a:gdLst/>
                <a:ahLst/>
                <a:rect l="l" t="t" r="r" b="b"/>
                <a:pathLst>
                  <a:path w="226" h="152">
                    <a:moveTo>
                      <a:pt x="17" y="12"/>
                    </a:moveTo>
                    <a:cubicBezTo>
                      <a:pt x="0" y="28"/>
                      <a:pt x="24" y="80"/>
                      <a:pt x="40" y="102"/>
                    </a:cubicBezTo>
                    <a:cubicBezTo>
                      <a:pt x="56" y="124"/>
                      <a:pt x="86" y="142"/>
                      <a:pt x="115" y="147"/>
                    </a:cubicBezTo>
                    <a:cubicBezTo>
                      <a:pt x="144" y="152"/>
                      <a:pt x="198" y="149"/>
                      <a:pt x="212" y="132"/>
                    </a:cubicBezTo>
                    <a:cubicBezTo>
                      <a:pt x="226" y="115"/>
                      <a:pt x="216" y="63"/>
                      <a:pt x="197" y="42"/>
                    </a:cubicBezTo>
                    <a:cubicBezTo>
                      <a:pt x="178" y="21"/>
                      <a:pt x="130" y="10"/>
                      <a:pt x="100" y="5"/>
                    </a:cubicBezTo>
                    <a:cubicBezTo>
                      <a:pt x="70" y="0"/>
                      <a:pt x="34" y="11"/>
                      <a:pt x="17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2" name=""/>
            <p:cNvSpPr/>
            <p:nvPr/>
          </p:nvSpPr>
          <p:spPr>
            <a:xfrm>
              <a:off x="8394120" y="4384800"/>
              <a:ext cx="262800" cy="201600"/>
            </a:xfrm>
            <a:custGeom>
              <a:avLst/>
              <a:gdLst/>
              <a:ahLst/>
              <a:rect l="l" t="t" r="r" b="b"/>
              <a:pathLst>
                <a:path w="276" h="212">
                  <a:moveTo>
                    <a:pt x="0" y="7"/>
                  </a:moveTo>
                  <a:cubicBezTo>
                    <a:pt x="28" y="3"/>
                    <a:pt x="56" y="0"/>
                    <a:pt x="82" y="7"/>
                  </a:cubicBezTo>
                  <a:cubicBezTo>
                    <a:pt x="108" y="14"/>
                    <a:pt x="136" y="36"/>
                    <a:pt x="157" y="52"/>
                  </a:cubicBezTo>
                  <a:cubicBezTo>
                    <a:pt x="178" y="68"/>
                    <a:pt x="191" y="88"/>
                    <a:pt x="210" y="105"/>
                  </a:cubicBezTo>
                  <a:cubicBezTo>
                    <a:pt x="229" y="122"/>
                    <a:pt x="264" y="142"/>
                    <a:pt x="270" y="157"/>
                  </a:cubicBezTo>
                  <a:cubicBezTo>
                    <a:pt x="276" y="172"/>
                    <a:pt x="265" y="187"/>
                    <a:pt x="247" y="195"/>
                  </a:cubicBezTo>
                  <a:cubicBezTo>
                    <a:pt x="229" y="203"/>
                    <a:pt x="194" y="200"/>
                    <a:pt x="165" y="202"/>
                  </a:cubicBezTo>
                  <a:cubicBezTo>
                    <a:pt x="136" y="204"/>
                    <a:pt x="98" y="212"/>
                    <a:pt x="75" y="210"/>
                  </a:cubicBezTo>
                  <a:cubicBezTo>
                    <a:pt x="52" y="208"/>
                    <a:pt x="42" y="197"/>
                    <a:pt x="30" y="187"/>
                  </a:cubicBezTo>
                  <a:cubicBezTo>
                    <a:pt x="18" y="177"/>
                    <a:pt x="9" y="163"/>
                    <a:pt x="0" y="15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20823600">
              <a:off x="8424720" y="4429800"/>
              <a:ext cx="104760" cy="90360"/>
            </a:xfrm>
            <a:custGeom>
              <a:avLst/>
              <a:gdLst/>
              <a:ahLst/>
              <a:rect l="l" t="t" r="r" b="b"/>
              <a:pathLst>
                <a:path w="110" h="95">
                  <a:moveTo>
                    <a:pt x="110" y="50"/>
                  </a:moveTo>
                  <a:cubicBezTo>
                    <a:pt x="100" y="30"/>
                    <a:pt x="90" y="10"/>
                    <a:pt x="73" y="5"/>
                  </a:cubicBezTo>
                  <a:cubicBezTo>
                    <a:pt x="56" y="0"/>
                    <a:pt x="10" y="5"/>
                    <a:pt x="5" y="20"/>
                  </a:cubicBezTo>
                  <a:cubicBezTo>
                    <a:pt x="0" y="35"/>
                    <a:pt x="30" y="84"/>
                    <a:pt x="43" y="9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4" name=""/>
            <p:cNvGrpSpPr/>
            <p:nvPr/>
          </p:nvGrpSpPr>
          <p:grpSpPr>
            <a:xfrm>
              <a:off x="8128440" y="4505760"/>
              <a:ext cx="115920" cy="128160"/>
              <a:chOff x="8128440" y="4505760"/>
              <a:chExt cx="115920" cy="128160"/>
            </a:xfrm>
          </p:grpSpPr>
          <p:sp>
            <p:nvSpPr>
              <p:cNvPr id="655" name=""/>
              <p:cNvSpPr/>
              <p:nvPr/>
            </p:nvSpPr>
            <p:spPr>
              <a:xfrm>
                <a:off x="8128440" y="4505760"/>
                <a:ext cx="115920" cy="128160"/>
              </a:xfrm>
              <a:custGeom>
                <a:avLst/>
                <a:gdLst/>
                <a:ahLst/>
                <a:rect l="l" t="t" r="r" b="b"/>
                <a:pathLst>
                  <a:path w="122" h="135">
                    <a:moveTo>
                      <a:pt x="24" y="8"/>
                    </a:moveTo>
                    <a:cubicBezTo>
                      <a:pt x="12" y="32"/>
                      <a:pt x="0" y="56"/>
                      <a:pt x="1" y="75"/>
                    </a:cubicBezTo>
                    <a:cubicBezTo>
                      <a:pt x="2" y="94"/>
                      <a:pt x="15" y="111"/>
                      <a:pt x="31" y="120"/>
                    </a:cubicBezTo>
                    <a:cubicBezTo>
                      <a:pt x="47" y="129"/>
                      <a:pt x="84" y="135"/>
                      <a:pt x="99" y="128"/>
                    </a:cubicBezTo>
                    <a:cubicBezTo>
                      <a:pt x="114" y="121"/>
                      <a:pt x="120" y="96"/>
                      <a:pt x="121" y="75"/>
                    </a:cubicBezTo>
                    <a:cubicBezTo>
                      <a:pt x="122" y="54"/>
                      <a:pt x="114" y="27"/>
                      <a:pt x="106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158680" y="4541760"/>
                <a:ext cx="84600" cy="91080"/>
              </a:xfrm>
              <a:custGeom>
                <a:avLst/>
                <a:gdLst/>
                <a:ahLst/>
                <a:rect l="l" t="t" r="r" b="b"/>
                <a:pathLst>
                  <a:path w="89" h="96">
                    <a:moveTo>
                      <a:pt x="89" y="0"/>
                    </a:moveTo>
                    <a:cubicBezTo>
                      <a:pt x="83" y="33"/>
                      <a:pt x="81" y="68"/>
                      <a:pt x="67" y="82"/>
                    </a:cubicBezTo>
                    <a:cubicBezTo>
                      <a:pt x="53" y="96"/>
                      <a:pt x="14" y="88"/>
                      <a:pt x="7" y="82"/>
                    </a:cubicBezTo>
                    <a:cubicBezTo>
                      <a:pt x="0" y="76"/>
                      <a:pt x="19" y="53"/>
                      <a:pt x="22" y="45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7" name=""/>
            <p:cNvSpPr/>
            <p:nvPr/>
          </p:nvSpPr>
          <p:spPr>
            <a:xfrm>
              <a:off x="8400960" y="5105880"/>
              <a:ext cx="228600" cy="129240"/>
            </a:xfrm>
            <a:custGeom>
              <a:avLst/>
              <a:gdLst/>
              <a:ahLst/>
              <a:rect l="l" t="t" r="r" b="b"/>
              <a:pathLst>
                <a:path w="240" h="136">
                  <a:moveTo>
                    <a:pt x="240" y="0"/>
                  </a:moveTo>
                  <a:cubicBezTo>
                    <a:pt x="223" y="30"/>
                    <a:pt x="207" y="61"/>
                    <a:pt x="180" y="83"/>
                  </a:cubicBezTo>
                  <a:cubicBezTo>
                    <a:pt x="153" y="105"/>
                    <a:pt x="105" y="134"/>
                    <a:pt x="75" y="135"/>
                  </a:cubicBezTo>
                  <a:cubicBezTo>
                    <a:pt x="45" y="136"/>
                    <a:pt x="22" y="113"/>
                    <a:pt x="0" y="9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407440" y="5198040"/>
              <a:ext cx="228240" cy="129240"/>
            </a:xfrm>
            <a:custGeom>
              <a:avLst/>
              <a:gdLst/>
              <a:ahLst/>
              <a:rect l="l" t="t" r="r" b="b"/>
              <a:pathLst>
                <a:path w="240" h="136">
                  <a:moveTo>
                    <a:pt x="240" y="0"/>
                  </a:moveTo>
                  <a:cubicBezTo>
                    <a:pt x="223" y="30"/>
                    <a:pt x="207" y="61"/>
                    <a:pt x="180" y="83"/>
                  </a:cubicBezTo>
                  <a:cubicBezTo>
                    <a:pt x="153" y="105"/>
                    <a:pt x="105" y="134"/>
                    <a:pt x="75" y="135"/>
                  </a:cubicBezTo>
                  <a:cubicBezTo>
                    <a:pt x="45" y="136"/>
                    <a:pt x="22" y="113"/>
                    <a:pt x="0" y="9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407440" y="5291640"/>
              <a:ext cx="228240" cy="129240"/>
            </a:xfrm>
            <a:custGeom>
              <a:avLst/>
              <a:gdLst/>
              <a:ahLst/>
              <a:rect l="l" t="t" r="r" b="b"/>
              <a:pathLst>
                <a:path w="240" h="136">
                  <a:moveTo>
                    <a:pt x="240" y="0"/>
                  </a:moveTo>
                  <a:cubicBezTo>
                    <a:pt x="223" y="30"/>
                    <a:pt x="207" y="61"/>
                    <a:pt x="180" y="83"/>
                  </a:cubicBezTo>
                  <a:cubicBezTo>
                    <a:pt x="153" y="105"/>
                    <a:pt x="105" y="134"/>
                    <a:pt x="75" y="135"/>
                  </a:cubicBezTo>
                  <a:cubicBezTo>
                    <a:pt x="45" y="136"/>
                    <a:pt x="22" y="113"/>
                    <a:pt x="0" y="9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308440" y="4713480"/>
              <a:ext cx="487440" cy="1363680"/>
            </a:xfrm>
            <a:custGeom>
              <a:avLst/>
              <a:gdLst/>
              <a:ahLst/>
              <a:rect l="l" t="t" r="r" b="b"/>
              <a:pathLst>
                <a:path w="512" h="1432">
                  <a:moveTo>
                    <a:pt x="397" y="0"/>
                  </a:moveTo>
                  <a:cubicBezTo>
                    <a:pt x="409" y="70"/>
                    <a:pt x="421" y="140"/>
                    <a:pt x="435" y="202"/>
                  </a:cubicBezTo>
                  <a:cubicBezTo>
                    <a:pt x="449" y="264"/>
                    <a:pt x="468" y="301"/>
                    <a:pt x="480" y="375"/>
                  </a:cubicBezTo>
                  <a:cubicBezTo>
                    <a:pt x="492" y="449"/>
                    <a:pt x="512" y="550"/>
                    <a:pt x="510" y="645"/>
                  </a:cubicBezTo>
                  <a:cubicBezTo>
                    <a:pt x="508" y="740"/>
                    <a:pt x="481" y="865"/>
                    <a:pt x="465" y="945"/>
                  </a:cubicBezTo>
                  <a:cubicBezTo>
                    <a:pt x="449" y="1025"/>
                    <a:pt x="438" y="1070"/>
                    <a:pt x="412" y="1125"/>
                  </a:cubicBezTo>
                  <a:cubicBezTo>
                    <a:pt x="386" y="1180"/>
                    <a:pt x="349" y="1233"/>
                    <a:pt x="307" y="1275"/>
                  </a:cubicBezTo>
                  <a:cubicBezTo>
                    <a:pt x="265" y="1317"/>
                    <a:pt x="208" y="1354"/>
                    <a:pt x="157" y="1380"/>
                  </a:cubicBezTo>
                  <a:cubicBezTo>
                    <a:pt x="106" y="1406"/>
                    <a:pt x="33" y="1421"/>
                    <a:pt x="0" y="1432"/>
                  </a:cubicBez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61" name="" descr=""/>
          <p:cNvPicPr/>
          <p:nvPr/>
        </p:nvPicPr>
        <p:blipFill>
          <a:blip r:embed="rId6"/>
          <a:stretch/>
        </p:blipFill>
        <p:spPr>
          <a:xfrm>
            <a:off x="307800" y="4290840"/>
            <a:ext cx="804960" cy="48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5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6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80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60000" y="139680"/>
            <a:ext cx="75438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cc"/>
                </a:solidFill>
                <a:latin typeface="Eras Bold ITC"/>
              </a:rPr>
              <a:t>4 - BIOGEOGRAPHY</a:t>
            </a: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095480" y="899640"/>
            <a:ext cx="61754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Franklin Gothic Heavy"/>
              </a:rPr>
              <a:t>GEOGRAPHIC DISTRIBUTION OF ORGANISMS</a:t>
            </a:r>
            <a:endParaRPr b="0" lang="en-US" sz="32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043600" y="1663200"/>
            <a:ext cx="3854160" cy="40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Franklin Gothic Heavy"/>
                <a:ea typeface="Arial"/>
              </a:rPr>
              <a:t>organisms living widely apart (even different continents) may be similar because they share a common ancestor</a:t>
            </a:r>
            <a:endParaRPr b="0" lang="en-US" sz="3200" spc="-1" strike="noStrike">
              <a:solidFill>
                <a:srgbClr val="00ffff"/>
              </a:solidFill>
              <a:latin typeface="Franklin Gothic Heavy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814320" y="2017800"/>
            <a:ext cx="4141080" cy="4829040"/>
            <a:chOff x="814320" y="2017800"/>
            <a:chExt cx="4141080" cy="4829040"/>
          </a:xfrm>
        </p:grpSpPr>
        <p:pic>
          <p:nvPicPr>
            <p:cNvPr id="666" name="" descr=""/>
            <p:cNvPicPr/>
            <p:nvPr/>
          </p:nvPicPr>
          <p:blipFill>
            <a:blip r:embed="rId2"/>
            <a:stretch/>
          </p:blipFill>
          <p:spPr>
            <a:xfrm>
              <a:off x="814320" y="2017800"/>
              <a:ext cx="4129200" cy="48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"/>
            <p:cNvSpPr/>
            <p:nvPr/>
          </p:nvSpPr>
          <p:spPr>
            <a:xfrm>
              <a:off x="3950280" y="2914560"/>
              <a:ext cx="1005120" cy="23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eaver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uskr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eaver and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uskr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oypu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apybar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oypu and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apybar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630600" y="2886120"/>
              <a:ext cx="1295280" cy="23875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5005440" y="5635800"/>
            <a:ext cx="357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920" indent="-331920">
              <a:lnSpc>
                <a:spcPct val="100000"/>
              </a:lnSpc>
              <a:buClr>
                <a:srgbClr val="ffff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Franklin Gothic Heavy"/>
              </a:rPr>
              <a:t>Shows common ances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3"/>
          <a:stretch/>
        </p:blipFill>
        <p:spPr>
          <a:xfrm>
            <a:off x="4255920" y="1770120"/>
            <a:ext cx="804960" cy="48240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4"/>
          <a:stretch/>
        </p:blipFill>
        <p:spPr>
          <a:xfrm>
            <a:off x="4233960" y="5718240"/>
            <a:ext cx="804600" cy="48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82720" y="139320"/>
            <a:ext cx="8261280" cy="8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cc"/>
                </a:solidFill>
                <a:latin typeface="Eras Bold ITC"/>
              </a:rPr>
              <a:t>5 - OBSERVABLE EVENTS</a:t>
            </a: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47320" y="1436400"/>
            <a:ext cx="79153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  <a:ea typeface="Arial"/>
              </a:rPr>
              <a:t>Some changes in species have been observed and studied: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3568680" y="5281560"/>
            <a:ext cx="1255680" cy="909720"/>
            <a:chOff x="3568680" y="5281560"/>
            <a:chExt cx="1255680" cy="909720"/>
          </a:xfrm>
        </p:grpSpPr>
        <p:sp>
          <p:nvSpPr>
            <p:cNvPr id="675" name=""/>
            <p:cNvSpPr/>
            <p:nvPr/>
          </p:nvSpPr>
          <p:spPr>
            <a:xfrm>
              <a:off x="3568680" y="5281560"/>
              <a:ext cx="1255680" cy="909720"/>
            </a:xfrm>
            <a:custGeom>
              <a:avLst/>
              <a:gdLst/>
              <a:ahLst/>
              <a:rect l="l" t="t" r="r" b="b"/>
              <a:pathLst>
                <a:path w="1667" h="1061">
                  <a:moveTo>
                    <a:pt x="1652" y="354"/>
                  </a:moveTo>
                  <a:cubicBezTo>
                    <a:pt x="1637" y="328"/>
                    <a:pt x="1610" y="272"/>
                    <a:pt x="1562" y="228"/>
                  </a:cubicBezTo>
                  <a:cubicBezTo>
                    <a:pt x="1514" y="184"/>
                    <a:pt x="1432" y="122"/>
                    <a:pt x="1367" y="90"/>
                  </a:cubicBezTo>
                  <a:cubicBezTo>
                    <a:pt x="1302" y="58"/>
                    <a:pt x="1235" y="50"/>
                    <a:pt x="1169" y="36"/>
                  </a:cubicBezTo>
                  <a:cubicBezTo>
                    <a:pt x="1103" y="22"/>
                    <a:pt x="1044" y="6"/>
                    <a:pt x="971" y="3"/>
                  </a:cubicBezTo>
                  <a:cubicBezTo>
                    <a:pt x="898" y="0"/>
                    <a:pt x="803" y="8"/>
                    <a:pt x="731" y="18"/>
                  </a:cubicBezTo>
                  <a:cubicBezTo>
                    <a:pt x="659" y="28"/>
                    <a:pt x="611" y="34"/>
                    <a:pt x="536" y="66"/>
                  </a:cubicBezTo>
                  <a:cubicBezTo>
                    <a:pt x="461" y="98"/>
                    <a:pt x="351" y="162"/>
                    <a:pt x="278" y="213"/>
                  </a:cubicBezTo>
                  <a:cubicBezTo>
                    <a:pt x="205" y="264"/>
                    <a:pt x="143" y="324"/>
                    <a:pt x="98" y="375"/>
                  </a:cubicBezTo>
                  <a:cubicBezTo>
                    <a:pt x="53" y="426"/>
                    <a:pt x="22" y="492"/>
                    <a:pt x="11" y="519"/>
                  </a:cubicBezTo>
                  <a:cubicBezTo>
                    <a:pt x="0" y="546"/>
                    <a:pt x="21" y="538"/>
                    <a:pt x="29" y="537"/>
                  </a:cubicBezTo>
                  <a:cubicBezTo>
                    <a:pt x="37" y="536"/>
                    <a:pt x="50" y="513"/>
                    <a:pt x="62" y="513"/>
                  </a:cubicBezTo>
                  <a:cubicBezTo>
                    <a:pt x="74" y="513"/>
                    <a:pt x="67" y="526"/>
                    <a:pt x="101" y="534"/>
                  </a:cubicBezTo>
                  <a:cubicBezTo>
                    <a:pt x="135" y="542"/>
                    <a:pt x="236" y="559"/>
                    <a:pt x="269" y="564"/>
                  </a:cubicBezTo>
                  <a:cubicBezTo>
                    <a:pt x="302" y="569"/>
                    <a:pt x="283" y="555"/>
                    <a:pt x="302" y="564"/>
                  </a:cubicBezTo>
                  <a:cubicBezTo>
                    <a:pt x="321" y="573"/>
                    <a:pt x="351" y="598"/>
                    <a:pt x="383" y="621"/>
                  </a:cubicBezTo>
                  <a:cubicBezTo>
                    <a:pt x="415" y="644"/>
                    <a:pt x="463" y="676"/>
                    <a:pt x="494" y="702"/>
                  </a:cubicBezTo>
                  <a:cubicBezTo>
                    <a:pt x="525" y="728"/>
                    <a:pt x="548" y="745"/>
                    <a:pt x="572" y="780"/>
                  </a:cubicBezTo>
                  <a:cubicBezTo>
                    <a:pt x="596" y="815"/>
                    <a:pt x="621" y="874"/>
                    <a:pt x="638" y="912"/>
                  </a:cubicBezTo>
                  <a:cubicBezTo>
                    <a:pt x="655" y="950"/>
                    <a:pt x="668" y="984"/>
                    <a:pt x="677" y="1008"/>
                  </a:cubicBezTo>
                  <a:cubicBezTo>
                    <a:pt x="686" y="1032"/>
                    <a:pt x="672" y="1061"/>
                    <a:pt x="692" y="1056"/>
                  </a:cubicBezTo>
                  <a:cubicBezTo>
                    <a:pt x="712" y="1051"/>
                    <a:pt x="767" y="1011"/>
                    <a:pt x="800" y="978"/>
                  </a:cubicBezTo>
                  <a:cubicBezTo>
                    <a:pt x="833" y="945"/>
                    <a:pt x="854" y="885"/>
                    <a:pt x="893" y="858"/>
                  </a:cubicBezTo>
                  <a:cubicBezTo>
                    <a:pt x="932" y="831"/>
                    <a:pt x="985" y="823"/>
                    <a:pt x="1037" y="816"/>
                  </a:cubicBezTo>
                  <a:cubicBezTo>
                    <a:pt x="1089" y="809"/>
                    <a:pt x="1168" y="815"/>
                    <a:pt x="1205" y="816"/>
                  </a:cubicBezTo>
                  <a:cubicBezTo>
                    <a:pt x="1242" y="817"/>
                    <a:pt x="1249" y="832"/>
                    <a:pt x="1259" y="825"/>
                  </a:cubicBezTo>
                  <a:cubicBezTo>
                    <a:pt x="1269" y="818"/>
                    <a:pt x="1253" y="792"/>
                    <a:pt x="1265" y="774"/>
                  </a:cubicBezTo>
                  <a:cubicBezTo>
                    <a:pt x="1277" y="756"/>
                    <a:pt x="1302" y="730"/>
                    <a:pt x="1328" y="717"/>
                  </a:cubicBezTo>
                  <a:cubicBezTo>
                    <a:pt x="1354" y="704"/>
                    <a:pt x="1408" y="709"/>
                    <a:pt x="1424" y="696"/>
                  </a:cubicBezTo>
                  <a:cubicBezTo>
                    <a:pt x="1440" y="683"/>
                    <a:pt x="1429" y="660"/>
                    <a:pt x="1427" y="636"/>
                  </a:cubicBezTo>
                  <a:cubicBezTo>
                    <a:pt x="1425" y="612"/>
                    <a:pt x="1414" y="579"/>
                    <a:pt x="1412" y="549"/>
                  </a:cubicBezTo>
                  <a:cubicBezTo>
                    <a:pt x="1410" y="519"/>
                    <a:pt x="1400" y="481"/>
                    <a:pt x="1412" y="453"/>
                  </a:cubicBezTo>
                  <a:cubicBezTo>
                    <a:pt x="1424" y="425"/>
                    <a:pt x="1455" y="390"/>
                    <a:pt x="1487" y="378"/>
                  </a:cubicBezTo>
                  <a:cubicBezTo>
                    <a:pt x="1519" y="366"/>
                    <a:pt x="1574" y="383"/>
                    <a:pt x="1601" y="384"/>
                  </a:cubicBezTo>
                  <a:cubicBezTo>
                    <a:pt x="1628" y="385"/>
                    <a:pt x="1644" y="391"/>
                    <a:pt x="1652" y="384"/>
                  </a:cubicBezTo>
                  <a:cubicBezTo>
                    <a:pt x="1660" y="377"/>
                    <a:pt x="1667" y="380"/>
                    <a:pt x="1652" y="354"/>
                  </a:cubicBezTo>
                  <a:close/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08240" y="5292720"/>
              <a:ext cx="184320" cy="689040"/>
            </a:xfrm>
            <a:custGeom>
              <a:avLst/>
              <a:gdLst/>
              <a:ahLst/>
              <a:rect l="l" t="t" r="r" b="b"/>
              <a:pathLst>
                <a:path w="116" h="434">
                  <a:moveTo>
                    <a:pt x="17" y="0"/>
                  </a:moveTo>
                  <a:cubicBezTo>
                    <a:pt x="9" y="15"/>
                    <a:pt x="1" y="29"/>
                    <a:pt x="1" y="46"/>
                  </a:cubicBezTo>
                  <a:cubicBezTo>
                    <a:pt x="0" y="62"/>
                    <a:pt x="7" y="82"/>
                    <a:pt x="13" y="99"/>
                  </a:cubicBezTo>
                  <a:cubicBezTo>
                    <a:pt x="20" y="115"/>
                    <a:pt x="34" y="130"/>
                    <a:pt x="42" y="146"/>
                  </a:cubicBezTo>
                  <a:cubicBezTo>
                    <a:pt x="50" y="162"/>
                    <a:pt x="55" y="179"/>
                    <a:pt x="62" y="197"/>
                  </a:cubicBezTo>
                  <a:cubicBezTo>
                    <a:pt x="69" y="215"/>
                    <a:pt x="78" y="234"/>
                    <a:pt x="87" y="254"/>
                  </a:cubicBezTo>
                  <a:cubicBezTo>
                    <a:pt x="96" y="274"/>
                    <a:pt x="116" y="296"/>
                    <a:pt x="116" y="315"/>
                  </a:cubicBezTo>
                  <a:cubicBezTo>
                    <a:pt x="116" y="333"/>
                    <a:pt x="98" y="351"/>
                    <a:pt x="85" y="364"/>
                  </a:cubicBezTo>
                  <a:cubicBezTo>
                    <a:pt x="73" y="377"/>
                    <a:pt x="51" y="382"/>
                    <a:pt x="38" y="394"/>
                  </a:cubicBezTo>
                  <a:cubicBezTo>
                    <a:pt x="25" y="406"/>
                    <a:pt x="13" y="426"/>
                    <a:pt x="7" y="434"/>
                  </a:cubicBez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611520" y="5570640"/>
              <a:ext cx="484200" cy="158760"/>
            </a:xfrm>
            <a:custGeom>
              <a:avLst/>
              <a:gdLst/>
              <a:ahLst/>
              <a:rect l="l" t="t" r="r" b="b"/>
              <a:pathLst>
                <a:path w="507" h="160">
                  <a:moveTo>
                    <a:pt x="0" y="160"/>
                  </a:moveTo>
                  <a:cubicBezTo>
                    <a:pt x="24" y="139"/>
                    <a:pt x="49" y="119"/>
                    <a:pt x="90" y="103"/>
                  </a:cubicBezTo>
                  <a:cubicBezTo>
                    <a:pt x="131" y="87"/>
                    <a:pt x="192" y="79"/>
                    <a:pt x="246" y="64"/>
                  </a:cubicBezTo>
                  <a:cubicBezTo>
                    <a:pt x="300" y="49"/>
                    <a:pt x="374" y="20"/>
                    <a:pt x="417" y="10"/>
                  </a:cubicBezTo>
                  <a:cubicBezTo>
                    <a:pt x="460" y="0"/>
                    <a:pt x="492" y="2"/>
                    <a:pt x="507" y="1"/>
                  </a:cubicBez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170240" y="5411880"/>
              <a:ext cx="414360" cy="214200"/>
            </a:xfrm>
            <a:custGeom>
              <a:avLst/>
              <a:gdLst/>
              <a:ahLst/>
              <a:rect l="l" t="t" r="r" b="b"/>
              <a:pathLst>
                <a:path w="549" h="249">
                  <a:moveTo>
                    <a:pt x="505" y="207"/>
                  </a:moveTo>
                  <a:cubicBezTo>
                    <a:pt x="478" y="179"/>
                    <a:pt x="425" y="102"/>
                    <a:pt x="382" y="69"/>
                  </a:cubicBezTo>
                  <a:cubicBezTo>
                    <a:pt x="339" y="36"/>
                    <a:pt x="292" y="18"/>
                    <a:pt x="244" y="9"/>
                  </a:cubicBezTo>
                  <a:cubicBezTo>
                    <a:pt x="196" y="0"/>
                    <a:pt x="131" y="0"/>
                    <a:pt x="91" y="12"/>
                  </a:cubicBezTo>
                  <a:cubicBezTo>
                    <a:pt x="51" y="24"/>
                    <a:pt x="2" y="46"/>
                    <a:pt x="1" y="81"/>
                  </a:cubicBezTo>
                  <a:cubicBezTo>
                    <a:pt x="0" y="116"/>
                    <a:pt x="40" y="201"/>
                    <a:pt x="85" y="225"/>
                  </a:cubicBezTo>
                  <a:cubicBezTo>
                    <a:pt x="130" y="249"/>
                    <a:pt x="208" y="224"/>
                    <a:pt x="271" y="225"/>
                  </a:cubicBezTo>
                  <a:cubicBezTo>
                    <a:pt x="334" y="226"/>
                    <a:pt x="418" y="229"/>
                    <a:pt x="463" y="231"/>
                  </a:cubicBezTo>
                  <a:cubicBezTo>
                    <a:pt x="508" y="233"/>
                    <a:pt x="539" y="245"/>
                    <a:pt x="544" y="240"/>
                  </a:cubicBezTo>
                  <a:cubicBezTo>
                    <a:pt x="549" y="235"/>
                    <a:pt x="532" y="235"/>
                    <a:pt x="505" y="207"/>
                  </a:cubicBezTo>
                  <a:close/>
                </a:path>
              </a:pathLst>
            </a:custGeom>
            <a:solidFill>
              <a:srgbClr val="00ac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226040" y="5450040"/>
              <a:ext cx="117360" cy="137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252680" y="5477040"/>
              <a:ext cx="6192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681" name=""/>
          <p:cNvGraphicFramePr/>
          <p:nvPr/>
        </p:nvGraphicFramePr>
        <p:xfrm>
          <a:off x="1371600" y="3214800"/>
          <a:ext cx="7459560" cy="3216240"/>
        </p:xfrm>
        <a:graphic>
          <a:graphicData uri="http://schemas.openxmlformats.org/drawingml/2006/table">
            <a:tbl>
              <a:tblPr/>
              <a:tblGrid>
                <a:gridCol w="3729600"/>
                <a:gridCol w="372996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ff"/>
                          </a:solidFill>
                          <a:latin typeface="Franklin Gothic Heavy"/>
                        </a:rPr>
                        <a:t>Peter &amp; Rosemary Grant’s Study of Beak Size Shift in Darwin’s Finch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ff"/>
                          </a:solidFill>
                          <a:latin typeface="Franklin Gothic Heavy"/>
                        </a:rPr>
                        <a:t>H. Kettlewell’s Study of Peppered Moth Color Shif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82" name=""/>
          <p:cNvGrpSpPr/>
          <p:nvPr/>
        </p:nvGrpSpPr>
        <p:grpSpPr>
          <a:xfrm>
            <a:off x="1562040" y="5292720"/>
            <a:ext cx="1255680" cy="909720"/>
            <a:chOff x="1562040" y="5292720"/>
            <a:chExt cx="1255680" cy="909720"/>
          </a:xfrm>
        </p:grpSpPr>
        <p:grpSp>
          <p:nvGrpSpPr>
            <p:cNvPr id="683" name=""/>
            <p:cNvGrpSpPr/>
            <p:nvPr/>
          </p:nvGrpSpPr>
          <p:grpSpPr>
            <a:xfrm>
              <a:off x="1562040" y="5292720"/>
              <a:ext cx="1255680" cy="909720"/>
              <a:chOff x="1562040" y="5292720"/>
              <a:chExt cx="1255680" cy="909720"/>
            </a:xfrm>
          </p:grpSpPr>
          <p:sp>
            <p:nvSpPr>
              <p:cNvPr id="684" name=""/>
              <p:cNvSpPr/>
              <p:nvPr/>
            </p:nvSpPr>
            <p:spPr>
              <a:xfrm>
                <a:off x="1562040" y="5292720"/>
                <a:ext cx="1255680" cy="909720"/>
              </a:xfrm>
              <a:custGeom>
                <a:avLst/>
                <a:gdLst/>
                <a:ahLst/>
                <a:rect l="l" t="t" r="r" b="b"/>
                <a:pathLst>
                  <a:path w="1667" h="1061">
                    <a:moveTo>
                      <a:pt x="1652" y="354"/>
                    </a:moveTo>
                    <a:cubicBezTo>
                      <a:pt x="1637" y="328"/>
                      <a:pt x="1610" y="272"/>
                      <a:pt x="1562" y="228"/>
                    </a:cubicBezTo>
                    <a:cubicBezTo>
                      <a:pt x="1514" y="184"/>
                      <a:pt x="1432" y="122"/>
                      <a:pt x="1367" y="90"/>
                    </a:cubicBezTo>
                    <a:cubicBezTo>
                      <a:pt x="1302" y="58"/>
                      <a:pt x="1235" y="50"/>
                      <a:pt x="1169" y="36"/>
                    </a:cubicBezTo>
                    <a:cubicBezTo>
                      <a:pt x="1103" y="22"/>
                      <a:pt x="1044" y="6"/>
                      <a:pt x="971" y="3"/>
                    </a:cubicBezTo>
                    <a:cubicBezTo>
                      <a:pt x="898" y="0"/>
                      <a:pt x="803" y="8"/>
                      <a:pt x="731" y="18"/>
                    </a:cubicBezTo>
                    <a:cubicBezTo>
                      <a:pt x="659" y="28"/>
                      <a:pt x="611" y="34"/>
                      <a:pt x="536" y="66"/>
                    </a:cubicBezTo>
                    <a:cubicBezTo>
                      <a:pt x="461" y="98"/>
                      <a:pt x="351" y="162"/>
                      <a:pt x="278" y="213"/>
                    </a:cubicBezTo>
                    <a:cubicBezTo>
                      <a:pt x="205" y="264"/>
                      <a:pt x="143" y="324"/>
                      <a:pt x="98" y="375"/>
                    </a:cubicBezTo>
                    <a:cubicBezTo>
                      <a:pt x="53" y="426"/>
                      <a:pt x="22" y="492"/>
                      <a:pt x="11" y="519"/>
                    </a:cubicBezTo>
                    <a:cubicBezTo>
                      <a:pt x="0" y="546"/>
                      <a:pt x="21" y="538"/>
                      <a:pt x="29" y="537"/>
                    </a:cubicBezTo>
                    <a:cubicBezTo>
                      <a:pt x="37" y="536"/>
                      <a:pt x="50" y="513"/>
                      <a:pt x="62" y="513"/>
                    </a:cubicBezTo>
                    <a:cubicBezTo>
                      <a:pt x="74" y="513"/>
                      <a:pt x="67" y="526"/>
                      <a:pt x="101" y="534"/>
                    </a:cubicBezTo>
                    <a:cubicBezTo>
                      <a:pt x="135" y="542"/>
                      <a:pt x="236" y="559"/>
                      <a:pt x="269" y="564"/>
                    </a:cubicBezTo>
                    <a:cubicBezTo>
                      <a:pt x="302" y="569"/>
                      <a:pt x="283" y="555"/>
                      <a:pt x="302" y="564"/>
                    </a:cubicBezTo>
                    <a:cubicBezTo>
                      <a:pt x="321" y="573"/>
                      <a:pt x="351" y="598"/>
                      <a:pt x="383" y="621"/>
                    </a:cubicBezTo>
                    <a:cubicBezTo>
                      <a:pt x="415" y="644"/>
                      <a:pt x="463" y="676"/>
                      <a:pt x="494" y="702"/>
                    </a:cubicBezTo>
                    <a:cubicBezTo>
                      <a:pt x="525" y="728"/>
                      <a:pt x="548" y="745"/>
                      <a:pt x="572" y="780"/>
                    </a:cubicBezTo>
                    <a:cubicBezTo>
                      <a:pt x="596" y="815"/>
                      <a:pt x="621" y="874"/>
                      <a:pt x="638" y="912"/>
                    </a:cubicBezTo>
                    <a:cubicBezTo>
                      <a:pt x="655" y="950"/>
                      <a:pt x="668" y="984"/>
                      <a:pt x="677" y="1008"/>
                    </a:cubicBezTo>
                    <a:cubicBezTo>
                      <a:pt x="686" y="1032"/>
                      <a:pt x="672" y="1061"/>
                      <a:pt x="692" y="1056"/>
                    </a:cubicBezTo>
                    <a:cubicBezTo>
                      <a:pt x="712" y="1051"/>
                      <a:pt x="767" y="1011"/>
                      <a:pt x="800" y="978"/>
                    </a:cubicBezTo>
                    <a:cubicBezTo>
                      <a:pt x="833" y="945"/>
                      <a:pt x="854" y="885"/>
                      <a:pt x="893" y="858"/>
                    </a:cubicBezTo>
                    <a:cubicBezTo>
                      <a:pt x="932" y="831"/>
                      <a:pt x="985" y="823"/>
                      <a:pt x="1037" y="816"/>
                    </a:cubicBezTo>
                    <a:cubicBezTo>
                      <a:pt x="1089" y="809"/>
                      <a:pt x="1168" y="815"/>
                      <a:pt x="1205" y="816"/>
                    </a:cubicBezTo>
                    <a:cubicBezTo>
                      <a:pt x="1242" y="817"/>
                      <a:pt x="1249" y="832"/>
                      <a:pt x="1259" y="825"/>
                    </a:cubicBezTo>
                    <a:cubicBezTo>
                      <a:pt x="1269" y="818"/>
                      <a:pt x="1253" y="792"/>
                      <a:pt x="1265" y="774"/>
                    </a:cubicBezTo>
                    <a:cubicBezTo>
                      <a:pt x="1277" y="756"/>
                      <a:pt x="1302" y="730"/>
                      <a:pt x="1328" y="717"/>
                    </a:cubicBezTo>
                    <a:cubicBezTo>
                      <a:pt x="1354" y="704"/>
                      <a:pt x="1408" y="709"/>
                      <a:pt x="1424" y="696"/>
                    </a:cubicBezTo>
                    <a:cubicBezTo>
                      <a:pt x="1440" y="683"/>
                      <a:pt x="1429" y="660"/>
                      <a:pt x="1427" y="636"/>
                    </a:cubicBezTo>
                    <a:cubicBezTo>
                      <a:pt x="1425" y="612"/>
                      <a:pt x="1414" y="579"/>
                      <a:pt x="1412" y="549"/>
                    </a:cubicBezTo>
                    <a:cubicBezTo>
                      <a:pt x="1410" y="519"/>
                      <a:pt x="1400" y="481"/>
                      <a:pt x="1412" y="453"/>
                    </a:cubicBezTo>
                    <a:cubicBezTo>
                      <a:pt x="1424" y="425"/>
                      <a:pt x="1455" y="390"/>
                      <a:pt x="1487" y="378"/>
                    </a:cubicBezTo>
                    <a:cubicBezTo>
                      <a:pt x="1519" y="366"/>
                      <a:pt x="1574" y="383"/>
                      <a:pt x="1601" y="384"/>
                    </a:cubicBezTo>
                    <a:cubicBezTo>
                      <a:pt x="1628" y="385"/>
                      <a:pt x="1644" y="391"/>
                      <a:pt x="1652" y="384"/>
                    </a:cubicBezTo>
                    <a:cubicBezTo>
                      <a:pt x="1660" y="377"/>
                      <a:pt x="1667" y="380"/>
                      <a:pt x="1652" y="354"/>
                    </a:cubicBezTo>
                    <a:close/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917000" y="5361480"/>
                <a:ext cx="145080" cy="569160"/>
              </a:xfrm>
              <a:custGeom>
                <a:avLst/>
                <a:gdLst/>
                <a:ahLst/>
                <a:rect l="l" t="t" r="r" b="b"/>
                <a:pathLst>
                  <a:path w="193" h="663">
                    <a:moveTo>
                      <a:pt x="28" y="0"/>
                    </a:moveTo>
                    <a:cubicBezTo>
                      <a:pt x="15" y="23"/>
                      <a:pt x="2" y="46"/>
                      <a:pt x="1" y="72"/>
                    </a:cubicBezTo>
                    <a:cubicBezTo>
                      <a:pt x="0" y="98"/>
                      <a:pt x="11" y="130"/>
                      <a:pt x="22" y="156"/>
                    </a:cubicBezTo>
                    <a:cubicBezTo>
                      <a:pt x="33" y="182"/>
                      <a:pt x="57" y="205"/>
                      <a:pt x="70" y="231"/>
                    </a:cubicBezTo>
                    <a:cubicBezTo>
                      <a:pt x="83" y="257"/>
                      <a:pt x="91" y="284"/>
                      <a:pt x="103" y="312"/>
                    </a:cubicBezTo>
                    <a:cubicBezTo>
                      <a:pt x="115" y="340"/>
                      <a:pt x="130" y="371"/>
                      <a:pt x="145" y="402"/>
                    </a:cubicBezTo>
                    <a:cubicBezTo>
                      <a:pt x="160" y="433"/>
                      <a:pt x="193" y="469"/>
                      <a:pt x="193" y="498"/>
                    </a:cubicBezTo>
                    <a:cubicBezTo>
                      <a:pt x="193" y="527"/>
                      <a:pt x="163" y="555"/>
                      <a:pt x="142" y="576"/>
                    </a:cubicBezTo>
                    <a:cubicBezTo>
                      <a:pt x="121" y="597"/>
                      <a:pt x="78" y="609"/>
                      <a:pt x="64" y="624"/>
                    </a:cubicBezTo>
                    <a:cubicBezTo>
                      <a:pt x="50" y="639"/>
                      <a:pt x="54" y="651"/>
                      <a:pt x="58" y="663"/>
                    </a:cubicBez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603800" y="5598360"/>
                <a:ext cx="381960" cy="137160"/>
              </a:xfrm>
              <a:custGeom>
                <a:avLst/>
                <a:gdLst/>
                <a:ahLst/>
                <a:rect l="l" t="t" r="r" b="b"/>
                <a:pathLst>
                  <a:path w="507" h="160">
                    <a:moveTo>
                      <a:pt x="0" y="160"/>
                    </a:moveTo>
                    <a:cubicBezTo>
                      <a:pt x="24" y="139"/>
                      <a:pt x="49" y="119"/>
                      <a:pt x="90" y="103"/>
                    </a:cubicBezTo>
                    <a:cubicBezTo>
                      <a:pt x="131" y="87"/>
                      <a:pt x="192" y="79"/>
                      <a:pt x="246" y="64"/>
                    </a:cubicBezTo>
                    <a:cubicBezTo>
                      <a:pt x="300" y="49"/>
                      <a:pt x="374" y="20"/>
                      <a:pt x="417" y="10"/>
                    </a:cubicBezTo>
                    <a:cubicBezTo>
                      <a:pt x="460" y="0"/>
                      <a:pt x="492" y="2"/>
                      <a:pt x="507" y="1"/>
                    </a:cubicBez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7" name=""/>
            <p:cNvSpPr/>
            <p:nvPr/>
          </p:nvSpPr>
          <p:spPr>
            <a:xfrm>
              <a:off x="2163600" y="5423400"/>
              <a:ext cx="413280" cy="214200"/>
            </a:xfrm>
            <a:custGeom>
              <a:avLst/>
              <a:gdLst/>
              <a:ahLst/>
              <a:rect l="l" t="t" r="r" b="b"/>
              <a:pathLst>
                <a:path w="549" h="249">
                  <a:moveTo>
                    <a:pt x="505" y="207"/>
                  </a:moveTo>
                  <a:cubicBezTo>
                    <a:pt x="478" y="179"/>
                    <a:pt x="425" y="102"/>
                    <a:pt x="382" y="69"/>
                  </a:cubicBezTo>
                  <a:cubicBezTo>
                    <a:pt x="339" y="36"/>
                    <a:pt x="292" y="18"/>
                    <a:pt x="244" y="9"/>
                  </a:cubicBezTo>
                  <a:cubicBezTo>
                    <a:pt x="196" y="0"/>
                    <a:pt x="131" y="0"/>
                    <a:pt x="91" y="12"/>
                  </a:cubicBezTo>
                  <a:cubicBezTo>
                    <a:pt x="51" y="24"/>
                    <a:pt x="2" y="46"/>
                    <a:pt x="1" y="81"/>
                  </a:cubicBezTo>
                  <a:cubicBezTo>
                    <a:pt x="0" y="116"/>
                    <a:pt x="40" y="201"/>
                    <a:pt x="85" y="225"/>
                  </a:cubicBezTo>
                  <a:cubicBezTo>
                    <a:pt x="130" y="249"/>
                    <a:pt x="208" y="224"/>
                    <a:pt x="271" y="225"/>
                  </a:cubicBezTo>
                  <a:cubicBezTo>
                    <a:pt x="334" y="226"/>
                    <a:pt x="418" y="229"/>
                    <a:pt x="463" y="231"/>
                  </a:cubicBezTo>
                  <a:cubicBezTo>
                    <a:pt x="508" y="233"/>
                    <a:pt x="539" y="245"/>
                    <a:pt x="544" y="240"/>
                  </a:cubicBezTo>
                  <a:cubicBezTo>
                    <a:pt x="549" y="235"/>
                    <a:pt x="532" y="235"/>
                    <a:pt x="505" y="207"/>
                  </a:cubicBezTo>
                  <a:close/>
                </a:path>
              </a:pathLst>
            </a:custGeom>
            <a:solidFill>
              <a:srgbClr val="00ac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218320" y="5460120"/>
              <a:ext cx="117360" cy="138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246400" y="5488200"/>
              <a:ext cx="61560" cy="78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2952720" y="5648400"/>
            <a:ext cx="514440" cy="228600"/>
          </a:xfrm>
          <a:prstGeom prst="rightArrow">
            <a:avLst>
              <a:gd name="adj1" fmla="val 50000"/>
              <a:gd name="adj2" fmla="val 56260"/>
            </a:avLst>
          </a:prstGeom>
          <a:solidFill>
            <a:srgbClr val="00cccc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7304040" y="5189040"/>
            <a:ext cx="1460160" cy="825120"/>
            <a:chOff x="7304040" y="5189040"/>
            <a:chExt cx="1460160" cy="825120"/>
          </a:xfrm>
        </p:grpSpPr>
        <p:grpSp>
          <p:nvGrpSpPr>
            <p:cNvPr id="692" name=""/>
            <p:cNvGrpSpPr/>
            <p:nvPr/>
          </p:nvGrpSpPr>
          <p:grpSpPr>
            <a:xfrm>
              <a:off x="7866720" y="5189040"/>
              <a:ext cx="337320" cy="219240"/>
              <a:chOff x="7866720" y="5189040"/>
              <a:chExt cx="337320" cy="219240"/>
            </a:xfrm>
          </p:grpSpPr>
          <p:sp>
            <p:nvSpPr>
              <p:cNvPr id="693" name=""/>
              <p:cNvSpPr/>
              <p:nvPr/>
            </p:nvSpPr>
            <p:spPr>
              <a:xfrm flipV="1">
                <a:off x="7995240" y="5188680"/>
                <a:ext cx="208800" cy="219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 flipV="1">
                <a:off x="7866720" y="5188680"/>
                <a:ext cx="208080" cy="219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7304040" y="5370840"/>
              <a:ext cx="1460160" cy="643320"/>
              <a:chOff x="7304040" y="5370840"/>
              <a:chExt cx="1460160" cy="643320"/>
            </a:xfrm>
          </p:grpSpPr>
          <p:grpSp>
            <p:nvGrpSpPr>
              <p:cNvPr id="696" name=""/>
              <p:cNvGrpSpPr/>
              <p:nvPr/>
            </p:nvGrpSpPr>
            <p:grpSpPr>
              <a:xfrm>
                <a:off x="7926840" y="5370840"/>
                <a:ext cx="216360" cy="547200"/>
                <a:chOff x="7926840" y="5370840"/>
                <a:chExt cx="216360" cy="54720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7951320" y="5509080"/>
                  <a:ext cx="167040" cy="408960"/>
                </a:xfrm>
                <a:prstGeom prst="ellipse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7926840" y="5370840"/>
                  <a:ext cx="216360" cy="225720"/>
                </a:xfrm>
                <a:custGeom>
                  <a:avLst/>
                  <a:gdLst/>
                  <a:ahLst/>
                  <a:rect l="l" t="t" r="r" b="b"/>
                  <a:pathLst>
                    <a:path w="341" h="356">
                      <a:moveTo>
                        <a:pt x="111" y="12"/>
                      </a:moveTo>
                      <a:cubicBezTo>
                        <a:pt x="73" y="31"/>
                        <a:pt x="26" y="86"/>
                        <a:pt x="13" y="135"/>
                      </a:cubicBezTo>
                      <a:cubicBezTo>
                        <a:pt x="0" y="184"/>
                        <a:pt x="11" y="271"/>
                        <a:pt x="35" y="307"/>
                      </a:cubicBezTo>
                      <a:cubicBezTo>
                        <a:pt x="59" y="343"/>
                        <a:pt x="110" y="350"/>
                        <a:pt x="155" y="352"/>
                      </a:cubicBezTo>
                      <a:cubicBezTo>
                        <a:pt x="200" y="354"/>
                        <a:pt x="276" y="356"/>
                        <a:pt x="305" y="322"/>
                      </a:cubicBezTo>
                      <a:cubicBezTo>
                        <a:pt x="334" y="288"/>
                        <a:pt x="341" y="195"/>
                        <a:pt x="331" y="145"/>
                      </a:cubicBezTo>
                      <a:cubicBezTo>
                        <a:pt x="321" y="95"/>
                        <a:pt x="274" y="45"/>
                        <a:pt x="244" y="23"/>
                      </a:cubicBezTo>
                      <a:cubicBezTo>
                        <a:pt x="213" y="2"/>
                        <a:pt x="149" y="0"/>
                        <a:pt x="111" y="12"/>
                      </a:cubicBez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8046720" y="5456520"/>
                <a:ext cx="717480" cy="557640"/>
                <a:chOff x="8046720" y="5456520"/>
                <a:chExt cx="717480" cy="557640"/>
              </a:xfrm>
            </p:grpSpPr>
            <p:sp>
              <p:nvSpPr>
                <p:cNvPr id="700" name=""/>
                <p:cNvSpPr/>
                <p:nvPr/>
              </p:nvSpPr>
              <p:spPr>
                <a:xfrm flipH="1">
                  <a:off x="8046360" y="5523480"/>
                  <a:ext cx="330120" cy="490680"/>
                </a:xfrm>
                <a:custGeom>
                  <a:avLst/>
                  <a:gdLst/>
                  <a:ahLst/>
                  <a:rect l="l" t="t" r="r" b="b"/>
                  <a:pathLst>
                    <a:path w="520" h="773">
                      <a:moveTo>
                        <a:pt x="418" y="89"/>
                      </a:moveTo>
                      <a:cubicBezTo>
                        <a:pt x="443" y="178"/>
                        <a:pt x="512" y="504"/>
                        <a:pt x="516" y="614"/>
                      </a:cubicBezTo>
                      <a:cubicBezTo>
                        <a:pt x="520" y="724"/>
                        <a:pt x="482" y="725"/>
                        <a:pt x="441" y="749"/>
                      </a:cubicBezTo>
                      <a:cubicBezTo>
                        <a:pt x="400" y="773"/>
                        <a:pt x="322" y="760"/>
                        <a:pt x="268" y="756"/>
                      </a:cubicBezTo>
                      <a:cubicBezTo>
                        <a:pt x="214" y="752"/>
                        <a:pt x="162" y="743"/>
                        <a:pt x="118" y="726"/>
                      </a:cubicBezTo>
                      <a:cubicBezTo>
                        <a:pt x="74" y="709"/>
                        <a:pt x="0" y="688"/>
                        <a:pt x="6" y="651"/>
                      </a:cubicBezTo>
                      <a:cubicBezTo>
                        <a:pt x="12" y="614"/>
                        <a:pt x="111" y="560"/>
                        <a:pt x="156" y="501"/>
                      </a:cubicBezTo>
                      <a:cubicBezTo>
                        <a:pt x="201" y="442"/>
                        <a:pt x="241" y="369"/>
                        <a:pt x="276" y="299"/>
                      </a:cubicBezTo>
                      <a:cubicBezTo>
                        <a:pt x="311" y="229"/>
                        <a:pt x="342" y="116"/>
                        <a:pt x="366" y="81"/>
                      </a:cubicBezTo>
                      <a:cubicBezTo>
                        <a:pt x="390" y="46"/>
                        <a:pt x="393" y="0"/>
                        <a:pt x="418" y="89"/>
                      </a:cubicBez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 flipH="1">
                  <a:off x="8129880" y="5456520"/>
                  <a:ext cx="634320" cy="470160"/>
                </a:xfrm>
                <a:custGeom>
                  <a:avLst/>
                  <a:gdLst/>
                  <a:ahLst/>
                  <a:rect l="l" t="t" r="r" b="b"/>
                  <a:pathLst>
                    <a:path w="999" h="741">
                      <a:moveTo>
                        <a:pt x="976" y="0"/>
                      </a:moveTo>
                      <a:cubicBezTo>
                        <a:pt x="925" y="1"/>
                        <a:pt x="856" y="18"/>
                        <a:pt x="766" y="52"/>
                      </a:cubicBezTo>
                      <a:cubicBezTo>
                        <a:pt x="676" y="86"/>
                        <a:pt x="541" y="145"/>
                        <a:pt x="436" y="202"/>
                      </a:cubicBezTo>
                      <a:cubicBezTo>
                        <a:pt x="331" y="259"/>
                        <a:pt x="207" y="341"/>
                        <a:pt x="136" y="397"/>
                      </a:cubicBezTo>
                      <a:cubicBezTo>
                        <a:pt x="65" y="453"/>
                        <a:pt x="16" y="500"/>
                        <a:pt x="8" y="540"/>
                      </a:cubicBezTo>
                      <a:cubicBezTo>
                        <a:pt x="0" y="580"/>
                        <a:pt x="45" y="608"/>
                        <a:pt x="91" y="637"/>
                      </a:cubicBezTo>
                      <a:cubicBezTo>
                        <a:pt x="137" y="666"/>
                        <a:pt x="190" y="698"/>
                        <a:pt x="286" y="712"/>
                      </a:cubicBezTo>
                      <a:cubicBezTo>
                        <a:pt x="382" y="726"/>
                        <a:pt x="574" y="741"/>
                        <a:pt x="668" y="720"/>
                      </a:cubicBezTo>
                      <a:cubicBezTo>
                        <a:pt x="762" y="699"/>
                        <a:pt x="799" y="648"/>
                        <a:pt x="848" y="585"/>
                      </a:cubicBezTo>
                      <a:cubicBezTo>
                        <a:pt x="897" y="522"/>
                        <a:pt x="938" y="413"/>
                        <a:pt x="961" y="345"/>
                      </a:cubicBezTo>
                      <a:cubicBezTo>
                        <a:pt x="984" y="277"/>
                        <a:pt x="977" y="226"/>
                        <a:pt x="983" y="180"/>
                      </a:cubicBezTo>
                      <a:cubicBezTo>
                        <a:pt x="989" y="134"/>
                        <a:pt x="999" y="97"/>
                        <a:pt x="998" y="67"/>
                      </a:cubicBezTo>
                      <a:cubicBezTo>
                        <a:pt x="997" y="37"/>
                        <a:pt x="981" y="14"/>
                        <a:pt x="976" y="0"/>
                      </a:cubicBez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2" name=""/>
              <p:cNvGrpSpPr/>
              <p:nvPr/>
            </p:nvGrpSpPr>
            <p:grpSpPr>
              <a:xfrm>
                <a:off x="7304040" y="5456520"/>
                <a:ext cx="717480" cy="557640"/>
                <a:chOff x="7304040" y="5456520"/>
                <a:chExt cx="717480" cy="55764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7691400" y="5523480"/>
                  <a:ext cx="330120" cy="490680"/>
                </a:xfrm>
                <a:custGeom>
                  <a:avLst/>
                  <a:gdLst/>
                  <a:ahLst/>
                  <a:rect l="l" t="t" r="r" b="b"/>
                  <a:pathLst>
                    <a:path w="520" h="773">
                      <a:moveTo>
                        <a:pt x="418" y="89"/>
                      </a:moveTo>
                      <a:cubicBezTo>
                        <a:pt x="443" y="178"/>
                        <a:pt x="512" y="504"/>
                        <a:pt x="516" y="614"/>
                      </a:cubicBezTo>
                      <a:cubicBezTo>
                        <a:pt x="520" y="724"/>
                        <a:pt x="482" y="725"/>
                        <a:pt x="441" y="749"/>
                      </a:cubicBezTo>
                      <a:cubicBezTo>
                        <a:pt x="400" y="773"/>
                        <a:pt x="322" y="760"/>
                        <a:pt x="268" y="756"/>
                      </a:cubicBezTo>
                      <a:cubicBezTo>
                        <a:pt x="214" y="752"/>
                        <a:pt x="162" y="743"/>
                        <a:pt x="118" y="726"/>
                      </a:cubicBezTo>
                      <a:cubicBezTo>
                        <a:pt x="74" y="709"/>
                        <a:pt x="0" y="688"/>
                        <a:pt x="6" y="651"/>
                      </a:cubicBezTo>
                      <a:cubicBezTo>
                        <a:pt x="12" y="614"/>
                        <a:pt x="111" y="560"/>
                        <a:pt x="156" y="501"/>
                      </a:cubicBezTo>
                      <a:cubicBezTo>
                        <a:pt x="201" y="442"/>
                        <a:pt x="241" y="369"/>
                        <a:pt x="276" y="299"/>
                      </a:cubicBezTo>
                      <a:cubicBezTo>
                        <a:pt x="311" y="229"/>
                        <a:pt x="342" y="116"/>
                        <a:pt x="366" y="81"/>
                      </a:cubicBezTo>
                      <a:cubicBezTo>
                        <a:pt x="390" y="46"/>
                        <a:pt x="393" y="0"/>
                        <a:pt x="418" y="89"/>
                      </a:cubicBez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7304040" y="5456520"/>
                  <a:ext cx="634320" cy="470160"/>
                </a:xfrm>
                <a:custGeom>
                  <a:avLst/>
                  <a:gdLst/>
                  <a:ahLst/>
                  <a:rect l="l" t="t" r="r" b="b"/>
                  <a:pathLst>
                    <a:path w="999" h="741">
                      <a:moveTo>
                        <a:pt x="976" y="0"/>
                      </a:moveTo>
                      <a:cubicBezTo>
                        <a:pt x="925" y="1"/>
                        <a:pt x="856" y="18"/>
                        <a:pt x="766" y="52"/>
                      </a:cubicBezTo>
                      <a:cubicBezTo>
                        <a:pt x="676" y="86"/>
                        <a:pt x="541" y="145"/>
                        <a:pt x="436" y="202"/>
                      </a:cubicBezTo>
                      <a:cubicBezTo>
                        <a:pt x="331" y="259"/>
                        <a:pt x="207" y="341"/>
                        <a:pt x="136" y="397"/>
                      </a:cubicBezTo>
                      <a:cubicBezTo>
                        <a:pt x="65" y="453"/>
                        <a:pt x="16" y="500"/>
                        <a:pt x="8" y="540"/>
                      </a:cubicBezTo>
                      <a:cubicBezTo>
                        <a:pt x="0" y="580"/>
                        <a:pt x="45" y="608"/>
                        <a:pt x="91" y="637"/>
                      </a:cubicBezTo>
                      <a:cubicBezTo>
                        <a:pt x="137" y="666"/>
                        <a:pt x="190" y="698"/>
                        <a:pt x="286" y="712"/>
                      </a:cubicBezTo>
                      <a:cubicBezTo>
                        <a:pt x="382" y="726"/>
                        <a:pt x="574" y="741"/>
                        <a:pt x="668" y="720"/>
                      </a:cubicBezTo>
                      <a:cubicBezTo>
                        <a:pt x="762" y="699"/>
                        <a:pt x="799" y="648"/>
                        <a:pt x="848" y="585"/>
                      </a:cubicBezTo>
                      <a:cubicBezTo>
                        <a:pt x="897" y="522"/>
                        <a:pt x="938" y="413"/>
                        <a:pt x="961" y="345"/>
                      </a:cubicBezTo>
                      <a:cubicBezTo>
                        <a:pt x="984" y="277"/>
                        <a:pt x="977" y="226"/>
                        <a:pt x="983" y="180"/>
                      </a:cubicBezTo>
                      <a:cubicBezTo>
                        <a:pt x="989" y="134"/>
                        <a:pt x="999" y="97"/>
                        <a:pt x="998" y="67"/>
                      </a:cubicBezTo>
                      <a:cubicBezTo>
                        <a:pt x="997" y="37"/>
                        <a:pt x="981" y="14"/>
                        <a:pt x="976" y="0"/>
                      </a:cubicBezTo>
                      <a:close/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05" name=""/>
          <p:cNvGrpSpPr/>
          <p:nvPr/>
        </p:nvGrpSpPr>
        <p:grpSpPr>
          <a:xfrm>
            <a:off x="5170320" y="5187240"/>
            <a:ext cx="1460160" cy="826200"/>
            <a:chOff x="5170320" y="5187240"/>
            <a:chExt cx="1460160" cy="826200"/>
          </a:xfrm>
        </p:grpSpPr>
        <p:grpSp>
          <p:nvGrpSpPr>
            <p:cNvPr id="706" name=""/>
            <p:cNvGrpSpPr/>
            <p:nvPr/>
          </p:nvGrpSpPr>
          <p:grpSpPr>
            <a:xfrm>
              <a:off x="5732640" y="5187240"/>
              <a:ext cx="337320" cy="219240"/>
              <a:chOff x="5732640" y="5187240"/>
              <a:chExt cx="337320" cy="219240"/>
            </a:xfrm>
          </p:grpSpPr>
          <p:sp>
            <p:nvSpPr>
              <p:cNvPr id="707" name=""/>
              <p:cNvSpPr/>
              <p:nvPr/>
            </p:nvSpPr>
            <p:spPr>
              <a:xfrm flipV="1">
                <a:off x="5861160" y="5186880"/>
                <a:ext cx="208800" cy="219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 flipV="1">
                <a:off x="5732640" y="5186880"/>
                <a:ext cx="208080" cy="219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"/>
            <p:cNvGrpSpPr/>
            <p:nvPr/>
          </p:nvGrpSpPr>
          <p:grpSpPr>
            <a:xfrm>
              <a:off x="5170320" y="5369040"/>
              <a:ext cx="1460160" cy="644400"/>
              <a:chOff x="5170320" y="5369040"/>
              <a:chExt cx="1460160" cy="644400"/>
            </a:xfrm>
          </p:grpSpPr>
          <p:grpSp>
            <p:nvGrpSpPr>
              <p:cNvPr id="710" name=""/>
              <p:cNvGrpSpPr/>
              <p:nvPr/>
            </p:nvGrpSpPr>
            <p:grpSpPr>
              <a:xfrm>
                <a:off x="5793120" y="5369040"/>
                <a:ext cx="216360" cy="547560"/>
                <a:chOff x="5793120" y="5369040"/>
                <a:chExt cx="216360" cy="547560"/>
              </a:xfrm>
            </p:grpSpPr>
            <p:sp>
              <p:nvSpPr>
                <p:cNvPr id="711" name=""/>
                <p:cNvSpPr/>
                <p:nvPr/>
              </p:nvSpPr>
              <p:spPr>
                <a:xfrm>
                  <a:off x="5817600" y="5507280"/>
                  <a:ext cx="167040" cy="409320"/>
                </a:xfrm>
                <a:prstGeom prst="ellipse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5793120" y="5369040"/>
                  <a:ext cx="216360" cy="226080"/>
                </a:xfrm>
                <a:custGeom>
                  <a:avLst/>
                  <a:gdLst/>
                  <a:ahLst/>
                  <a:rect l="l" t="t" r="r" b="b"/>
                  <a:pathLst>
                    <a:path w="341" h="356">
                      <a:moveTo>
                        <a:pt x="111" y="12"/>
                      </a:moveTo>
                      <a:cubicBezTo>
                        <a:pt x="73" y="31"/>
                        <a:pt x="26" y="86"/>
                        <a:pt x="13" y="135"/>
                      </a:cubicBezTo>
                      <a:cubicBezTo>
                        <a:pt x="0" y="184"/>
                        <a:pt x="11" y="271"/>
                        <a:pt x="35" y="307"/>
                      </a:cubicBezTo>
                      <a:cubicBezTo>
                        <a:pt x="59" y="343"/>
                        <a:pt x="110" y="350"/>
                        <a:pt x="155" y="352"/>
                      </a:cubicBezTo>
                      <a:cubicBezTo>
                        <a:pt x="200" y="354"/>
                        <a:pt x="276" y="356"/>
                        <a:pt x="305" y="322"/>
                      </a:cubicBezTo>
                      <a:cubicBezTo>
                        <a:pt x="334" y="288"/>
                        <a:pt x="341" y="195"/>
                        <a:pt x="331" y="145"/>
                      </a:cubicBezTo>
                      <a:cubicBezTo>
                        <a:pt x="321" y="95"/>
                        <a:pt x="274" y="45"/>
                        <a:pt x="244" y="23"/>
                      </a:cubicBezTo>
                      <a:cubicBezTo>
                        <a:pt x="213" y="2"/>
                        <a:pt x="149" y="0"/>
                        <a:pt x="111" y="12"/>
                      </a:cubicBezTo>
                      <a:close/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3" name=""/>
              <p:cNvGrpSpPr/>
              <p:nvPr/>
            </p:nvGrpSpPr>
            <p:grpSpPr>
              <a:xfrm>
                <a:off x="5913000" y="5454720"/>
                <a:ext cx="717480" cy="558720"/>
                <a:chOff x="5913000" y="5454720"/>
                <a:chExt cx="717480" cy="558720"/>
              </a:xfrm>
            </p:grpSpPr>
            <p:sp>
              <p:nvSpPr>
                <p:cNvPr id="714" name=""/>
                <p:cNvSpPr/>
                <p:nvPr/>
              </p:nvSpPr>
              <p:spPr>
                <a:xfrm flipH="1">
                  <a:off x="5912640" y="5522040"/>
                  <a:ext cx="330120" cy="491400"/>
                </a:xfrm>
                <a:custGeom>
                  <a:avLst/>
                  <a:gdLst/>
                  <a:ahLst/>
                  <a:rect l="l" t="t" r="r" b="b"/>
                  <a:pathLst>
                    <a:path w="520" h="773">
                      <a:moveTo>
                        <a:pt x="418" y="89"/>
                      </a:moveTo>
                      <a:cubicBezTo>
                        <a:pt x="443" y="178"/>
                        <a:pt x="512" y="504"/>
                        <a:pt x="516" y="614"/>
                      </a:cubicBezTo>
                      <a:cubicBezTo>
                        <a:pt x="520" y="724"/>
                        <a:pt x="482" y="725"/>
                        <a:pt x="441" y="749"/>
                      </a:cubicBezTo>
                      <a:cubicBezTo>
                        <a:pt x="400" y="773"/>
                        <a:pt x="322" y="760"/>
                        <a:pt x="268" y="756"/>
                      </a:cubicBezTo>
                      <a:cubicBezTo>
                        <a:pt x="214" y="752"/>
                        <a:pt x="162" y="743"/>
                        <a:pt x="118" y="726"/>
                      </a:cubicBezTo>
                      <a:cubicBezTo>
                        <a:pt x="74" y="709"/>
                        <a:pt x="0" y="688"/>
                        <a:pt x="6" y="651"/>
                      </a:cubicBezTo>
                      <a:cubicBezTo>
                        <a:pt x="12" y="614"/>
                        <a:pt x="111" y="560"/>
                        <a:pt x="156" y="501"/>
                      </a:cubicBezTo>
                      <a:cubicBezTo>
                        <a:pt x="201" y="442"/>
                        <a:pt x="241" y="369"/>
                        <a:pt x="276" y="299"/>
                      </a:cubicBezTo>
                      <a:cubicBezTo>
                        <a:pt x="311" y="229"/>
                        <a:pt x="342" y="116"/>
                        <a:pt x="366" y="81"/>
                      </a:cubicBezTo>
                      <a:cubicBezTo>
                        <a:pt x="390" y="46"/>
                        <a:pt x="393" y="0"/>
                        <a:pt x="418" y="89"/>
                      </a:cubicBezTo>
                      <a:close/>
                    </a:path>
                  </a:pathLst>
                </a:custGeom>
                <a:blipFill rotWithShape="0">
                  <a:blip r:embed="rId10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 flipH="1">
                  <a:off x="5996160" y="5454720"/>
                  <a:ext cx="634320" cy="470880"/>
                </a:xfrm>
                <a:custGeom>
                  <a:avLst/>
                  <a:gdLst/>
                  <a:ahLst/>
                  <a:rect l="l" t="t" r="r" b="b"/>
                  <a:pathLst>
                    <a:path w="999" h="741">
                      <a:moveTo>
                        <a:pt x="976" y="0"/>
                      </a:moveTo>
                      <a:cubicBezTo>
                        <a:pt x="925" y="1"/>
                        <a:pt x="856" y="18"/>
                        <a:pt x="766" y="52"/>
                      </a:cubicBezTo>
                      <a:cubicBezTo>
                        <a:pt x="676" y="86"/>
                        <a:pt x="541" y="145"/>
                        <a:pt x="436" y="202"/>
                      </a:cubicBezTo>
                      <a:cubicBezTo>
                        <a:pt x="331" y="259"/>
                        <a:pt x="207" y="341"/>
                        <a:pt x="136" y="397"/>
                      </a:cubicBezTo>
                      <a:cubicBezTo>
                        <a:pt x="65" y="453"/>
                        <a:pt x="16" y="500"/>
                        <a:pt x="8" y="540"/>
                      </a:cubicBezTo>
                      <a:cubicBezTo>
                        <a:pt x="0" y="580"/>
                        <a:pt x="45" y="608"/>
                        <a:pt x="91" y="637"/>
                      </a:cubicBezTo>
                      <a:cubicBezTo>
                        <a:pt x="137" y="666"/>
                        <a:pt x="190" y="698"/>
                        <a:pt x="286" y="712"/>
                      </a:cubicBezTo>
                      <a:cubicBezTo>
                        <a:pt x="382" y="726"/>
                        <a:pt x="574" y="741"/>
                        <a:pt x="668" y="720"/>
                      </a:cubicBezTo>
                      <a:cubicBezTo>
                        <a:pt x="762" y="699"/>
                        <a:pt x="799" y="648"/>
                        <a:pt x="848" y="585"/>
                      </a:cubicBezTo>
                      <a:cubicBezTo>
                        <a:pt x="897" y="522"/>
                        <a:pt x="938" y="413"/>
                        <a:pt x="961" y="345"/>
                      </a:cubicBezTo>
                      <a:cubicBezTo>
                        <a:pt x="984" y="277"/>
                        <a:pt x="977" y="226"/>
                        <a:pt x="983" y="180"/>
                      </a:cubicBezTo>
                      <a:cubicBezTo>
                        <a:pt x="989" y="134"/>
                        <a:pt x="999" y="97"/>
                        <a:pt x="998" y="67"/>
                      </a:cubicBezTo>
                      <a:cubicBezTo>
                        <a:pt x="997" y="37"/>
                        <a:pt x="981" y="14"/>
                        <a:pt x="976" y="0"/>
                      </a:cubicBezTo>
                      <a:close/>
                    </a:path>
                  </a:pathLst>
                </a:custGeom>
                <a:blipFill rotWithShape="0">
                  <a:blip r:embed="rId11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6" name=""/>
              <p:cNvGrpSpPr/>
              <p:nvPr/>
            </p:nvGrpSpPr>
            <p:grpSpPr>
              <a:xfrm>
                <a:off x="5170320" y="5454720"/>
                <a:ext cx="717480" cy="558720"/>
                <a:chOff x="5170320" y="5454720"/>
                <a:chExt cx="717480" cy="558720"/>
              </a:xfrm>
            </p:grpSpPr>
            <p:sp>
              <p:nvSpPr>
                <p:cNvPr id="717" name=""/>
                <p:cNvSpPr/>
                <p:nvPr/>
              </p:nvSpPr>
              <p:spPr>
                <a:xfrm>
                  <a:off x="5557680" y="5522040"/>
                  <a:ext cx="330120" cy="491400"/>
                </a:xfrm>
                <a:custGeom>
                  <a:avLst/>
                  <a:gdLst/>
                  <a:ahLst/>
                  <a:rect l="l" t="t" r="r" b="b"/>
                  <a:pathLst>
                    <a:path w="520" h="773">
                      <a:moveTo>
                        <a:pt x="418" y="89"/>
                      </a:moveTo>
                      <a:cubicBezTo>
                        <a:pt x="443" y="178"/>
                        <a:pt x="512" y="504"/>
                        <a:pt x="516" y="614"/>
                      </a:cubicBezTo>
                      <a:cubicBezTo>
                        <a:pt x="520" y="724"/>
                        <a:pt x="482" y="725"/>
                        <a:pt x="441" y="749"/>
                      </a:cubicBezTo>
                      <a:cubicBezTo>
                        <a:pt x="400" y="773"/>
                        <a:pt x="322" y="760"/>
                        <a:pt x="268" y="756"/>
                      </a:cubicBezTo>
                      <a:cubicBezTo>
                        <a:pt x="214" y="752"/>
                        <a:pt x="162" y="743"/>
                        <a:pt x="118" y="726"/>
                      </a:cubicBezTo>
                      <a:cubicBezTo>
                        <a:pt x="74" y="709"/>
                        <a:pt x="0" y="688"/>
                        <a:pt x="6" y="651"/>
                      </a:cubicBezTo>
                      <a:cubicBezTo>
                        <a:pt x="12" y="614"/>
                        <a:pt x="111" y="560"/>
                        <a:pt x="156" y="501"/>
                      </a:cubicBezTo>
                      <a:cubicBezTo>
                        <a:pt x="201" y="442"/>
                        <a:pt x="241" y="369"/>
                        <a:pt x="276" y="299"/>
                      </a:cubicBezTo>
                      <a:cubicBezTo>
                        <a:pt x="311" y="229"/>
                        <a:pt x="342" y="116"/>
                        <a:pt x="366" y="81"/>
                      </a:cubicBezTo>
                      <a:cubicBezTo>
                        <a:pt x="390" y="46"/>
                        <a:pt x="393" y="0"/>
                        <a:pt x="418" y="89"/>
                      </a:cubicBezTo>
                      <a:close/>
                    </a:path>
                  </a:pathLst>
                </a:custGeom>
                <a:blipFill rotWithShape="0">
                  <a:blip r:embed="rId12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5170320" y="5454720"/>
                  <a:ext cx="634320" cy="470880"/>
                </a:xfrm>
                <a:custGeom>
                  <a:avLst/>
                  <a:gdLst/>
                  <a:ahLst/>
                  <a:rect l="l" t="t" r="r" b="b"/>
                  <a:pathLst>
                    <a:path w="999" h="741">
                      <a:moveTo>
                        <a:pt x="976" y="0"/>
                      </a:moveTo>
                      <a:cubicBezTo>
                        <a:pt x="925" y="1"/>
                        <a:pt x="856" y="18"/>
                        <a:pt x="766" y="52"/>
                      </a:cubicBezTo>
                      <a:cubicBezTo>
                        <a:pt x="676" y="86"/>
                        <a:pt x="541" y="145"/>
                        <a:pt x="436" y="202"/>
                      </a:cubicBezTo>
                      <a:cubicBezTo>
                        <a:pt x="331" y="259"/>
                        <a:pt x="207" y="341"/>
                        <a:pt x="136" y="397"/>
                      </a:cubicBezTo>
                      <a:cubicBezTo>
                        <a:pt x="65" y="453"/>
                        <a:pt x="16" y="500"/>
                        <a:pt x="8" y="540"/>
                      </a:cubicBezTo>
                      <a:cubicBezTo>
                        <a:pt x="0" y="580"/>
                        <a:pt x="45" y="608"/>
                        <a:pt x="91" y="637"/>
                      </a:cubicBezTo>
                      <a:cubicBezTo>
                        <a:pt x="137" y="666"/>
                        <a:pt x="190" y="698"/>
                        <a:pt x="286" y="712"/>
                      </a:cubicBezTo>
                      <a:cubicBezTo>
                        <a:pt x="382" y="726"/>
                        <a:pt x="574" y="741"/>
                        <a:pt x="668" y="720"/>
                      </a:cubicBezTo>
                      <a:cubicBezTo>
                        <a:pt x="762" y="699"/>
                        <a:pt x="799" y="648"/>
                        <a:pt x="848" y="585"/>
                      </a:cubicBezTo>
                      <a:cubicBezTo>
                        <a:pt x="897" y="522"/>
                        <a:pt x="938" y="413"/>
                        <a:pt x="961" y="345"/>
                      </a:cubicBezTo>
                      <a:cubicBezTo>
                        <a:pt x="984" y="277"/>
                        <a:pt x="977" y="226"/>
                        <a:pt x="983" y="180"/>
                      </a:cubicBezTo>
                      <a:cubicBezTo>
                        <a:pt x="989" y="134"/>
                        <a:pt x="999" y="97"/>
                        <a:pt x="998" y="67"/>
                      </a:cubicBezTo>
                      <a:cubicBezTo>
                        <a:pt x="997" y="37"/>
                        <a:pt x="981" y="14"/>
                        <a:pt x="976" y="0"/>
                      </a:cubicBezTo>
                      <a:close/>
                    </a:path>
                  </a:pathLst>
                </a:custGeom>
                <a:blipFill rotWithShape="0">
                  <a:blip r:embed="rId13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19" name=""/>
          <p:cNvSpPr/>
          <p:nvPr/>
        </p:nvSpPr>
        <p:spPr>
          <a:xfrm>
            <a:off x="6718320" y="5541840"/>
            <a:ext cx="514440" cy="228600"/>
          </a:xfrm>
          <a:prstGeom prst="rightArrow">
            <a:avLst>
              <a:gd name="adj1" fmla="val 50000"/>
              <a:gd name="adj2" fmla="val 56260"/>
            </a:avLst>
          </a:prstGeom>
          <a:solidFill>
            <a:srgbClr val="00cccc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14"/>
          <a:stretch/>
        </p:blipFill>
        <p:spPr>
          <a:xfrm>
            <a:off x="307800" y="1573200"/>
            <a:ext cx="804960" cy="4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014480" y="139320"/>
            <a:ext cx="8129520" cy="8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cc"/>
                </a:solidFill>
                <a:latin typeface="Eras Bold ITC"/>
              </a:rPr>
              <a:t>5 - OBSERVABLE EVENTS</a:t>
            </a: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147320" y="1436400"/>
            <a:ext cx="791532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  <a:ea typeface="Arial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Franklin Gothic Heavy"/>
                <a:ea typeface="Arial"/>
              </a:rPr>
              <a:t>Observable events show that evolution is an ongoing process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3568680" y="5281560"/>
            <a:ext cx="1255680" cy="909720"/>
            <a:chOff x="3568680" y="5281560"/>
            <a:chExt cx="1255680" cy="909720"/>
          </a:xfrm>
        </p:grpSpPr>
        <p:sp>
          <p:nvSpPr>
            <p:cNvPr id="724" name=""/>
            <p:cNvSpPr/>
            <p:nvPr/>
          </p:nvSpPr>
          <p:spPr>
            <a:xfrm>
              <a:off x="3568680" y="5281560"/>
              <a:ext cx="1255680" cy="909720"/>
            </a:xfrm>
            <a:custGeom>
              <a:avLst/>
              <a:gdLst/>
              <a:ahLst/>
              <a:rect l="l" t="t" r="r" b="b"/>
              <a:pathLst>
                <a:path w="1667" h="1061">
                  <a:moveTo>
                    <a:pt x="1652" y="354"/>
                  </a:moveTo>
                  <a:cubicBezTo>
                    <a:pt x="1637" y="328"/>
                    <a:pt x="1610" y="272"/>
                    <a:pt x="1562" y="228"/>
                  </a:cubicBezTo>
                  <a:cubicBezTo>
                    <a:pt x="1514" y="184"/>
                    <a:pt x="1432" y="122"/>
                    <a:pt x="1367" y="90"/>
                  </a:cubicBezTo>
                  <a:cubicBezTo>
                    <a:pt x="1302" y="58"/>
                    <a:pt x="1235" y="50"/>
                    <a:pt x="1169" y="36"/>
                  </a:cubicBezTo>
                  <a:cubicBezTo>
                    <a:pt x="1103" y="22"/>
                    <a:pt x="1044" y="6"/>
                    <a:pt x="971" y="3"/>
                  </a:cubicBezTo>
                  <a:cubicBezTo>
                    <a:pt x="898" y="0"/>
                    <a:pt x="803" y="8"/>
                    <a:pt x="731" y="18"/>
                  </a:cubicBezTo>
                  <a:cubicBezTo>
                    <a:pt x="659" y="28"/>
                    <a:pt x="611" y="34"/>
                    <a:pt x="536" y="66"/>
                  </a:cubicBezTo>
                  <a:cubicBezTo>
                    <a:pt x="461" y="98"/>
                    <a:pt x="351" y="162"/>
                    <a:pt x="278" y="213"/>
                  </a:cubicBezTo>
                  <a:cubicBezTo>
                    <a:pt x="205" y="264"/>
                    <a:pt x="143" y="324"/>
                    <a:pt x="98" y="375"/>
                  </a:cubicBezTo>
                  <a:cubicBezTo>
                    <a:pt x="53" y="426"/>
                    <a:pt x="22" y="492"/>
                    <a:pt x="11" y="519"/>
                  </a:cubicBezTo>
                  <a:cubicBezTo>
                    <a:pt x="0" y="546"/>
                    <a:pt x="21" y="538"/>
                    <a:pt x="29" y="537"/>
                  </a:cubicBezTo>
                  <a:cubicBezTo>
                    <a:pt x="37" y="536"/>
                    <a:pt x="50" y="513"/>
                    <a:pt x="62" y="513"/>
                  </a:cubicBezTo>
                  <a:cubicBezTo>
                    <a:pt x="74" y="513"/>
                    <a:pt x="67" y="526"/>
                    <a:pt x="101" y="534"/>
                  </a:cubicBezTo>
                  <a:cubicBezTo>
                    <a:pt x="135" y="542"/>
                    <a:pt x="236" y="559"/>
                    <a:pt x="269" y="564"/>
                  </a:cubicBezTo>
                  <a:cubicBezTo>
                    <a:pt x="302" y="569"/>
                    <a:pt x="283" y="555"/>
                    <a:pt x="302" y="564"/>
                  </a:cubicBezTo>
                  <a:cubicBezTo>
                    <a:pt x="321" y="573"/>
                    <a:pt x="351" y="598"/>
                    <a:pt x="383" y="621"/>
                  </a:cubicBezTo>
                  <a:cubicBezTo>
                    <a:pt x="415" y="644"/>
                    <a:pt x="463" y="676"/>
                    <a:pt x="494" y="702"/>
                  </a:cubicBezTo>
                  <a:cubicBezTo>
                    <a:pt x="525" y="728"/>
                    <a:pt x="548" y="745"/>
                    <a:pt x="572" y="780"/>
                  </a:cubicBezTo>
                  <a:cubicBezTo>
                    <a:pt x="596" y="815"/>
                    <a:pt x="621" y="874"/>
                    <a:pt x="638" y="912"/>
                  </a:cubicBezTo>
                  <a:cubicBezTo>
                    <a:pt x="655" y="950"/>
                    <a:pt x="668" y="984"/>
                    <a:pt x="677" y="1008"/>
                  </a:cubicBezTo>
                  <a:cubicBezTo>
                    <a:pt x="686" y="1032"/>
                    <a:pt x="672" y="1061"/>
                    <a:pt x="692" y="1056"/>
                  </a:cubicBezTo>
                  <a:cubicBezTo>
                    <a:pt x="712" y="1051"/>
                    <a:pt x="767" y="1011"/>
                    <a:pt x="800" y="978"/>
                  </a:cubicBezTo>
                  <a:cubicBezTo>
                    <a:pt x="833" y="945"/>
                    <a:pt x="854" y="885"/>
                    <a:pt x="893" y="858"/>
                  </a:cubicBezTo>
                  <a:cubicBezTo>
                    <a:pt x="932" y="831"/>
                    <a:pt x="985" y="823"/>
                    <a:pt x="1037" y="816"/>
                  </a:cubicBezTo>
                  <a:cubicBezTo>
                    <a:pt x="1089" y="809"/>
                    <a:pt x="1168" y="815"/>
                    <a:pt x="1205" y="816"/>
                  </a:cubicBezTo>
                  <a:cubicBezTo>
                    <a:pt x="1242" y="817"/>
                    <a:pt x="1249" y="832"/>
                    <a:pt x="1259" y="825"/>
                  </a:cubicBezTo>
                  <a:cubicBezTo>
                    <a:pt x="1269" y="818"/>
                    <a:pt x="1253" y="792"/>
                    <a:pt x="1265" y="774"/>
                  </a:cubicBezTo>
                  <a:cubicBezTo>
                    <a:pt x="1277" y="756"/>
                    <a:pt x="1302" y="730"/>
                    <a:pt x="1328" y="717"/>
                  </a:cubicBezTo>
                  <a:cubicBezTo>
                    <a:pt x="1354" y="704"/>
                    <a:pt x="1408" y="709"/>
                    <a:pt x="1424" y="696"/>
                  </a:cubicBezTo>
                  <a:cubicBezTo>
                    <a:pt x="1440" y="683"/>
                    <a:pt x="1429" y="660"/>
                    <a:pt x="1427" y="636"/>
                  </a:cubicBezTo>
                  <a:cubicBezTo>
                    <a:pt x="1425" y="612"/>
                    <a:pt x="1414" y="579"/>
                    <a:pt x="1412" y="549"/>
                  </a:cubicBezTo>
                  <a:cubicBezTo>
                    <a:pt x="1410" y="519"/>
                    <a:pt x="1400" y="481"/>
                    <a:pt x="1412" y="453"/>
                  </a:cubicBezTo>
                  <a:cubicBezTo>
                    <a:pt x="1424" y="425"/>
                    <a:pt x="1455" y="390"/>
                    <a:pt x="1487" y="378"/>
                  </a:cubicBezTo>
                  <a:cubicBezTo>
                    <a:pt x="1519" y="366"/>
                    <a:pt x="1574" y="383"/>
                    <a:pt x="1601" y="384"/>
                  </a:cubicBezTo>
                  <a:cubicBezTo>
                    <a:pt x="1628" y="385"/>
                    <a:pt x="1644" y="391"/>
                    <a:pt x="1652" y="384"/>
                  </a:cubicBezTo>
                  <a:cubicBezTo>
                    <a:pt x="1660" y="377"/>
                    <a:pt x="1667" y="380"/>
                    <a:pt x="1652" y="354"/>
                  </a:cubicBezTo>
                  <a:close/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008240" y="5292720"/>
              <a:ext cx="184320" cy="689040"/>
            </a:xfrm>
            <a:custGeom>
              <a:avLst/>
              <a:gdLst/>
              <a:ahLst/>
              <a:rect l="l" t="t" r="r" b="b"/>
              <a:pathLst>
                <a:path w="116" h="434">
                  <a:moveTo>
                    <a:pt x="17" y="0"/>
                  </a:moveTo>
                  <a:cubicBezTo>
                    <a:pt x="9" y="15"/>
                    <a:pt x="1" y="29"/>
                    <a:pt x="1" y="46"/>
                  </a:cubicBezTo>
                  <a:cubicBezTo>
                    <a:pt x="0" y="62"/>
                    <a:pt x="7" y="82"/>
                    <a:pt x="13" y="99"/>
                  </a:cubicBezTo>
                  <a:cubicBezTo>
                    <a:pt x="20" y="115"/>
                    <a:pt x="34" y="130"/>
                    <a:pt x="42" y="146"/>
                  </a:cubicBezTo>
                  <a:cubicBezTo>
                    <a:pt x="50" y="162"/>
                    <a:pt x="55" y="179"/>
                    <a:pt x="62" y="197"/>
                  </a:cubicBezTo>
                  <a:cubicBezTo>
                    <a:pt x="69" y="215"/>
                    <a:pt x="78" y="234"/>
                    <a:pt x="87" y="254"/>
                  </a:cubicBezTo>
                  <a:cubicBezTo>
                    <a:pt x="96" y="274"/>
                    <a:pt x="116" y="296"/>
                    <a:pt x="116" y="315"/>
                  </a:cubicBezTo>
                  <a:cubicBezTo>
                    <a:pt x="116" y="333"/>
                    <a:pt x="98" y="351"/>
                    <a:pt x="85" y="364"/>
                  </a:cubicBezTo>
                  <a:cubicBezTo>
                    <a:pt x="73" y="377"/>
                    <a:pt x="51" y="382"/>
                    <a:pt x="38" y="394"/>
                  </a:cubicBezTo>
                  <a:cubicBezTo>
                    <a:pt x="25" y="406"/>
                    <a:pt x="13" y="426"/>
                    <a:pt x="7" y="434"/>
                  </a:cubicBez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611520" y="5570640"/>
              <a:ext cx="484200" cy="158760"/>
            </a:xfrm>
            <a:custGeom>
              <a:avLst/>
              <a:gdLst/>
              <a:ahLst/>
              <a:rect l="l" t="t" r="r" b="b"/>
              <a:pathLst>
                <a:path w="507" h="160">
                  <a:moveTo>
                    <a:pt x="0" y="160"/>
                  </a:moveTo>
                  <a:cubicBezTo>
                    <a:pt x="24" y="139"/>
                    <a:pt x="49" y="119"/>
                    <a:pt x="90" y="103"/>
                  </a:cubicBezTo>
                  <a:cubicBezTo>
                    <a:pt x="131" y="87"/>
                    <a:pt x="192" y="79"/>
                    <a:pt x="246" y="64"/>
                  </a:cubicBezTo>
                  <a:cubicBezTo>
                    <a:pt x="300" y="49"/>
                    <a:pt x="374" y="20"/>
                    <a:pt x="417" y="10"/>
                  </a:cubicBezTo>
                  <a:cubicBezTo>
                    <a:pt x="460" y="0"/>
                    <a:pt x="492" y="2"/>
                    <a:pt x="507" y="1"/>
                  </a:cubicBez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170240" y="5411880"/>
              <a:ext cx="414360" cy="214200"/>
            </a:xfrm>
            <a:custGeom>
              <a:avLst/>
              <a:gdLst/>
              <a:ahLst/>
              <a:rect l="l" t="t" r="r" b="b"/>
              <a:pathLst>
                <a:path w="549" h="249">
                  <a:moveTo>
                    <a:pt x="505" y="207"/>
                  </a:moveTo>
                  <a:cubicBezTo>
                    <a:pt x="478" y="179"/>
                    <a:pt x="425" y="102"/>
                    <a:pt x="382" y="69"/>
                  </a:cubicBezTo>
                  <a:cubicBezTo>
                    <a:pt x="339" y="36"/>
                    <a:pt x="292" y="18"/>
                    <a:pt x="244" y="9"/>
                  </a:cubicBezTo>
                  <a:cubicBezTo>
                    <a:pt x="196" y="0"/>
                    <a:pt x="131" y="0"/>
                    <a:pt x="91" y="12"/>
                  </a:cubicBezTo>
                  <a:cubicBezTo>
                    <a:pt x="51" y="24"/>
                    <a:pt x="2" y="46"/>
                    <a:pt x="1" y="81"/>
                  </a:cubicBezTo>
                  <a:cubicBezTo>
                    <a:pt x="0" y="116"/>
                    <a:pt x="40" y="201"/>
                    <a:pt x="85" y="225"/>
                  </a:cubicBezTo>
                  <a:cubicBezTo>
                    <a:pt x="130" y="249"/>
                    <a:pt x="208" y="224"/>
                    <a:pt x="271" y="225"/>
                  </a:cubicBezTo>
                  <a:cubicBezTo>
                    <a:pt x="334" y="226"/>
                    <a:pt x="418" y="229"/>
                    <a:pt x="463" y="231"/>
                  </a:cubicBezTo>
                  <a:cubicBezTo>
                    <a:pt x="508" y="233"/>
                    <a:pt x="539" y="245"/>
                    <a:pt x="544" y="240"/>
                  </a:cubicBezTo>
                  <a:cubicBezTo>
                    <a:pt x="549" y="235"/>
                    <a:pt x="532" y="235"/>
                    <a:pt x="505" y="207"/>
                  </a:cubicBezTo>
                  <a:close/>
                </a:path>
              </a:pathLst>
            </a:custGeom>
            <a:solidFill>
              <a:srgbClr val="00ac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226040" y="5450040"/>
              <a:ext cx="117360" cy="137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252680" y="5477040"/>
              <a:ext cx="6192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30" name=""/>
          <p:cNvGraphicFramePr/>
          <p:nvPr/>
        </p:nvGraphicFramePr>
        <p:xfrm>
          <a:off x="1371600" y="3214800"/>
          <a:ext cx="7459560" cy="3216240"/>
        </p:xfrm>
        <a:graphic>
          <a:graphicData uri="http://schemas.openxmlformats.org/drawingml/2006/table">
            <a:tbl>
              <a:tblPr/>
              <a:tblGrid>
                <a:gridCol w="3729600"/>
                <a:gridCol w="372996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ff"/>
                          </a:solidFill>
                          <a:latin typeface="Franklin Gothic Heavy"/>
                        </a:rPr>
                        <a:t>Peter &amp; Rosemary Grant’s Study of Beak Size Shift in Darwin’s Finch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ff"/>
                          </a:solidFill>
                          <a:latin typeface="Franklin Gothic Heavy"/>
                        </a:rPr>
                        <a:t>H. Kettlewell’s Study of Peppered Moth Color Shif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31" name=""/>
          <p:cNvGrpSpPr/>
          <p:nvPr/>
        </p:nvGrpSpPr>
        <p:grpSpPr>
          <a:xfrm>
            <a:off x="1562040" y="5292720"/>
            <a:ext cx="1255680" cy="909720"/>
            <a:chOff x="1562040" y="5292720"/>
            <a:chExt cx="1255680" cy="909720"/>
          </a:xfrm>
        </p:grpSpPr>
        <p:grpSp>
          <p:nvGrpSpPr>
            <p:cNvPr id="732" name=""/>
            <p:cNvGrpSpPr/>
            <p:nvPr/>
          </p:nvGrpSpPr>
          <p:grpSpPr>
            <a:xfrm>
              <a:off x="1562040" y="5292720"/>
              <a:ext cx="1255680" cy="909720"/>
              <a:chOff x="1562040" y="5292720"/>
              <a:chExt cx="1255680" cy="909720"/>
            </a:xfrm>
          </p:grpSpPr>
          <p:sp>
            <p:nvSpPr>
              <p:cNvPr id="733" name=""/>
              <p:cNvSpPr/>
              <p:nvPr/>
            </p:nvSpPr>
            <p:spPr>
              <a:xfrm>
                <a:off x="1562040" y="5292720"/>
                <a:ext cx="1255680" cy="909720"/>
              </a:xfrm>
              <a:custGeom>
                <a:avLst/>
                <a:gdLst/>
                <a:ahLst/>
                <a:rect l="l" t="t" r="r" b="b"/>
                <a:pathLst>
                  <a:path w="1667" h="1061">
                    <a:moveTo>
                      <a:pt x="1652" y="354"/>
                    </a:moveTo>
                    <a:cubicBezTo>
                      <a:pt x="1637" y="328"/>
                      <a:pt x="1610" y="272"/>
                      <a:pt x="1562" y="228"/>
                    </a:cubicBezTo>
                    <a:cubicBezTo>
                      <a:pt x="1514" y="184"/>
                      <a:pt x="1432" y="122"/>
                      <a:pt x="1367" y="90"/>
                    </a:cubicBezTo>
                    <a:cubicBezTo>
                      <a:pt x="1302" y="58"/>
                      <a:pt x="1235" y="50"/>
                      <a:pt x="1169" y="36"/>
                    </a:cubicBezTo>
                    <a:cubicBezTo>
                      <a:pt x="1103" y="22"/>
                      <a:pt x="1044" y="6"/>
                      <a:pt x="971" y="3"/>
                    </a:cubicBezTo>
                    <a:cubicBezTo>
                      <a:pt x="898" y="0"/>
                      <a:pt x="803" y="8"/>
                      <a:pt x="731" y="18"/>
                    </a:cubicBezTo>
                    <a:cubicBezTo>
                      <a:pt x="659" y="28"/>
                      <a:pt x="611" y="34"/>
                      <a:pt x="536" y="66"/>
                    </a:cubicBezTo>
                    <a:cubicBezTo>
                      <a:pt x="461" y="98"/>
                      <a:pt x="351" y="162"/>
                      <a:pt x="278" y="213"/>
                    </a:cubicBezTo>
                    <a:cubicBezTo>
                      <a:pt x="205" y="264"/>
                      <a:pt x="143" y="324"/>
                      <a:pt x="98" y="375"/>
                    </a:cubicBezTo>
                    <a:cubicBezTo>
                      <a:pt x="53" y="426"/>
                      <a:pt x="22" y="492"/>
                      <a:pt x="11" y="519"/>
                    </a:cubicBezTo>
                    <a:cubicBezTo>
                      <a:pt x="0" y="546"/>
                      <a:pt x="21" y="538"/>
                      <a:pt x="29" y="537"/>
                    </a:cubicBezTo>
                    <a:cubicBezTo>
                      <a:pt x="37" y="536"/>
                      <a:pt x="50" y="513"/>
                      <a:pt x="62" y="513"/>
                    </a:cubicBezTo>
                    <a:cubicBezTo>
                      <a:pt x="74" y="513"/>
                      <a:pt x="67" y="526"/>
                      <a:pt x="101" y="534"/>
                    </a:cubicBezTo>
                    <a:cubicBezTo>
                      <a:pt x="135" y="542"/>
                      <a:pt x="236" y="559"/>
                      <a:pt x="269" y="564"/>
                    </a:cubicBezTo>
                    <a:cubicBezTo>
                      <a:pt x="302" y="569"/>
                      <a:pt x="283" y="555"/>
                      <a:pt x="302" y="564"/>
                    </a:cubicBezTo>
                    <a:cubicBezTo>
                      <a:pt x="321" y="573"/>
                      <a:pt x="351" y="598"/>
                      <a:pt x="383" y="621"/>
                    </a:cubicBezTo>
                    <a:cubicBezTo>
                      <a:pt x="415" y="644"/>
                      <a:pt x="463" y="676"/>
                      <a:pt x="494" y="702"/>
                    </a:cubicBezTo>
                    <a:cubicBezTo>
                      <a:pt x="525" y="728"/>
                      <a:pt x="548" y="745"/>
                      <a:pt x="572" y="780"/>
                    </a:cubicBezTo>
                    <a:cubicBezTo>
                      <a:pt x="596" y="815"/>
                      <a:pt x="621" y="874"/>
                      <a:pt x="638" y="912"/>
                    </a:cubicBezTo>
                    <a:cubicBezTo>
                      <a:pt x="655" y="950"/>
                      <a:pt x="668" y="984"/>
                      <a:pt x="677" y="1008"/>
                    </a:cubicBezTo>
                    <a:cubicBezTo>
                      <a:pt x="686" y="1032"/>
                      <a:pt x="672" y="1061"/>
                      <a:pt x="692" y="1056"/>
                    </a:cubicBezTo>
                    <a:cubicBezTo>
                      <a:pt x="712" y="1051"/>
                      <a:pt x="767" y="1011"/>
                      <a:pt x="800" y="978"/>
                    </a:cubicBezTo>
                    <a:cubicBezTo>
                      <a:pt x="833" y="945"/>
                      <a:pt x="854" y="885"/>
                      <a:pt x="893" y="858"/>
                    </a:cubicBezTo>
                    <a:cubicBezTo>
                      <a:pt x="932" y="831"/>
                      <a:pt x="985" y="823"/>
                      <a:pt x="1037" y="816"/>
                    </a:cubicBezTo>
                    <a:cubicBezTo>
                      <a:pt x="1089" y="809"/>
                      <a:pt x="1168" y="815"/>
                      <a:pt x="1205" y="816"/>
                    </a:cubicBezTo>
                    <a:cubicBezTo>
                      <a:pt x="1242" y="817"/>
                      <a:pt x="1249" y="832"/>
                      <a:pt x="1259" y="825"/>
                    </a:cubicBezTo>
                    <a:cubicBezTo>
                      <a:pt x="1269" y="818"/>
                      <a:pt x="1253" y="792"/>
                      <a:pt x="1265" y="774"/>
                    </a:cubicBezTo>
                    <a:cubicBezTo>
                      <a:pt x="1277" y="756"/>
                      <a:pt x="1302" y="730"/>
                      <a:pt x="1328" y="717"/>
                    </a:cubicBezTo>
                    <a:cubicBezTo>
                      <a:pt x="1354" y="704"/>
                      <a:pt x="1408" y="709"/>
                      <a:pt x="1424" y="696"/>
                    </a:cubicBezTo>
                    <a:cubicBezTo>
                      <a:pt x="1440" y="683"/>
                      <a:pt x="1429" y="660"/>
                      <a:pt x="1427" y="636"/>
                    </a:cubicBezTo>
                    <a:cubicBezTo>
                      <a:pt x="1425" y="612"/>
                      <a:pt x="1414" y="579"/>
                      <a:pt x="1412" y="549"/>
                    </a:cubicBezTo>
                    <a:cubicBezTo>
                      <a:pt x="1410" y="519"/>
                      <a:pt x="1400" y="481"/>
                      <a:pt x="1412" y="453"/>
                    </a:cubicBezTo>
                    <a:cubicBezTo>
                      <a:pt x="1424" y="425"/>
                      <a:pt x="1455" y="390"/>
                      <a:pt x="1487" y="378"/>
                    </a:cubicBezTo>
                    <a:cubicBezTo>
                      <a:pt x="1519" y="366"/>
                      <a:pt x="1574" y="383"/>
                      <a:pt x="1601" y="384"/>
                    </a:cubicBezTo>
                    <a:cubicBezTo>
                      <a:pt x="1628" y="385"/>
                      <a:pt x="1644" y="391"/>
                      <a:pt x="1652" y="384"/>
                    </a:cubicBezTo>
                    <a:cubicBezTo>
                      <a:pt x="1660" y="377"/>
                      <a:pt x="1667" y="380"/>
                      <a:pt x="1652" y="354"/>
                    </a:cubicBezTo>
                    <a:close/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917000" y="5361480"/>
                <a:ext cx="145080" cy="569160"/>
              </a:xfrm>
              <a:custGeom>
                <a:avLst/>
                <a:gdLst/>
                <a:ahLst/>
                <a:rect l="l" t="t" r="r" b="b"/>
                <a:pathLst>
                  <a:path w="193" h="663">
                    <a:moveTo>
                      <a:pt x="28" y="0"/>
                    </a:moveTo>
                    <a:cubicBezTo>
                      <a:pt x="15" y="23"/>
                      <a:pt x="2" y="46"/>
                      <a:pt x="1" y="72"/>
                    </a:cubicBezTo>
                    <a:cubicBezTo>
                      <a:pt x="0" y="98"/>
                      <a:pt x="11" y="130"/>
                      <a:pt x="22" y="156"/>
                    </a:cubicBezTo>
                    <a:cubicBezTo>
                      <a:pt x="33" y="182"/>
                      <a:pt x="57" y="205"/>
                      <a:pt x="70" y="231"/>
                    </a:cubicBezTo>
                    <a:cubicBezTo>
                      <a:pt x="83" y="257"/>
                      <a:pt x="91" y="284"/>
                      <a:pt x="103" y="312"/>
                    </a:cubicBezTo>
                    <a:cubicBezTo>
                      <a:pt x="115" y="340"/>
                      <a:pt x="130" y="371"/>
                      <a:pt x="145" y="402"/>
                    </a:cubicBezTo>
                    <a:cubicBezTo>
                      <a:pt x="160" y="433"/>
                      <a:pt x="193" y="469"/>
                      <a:pt x="193" y="498"/>
                    </a:cubicBezTo>
                    <a:cubicBezTo>
                      <a:pt x="193" y="527"/>
                      <a:pt x="163" y="555"/>
                      <a:pt x="142" y="576"/>
                    </a:cubicBezTo>
                    <a:cubicBezTo>
                      <a:pt x="121" y="597"/>
                      <a:pt x="78" y="609"/>
                      <a:pt x="64" y="624"/>
                    </a:cubicBezTo>
                    <a:cubicBezTo>
                      <a:pt x="50" y="639"/>
                      <a:pt x="54" y="651"/>
                      <a:pt x="58" y="663"/>
                    </a:cubicBez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603800" y="5598360"/>
                <a:ext cx="381960" cy="137160"/>
              </a:xfrm>
              <a:custGeom>
                <a:avLst/>
                <a:gdLst/>
                <a:ahLst/>
                <a:rect l="l" t="t" r="r" b="b"/>
                <a:pathLst>
                  <a:path w="507" h="160">
                    <a:moveTo>
                      <a:pt x="0" y="160"/>
                    </a:moveTo>
                    <a:cubicBezTo>
                      <a:pt x="24" y="139"/>
                      <a:pt x="49" y="119"/>
                      <a:pt x="90" y="103"/>
                    </a:cubicBezTo>
                    <a:cubicBezTo>
                      <a:pt x="131" y="87"/>
                      <a:pt x="192" y="79"/>
                      <a:pt x="246" y="64"/>
                    </a:cubicBezTo>
                    <a:cubicBezTo>
                      <a:pt x="300" y="49"/>
                      <a:pt x="374" y="20"/>
                      <a:pt x="417" y="10"/>
                    </a:cubicBezTo>
                    <a:cubicBezTo>
                      <a:pt x="460" y="0"/>
                      <a:pt x="492" y="2"/>
                      <a:pt x="507" y="1"/>
                    </a:cubicBez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6" name=""/>
            <p:cNvSpPr/>
            <p:nvPr/>
          </p:nvSpPr>
          <p:spPr>
            <a:xfrm>
              <a:off x="2163600" y="5423400"/>
              <a:ext cx="413280" cy="214200"/>
            </a:xfrm>
            <a:custGeom>
              <a:avLst/>
              <a:gdLst/>
              <a:ahLst/>
              <a:rect l="l" t="t" r="r" b="b"/>
              <a:pathLst>
                <a:path w="549" h="249">
                  <a:moveTo>
                    <a:pt x="505" y="207"/>
                  </a:moveTo>
                  <a:cubicBezTo>
                    <a:pt x="478" y="179"/>
                    <a:pt x="425" y="102"/>
                    <a:pt x="382" y="69"/>
                  </a:cubicBezTo>
                  <a:cubicBezTo>
                    <a:pt x="339" y="36"/>
                    <a:pt x="292" y="18"/>
                    <a:pt x="244" y="9"/>
                  </a:cubicBezTo>
                  <a:cubicBezTo>
                    <a:pt x="196" y="0"/>
                    <a:pt x="131" y="0"/>
                    <a:pt x="91" y="12"/>
                  </a:cubicBezTo>
                  <a:cubicBezTo>
                    <a:pt x="51" y="24"/>
                    <a:pt x="2" y="46"/>
                    <a:pt x="1" y="81"/>
                  </a:cubicBezTo>
                  <a:cubicBezTo>
                    <a:pt x="0" y="116"/>
                    <a:pt x="40" y="201"/>
                    <a:pt x="85" y="225"/>
                  </a:cubicBezTo>
                  <a:cubicBezTo>
                    <a:pt x="130" y="249"/>
                    <a:pt x="208" y="224"/>
                    <a:pt x="271" y="225"/>
                  </a:cubicBezTo>
                  <a:cubicBezTo>
                    <a:pt x="334" y="226"/>
                    <a:pt x="418" y="229"/>
                    <a:pt x="463" y="231"/>
                  </a:cubicBezTo>
                  <a:cubicBezTo>
                    <a:pt x="508" y="233"/>
                    <a:pt x="539" y="245"/>
                    <a:pt x="544" y="240"/>
                  </a:cubicBezTo>
                  <a:cubicBezTo>
                    <a:pt x="549" y="235"/>
                    <a:pt x="532" y="235"/>
                    <a:pt x="505" y="207"/>
                  </a:cubicBezTo>
                  <a:close/>
                </a:path>
              </a:pathLst>
            </a:custGeom>
            <a:solidFill>
              <a:srgbClr val="00ac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218320" y="5460120"/>
              <a:ext cx="117360" cy="138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246400" y="5488200"/>
              <a:ext cx="61560" cy="78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9" name=""/>
          <p:cNvSpPr/>
          <p:nvPr/>
        </p:nvSpPr>
        <p:spPr>
          <a:xfrm>
            <a:off x="2952720" y="5648400"/>
            <a:ext cx="514440" cy="228600"/>
          </a:xfrm>
          <a:prstGeom prst="rightArrow">
            <a:avLst>
              <a:gd name="adj1" fmla="val 50000"/>
              <a:gd name="adj2" fmla="val 56260"/>
            </a:avLst>
          </a:prstGeom>
          <a:solidFill>
            <a:srgbClr val="00cccc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7304040" y="5189040"/>
            <a:ext cx="1460160" cy="825120"/>
            <a:chOff x="7304040" y="5189040"/>
            <a:chExt cx="1460160" cy="825120"/>
          </a:xfrm>
        </p:grpSpPr>
        <p:grpSp>
          <p:nvGrpSpPr>
            <p:cNvPr id="741" name=""/>
            <p:cNvGrpSpPr/>
            <p:nvPr/>
          </p:nvGrpSpPr>
          <p:grpSpPr>
            <a:xfrm>
              <a:off x="7866720" y="5189040"/>
              <a:ext cx="337320" cy="219240"/>
              <a:chOff x="7866720" y="5189040"/>
              <a:chExt cx="337320" cy="219240"/>
            </a:xfrm>
          </p:grpSpPr>
          <p:sp>
            <p:nvSpPr>
              <p:cNvPr id="742" name=""/>
              <p:cNvSpPr/>
              <p:nvPr/>
            </p:nvSpPr>
            <p:spPr>
              <a:xfrm flipV="1">
                <a:off x="7995240" y="5188680"/>
                <a:ext cx="208800" cy="219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 flipV="1">
                <a:off x="7866720" y="5188680"/>
                <a:ext cx="208080" cy="219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44" name=""/>
            <p:cNvGrpSpPr/>
            <p:nvPr/>
          </p:nvGrpSpPr>
          <p:grpSpPr>
            <a:xfrm>
              <a:off x="7304040" y="5370840"/>
              <a:ext cx="1460160" cy="643320"/>
              <a:chOff x="7304040" y="5370840"/>
              <a:chExt cx="1460160" cy="643320"/>
            </a:xfrm>
          </p:grpSpPr>
          <p:grpSp>
            <p:nvGrpSpPr>
              <p:cNvPr id="745" name=""/>
              <p:cNvGrpSpPr/>
              <p:nvPr/>
            </p:nvGrpSpPr>
            <p:grpSpPr>
              <a:xfrm>
                <a:off x="7926840" y="5370840"/>
                <a:ext cx="216360" cy="547200"/>
                <a:chOff x="7926840" y="5370840"/>
                <a:chExt cx="216360" cy="54720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7951320" y="5509080"/>
                  <a:ext cx="167040" cy="408960"/>
                </a:xfrm>
                <a:prstGeom prst="ellipse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7926840" y="5370840"/>
                  <a:ext cx="216360" cy="225720"/>
                </a:xfrm>
                <a:custGeom>
                  <a:avLst/>
                  <a:gdLst/>
                  <a:ahLst/>
                  <a:rect l="l" t="t" r="r" b="b"/>
                  <a:pathLst>
                    <a:path w="341" h="356">
                      <a:moveTo>
                        <a:pt x="111" y="12"/>
                      </a:moveTo>
                      <a:cubicBezTo>
                        <a:pt x="73" y="31"/>
                        <a:pt x="26" y="86"/>
                        <a:pt x="13" y="135"/>
                      </a:cubicBezTo>
                      <a:cubicBezTo>
                        <a:pt x="0" y="184"/>
                        <a:pt x="11" y="271"/>
                        <a:pt x="35" y="307"/>
                      </a:cubicBezTo>
                      <a:cubicBezTo>
                        <a:pt x="59" y="343"/>
                        <a:pt x="110" y="350"/>
                        <a:pt x="155" y="352"/>
                      </a:cubicBezTo>
                      <a:cubicBezTo>
                        <a:pt x="200" y="354"/>
                        <a:pt x="276" y="356"/>
                        <a:pt x="305" y="322"/>
                      </a:cubicBezTo>
                      <a:cubicBezTo>
                        <a:pt x="334" y="288"/>
                        <a:pt x="341" y="195"/>
                        <a:pt x="331" y="145"/>
                      </a:cubicBezTo>
                      <a:cubicBezTo>
                        <a:pt x="321" y="95"/>
                        <a:pt x="274" y="45"/>
                        <a:pt x="244" y="23"/>
                      </a:cubicBezTo>
                      <a:cubicBezTo>
                        <a:pt x="213" y="2"/>
                        <a:pt x="149" y="0"/>
                        <a:pt x="111" y="12"/>
                      </a:cubicBez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8046720" y="5456520"/>
                <a:ext cx="717480" cy="557640"/>
                <a:chOff x="8046720" y="5456520"/>
                <a:chExt cx="717480" cy="557640"/>
              </a:xfrm>
            </p:grpSpPr>
            <p:sp>
              <p:nvSpPr>
                <p:cNvPr id="749" name=""/>
                <p:cNvSpPr/>
                <p:nvPr/>
              </p:nvSpPr>
              <p:spPr>
                <a:xfrm flipH="1">
                  <a:off x="8046360" y="5523480"/>
                  <a:ext cx="330120" cy="490680"/>
                </a:xfrm>
                <a:custGeom>
                  <a:avLst/>
                  <a:gdLst/>
                  <a:ahLst/>
                  <a:rect l="l" t="t" r="r" b="b"/>
                  <a:pathLst>
                    <a:path w="520" h="773">
                      <a:moveTo>
                        <a:pt x="418" y="89"/>
                      </a:moveTo>
                      <a:cubicBezTo>
                        <a:pt x="443" y="178"/>
                        <a:pt x="512" y="504"/>
                        <a:pt x="516" y="614"/>
                      </a:cubicBezTo>
                      <a:cubicBezTo>
                        <a:pt x="520" y="724"/>
                        <a:pt x="482" y="725"/>
                        <a:pt x="441" y="749"/>
                      </a:cubicBezTo>
                      <a:cubicBezTo>
                        <a:pt x="400" y="773"/>
                        <a:pt x="322" y="760"/>
                        <a:pt x="268" y="756"/>
                      </a:cubicBezTo>
                      <a:cubicBezTo>
                        <a:pt x="214" y="752"/>
                        <a:pt x="162" y="743"/>
                        <a:pt x="118" y="726"/>
                      </a:cubicBezTo>
                      <a:cubicBezTo>
                        <a:pt x="74" y="709"/>
                        <a:pt x="0" y="688"/>
                        <a:pt x="6" y="651"/>
                      </a:cubicBezTo>
                      <a:cubicBezTo>
                        <a:pt x="12" y="614"/>
                        <a:pt x="111" y="560"/>
                        <a:pt x="156" y="501"/>
                      </a:cubicBezTo>
                      <a:cubicBezTo>
                        <a:pt x="201" y="442"/>
                        <a:pt x="241" y="369"/>
                        <a:pt x="276" y="299"/>
                      </a:cubicBezTo>
                      <a:cubicBezTo>
                        <a:pt x="311" y="229"/>
                        <a:pt x="342" y="116"/>
                        <a:pt x="366" y="81"/>
                      </a:cubicBezTo>
                      <a:cubicBezTo>
                        <a:pt x="390" y="46"/>
                        <a:pt x="393" y="0"/>
                        <a:pt x="418" y="89"/>
                      </a:cubicBez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 flipH="1">
                  <a:off x="8129880" y="5456520"/>
                  <a:ext cx="634320" cy="470160"/>
                </a:xfrm>
                <a:custGeom>
                  <a:avLst/>
                  <a:gdLst/>
                  <a:ahLst/>
                  <a:rect l="l" t="t" r="r" b="b"/>
                  <a:pathLst>
                    <a:path w="999" h="741">
                      <a:moveTo>
                        <a:pt x="976" y="0"/>
                      </a:moveTo>
                      <a:cubicBezTo>
                        <a:pt x="925" y="1"/>
                        <a:pt x="856" y="18"/>
                        <a:pt x="766" y="52"/>
                      </a:cubicBezTo>
                      <a:cubicBezTo>
                        <a:pt x="676" y="86"/>
                        <a:pt x="541" y="145"/>
                        <a:pt x="436" y="202"/>
                      </a:cubicBezTo>
                      <a:cubicBezTo>
                        <a:pt x="331" y="259"/>
                        <a:pt x="207" y="341"/>
                        <a:pt x="136" y="397"/>
                      </a:cubicBezTo>
                      <a:cubicBezTo>
                        <a:pt x="65" y="453"/>
                        <a:pt x="16" y="500"/>
                        <a:pt x="8" y="540"/>
                      </a:cubicBezTo>
                      <a:cubicBezTo>
                        <a:pt x="0" y="580"/>
                        <a:pt x="45" y="608"/>
                        <a:pt x="91" y="637"/>
                      </a:cubicBezTo>
                      <a:cubicBezTo>
                        <a:pt x="137" y="666"/>
                        <a:pt x="190" y="698"/>
                        <a:pt x="286" y="712"/>
                      </a:cubicBezTo>
                      <a:cubicBezTo>
                        <a:pt x="382" y="726"/>
                        <a:pt x="574" y="741"/>
                        <a:pt x="668" y="720"/>
                      </a:cubicBezTo>
                      <a:cubicBezTo>
                        <a:pt x="762" y="699"/>
                        <a:pt x="799" y="648"/>
                        <a:pt x="848" y="585"/>
                      </a:cubicBezTo>
                      <a:cubicBezTo>
                        <a:pt x="897" y="522"/>
                        <a:pt x="938" y="413"/>
                        <a:pt x="961" y="345"/>
                      </a:cubicBezTo>
                      <a:cubicBezTo>
                        <a:pt x="984" y="277"/>
                        <a:pt x="977" y="226"/>
                        <a:pt x="983" y="180"/>
                      </a:cubicBezTo>
                      <a:cubicBezTo>
                        <a:pt x="989" y="134"/>
                        <a:pt x="999" y="97"/>
                        <a:pt x="998" y="67"/>
                      </a:cubicBezTo>
                      <a:cubicBezTo>
                        <a:pt x="997" y="37"/>
                        <a:pt x="981" y="14"/>
                        <a:pt x="976" y="0"/>
                      </a:cubicBez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7304040" y="5456520"/>
                <a:ext cx="717480" cy="557640"/>
                <a:chOff x="7304040" y="5456520"/>
                <a:chExt cx="717480" cy="55764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7691400" y="5523480"/>
                  <a:ext cx="330120" cy="490680"/>
                </a:xfrm>
                <a:custGeom>
                  <a:avLst/>
                  <a:gdLst/>
                  <a:ahLst/>
                  <a:rect l="l" t="t" r="r" b="b"/>
                  <a:pathLst>
                    <a:path w="520" h="773">
                      <a:moveTo>
                        <a:pt x="418" y="89"/>
                      </a:moveTo>
                      <a:cubicBezTo>
                        <a:pt x="443" y="178"/>
                        <a:pt x="512" y="504"/>
                        <a:pt x="516" y="614"/>
                      </a:cubicBezTo>
                      <a:cubicBezTo>
                        <a:pt x="520" y="724"/>
                        <a:pt x="482" y="725"/>
                        <a:pt x="441" y="749"/>
                      </a:cubicBezTo>
                      <a:cubicBezTo>
                        <a:pt x="400" y="773"/>
                        <a:pt x="322" y="760"/>
                        <a:pt x="268" y="756"/>
                      </a:cubicBezTo>
                      <a:cubicBezTo>
                        <a:pt x="214" y="752"/>
                        <a:pt x="162" y="743"/>
                        <a:pt x="118" y="726"/>
                      </a:cubicBezTo>
                      <a:cubicBezTo>
                        <a:pt x="74" y="709"/>
                        <a:pt x="0" y="688"/>
                        <a:pt x="6" y="651"/>
                      </a:cubicBezTo>
                      <a:cubicBezTo>
                        <a:pt x="12" y="614"/>
                        <a:pt x="111" y="560"/>
                        <a:pt x="156" y="501"/>
                      </a:cubicBezTo>
                      <a:cubicBezTo>
                        <a:pt x="201" y="442"/>
                        <a:pt x="241" y="369"/>
                        <a:pt x="276" y="299"/>
                      </a:cubicBezTo>
                      <a:cubicBezTo>
                        <a:pt x="311" y="229"/>
                        <a:pt x="342" y="116"/>
                        <a:pt x="366" y="81"/>
                      </a:cubicBezTo>
                      <a:cubicBezTo>
                        <a:pt x="390" y="46"/>
                        <a:pt x="393" y="0"/>
                        <a:pt x="418" y="89"/>
                      </a:cubicBez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7304040" y="5456520"/>
                  <a:ext cx="634320" cy="470160"/>
                </a:xfrm>
                <a:custGeom>
                  <a:avLst/>
                  <a:gdLst/>
                  <a:ahLst/>
                  <a:rect l="l" t="t" r="r" b="b"/>
                  <a:pathLst>
                    <a:path w="999" h="741">
                      <a:moveTo>
                        <a:pt x="976" y="0"/>
                      </a:moveTo>
                      <a:cubicBezTo>
                        <a:pt x="925" y="1"/>
                        <a:pt x="856" y="18"/>
                        <a:pt x="766" y="52"/>
                      </a:cubicBezTo>
                      <a:cubicBezTo>
                        <a:pt x="676" y="86"/>
                        <a:pt x="541" y="145"/>
                        <a:pt x="436" y="202"/>
                      </a:cubicBezTo>
                      <a:cubicBezTo>
                        <a:pt x="331" y="259"/>
                        <a:pt x="207" y="341"/>
                        <a:pt x="136" y="397"/>
                      </a:cubicBezTo>
                      <a:cubicBezTo>
                        <a:pt x="65" y="453"/>
                        <a:pt x="16" y="500"/>
                        <a:pt x="8" y="540"/>
                      </a:cubicBezTo>
                      <a:cubicBezTo>
                        <a:pt x="0" y="580"/>
                        <a:pt x="45" y="608"/>
                        <a:pt x="91" y="637"/>
                      </a:cubicBezTo>
                      <a:cubicBezTo>
                        <a:pt x="137" y="666"/>
                        <a:pt x="190" y="698"/>
                        <a:pt x="286" y="712"/>
                      </a:cubicBezTo>
                      <a:cubicBezTo>
                        <a:pt x="382" y="726"/>
                        <a:pt x="574" y="741"/>
                        <a:pt x="668" y="720"/>
                      </a:cubicBezTo>
                      <a:cubicBezTo>
                        <a:pt x="762" y="699"/>
                        <a:pt x="799" y="648"/>
                        <a:pt x="848" y="585"/>
                      </a:cubicBezTo>
                      <a:cubicBezTo>
                        <a:pt x="897" y="522"/>
                        <a:pt x="938" y="413"/>
                        <a:pt x="961" y="345"/>
                      </a:cubicBezTo>
                      <a:cubicBezTo>
                        <a:pt x="984" y="277"/>
                        <a:pt x="977" y="226"/>
                        <a:pt x="983" y="180"/>
                      </a:cubicBezTo>
                      <a:cubicBezTo>
                        <a:pt x="989" y="134"/>
                        <a:pt x="999" y="97"/>
                        <a:pt x="998" y="67"/>
                      </a:cubicBezTo>
                      <a:cubicBezTo>
                        <a:pt x="997" y="37"/>
                        <a:pt x="981" y="14"/>
                        <a:pt x="976" y="0"/>
                      </a:cubicBezTo>
                      <a:close/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54" name=""/>
          <p:cNvGrpSpPr/>
          <p:nvPr/>
        </p:nvGrpSpPr>
        <p:grpSpPr>
          <a:xfrm>
            <a:off x="5170320" y="5187240"/>
            <a:ext cx="1460160" cy="826200"/>
            <a:chOff x="5170320" y="5187240"/>
            <a:chExt cx="1460160" cy="826200"/>
          </a:xfrm>
        </p:grpSpPr>
        <p:grpSp>
          <p:nvGrpSpPr>
            <p:cNvPr id="755" name=""/>
            <p:cNvGrpSpPr/>
            <p:nvPr/>
          </p:nvGrpSpPr>
          <p:grpSpPr>
            <a:xfrm>
              <a:off x="5732640" y="5187240"/>
              <a:ext cx="337320" cy="219240"/>
              <a:chOff x="5732640" y="5187240"/>
              <a:chExt cx="337320" cy="219240"/>
            </a:xfrm>
          </p:grpSpPr>
          <p:sp>
            <p:nvSpPr>
              <p:cNvPr id="756" name=""/>
              <p:cNvSpPr/>
              <p:nvPr/>
            </p:nvSpPr>
            <p:spPr>
              <a:xfrm flipV="1">
                <a:off x="5861160" y="5186880"/>
                <a:ext cx="208800" cy="219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 flipV="1">
                <a:off x="5732640" y="5186880"/>
                <a:ext cx="208080" cy="219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5170320" y="5369040"/>
              <a:ext cx="1460160" cy="644400"/>
              <a:chOff x="5170320" y="5369040"/>
              <a:chExt cx="1460160" cy="644400"/>
            </a:xfrm>
          </p:grpSpPr>
          <p:grpSp>
            <p:nvGrpSpPr>
              <p:cNvPr id="759" name=""/>
              <p:cNvGrpSpPr/>
              <p:nvPr/>
            </p:nvGrpSpPr>
            <p:grpSpPr>
              <a:xfrm>
                <a:off x="5793120" y="5369040"/>
                <a:ext cx="216360" cy="547560"/>
                <a:chOff x="5793120" y="5369040"/>
                <a:chExt cx="216360" cy="547560"/>
              </a:xfrm>
            </p:grpSpPr>
            <p:sp>
              <p:nvSpPr>
                <p:cNvPr id="760" name=""/>
                <p:cNvSpPr/>
                <p:nvPr/>
              </p:nvSpPr>
              <p:spPr>
                <a:xfrm>
                  <a:off x="5817600" y="5507280"/>
                  <a:ext cx="167040" cy="409320"/>
                </a:xfrm>
                <a:prstGeom prst="ellipse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5793120" y="5369040"/>
                  <a:ext cx="216360" cy="226080"/>
                </a:xfrm>
                <a:custGeom>
                  <a:avLst/>
                  <a:gdLst/>
                  <a:ahLst/>
                  <a:rect l="l" t="t" r="r" b="b"/>
                  <a:pathLst>
                    <a:path w="341" h="356">
                      <a:moveTo>
                        <a:pt x="111" y="12"/>
                      </a:moveTo>
                      <a:cubicBezTo>
                        <a:pt x="73" y="31"/>
                        <a:pt x="26" y="86"/>
                        <a:pt x="13" y="135"/>
                      </a:cubicBezTo>
                      <a:cubicBezTo>
                        <a:pt x="0" y="184"/>
                        <a:pt x="11" y="271"/>
                        <a:pt x="35" y="307"/>
                      </a:cubicBezTo>
                      <a:cubicBezTo>
                        <a:pt x="59" y="343"/>
                        <a:pt x="110" y="350"/>
                        <a:pt x="155" y="352"/>
                      </a:cubicBezTo>
                      <a:cubicBezTo>
                        <a:pt x="200" y="354"/>
                        <a:pt x="276" y="356"/>
                        <a:pt x="305" y="322"/>
                      </a:cubicBezTo>
                      <a:cubicBezTo>
                        <a:pt x="334" y="288"/>
                        <a:pt x="341" y="195"/>
                        <a:pt x="331" y="145"/>
                      </a:cubicBezTo>
                      <a:cubicBezTo>
                        <a:pt x="321" y="95"/>
                        <a:pt x="274" y="45"/>
                        <a:pt x="244" y="23"/>
                      </a:cubicBezTo>
                      <a:cubicBezTo>
                        <a:pt x="213" y="2"/>
                        <a:pt x="149" y="0"/>
                        <a:pt x="111" y="12"/>
                      </a:cubicBezTo>
                      <a:close/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2" name=""/>
              <p:cNvGrpSpPr/>
              <p:nvPr/>
            </p:nvGrpSpPr>
            <p:grpSpPr>
              <a:xfrm>
                <a:off x="5913000" y="5454720"/>
                <a:ext cx="717480" cy="558720"/>
                <a:chOff x="5913000" y="5454720"/>
                <a:chExt cx="717480" cy="558720"/>
              </a:xfrm>
            </p:grpSpPr>
            <p:sp>
              <p:nvSpPr>
                <p:cNvPr id="763" name=""/>
                <p:cNvSpPr/>
                <p:nvPr/>
              </p:nvSpPr>
              <p:spPr>
                <a:xfrm flipH="1">
                  <a:off x="5912640" y="5522040"/>
                  <a:ext cx="330120" cy="491400"/>
                </a:xfrm>
                <a:custGeom>
                  <a:avLst/>
                  <a:gdLst/>
                  <a:ahLst/>
                  <a:rect l="l" t="t" r="r" b="b"/>
                  <a:pathLst>
                    <a:path w="520" h="773">
                      <a:moveTo>
                        <a:pt x="418" y="89"/>
                      </a:moveTo>
                      <a:cubicBezTo>
                        <a:pt x="443" y="178"/>
                        <a:pt x="512" y="504"/>
                        <a:pt x="516" y="614"/>
                      </a:cubicBezTo>
                      <a:cubicBezTo>
                        <a:pt x="520" y="724"/>
                        <a:pt x="482" y="725"/>
                        <a:pt x="441" y="749"/>
                      </a:cubicBezTo>
                      <a:cubicBezTo>
                        <a:pt x="400" y="773"/>
                        <a:pt x="322" y="760"/>
                        <a:pt x="268" y="756"/>
                      </a:cubicBezTo>
                      <a:cubicBezTo>
                        <a:pt x="214" y="752"/>
                        <a:pt x="162" y="743"/>
                        <a:pt x="118" y="726"/>
                      </a:cubicBezTo>
                      <a:cubicBezTo>
                        <a:pt x="74" y="709"/>
                        <a:pt x="0" y="688"/>
                        <a:pt x="6" y="651"/>
                      </a:cubicBezTo>
                      <a:cubicBezTo>
                        <a:pt x="12" y="614"/>
                        <a:pt x="111" y="560"/>
                        <a:pt x="156" y="501"/>
                      </a:cubicBezTo>
                      <a:cubicBezTo>
                        <a:pt x="201" y="442"/>
                        <a:pt x="241" y="369"/>
                        <a:pt x="276" y="299"/>
                      </a:cubicBezTo>
                      <a:cubicBezTo>
                        <a:pt x="311" y="229"/>
                        <a:pt x="342" y="116"/>
                        <a:pt x="366" y="81"/>
                      </a:cubicBezTo>
                      <a:cubicBezTo>
                        <a:pt x="390" y="46"/>
                        <a:pt x="393" y="0"/>
                        <a:pt x="418" y="89"/>
                      </a:cubicBezTo>
                      <a:close/>
                    </a:path>
                  </a:pathLst>
                </a:custGeom>
                <a:blipFill rotWithShape="0">
                  <a:blip r:embed="rId10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 flipH="1">
                  <a:off x="5996160" y="5454720"/>
                  <a:ext cx="634320" cy="470880"/>
                </a:xfrm>
                <a:custGeom>
                  <a:avLst/>
                  <a:gdLst/>
                  <a:ahLst/>
                  <a:rect l="l" t="t" r="r" b="b"/>
                  <a:pathLst>
                    <a:path w="999" h="741">
                      <a:moveTo>
                        <a:pt x="976" y="0"/>
                      </a:moveTo>
                      <a:cubicBezTo>
                        <a:pt x="925" y="1"/>
                        <a:pt x="856" y="18"/>
                        <a:pt x="766" y="52"/>
                      </a:cubicBezTo>
                      <a:cubicBezTo>
                        <a:pt x="676" y="86"/>
                        <a:pt x="541" y="145"/>
                        <a:pt x="436" y="202"/>
                      </a:cubicBezTo>
                      <a:cubicBezTo>
                        <a:pt x="331" y="259"/>
                        <a:pt x="207" y="341"/>
                        <a:pt x="136" y="397"/>
                      </a:cubicBezTo>
                      <a:cubicBezTo>
                        <a:pt x="65" y="453"/>
                        <a:pt x="16" y="500"/>
                        <a:pt x="8" y="540"/>
                      </a:cubicBezTo>
                      <a:cubicBezTo>
                        <a:pt x="0" y="580"/>
                        <a:pt x="45" y="608"/>
                        <a:pt x="91" y="637"/>
                      </a:cubicBezTo>
                      <a:cubicBezTo>
                        <a:pt x="137" y="666"/>
                        <a:pt x="190" y="698"/>
                        <a:pt x="286" y="712"/>
                      </a:cubicBezTo>
                      <a:cubicBezTo>
                        <a:pt x="382" y="726"/>
                        <a:pt x="574" y="741"/>
                        <a:pt x="668" y="720"/>
                      </a:cubicBezTo>
                      <a:cubicBezTo>
                        <a:pt x="762" y="699"/>
                        <a:pt x="799" y="648"/>
                        <a:pt x="848" y="585"/>
                      </a:cubicBezTo>
                      <a:cubicBezTo>
                        <a:pt x="897" y="522"/>
                        <a:pt x="938" y="413"/>
                        <a:pt x="961" y="345"/>
                      </a:cubicBezTo>
                      <a:cubicBezTo>
                        <a:pt x="984" y="277"/>
                        <a:pt x="977" y="226"/>
                        <a:pt x="983" y="180"/>
                      </a:cubicBezTo>
                      <a:cubicBezTo>
                        <a:pt x="989" y="134"/>
                        <a:pt x="999" y="97"/>
                        <a:pt x="998" y="67"/>
                      </a:cubicBezTo>
                      <a:cubicBezTo>
                        <a:pt x="997" y="37"/>
                        <a:pt x="981" y="14"/>
                        <a:pt x="976" y="0"/>
                      </a:cubicBezTo>
                      <a:close/>
                    </a:path>
                  </a:pathLst>
                </a:custGeom>
                <a:blipFill rotWithShape="0">
                  <a:blip r:embed="rId11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5" name=""/>
              <p:cNvGrpSpPr/>
              <p:nvPr/>
            </p:nvGrpSpPr>
            <p:grpSpPr>
              <a:xfrm>
                <a:off x="5170320" y="5454720"/>
                <a:ext cx="717480" cy="558720"/>
                <a:chOff x="5170320" y="5454720"/>
                <a:chExt cx="717480" cy="558720"/>
              </a:xfrm>
            </p:grpSpPr>
            <p:sp>
              <p:nvSpPr>
                <p:cNvPr id="766" name=""/>
                <p:cNvSpPr/>
                <p:nvPr/>
              </p:nvSpPr>
              <p:spPr>
                <a:xfrm>
                  <a:off x="5557680" y="5522040"/>
                  <a:ext cx="330120" cy="491400"/>
                </a:xfrm>
                <a:custGeom>
                  <a:avLst/>
                  <a:gdLst/>
                  <a:ahLst/>
                  <a:rect l="l" t="t" r="r" b="b"/>
                  <a:pathLst>
                    <a:path w="520" h="773">
                      <a:moveTo>
                        <a:pt x="418" y="89"/>
                      </a:moveTo>
                      <a:cubicBezTo>
                        <a:pt x="443" y="178"/>
                        <a:pt x="512" y="504"/>
                        <a:pt x="516" y="614"/>
                      </a:cubicBezTo>
                      <a:cubicBezTo>
                        <a:pt x="520" y="724"/>
                        <a:pt x="482" y="725"/>
                        <a:pt x="441" y="749"/>
                      </a:cubicBezTo>
                      <a:cubicBezTo>
                        <a:pt x="400" y="773"/>
                        <a:pt x="322" y="760"/>
                        <a:pt x="268" y="756"/>
                      </a:cubicBezTo>
                      <a:cubicBezTo>
                        <a:pt x="214" y="752"/>
                        <a:pt x="162" y="743"/>
                        <a:pt x="118" y="726"/>
                      </a:cubicBezTo>
                      <a:cubicBezTo>
                        <a:pt x="74" y="709"/>
                        <a:pt x="0" y="688"/>
                        <a:pt x="6" y="651"/>
                      </a:cubicBezTo>
                      <a:cubicBezTo>
                        <a:pt x="12" y="614"/>
                        <a:pt x="111" y="560"/>
                        <a:pt x="156" y="501"/>
                      </a:cubicBezTo>
                      <a:cubicBezTo>
                        <a:pt x="201" y="442"/>
                        <a:pt x="241" y="369"/>
                        <a:pt x="276" y="299"/>
                      </a:cubicBezTo>
                      <a:cubicBezTo>
                        <a:pt x="311" y="229"/>
                        <a:pt x="342" y="116"/>
                        <a:pt x="366" y="81"/>
                      </a:cubicBezTo>
                      <a:cubicBezTo>
                        <a:pt x="390" y="46"/>
                        <a:pt x="393" y="0"/>
                        <a:pt x="418" y="89"/>
                      </a:cubicBezTo>
                      <a:close/>
                    </a:path>
                  </a:pathLst>
                </a:custGeom>
                <a:blipFill rotWithShape="0">
                  <a:blip r:embed="rId12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5170320" y="5454720"/>
                  <a:ext cx="634320" cy="470880"/>
                </a:xfrm>
                <a:custGeom>
                  <a:avLst/>
                  <a:gdLst/>
                  <a:ahLst/>
                  <a:rect l="l" t="t" r="r" b="b"/>
                  <a:pathLst>
                    <a:path w="999" h="741">
                      <a:moveTo>
                        <a:pt x="976" y="0"/>
                      </a:moveTo>
                      <a:cubicBezTo>
                        <a:pt x="925" y="1"/>
                        <a:pt x="856" y="18"/>
                        <a:pt x="766" y="52"/>
                      </a:cubicBezTo>
                      <a:cubicBezTo>
                        <a:pt x="676" y="86"/>
                        <a:pt x="541" y="145"/>
                        <a:pt x="436" y="202"/>
                      </a:cubicBezTo>
                      <a:cubicBezTo>
                        <a:pt x="331" y="259"/>
                        <a:pt x="207" y="341"/>
                        <a:pt x="136" y="397"/>
                      </a:cubicBezTo>
                      <a:cubicBezTo>
                        <a:pt x="65" y="453"/>
                        <a:pt x="16" y="500"/>
                        <a:pt x="8" y="540"/>
                      </a:cubicBezTo>
                      <a:cubicBezTo>
                        <a:pt x="0" y="580"/>
                        <a:pt x="45" y="608"/>
                        <a:pt x="91" y="637"/>
                      </a:cubicBezTo>
                      <a:cubicBezTo>
                        <a:pt x="137" y="666"/>
                        <a:pt x="190" y="698"/>
                        <a:pt x="286" y="712"/>
                      </a:cubicBezTo>
                      <a:cubicBezTo>
                        <a:pt x="382" y="726"/>
                        <a:pt x="574" y="741"/>
                        <a:pt x="668" y="720"/>
                      </a:cubicBezTo>
                      <a:cubicBezTo>
                        <a:pt x="762" y="699"/>
                        <a:pt x="799" y="648"/>
                        <a:pt x="848" y="585"/>
                      </a:cubicBezTo>
                      <a:cubicBezTo>
                        <a:pt x="897" y="522"/>
                        <a:pt x="938" y="413"/>
                        <a:pt x="961" y="345"/>
                      </a:cubicBezTo>
                      <a:cubicBezTo>
                        <a:pt x="984" y="277"/>
                        <a:pt x="977" y="226"/>
                        <a:pt x="983" y="180"/>
                      </a:cubicBezTo>
                      <a:cubicBezTo>
                        <a:pt x="989" y="134"/>
                        <a:pt x="999" y="97"/>
                        <a:pt x="998" y="67"/>
                      </a:cubicBezTo>
                      <a:cubicBezTo>
                        <a:pt x="997" y="37"/>
                        <a:pt x="981" y="14"/>
                        <a:pt x="976" y="0"/>
                      </a:cubicBezTo>
                      <a:close/>
                    </a:path>
                  </a:pathLst>
                </a:custGeom>
                <a:blipFill rotWithShape="0">
                  <a:blip r:embed="rId13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68" name=""/>
          <p:cNvSpPr/>
          <p:nvPr/>
        </p:nvSpPr>
        <p:spPr>
          <a:xfrm>
            <a:off x="6718320" y="5541840"/>
            <a:ext cx="514440" cy="228600"/>
          </a:xfrm>
          <a:prstGeom prst="rightArrow">
            <a:avLst>
              <a:gd name="adj1" fmla="val 50000"/>
              <a:gd name="adj2" fmla="val 56260"/>
            </a:avLst>
          </a:prstGeom>
          <a:solidFill>
            <a:srgbClr val="00cccc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14"/>
          <a:stretch/>
        </p:blipFill>
        <p:spPr>
          <a:xfrm>
            <a:off x="307800" y="1528920"/>
            <a:ext cx="804960" cy="48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cc"/>
                </a:solidFill>
                <a:latin typeface="Eras Bold ITC"/>
              </a:rPr>
              <a:t>Works Cited</a:t>
            </a: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Franklin Gothic Heavy"/>
              </a:rPr>
              <a:t>“</a:t>
            </a:r>
            <a:r>
              <a:rPr b="0" lang="en-US" sz="2400" spc="-1" strike="noStrike">
                <a:solidFill>
                  <a:srgbClr val="00ffff"/>
                </a:solidFill>
                <a:latin typeface="Franklin Gothic Heavy"/>
              </a:rPr>
              <a:t>Geographic Distribution of Organisms” photo: Miller, Kenneth and Levine, Joseph.  (2004). </a:t>
            </a:r>
            <a:r>
              <a:rPr b="0" i="1" lang="en-US" sz="2400" spc="-1" strike="noStrike">
                <a:solidFill>
                  <a:srgbClr val="00ffff"/>
                </a:solidFill>
                <a:latin typeface="Franklin Gothic Heavy"/>
              </a:rPr>
              <a:t>Biology</a:t>
            </a:r>
            <a:r>
              <a:rPr b="0" lang="en-US" sz="2400" spc="-1" strike="noStrike">
                <a:solidFill>
                  <a:srgbClr val="00ffff"/>
                </a:solidFill>
                <a:latin typeface="Franklin Gothic Heavy"/>
              </a:rPr>
              <a:t>.  Prentice Hall.  </a:t>
            </a:r>
            <a:endParaRPr b="0" lang="en-US" sz="2400" spc="-1" strike="noStrike">
              <a:solidFill>
                <a:srgbClr val="00ffff"/>
              </a:solidFill>
              <a:latin typeface="Franklin Gothic Heavy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82320" y="718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ffff"/>
                </a:solidFill>
                <a:latin typeface="Arial"/>
                <a:ea typeface="Arial"/>
              </a:rPr>
              <a:t>EVOLUTION IS</a:t>
            </a: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2520" y="2525400"/>
            <a:ext cx="7772400" cy="2197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ffff"/>
                </a:solidFill>
                <a:latin typeface="Arial"/>
                <a:ea typeface="Arial"/>
              </a:rPr>
              <a:t>Genetic change in a population through time</a:t>
            </a:r>
            <a:r>
              <a:rPr b="1" lang="en-US" sz="4800" spc="-1" strike="noStrike">
                <a:solidFill>
                  <a:srgbClr val="00ffff"/>
                </a:solidFill>
                <a:latin typeface="Eras Bold ITC"/>
              </a:rPr>
              <a:t>.</a:t>
            </a:r>
            <a:endParaRPr b="0" lang="en-US" sz="4800" spc="-1" strike="noStrike">
              <a:solidFill>
                <a:srgbClr val="00ffff"/>
              </a:solidFill>
              <a:latin typeface="Franklin Gothic Heavy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11040" y="2703600"/>
            <a:ext cx="804960" cy="48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82320" y="117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cc"/>
                </a:solidFill>
                <a:latin typeface="Eras Bold ITC"/>
              </a:rPr>
              <a:t>Charles Darwin</a:t>
            </a: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74400" y="1174680"/>
            <a:ext cx="7380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On his journey around the world, Darwin found evidence of gradual change (evolution).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2640" y="2774520"/>
            <a:ext cx="4119480" cy="39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Darwin cited evidences he found in fossil records, geographic distribution and homologous structures.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63760" y="2800440"/>
            <a:ext cx="2965320" cy="3849480"/>
            <a:chOff x="1463760" y="2800440"/>
            <a:chExt cx="2965320" cy="38494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477800" y="2800440"/>
              <a:ext cx="2951280" cy="384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" name=""/>
            <p:cNvGrpSpPr/>
            <p:nvPr/>
          </p:nvGrpSpPr>
          <p:grpSpPr>
            <a:xfrm>
              <a:off x="1463760" y="2805120"/>
              <a:ext cx="2925720" cy="3838680"/>
              <a:chOff x="1463760" y="2805120"/>
              <a:chExt cx="2925720" cy="3838680"/>
            </a:xfrm>
          </p:grpSpPr>
          <p:sp>
            <p:nvSpPr>
              <p:cNvPr id="104" name=""/>
              <p:cNvSpPr/>
              <p:nvPr/>
            </p:nvSpPr>
            <p:spPr>
              <a:xfrm>
                <a:off x="1463760" y="2805120"/>
                <a:ext cx="2925720" cy="3838680"/>
              </a:xfrm>
              <a:prstGeom prst="rect">
                <a:avLst/>
              </a:prstGeom>
              <a:noFill/>
              <a:ln w="76320">
                <a:solidFill>
                  <a:srgbClr val="061b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500120" y="2833560"/>
                <a:ext cx="2852640" cy="3781440"/>
              </a:xfrm>
              <a:prstGeom prst="rect">
                <a:avLst/>
              </a:prstGeom>
              <a:noFill/>
              <a:ln w="76320">
                <a:solidFill>
                  <a:srgbClr val="061b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0000" y="139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cc"/>
                </a:solidFill>
                <a:latin typeface="Eras Bold ITC"/>
              </a:rPr>
              <a:t>Evidences of Evolution</a:t>
            </a: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95200" y="1326960"/>
            <a:ext cx="7616520" cy="14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Franklin Gothic Heavy"/>
              </a:rPr>
              <a:t>Today most evidences for evolution are grouped into five main categories:</a:t>
            </a:r>
            <a:endParaRPr b="0" lang="en-US" sz="40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39920" y="3085920"/>
            <a:ext cx="603720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Franklin Gothic Heavy"/>
              </a:rPr>
              <a:t>Biochemical</a:t>
            </a:r>
            <a:endParaRPr b="0" lang="en-US" sz="4000" spc="-1" strike="noStrike">
              <a:solidFill>
                <a:srgbClr val="00ffff"/>
              </a:solidFill>
              <a:latin typeface="Franklin Gothic Heavy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Franklin Gothic Heavy"/>
              </a:rPr>
              <a:t>Fossil Record</a:t>
            </a:r>
            <a:endParaRPr b="0" lang="en-US" sz="4000" spc="-1" strike="noStrike">
              <a:solidFill>
                <a:srgbClr val="00ffff"/>
              </a:solidFill>
              <a:latin typeface="Franklin Gothic Heavy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Franklin Gothic Heavy"/>
              </a:rPr>
              <a:t>Comparative Anatomy</a:t>
            </a:r>
            <a:endParaRPr b="0" lang="en-US" sz="4000" spc="-1" strike="noStrike">
              <a:solidFill>
                <a:srgbClr val="00ffff"/>
              </a:solidFill>
              <a:latin typeface="Franklin Gothic Heavy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Franklin Gothic Heavy"/>
              </a:rPr>
              <a:t>Biogeography</a:t>
            </a:r>
            <a:endParaRPr b="0" lang="en-US" sz="4000" spc="-1" strike="noStrike">
              <a:solidFill>
                <a:srgbClr val="00ffff"/>
              </a:solidFill>
              <a:latin typeface="Franklin Gothic Heavy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Franklin Gothic Heavy"/>
              </a:rPr>
              <a:t>Observable Events</a:t>
            </a:r>
            <a:endParaRPr b="0" lang="en-US" sz="4000" spc="-1" strike="noStrike">
              <a:solidFill>
                <a:srgbClr val="00ffff"/>
              </a:solidFill>
              <a:latin typeface="Franklin Gothic Heavy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82320" y="1616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cc"/>
                </a:solidFill>
                <a:latin typeface="Eras Bold ITC"/>
              </a:rPr>
              <a:t>1 - FOSSIL RECORD</a:t>
            </a: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3480" y="1246320"/>
            <a:ext cx="7553160" cy="20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Paleontology – study of fossils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Fossil – remains or traces of an organism that lived long ago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257120" y="3136680"/>
            <a:ext cx="4771800" cy="32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Remains: ex. bone, tooth, or shell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Traces: ex. burrow, footprint, or imprint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164280" y="3552840"/>
            <a:ext cx="2824200" cy="232740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33360" y="1389240"/>
            <a:ext cx="804960" cy="4824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333360" y="2057400"/>
            <a:ext cx="804960" cy="482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333360" y="3262320"/>
            <a:ext cx="804960" cy="482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333360" y="4465800"/>
            <a:ext cx="804960" cy="48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82320" y="139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cc"/>
                </a:solidFill>
                <a:latin typeface="Eras Bold ITC"/>
              </a:rPr>
              <a:t>1 - FOSSIL RECORD</a:t>
            </a: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17600" y="1192320"/>
            <a:ext cx="76644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Most fossils are found in layered sedimentary rock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55720" y="3681360"/>
            <a:ext cx="3489480" cy="23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Oldest fossils are on the lowest layer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86080" y="3117960"/>
            <a:ext cx="3939480" cy="3579840"/>
            <a:chOff x="1486080" y="3117960"/>
            <a:chExt cx="3939480" cy="3579840"/>
          </a:xfrm>
        </p:grpSpPr>
        <p:sp>
          <p:nvSpPr>
            <p:cNvPr id="121" name=""/>
            <p:cNvSpPr/>
            <p:nvPr/>
          </p:nvSpPr>
          <p:spPr>
            <a:xfrm>
              <a:off x="1566000" y="6186240"/>
              <a:ext cx="3859560" cy="511560"/>
            </a:xfrm>
            <a:custGeom>
              <a:avLst/>
              <a:gdLst/>
              <a:ahLst/>
              <a:rect l="l" t="t" r="r" b="b"/>
              <a:pathLst>
                <a:path w="6735" h="892">
                  <a:moveTo>
                    <a:pt x="6715" y="852"/>
                  </a:moveTo>
                  <a:cubicBezTo>
                    <a:pt x="6695" y="812"/>
                    <a:pt x="6553" y="655"/>
                    <a:pt x="6490" y="612"/>
                  </a:cubicBezTo>
                  <a:cubicBezTo>
                    <a:pt x="6427" y="569"/>
                    <a:pt x="6392" y="644"/>
                    <a:pt x="6340" y="597"/>
                  </a:cubicBezTo>
                  <a:cubicBezTo>
                    <a:pt x="6288" y="550"/>
                    <a:pt x="6227" y="377"/>
                    <a:pt x="6175" y="327"/>
                  </a:cubicBezTo>
                  <a:cubicBezTo>
                    <a:pt x="6123" y="277"/>
                    <a:pt x="6072" y="344"/>
                    <a:pt x="6025" y="297"/>
                  </a:cubicBezTo>
                  <a:cubicBezTo>
                    <a:pt x="5978" y="250"/>
                    <a:pt x="5957" y="84"/>
                    <a:pt x="5890" y="42"/>
                  </a:cubicBezTo>
                  <a:cubicBezTo>
                    <a:pt x="5823" y="0"/>
                    <a:pt x="5922" y="25"/>
                    <a:pt x="5620" y="42"/>
                  </a:cubicBezTo>
                  <a:cubicBezTo>
                    <a:pt x="5318" y="59"/>
                    <a:pt x="4555" y="125"/>
                    <a:pt x="4075" y="147"/>
                  </a:cubicBezTo>
                  <a:cubicBezTo>
                    <a:pt x="3595" y="169"/>
                    <a:pt x="3192" y="167"/>
                    <a:pt x="2740" y="177"/>
                  </a:cubicBezTo>
                  <a:cubicBezTo>
                    <a:pt x="2288" y="187"/>
                    <a:pt x="1782" y="202"/>
                    <a:pt x="1360" y="207"/>
                  </a:cubicBezTo>
                  <a:cubicBezTo>
                    <a:pt x="938" y="212"/>
                    <a:pt x="410" y="185"/>
                    <a:pt x="205" y="207"/>
                  </a:cubicBezTo>
                  <a:cubicBezTo>
                    <a:pt x="0" y="229"/>
                    <a:pt x="143" y="245"/>
                    <a:pt x="130" y="342"/>
                  </a:cubicBezTo>
                  <a:cubicBezTo>
                    <a:pt x="117" y="439"/>
                    <a:pt x="85" y="710"/>
                    <a:pt x="130" y="792"/>
                  </a:cubicBezTo>
                  <a:cubicBezTo>
                    <a:pt x="175" y="874"/>
                    <a:pt x="135" y="837"/>
                    <a:pt x="400" y="837"/>
                  </a:cubicBezTo>
                  <a:cubicBezTo>
                    <a:pt x="665" y="837"/>
                    <a:pt x="1120" y="795"/>
                    <a:pt x="1720" y="792"/>
                  </a:cubicBezTo>
                  <a:cubicBezTo>
                    <a:pt x="2320" y="789"/>
                    <a:pt x="3443" y="820"/>
                    <a:pt x="4000" y="822"/>
                  </a:cubicBezTo>
                  <a:cubicBezTo>
                    <a:pt x="4557" y="824"/>
                    <a:pt x="4758" y="809"/>
                    <a:pt x="5065" y="807"/>
                  </a:cubicBezTo>
                  <a:cubicBezTo>
                    <a:pt x="5372" y="805"/>
                    <a:pt x="5620" y="802"/>
                    <a:pt x="5845" y="807"/>
                  </a:cubicBezTo>
                  <a:cubicBezTo>
                    <a:pt x="6070" y="812"/>
                    <a:pt x="6288" y="830"/>
                    <a:pt x="6415" y="837"/>
                  </a:cubicBezTo>
                  <a:cubicBezTo>
                    <a:pt x="6542" y="844"/>
                    <a:pt x="6560" y="849"/>
                    <a:pt x="6610" y="852"/>
                  </a:cubicBezTo>
                  <a:cubicBezTo>
                    <a:pt x="6660" y="855"/>
                    <a:pt x="6735" y="892"/>
                    <a:pt x="6715" y="852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85080" y="5530680"/>
              <a:ext cx="3322080" cy="767160"/>
            </a:xfrm>
            <a:custGeom>
              <a:avLst/>
              <a:gdLst/>
              <a:ahLst/>
              <a:rect l="l" t="t" r="r" b="b"/>
              <a:pathLst>
                <a:path w="5797" h="1338">
                  <a:moveTo>
                    <a:pt x="5782" y="1125"/>
                  </a:moveTo>
                  <a:cubicBezTo>
                    <a:pt x="5797" y="1068"/>
                    <a:pt x="5784" y="930"/>
                    <a:pt x="5767" y="840"/>
                  </a:cubicBezTo>
                  <a:cubicBezTo>
                    <a:pt x="5750" y="750"/>
                    <a:pt x="5697" y="667"/>
                    <a:pt x="5677" y="585"/>
                  </a:cubicBezTo>
                  <a:cubicBezTo>
                    <a:pt x="5657" y="503"/>
                    <a:pt x="5677" y="395"/>
                    <a:pt x="5647" y="345"/>
                  </a:cubicBezTo>
                  <a:cubicBezTo>
                    <a:pt x="5617" y="295"/>
                    <a:pt x="5524" y="337"/>
                    <a:pt x="5497" y="285"/>
                  </a:cubicBezTo>
                  <a:cubicBezTo>
                    <a:pt x="5470" y="233"/>
                    <a:pt x="5562" y="55"/>
                    <a:pt x="5482" y="30"/>
                  </a:cubicBezTo>
                  <a:cubicBezTo>
                    <a:pt x="5402" y="5"/>
                    <a:pt x="5264" y="125"/>
                    <a:pt x="5017" y="135"/>
                  </a:cubicBezTo>
                  <a:cubicBezTo>
                    <a:pt x="4770" y="145"/>
                    <a:pt x="4397" y="85"/>
                    <a:pt x="3997" y="90"/>
                  </a:cubicBezTo>
                  <a:cubicBezTo>
                    <a:pt x="3597" y="95"/>
                    <a:pt x="3047" y="155"/>
                    <a:pt x="2617" y="165"/>
                  </a:cubicBezTo>
                  <a:cubicBezTo>
                    <a:pt x="2187" y="175"/>
                    <a:pt x="1759" y="170"/>
                    <a:pt x="1417" y="150"/>
                  </a:cubicBezTo>
                  <a:cubicBezTo>
                    <a:pt x="1075" y="130"/>
                    <a:pt x="757" y="62"/>
                    <a:pt x="562" y="45"/>
                  </a:cubicBezTo>
                  <a:cubicBezTo>
                    <a:pt x="367" y="28"/>
                    <a:pt x="327" y="45"/>
                    <a:pt x="247" y="45"/>
                  </a:cubicBezTo>
                  <a:cubicBezTo>
                    <a:pt x="167" y="45"/>
                    <a:pt x="122" y="0"/>
                    <a:pt x="82" y="45"/>
                  </a:cubicBezTo>
                  <a:cubicBezTo>
                    <a:pt x="42" y="90"/>
                    <a:pt x="14" y="205"/>
                    <a:pt x="7" y="315"/>
                  </a:cubicBezTo>
                  <a:cubicBezTo>
                    <a:pt x="0" y="425"/>
                    <a:pt x="32" y="593"/>
                    <a:pt x="37" y="705"/>
                  </a:cubicBezTo>
                  <a:cubicBezTo>
                    <a:pt x="42" y="817"/>
                    <a:pt x="37" y="908"/>
                    <a:pt x="37" y="990"/>
                  </a:cubicBezTo>
                  <a:cubicBezTo>
                    <a:pt x="37" y="1072"/>
                    <a:pt x="34" y="1145"/>
                    <a:pt x="37" y="1200"/>
                  </a:cubicBezTo>
                  <a:cubicBezTo>
                    <a:pt x="40" y="1255"/>
                    <a:pt x="22" y="1302"/>
                    <a:pt x="52" y="1320"/>
                  </a:cubicBezTo>
                  <a:cubicBezTo>
                    <a:pt x="82" y="1338"/>
                    <a:pt x="72" y="1312"/>
                    <a:pt x="217" y="1305"/>
                  </a:cubicBezTo>
                  <a:cubicBezTo>
                    <a:pt x="362" y="1298"/>
                    <a:pt x="552" y="1275"/>
                    <a:pt x="922" y="1275"/>
                  </a:cubicBezTo>
                  <a:cubicBezTo>
                    <a:pt x="1292" y="1275"/>
                    <a:pt x="1945" y="1307"/>
                    <a:pt x="2437" y="1305"/>
                  </a:cubicBezTo>
                  <a:cubicBezTo>
                    <a:pt x="2929" y="1303"/>
                    <a:pt x="3412" y="1275"/>
                    <a:pt x="3877" y="1260"/>
                  </a:cubicBezTo>
                  <a:cubicBezTo>
                    <a:pt x="4342" y="1245"/>
                    <a:pt x="4927" y="1227"/>
                    <a:pt x="5227" y="1215"/>
                  </a:cubicBezTo>
                  <a:cubicBezTo>
                    <a:pt x="5527" y="1203"/>
                    <a:pt x="5582" y="1202"/>
                    <a:pt x="5677" y="1185"/>
                  </a:cubicBezTo>
                  <a:cubicBezTo>
                    <a:pt x="5772" y="1168"/>
                    <a:pt x="5767" y="1182"/>
                    <a:pt x="5782" y="1125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34680" y="5004360"/>
              <a:ext cx="3157560" cy="619200"/>
            </a:xfrm>
            <a:custGeom>
              <a:avLst/>
              <a:gdLst/>
              <a:ahLst/>
              <a:rect l="l" t="t" r="r" b="b"/>
              <a:pathLst>
                <a:path w="5510" h="1080">
                  <a:moveTo>
                    <a:pt x="5510" y="843"/>
                  </a:moveTo>
                  <a:cubicBezTo>
                    <a:pt x="5510" y="793"/>
                    <a:pt x="5500" y="698"/>
                    <a:pt x="5450" y="618"/>
                  </a:cubicBezTo>
                  <a:cubicBezTo>
                    <a:pt x="5400" y="538"/>
                    <a:pt x="5270" y="433"/>
                    <a:pt x="5210" y="363"/>
                  </a:cubicBezTo>
                  <a:cubicBezTo>
                    <a:pt x="5150" y="293"/>
                    <a:pt x="5120" y="253"/>
                    <a:pt x="5090" y="198"/>
                  </a:cubicBezTo>
                  <a:cubicBezTo>
                    <a:pt x="5060" y="143"/>
                    <a:pt x="5125" y="55"/>
                    <a:pt x="5030" y="33"/>
                  </a:cubicBezTo>
                  <a:cubicBezTo>
                    <a:pt x="4935" y="11"/>
                    <a:pt x="4785" y="68"/>
                    <a:pt x="4520" y="63"/>
                  </a:cubicBezTo>
                  <a:cubicBezTo>
                    <a:pt x="4255" y="58"/>
                    <a:pt x="3772" y="3"/>
                    <a:pt x="3440" y="3"/>
                  </a:cubicBezTo>
                  <a:cubicBezTo>
                    <a:pt x="3108" y="3"/>
                    <a:pt x="2785" y="50"/>
                    <a:pt x="2525" y="63"/>
                  </a:cubicBezTo>
                  <a:cubicBezTo>
                    <a:pt x="2265" y="76"/>
                    <a:pt x="2105" y="85"/>
                    <a:pt x="1880" y="78"/>
                  </a:cubicBezTo>
                  <a:cubicBezTo>
                    <a:pt x="1655" y="71"/>
                    <a:pt x="1382" y="30"/>
                    <a:pt x="1175" y="18"/>
                  </a:cubicBezTo>
                  <a:cubicBezTo>
                    <a:pt x="968" y="6"/>
                    <a:pt x="805" y="0"/>
                    <a:pt x="635" y="3"/>
                  </a:cubicBezTo>
                  <a:cubicBezTo>
                    <a:pt x="465" y="6"/>
                    <a:pt x="257" y="26"/>
                    <a:pt x="155" y="33"/>
                  </a:cubicBezTo>
                  <a:cubicBezTo>
                    <a:pt x="53" y="40"/>
                    <a:pt x="40" y="20"/>
                    <a:pt x="20" y="48"/>
                  </a:cubicBezTo>
                  <a:cubicBezTo>
                    <a:pt x="0" y="76"/>
                    <a:pt x="37" y="156"/>
                    <a:pt x="35" y="198"/>
                  </a:cubicBezTo>
                  <a:cubicBezTo>
                    <a:pt x="33" y="240"/>
                    <a:pt x="5" y="211"/>
                    <a:pt x="5" y="303"/>
                  </a:cubicBezTo>
                  <a:cubicBezTo>
                    <a:pt x="5" y="395"/>
                    <a:pt x="30" y="638"/>
                    <a:pt x="35" y="753"/>
                  </a:cubicBezTo>
                  <a:cubicBezTo>
                    <a:pt x="40" y="868"/>
                    <a:pt x="18" y="956"/>
                    <a:pt x="35" y="993"/>
                  </a:cubicBezTo>
                  <a:cubicBezTo>
                    <a:pt x="52" y="1030"/>
                    <a:pt x="93" y="988"/>
                    <a:pt x="140" y="978"/>
                  </a:cubicBezTo>
                  <a:cubicBezTo>
                    <a:pt x="187" y="968"/>
                    <a:pt x="175" y="923"/>
                    <a:pt x="320" y="933"/>
                  </a:cubicBezTo>
                  <a:cubicBezTo>
                    <a:pt x="465" y="943"/>
                    <a:pt x="738" y="1018"/>
                    <a:pt x="1010" y="1038"/>
                  </a:cubicBezTo>
                  <a:cubicBezTo>
                    <a:pt x="1282" y="1058"/>
                    <a:pt x="1598" y="1048"/>
                    <a:pt x="1955" y="1053"/>
                  </a:cubicBezTo>
                  <a:cubicBezTo>
                    <a:pt x="2312" y="1058"/>
                    <a:pt x="2733" y="1080"/>
                    <a:pt x="3155" y="1068"/>
                  </a:cubicBezTo>
                  <a:cubicBezTo>
                    <a:pt x="3577" y="1056"/>
                    <a:pt x="4148" y="988"/>
                    <a:pt x="4490" y="978"/>
                  </a:cubicBezTo>
                  <a:cubicBezTo>
                    <a:pt x="4832" y="968"/>
                    <a:pt x="5050" y="1018"/>
                    <a:pt x="5210" y="1008"/>
                  </a:cubicBezTo>
                  <a:cubicBezTo>
                    <a:pt x="5370" y="998"/>
                    <a:pt x="5403" y="953"/>
                    <a:pt x="5450" y="918"/>
                  </a:cubicBezTo>
                  <a:cubicBezTo>
                    <a:pt x="5497" y="883"/>
                    <a:pt x="5510" y="893"/>
                    <a:pt x="5510" y="843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86080" y="4365360"/>
              <a:ext cx="2939760" cy="667800"/>
            </a:xfrm>
            <a:custGeom>
              <a:avLst/>
              <a:gdLst/>
              <a:ahLst/>
              <a:rect l="l" t="t" r="r" b="b"/>
              <a:pathLst>
                <a:path w="5130" h="1165">
                  <a:moveTo>
                    <a:pt x="5115" y="1027"/>
                  </a:moveTo>
                  <a:cubicBezTo>
                    <a:pt x="5130" y="965"/>
                    <a:pt x="5105" y="839"/>
                    <a:pt x="5070" y="742"/>
                  </a:cubicBezTo>
                  <a:cubicBezTo>
                    <a:pt x="5035" y="645"/>
                    <a:pt x="4945" y="539"/>
                    <a:pt x="4905" y="442"/>
                  </a:cubicBezTo>
                  <a:cubicBezTo>
                    <a:pt x="4865" y="345"/>
                    <a:pt x="4872" y="227"/>
                    <a:pt x="4830" y="157"/>
                  </a:cubicBezTo>
                  <a:cubicBezTo>
                    <a:pt x="4788" y="87"/>
                    <a:pt x="4750" y="44"/>
                    <a:pt x="4650" y="22"/>
                  </a:cubicBezTo>
                  <a:cubicBezTo>
                    <a:pt x="4550" y="0"/>
                    <a:pt x="4400" y="17"/>
                    <a:pt x="4230" y="22"/>
                  </a:cubicBezTo>
                  <a:cubicBezTo>
                    <a:pt x="4060" y="27"/>
                    <a:pt x="4057" y="50"/>
                    <a:pt x="3630" y="52"/>
                  </a:cubicBezTo>
                  <a:cubicBezTo>
                    <a:pt x="3203" y="54"/>
                    <a:pt x="2197" y="30"/>
                    <a:pt x="1665" y="37"/>
                  </a:cubicBezTo>
                  <a:cubicBezTo>
                    <a:pt x="1133" y="44"/>
                    <a:pt x="702" y="87"/>
                    <a:pt x="435" y="97"/>
                  </a:cubicBezTo>
                  <a:cubicBezTo>
                    <a:pt x="168" y="107"/>
                    <a:pt x="120" y="20"/>
                    <a:pt x="60" y="97"/>
                  </a:cubicBezTo>
                  <a:cubicBezTo>
                    <a:pt x="0" y="174"/>
                    <a:pt x="75" y="452"/>
                    <a:pt x="75" y="562"/>
                  </a:cubicBezTo>
                  <a:cubicBezTo>
                    <a:pt x="75" y="672"/>
                    <a:pt x="62" y="695"/>
                    <a:pt x="60" y="757"/>
                  </a:cubicBezTo>
                  <a:cubicBezTo>
                    <a:pt x="58" y="819"/>
                    <a:pt x="58" y="875"/>
                    <a:pt x="60" y="937"/>
                  </a:cubicBezTo>
                  <a:cubicBezTo>
                    <a:pt x="62" y="999"/>
                    <a:pt x="52" y="1099"/>
                    <a:pt x="75" y="1132"/>
                  </a:cubicBezTo>
                  <a:cubicBezTo>
                    <a:pt x="98" y="1165"/>
                    <a:pt x="85" y="1132"/>
                    <a:pt x="195" y="1132"/>
                  </a:cubicBezTo>
                  <a:cubicBezTo>
                    <a:pt x="305" y="1132"/>
                    <a:pt x="435" y="1127"/>
                    <a:pt x="735" y="1132"/>
                  </a:cubicBezTo>
                  <a:cubicBezTo>
                    <a:pt x="1035" y="1137"/>
                    <a:pt x="1555" y="1162"/>
                    <a:pt x="1995" y="1162"/>
                  </a:cubicBezTo>
                  <a:cubicBezTo>
                    <a:pt x="2435" y="1162"/>
                    <a:pt x="2995" y="1140"/>
                    <a:pt x="3375" y="1132"/>
                  </a:cubicBezTo>
                  <a:cubicBezTo>
                    <a:pt x="3755" y="1124"/>
                    <a:pt x="4008" y="1119"/>
                    <a:pt x="4275" y="1117"/>
                  </a:cubicBezTo>
                  <a:cubicBezTo>
                    <a:pt x="4542" y="1115"/>
                    <a:pt x="4843" y="1127"/>
                    <a:pt x="4980" y="1117"/>
                  </a:cubicBezTo>
                  <a:cubicBezTo>
                    <a:pt x="5117" y="1107"/>
                    <a:pt x="5100" y="1089"/>
                    <a:pt x="5115" y="1027"/>
                  </a:cubicBez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43320" y="3700440"/>
              <a:ext cx="2645640" cy="732240"/>
            </a:xfrm>
            <a:custGeom>
              <a:avLst/>
              <a:gdLst/>
              <a:ahLst/>
              <a:rect l="l" t="t" r="r" b="b"/>
              <a:pathLst>
                <a:path w="4617" h="1277">
                  <a:moveTo>
                    <a:pt x="4610" y="1152"/>
                  </a:moveTo>
                  <a:cubicBezTo>
                    <a:pt x="4617" y="1122"/>
                    <a:pt x="4545" y="1057"/>
                    <a:pt x="4535" y="1002"/>
                  </a:cubicBezTo>
                  <a:cubicBezTo>
                    <a:pt x="4525" y="947"/>
                    <a:pt x="4553" y="892"/>
                    <a:pt x="4550" y="822"/>
                  </a:cubicBezTo>
                  <a:cubicBezTo>
                    <a:pt x="4547" y="752"/>
                    <a:pt x="4542" y="674"/>
                    <a:pt x="4520" y="582"/>
                  </a:cubicBezTo>
                  <a:cubicBezTo>
                    <a:pt x="4498" y="490"/>
                    <a:pt x="4435" y="354"/>
                    <a:pt x="4415" y="267"/>
                  </a:cubicBezTo>
                  <a:cubicBezTo>
                    <a:pt x="4395" y="180"/>
                    <a:pt x="4430" y="99"/>
                    <a:pt x="4400" y="57"/>
                  </a:cubicBezTo>
                  <a:cubicBezTo>
                    <a:pt x="4370" y="15"/>
                    <a:pt x="4352" y="0"/>
                    <a:pt x="4235" y="12"/>
                  </a:cubicBezTo>
                  <a:cubicBezTo>
                    <a:pt x="4118" y="24"/>
                    <a:pt x="3955" y="92"/>
                    <a:pt x="3695" y="132"/>
                  </a:cubicBezTo>
                  <a:cubicBezTo>
                    <a:pt x="3435" y="172"/>
                    <a:pt x="2962" y="227"/>
                    <a:pt x="2675" y="252"/>
                  </a:cubicBezTo>
                  <a:cubicBezTo>
                    <a:pt x="2388" y="277"/>
                    <a:pt x="2212" y="277"/>
                    <a:pt x="1970" y="282"/>
                  </a:cubicBezTo>
                  <a:cubicBezTo>
                    <a:pt x="1728" y="287"/>
                    <a:pt x="1450" y="282"/>
                    <a:pt x="1220" y="282"/>
                  </a:cubicBezTo>
                  <a:cubicBezTo>
                    <a:pt x="990" y="282"/>
                    <a:pt x="765" y="282"/>
                    <a:pt x="590" y="282"/>
                  </a:cubicBezTo>
                  <a:cubicBezTo>
                    <a:pt x="415" y="282"/>
                    <a:pt x="257" y="277"/>
                    <a:pt x="170" y="282"/>
                  </a:cubicBezTo>
                  <a:cubicBezTo>
                    <a:pt x="83" y="287"/>
                    <a:pt x="88" y="279"/>
                    <a:pt x="65" y="312"/>
                  </a:cubicBezTo>
                  <a:cubicBezTo>
                    <a:pt x="42" y="345"/>
                    <a:pt x="40" y="405"/>
                    <a:pt x="35" y="477"/>
                  </a:cubicBezTo>
                  <a:cubicBezTo>
                    <a:pt x="30" y="549"/>
                    <a:pt x="33" y="645"/>
                    <a:pt x="35" y="747"/>
                  </a:cubicBezTo>
                  <a:cubicBezTo>
                    <a:pt x="37" y="849"/>
                    <a:pt x="47" y="1012"/>
                    <a:pt x="50" y="1092"/>
                  </a:cubicBezTo>
                  <a:cubicBezTo>
                    <a:pt x="53" y="1172"/>
                    <a:pt x="0" y="1197"/>
                    <a:pt x="50" y="1227"/>
                  </a:cubicBezTo>
                  <a:cubicBezTo>
                    <a:pt x="100" y="1257"/>
                    <a:pt x="193" y="1267"/>
                    <a:pt x="350" y="1272"/>
                  </a:cubicBezTo>
                  <a:cubicBezTo>
                    <a:pt x="507" y="1277"/>
                    <a:pt x="700" y="1262"/>
                    <a:pt x="995" y="1257"/>
                  </a:cubicBezTo>
                  <a:cubicBezTo>
                    <a:pt x="1290" y="1252"/>
                    <a:pt x="1805" y="1247"/>
                    <a:pt x="2120" y="1242"/>
                  </a:cubicBezTo>
                  <a:cubicBezTo>
                    <a:pt x="2435" y="1237"/>
                    <a:pt x="2613" y="1237"/>
                    <a:pt x="2885" y="1227"/>
                  </a:cubicBezTo>
                  <a:cubicBezTo>
                    <a:pt x="3157" y="1217"/>
                    <a:pt x="3528" y="1194"/>
                    <a:pt x="3755" y="1182"/>
                  </a:cubicBezTo>
                  <a:cubicBezTo>
                    <a:pt x="3982" y="1170"/>
                    <a:pt x="4128" y="1152"/>
                    <a:pt x="4250" y="1152"/>
                  </a:cubicBezTo>
                  <a:cubicBezTo>
                    <a:pt x="4372" y="1152"/>
                    <a:pt x="4433" y="1180"/>
                    <a:pt x="4490" y="1182"/>
                  </a:cubicBezTo>
                  <a:cubicBezTo>
                    <a:pt x="4547" y="1184"/>
                    <a:pt x="4603" y="1182"/>
                    <a:pt x="4610" y="1152"/>
                  </a:cubicBez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60240" y="3117960"/>
              <a:ext cx="2525400" cy="756720"/>
            </a:xfrm>
            <a:custGeom>
              <a:avLst/>
              <a:gdLst/>
              <a:ahLst/>
              <a:rect l="l" t="t" r="r" b="b"/>
              <a:pathLst>
                <a:path w="4407" h="1320">
                  <a:moveTo>
                    <a:pt x="4400" y="1013"/>
                  </a:moveTo>
                  <a:cubicBezTo>
                    <a:pt x="4393" y="968"/>
                    <a:pt x="4207" y="845"/>
                    <a:pt x="4145" y="743"/>
                  </a:cubicBezTo>
                  <a:cubicBezTo>
                    <a:pt x="4083" y="641"/>
                    <a:pt x="4045" y="503"/>
                    <a:pt x="4025" y="398"/>
                  </a:cubicBezTo>
                  <a:cubicBezTo>
                    <a:pt x="4005" y="293"/>
                    <a:pt x="4105" y="178"/>
                    <a:pt x="4025" y="113"/>
                  </a:cubicBezTo>
                  <a:cubicBezTo>
                    <a:pt x="3945" y="48"/>
                    <a:pt x="3755" y="0"/>
                    <a:pt x="3545" y="8"/>
                  </a:cubicBezTo>
                  <a:cubicBezTo>
                    <a:pt x="3335" y="16"/>
                    <a:pt x="3020" y="145"/>
                    <a:pt x="2765" y="158"/>
                  </a:cubicBezTo>
                  <a:cubicBezTo>
                    <a:pt x="2510" y="171"/>
                    <a:pt x="2252" y="103"/>
                    <a:pt x="2015" y="83"/>
                  </a:cubicBezTo>
                  <a:cubicBezTo>
                    <a:pt x="1778" y="63"/>
                    <a:pt x="1552" y="23"/>
                    <a:pt x="1340" y="38"/>
                  </a:cubicBezTo>
                  <a:cubicBezTo>
                    <a:pt x="1128" y="53"/>
                    <a:pt x="940" y="170"/>
                    <a:pt x="740" y="173"/>
                  </a:cubicBezTo>
                  <a:cubicBezTo>
                    <a:pt x="540" y="176"/>
                    <a:pt x="260" y="48"/>
                    <a:pt x="140" y="53"/>
                  </a:cubicBezTo>
                  <a:cubicBezTo>
                    <a:pt x="20" y="58"/>
                    <a:pt x="40" y="153"/>
                    <a:pt x="20" y="203"/>
                  </a:cubicBezTo>
                  <a:cubicBezTo>
                    <a:pt x="0" y="253"/>
                    <a:pt x="22" y="261"/>
                    <a:pt x="20" y="353"/>
                  </a:cubicBezTo>
                  <a:cubicBezTo>
                    <a:pt x="18" y="445"/>
                    <a:pt x="5" y="641"/>
                    <a:pt x="5" y="758"/>
                  </a:cubicBezTo>
                  <a:cubicBezTo>
                    <a:pt x="5" y="875"/>
                    <a:pt x="18" y="981"/>
                    <a:pt x="20" y="1058"/>
                  </a:cubicBezTo>
                  <a:cubicBezTo>
                    <a:pt x="22" y="1135"/>
                    <a:pt x="10" y="1181"/>
                    <a:pt x="20" y="1223"/>
                  </a:cubicBezTo>
                  <a:cubicBezTo>
                    <a:pt x="30" y="1265"/>
                    <a:pt x="28" y="1306"/>
                    <a:pt x="80" y="1313"/>
                  </a:cubicBezTo>
                  <a:cubicBezTo>
                    <a:pt x="132" y="1320"/>
                    <a:pt x="175" y="1273"/>
                    <a:pt x="335" y="1268"/>
                  </a:cubicBezTo>
                  <a:cubicBezTo>
                    <a:pt x="495" y="1263"/>
                    <a:pt x="740" y="1280"/>
                    <a:pt x="1040" y="1283"/>
                  </a:cubicBezTo>
                  <a:cubicBezTo>
                    <a:pt x="1340" y="1286"/>
                    <a:pt x="1790" y="1293"/>
                    <a:pt x="2135" y="1283"/>
                  </a:cubicBezTo>
                  <a:cubicBezTo>
                    <a:pt x="2480" y="1273"/>
                    <a:pt x="2833" y="1255"/>
                    <a:pt x="3110" y="1223"/>
                  </a:cubicBezTo>
                  <a:cubicBezTo>
                    <a:pt x="3387" y="1191"/>
                    <a:pt x="3620" y="1123"/>
                    <a:pt x="3800" y="1088"/>
                  </a:cubicBezTo>
                  <a:cubicBezTo>
                    <a:pt x="3980" y="1053"/>
                    <a:pt x="4100" y="1025"/>
                    <a:pt x="4190" y="1013"/>
                  </a:cubicBezTo>
                  <a:cubicBezTo>
                    <a:pt x="4280" y="1001"/>
                    <a:pt x="4407" y="1058"/>
                    <a:pt x="4400" y="1013"/>
                  </a:cubicBez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2404440" y="3234600"/>
              <a:ext cx="1142640" cy="413280"/>
              <a:chOff x="2404440" y="3234600"/>
              <a:chExt cx="1142640" cy="41328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2639160" y="3290040"/>
                <a:ext cx="730080" cy="295200"/>
                <a:chOff x="2639160" y="3290040"/>
                <a:chExt cx="730080" cy="2952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639160" y="3403080"/>
                  <a:ext cx="719640" cy="71640"/>
                </a:xfrm>
                <a:custGeom>
                  <a:avLst/>
                  <a:gdLst/>
                  <a:ahLst/>
                  <a:rect l="l" t="t" r="r" b="b"/>
                  <a:pathLst>
                    <a:path w="1687" h="128">
                      <a:moveTo>
                        <a:pt x="1687" y="68"/>
                      </a:moveTo>
                      <a:cubicBezTo>
                        <a:pt x="1637" y="67"/>
                        <a:pt x="1588" y="67"/>
                        <a:pt x="1507" y="60"/>
                      </a:cubicBezTo>
                      <a:cubicBezTo>
                        <a:pt x="1426" y="53"/>
                        <a:pt x="1297" y="33"/>
                        <a:pt x="1200" y="23"/>
                      </a:cubicBezTo>
                      <a:cubicBezTo>
                        <a:pt x="1103" y="13"/>
                        <a:pt x="1031" y="0"/>
                        <a:pt x="922" y="0"/>
                      </a:cubicBezTo>
                      <a:cubicBezTo>
                        <a:pt x="813" y="0"/>
                        <a:pt x="676" y="8"/>
                        <a:pt x="547" y="23"/>
                      </a:cubicBezTo>
                      <a:cubicBezTo>
                        <a:pt x="418" y="38"/>
                        <a:pt x="241" y="73"/>
                        <a:pt x="150" y="90"/>
                      </a:cubicBezTo>
                      <a:cubicBezTo>
                        <a:pt x="59" y="107"/>
                        <a:pt x="31" y="120"/>
                        <a:pt x="0" y="12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16200000">
                  <a:off x="2604240" y="340884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rot="16200000">
                  <a:off x="2658960" y="338328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rot="16200000">
                  <a:off x="2716200" y="337104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16200000">
                  <a:off x="2777040" y="335916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16200000">
                  <a:off x="2822760" y="3342240"/>
                  <a:ext cx="218880" cy="114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rot="16200000">
                  <a:off x="2871000" y="3356640"/>
                  <a:ext cx="244440" cy="113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23608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236086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rot="16200000">
                  <a:off x="2956320" y="333684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rot="16200000">
                  <a:off x="3017160" y="336096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rot="16200000">
                  <a:off x="3084120" y="336096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rot="16200000">
                  <a:off x="3135600" y="337392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rot="16200000">
                  <a:off x="3211920" y="3375720"/>
                  <a:ext cx="133560" cy="77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rot="16200000">
                  <a:off x="3259800" y="3383640"/>
                  <a:ext cx="133560" cy="77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 rot="5400000">
                  <a:off x="2607840" y="343044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 rot="5400000">
                  <a:off x="2662560" y="341532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V="1" rot="5400000">
                  <a:off x="2720160" y="340092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V="1" rot="5400000">
                  <a:off x="2777400" y="338112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V="1" rot="5400000">
                  <a:off x="2826720" y="3368880"/>
                  <a:ext cx="218880" cy="114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V="1" rot="5400000">
                  <a:off x="2874600" y="3364200"/>
                  <a:ext cx="244440" cy="113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23608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236086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 rot="5400000">
                  <a:off x="2959920" y="335880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V="1" rot="5400000">
                  <a:off x="3021120" y="336132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V="1" rot="5400000">
                  <a:off x="3088080" y="336132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V="1" rot="5400000">
                  <a:off x="3139200" y="337104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 rot="5400000">
                  <a:off x="3215520" y="3407040"/>
                  <a:ext cx="133560" cy="78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 rot="5400000">
                  <a:off x="3263760" y="3390480"/>
                  <a:ext cx="133560" cy="77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2404440" y="3334320"/>
                <a:ext cx="237600" cy="313560"/>
              </a:xfrm>
              <a:custGeom>
                <a:avLst/>
                <a:gdLst/>
                <a:ahLst/>
                <a:rect l="l" t="t" r="r" b="b"/>
                <a:pathLst>
                  <a:path w="557" h="558">
                    <a:moveTo>
                      <a:pt x="542" y="369"/>
                    </a:moveTo>
                    <a:cubicBezTo>
                      <a:pt x="527" y="341"/>
                      <a:pt x="473" y="284"/>
                      <a:pt x="467" y="249"/>
                    </a:cubicBezTo>
                    <a:cubicBezTo>
                      <a:pt x="461" y="214"/>
                      <a:pt x="496" y="193"/>
                      <a:pt x="505" y="159"/>
                    </a:cubicBezTo>
                    <a:cubicBezTo>
                      <a:pt x="514" y="125"/>
                      <a:pt x="541" y="71"/>
                      <a:pt x="520" y="46"/>
                    </a:cubicBezTo>
                    <a:cubicBezTo>
                      <a:pt x="499" y="21"/>
                      <a:pt x="441" y="0"/>
                      <a:pt x="377" y="9"/>
                    </a:cubicBezTo>
                    <a:cubicBezTo>
                      <a:pt x="313" y="18"/>
                      <a:pt x="191" y="65"/>
                      <a:pt x="137" y="99"/>
                    </a:cubicBezTo>
                    <a:cubicBezTo>
                      <a:pt x="83" y="133"/>
                      <a:pt x="75" y="175"/>
                      <a:pt x="55" y="211"/>
                    </a:cubicBezTo>
                    <a:cubicBezTo>
                      <a:pt x="35" y="247"/>
                      <a:pt x="0" y="289"/>
                      <a:pt x="17" y="316"/>
                    </a:cubicBezTo>
                    <a:cubicBezTo>
                      <a:pt x="34" y="343"/>
                      <a:pt x="110" y="361"/>
                      <a:pt x="160" y="376"/>
                    </a:cubicBezTo>
                    <a:cubicBezTo>
                      <a:pt x="210" y="391"/>
                      <a:pt x="297" y="392"/>
                      <a:pt x="317" y="406"/>
                    </a:cubicBezTo>
                    <a:cubicBezTo>
                      <a:pt x="337" y="420"/>
                      <a:pt x="309" y="448"/>
                      <a:pt x="280" y="459"/>
                    </a:cubicBezTo>
                    <a:cubicBezTo>
                      <a:pt x="251" y="470"/>
                      <a:pt x="175" y="467"/>
                      <a:pt x="145" y="474"/>
                    </a:cubicBezTo>
                    <a:cubicBezTo>
                      <a:pt x="115" y="481"/>
                      <a:pt x="100" y="492"/>
                      <a:pt x="100" y="504"/>
                    </a:cubicBezTo>
                    <a:cubicBezTo>
                      <a:pt x="100" y="516"/>
                      <a:pt x="119" y="542"/>
                      <a:pt x="145" y="549"/>
                    </a:cubicBezTo>
                    <a:cubicBezTo>
                      <a:pt x="171" y="556"/>
                      <a:pt x="208" y="549"/>
                      <a:pt x="257" y="549"/>
                    </a:cubicBezTo>
                    <a:cubicBezTo>
                      <a:pt x="306" y="549"/>
                      <a:pt x="391" y="558"/>
                      <a:pt x="437" y="549"/>
                    </a:cubicBezTo>
                    <a:cubicBezTo>
                      <a:pt x="483" y="540"/>
                      <a:pt x="515" y="518"/>
                      <a:pt x="535" y="496"/>
                    </a:cubicBezTo>
                    <a:cubicBezTo>
                      <a:pt x="555" y="474"/>
                      <a:pt x="557" y="435"/>
                      <a:pt x="557" y="414"/>
                    </a:cubicBezTo>
                    <a:cubicBezTo>
                      <a:pt x="557" y="393"/>
                      <a:pt x="557" y="397"/>
                      <a:pt x="542" y="369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337920" y="3234600"/>
                <a:ext cx="209160" cy="370440"/>
              </a:xfrm>
              <a:custGeom>
                <a:avLst/>
                <a:gdLst/>
                <a:ahLst/>
                <a:rect l="l" t="t" r="r" b="b"/>
                <a:pathLst>
                  <a:path w="569" h="794">
                    <a:moveTo>
                      <a:pt x="17" y="282"/>
                    </a:moveTo>
                    <a:cubicBezTo>
                      <a:pt x="32" y="247"/>
                      <a:pt x="42" y="259"/>
                      <a:pt x="77" y="230"/>
                    </a:cubicBezTo>
                    <a:cubicBezTo>
                      <a:pt x="112" y="201"/>
                      <a:pt x="174" y="148"/>
                      <a:pt x="227" y="110"/>
                    </a:cubicBezTo>
                    <a:cubicBezTo>
                      <a:pt x="280" y="72"/>
                      <a:pt x="345" y="0"/>
                      <a:pt x="392" y="5"/>
                    </a:cubicBezTo>
                    <a:cubicBezTo>
                      <a:pt x="439" y="10"/>
                      <a:pt x="501" y="93"/>
                      <a:pt x="512" y="140"/>
                    </a:cubicBezTo>
                    <a:cubicBezTo>
                      <a:pt x="523" y="187"/>
                      <a:pt x="481" y="234"/>
                      <a:pt x="460" y="290"/>
                    </a:cubicBezTo>
                    <a:cubicBezTo>
                      <a:pt x="439" y="346"/>
                      <a:pt x="369" y="418"/>
                      <a:pt x="385" y="477"/>
                    </a:cubicBezTo>
                    <a:cubicBezTo>
                      <a:pt x="401" y="536"/>
                      <a:pt x="545" y="592"/>
                      <a:pt x="557" y="642"/>
                    </a:cubicBezTo>
                    <a:cubicBezTo>
                      <a:pt x="569" y="692"/>
                      <a:pt x="514" y="760"/>
                      <a:pt x="460" y="777"/>
                    </a:cubicBezTo>
                    <a:cubicBezTo>
                      <a:pt x="406" y="794"/>
                      <a:pt x="308" y="783"/>
                      <a:pt x="235" y="747"/>
                    </a:cubicBezTo>
                    <a:cubicBezTo>
                      <a:pt x="162" y="711"/>
                      <a:pt x="50" y="615"/>
                      <a:pt x="25" y="560"/>
                    </a:cubicBezTo>
                    <a:cubicBezTo>
                      <a:pt x="0" y="505"/>
                      <a:pt x="86" y="463"/>
                      <a:pt x="85" y="417"/>
                    </a:cubicBezTo>
                    <a:cubicBezTo>
                      <a:pt x="84" y="371"/>
                      <a:pt x="31" y="310"/>
                      <a:pt x="17" y="282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474280" y="3427560"/>
                <a:ext cx="38160" cy="46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2093400" y="3921840"/>
              <a:ext cx="519840" cy="431640"/>
              <a:chOff x="2093400" y="3921840"/>
              <a:chExt cx="519840" cy="431640"/>
            </a:xfrm>
          </p:grpSpPr>
          <p:sp>
            <p:nvSpPr>
              <p:cNvPr id="158" name=""/>
              <p:cNvSpPr/>
              <p:nvPr/>
            </p:nvSpPr>
            <p:spPr>
              <a:xfrm>
                <a:off x="2093400" y="3921840"/>
                <a:ext cx="519840" cy="431640"/>
              </a:xfrm>
              <a:custGeom>
                <a:avLst/>
                <a:gdLst/>
                <a:ahLst/>
                <a:rect l="l" t="t" r="r" b="b"/>
                <a:pathLst>
                  <a:path w="907" h="753">
                    <a:moveTo>
                      <a:pt x="638" y="745"/>
                    </a:moveTo>
                    <a:cubicBezTo>
                      <a:pt x="662" y="745"/>
                      <a:pt x="714" y="752"/>
                      <a:pt x="720" y="737"/>
                    </a:cubicBezTo>
                    <a:cubicBezTo>
                      <a:pt x="726" y="722"/>
                      <a:pt x="670" y="682"/>
                      <a:pt x="675" y="655"/>
                    </a:cubicBezTo>
                    <a:cubicBezTo>
                      <a:pt x="680" y="628"/>
                      <a:pt x="724" y="606"/>
                      <a:pt x="750" y="572"/>
                    </a:cubicBezTo>
                    <a:cubicBezTo>
                      <a:pt x="776" y="538"/>
                      <a:pt x="808" y="502"/>
                      <a:pt x="833" y="452"/>
                    </a:cubicBezTo>
                    <a:cubicBezTo>
                      <a:pt x="858" y="402"/>
                      <a:pt x="893" y="309"/>
                      <a:pt x="900" y="272"/>
                    </a:cubicBezTo>
                    <a:cubicBezTo>
                      <a:pt x="907" y="235"/>
                      <a:pt x="884" y="242"/>
                      <a:pt x="878" y="227"/>
                    </a:cubicBezTo>
                    <a:cubicBezTo>
                      <a:pt x="872" y="212"/>
                      <a:pt x="873" y="194"/>
                      <a:pt x="863" y="182"/>
                    </a:cubicBezTo>
                    <a:cubicBezTo>
                      <a:pt x="853" y="170"/>
                      <a:pt x="832" y="154"/>
                      <a:pt x="818" y="152"/>
                    </a:cubicBezTo>
                    <a:cubicBezTo>
                      <a:pt x="804" y="150"/>
                      <a:pt x="787" y="173"/>
                      <a:pt x="780" y="167"/>
                    </a:cubicBezTo>
                    <a:cubicBezTo>
                      <a:pt x="773" y="161"/>
                      <a:pt x="779" y="134"/>
                      <a:pt x="773" y="115"/>
                    </a:cubicBezTo>
                    <a:cubicBezTo>
                      <a:pt x="767" y="96"/>
                      <a:pt x="763" y="69"/>
                      <a:pt x="743" y="55"/>
                    </a:cubicBezTo>
                    <a:cubicBezTo>
                      <a:pt x="723" y="41"/>
                      <a:pt x="673" y="30"/>
                      <a:pt x="653" y="32"/>
                    </a:cubicBezTo>
                    <a:cubicBezTo>
                      <a:pt x="633" y="34"/>
                      <a:pt x="629" y="72"/>
                      <a:pt x="623" y="70"/>
                    </a:cubicBezTo>
                    <a:cubicBezTo>
                      <a:pt x="617" y="68"/>
                      <a:pt x="631" y="24"/>
                      <a:pt x="615" y="17"/>
                    </a:cubicBezTo>
                    <a:cubicBezTo>
                      <a:pt x="599" y="10"/>
                      <a:pt x="545" y="16"/>
                      <a:pt x="525" y="25"/>
                    </a:cubicBezTo>
                    <a:cubicBezTo>
                      <a:pt x="505" y="34"/>
                      <a:pt x="502" y="72"/>
                      <a:pt x="495" y="70"/>
                    </a:cubicBezTo>
                    <a:cubicBezTo>
                      <a:pt x="488" y="68"/>
                      <a:pt x="492" y="20"/>
                      <a:pt x="480" y="10"/>
                    </a:cubicBezTo>
                    <a:cubicBezTo>
                      <a:pt x="468" y="0"/>
                      <a:pt x="443" y="7"/>
                      <a:pt x="420" y="10"/>
                    </a:cubicBezTo>
                    <a:cubicBezTo>
                      <a:pt x="397" y="13"/>
                      <a:pt x="361" y="15"/>
                      <a:pt x="345" y="25"/>
                    </a:cubicBezTo>
                    <a:cubicBezTo>
                      <a:pt x="329" y="35"/>
                      <a:pt x="330" y="72"/>
                      <a:pt x="323" y="70"/>
                    </a:cubicBezTo>
                    <a:cubicBezTo>
                      <a:pt x="316" y="68"/>
                      <a:pt x="320" y="16"/>
                      <a:pt x="300" y="10"/>
                    </a:cubicBezTo>
                    <a:cubicBezTo>
                      <a:pt x="280" y="4"/>
                      <a:pt x="223" y="20"/>
                      <a:pt x="203" y="32"/>
                    </a:cubicBezTo>
                    <a:cubicBezTo>
                      <a:pt x="183" y="44"/>
                      <a:pt x="195" y="79"/>
                      <a:pt x="180" y="85"/>
                    </a:cubicBezTo>
                    <a:cubicBezTo>
                      <a:pt x="165" y="91"/>
                      <a:pt x="135" y="64"/>
                      <a:pt x="113" y="70"/>
                    </a:cubicBezTo>
                    <a:cubicBezTo>
                      <a:pt x="91" y="76"/>
                      <a:pt x="53" y="102"/>
                      <a:pt x="45" y="122"/>
                    </a:cubicBezTo>
                    <a:cubicBezTo>
                      <a:pt x="37" y="142"/>
                      <a:pt x="70" y="176"/>
                      <a:pt x="68" y="190"/>
                    </a:cubicBezTo>
                    <a:cubicBezTo>
                      <a:pt x="66" y="204"/>
                      <a:pt x="41" y="197"/>
                      <a:pt x="30" y="205"/>
                    </a:cubicBezTo>
                    <a:cubicBezTo>
                      <a:pt x="19" y="213"/>
                      <a:pt x="0" y="219"/>
                      <a:pt x="0" y="235"/>
                    </a:cubicBezTo>
                    <a:cubicBezTo>
                      <a:pt x="0" y="251"/>
                      <a:pt x="14" y="271"/>
                      <a:pt x="30" y="302"/>
                    </a:cubicBezTo>
                    <a:cubicBezTo>
                      <a:pt x="46" y="333"/>
                      <a:pt x="69" y="377"/>
                      <a:pt x="98" y="422"/>
                    </a:cubicBezTo>
                    <a:cubicBezTo>
                      <a:pt x="127" y="467"/>
                      <a:pt x="173" y="535"/>
                      <a:pt x="203" y="572"/>
                    </a:cubicBezTo>
                    <a:cubicBezTo>
                      <a:pt x="233" y="609"/>
                      <a:pt x="272" y="620"/>
                      <a:pt x="278" y="647"/>
                    </a:cubicBezTo>
                    <a:cubicBezTo>
                      <a:pt x="284" y="674"/>
                      <a:pt x="219" y="721"/>
                      <a:pt x="240" y="737"/>
                    </a:cubicBezTo>
                    <a:cubicBezTo>
                      <a:pt x="261" y="753"/>
                      <a:pt x="349" y="745"/>
                      <a:pt x="405" y="745"/>
                    </a:cubicBezTo>
                    <a:cubicBezTo>
                      <a:pt x="461" y="745"/>
                      <a:pt x="539" y="737"/>
                      <a:pt x="578" y="737"/>
                    </a:cubicBezTo>
                    <a:cubicBezTo>
                      <a:pt x="617" y="737"/>
                      <a:pt x="618" y="750"/>
                      <a:pt x="638" y="745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201040" y="4151160"/>
                <a:ext cx="81360" cy="111600"/>
              </a:xfrm>
              <a:custGeom>
                <a:avLst/>
                <a:gdLst/>
                <a:ahLst/>
                <a:rect l="l" t="t" r="r" b="b"/>
                <a:pathLst>
                  <a:path w="142" h="195">
                    <a:moveTo>
                      <a:pt x="142" y="195"/>
                    </a:moveTo>
                    <a:cubicBezTo>
                      <a:pt x="105" y="139"/>
                      <a:pt x="69" y="84"/>
                      <a:pt x="45" y="52"/>
                    </a:cubicBezTo>
                    <a:cubicBezTo>
                      <a:pt x="21" y="20"/>
                      <a:pt x="10" y="10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437200" y="4111920"/>
                <a:ext cx="77400" cy="141840"/>
              </a:xfrm>
              <a:custGeom>
                <a:avLst/>
                <a:gdLst/>
                <a:ahLst/>
                <a:rect l="l" t="t" r="r" b="b"/>
                <a:pathLst>
                  <a:path w="135" h="248">
                    <a:moveTo>
                      <a:pt x="0" y="248"/>
                    </a:moveTo>
                    <a:cubicBezTo>
                      <a:pt x="15" y="227"/>
                      <a:pt x="67" y="161"/>
                      <a:pt x="90" y="120"/>
                    </a:cubicBezTo>
                    <a:cubicBezTo>
                      <a:pt x="113" y="79"/>
                      <a:pt x="126" y="25"/>
                      <a:pt x="135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407320" y="4060440"/>
                <a:ext cx="34200" cy="180360"/>
              </a:xfrm>
              <a:custGeom>
                <a:avLst/>
                <a:gdLst/>
                <a:ahLst/>
                <a:rect l="l" t="t" r="r" b="b"/>
                <a:pathLst>
                  <a:path w="60" h="315">
                    <a:moveTo>
                      <a:pt x="0" y="315"/>
                    </a:moveTo>
                    <a:cubicBezTo>
                      <a:pt x="6" y="293"/>
                      <a:pt x="27" y="232"/>
                      <a:pt x="37" y="180"/>
                    </a:cubicBezTo>
                    <a:cubicBezTo>
                      <a:pt x="47" y="128"/>
                      <a:pt x="55" y="37"/>
                      <a:pt x="6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368440" y="4086360"/>
                <a:ext cx="5400" cy="137520"/>
              </a:xfrm>
              <a:custGeom>
                <a:avLst/>
                <a:gdLst/>
                <a:ahLst/>
                <a:rect l="l" t="t" r="r" b="b"/>
                <a:pathLst>
                  <a:path w="10" h="240">
                    <a:moveTo>
                      <a:pt x="0" y="240"/>
                    </a:moveTo>
                    <a:cubicBezTo>
                      <a:pt x="0" y="213"/>
                      <a:pt x="7" y="115"/>
                      <a:pt x="8" y="75"/>
                    </a:cubicBezTo>
                    <a:cubicBezTo>
                      <a:pt x="9" y="35"/>
                      <a:pt x="10" y="15"/>
                      <a:pt x="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52520" y="4077720"/>
                <a:ext cx="51480" cy="163440"/>
              </a:xfrm>
              <a:custGeom>
                <a:avLst/>
                <a:gdLst/>
                <a:ahLst/>
                <a:rect l="l" t="t" r="r" b="b"/>
                <a:pathLst>
                  <a:path w="90" h="285">
                    <a:moveTo>
                      <a:pt x="90" y="285"/>
                    </a:moveTo>
                    <a:cubicBezTo>
                      <a:pt x="67" y="241"/>
                      <a:pt x="45" y="197"/>
                      <a:pt x="30" y="150"/>
                    </a:cubicBezTo>
                    <a:cubicBezTo>
                      <a:pt x="15" y="103"/>
                      <a:pt x="7" y="51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299680" y="4047840"/>
                <a:ext cx="34200" cy="176040"/>
              </a:xfrm>
              <a:custGeom>
                <a:avLst/>
                <a:gdLst/>
                <a:ahLst/>
                <a:rect l="l" t="t" r="r" b="b"/>
                <a:pathLst>
                  <a:path w="60" h="307">
                    <a:moveTo>
                      <a:pt x="60" y="307"/>
                    </a:moveTo>
                    <a:cubicBezTo>
                      <a:pt x="58" y="291"/>
                      <a:pt x="52" y="242"/>
                      <a:pt x="45" y="210"/>
                    </a:cubicBezTo>
                    <a:cubicBezTo>
                      <a:pt x="38" y="178"/>
                      <a:pt x="22" y="147"/>
                      <a:pt x="15" y="112"/>
                    </a:cubicBezTo>
                    <a:cubicBezTo>
                      <a:pt x="8" y="77"/>
                      <a:pt x="3" y="23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3192120" y="4529520"/>
              <a:ext cx="686880" cy="412560"/>
              <a:chOff x="3192120" y="4529520"/>
              <a:chExt cx="686880" cy="412560"/>
            </a:xfrm>
          </p:grpSpPr>
          <p:sp>
            <p:nvSpPr>
              <p:cNvPr id="166" name=""/>
              <p:cNvSpPr/>
              <p:nvPr/>
            </p:nvSpPr>
            <p:spPr>
              <a:xfrm>
                <a:off x="3192120" y="4529520"/>
                <a:ext cx="686880" cy="412560"/>
              </a:xfrm>
              <a:custGeom>
                <a:avLst/>
                <a:gdLst/>
                <a:ahLst/>
                <a:rect l="l" t="t" r="r" b="b"/>
                <a:pathLst>
                  <a:path w="1199" h="720">
                    <a:moveTo>
                      <a:pt x="524" y="27"/>
                    </a:moveTo>
                    <a:cubicBezTo>
                      <a:pt x="551" y="17"/>
                      <a:pt x="572" y="0"/>
                      <a:pt x="599" y="4"/>
                    </a:cubicBezTo>
                    <a:cubicBezTo>
                      <a:pt x="626" y="8"/>
                      <a:pt x="660" y="35"/>
                      <a:pt x="689" y="49"/>
                    </a:cubicBezTo>
                    <a:cubicBezTo>
                      <a:pt x="718" y="63"/>
                      <a:pt x="732" y="75"/>
                      <a:pt x="772" y="87"/>
                    </a:cubicBezTo>
                    <a:cubicBezTo>
                      <a:pt x="812" y="99"/>
                      <a:pt x="867" y="112"/>
                      <a:pt x="929" y="124"/>
                    </a:cubicBezTo>
                    <a:cubicBezTo>
                      <a:pt x="991" y="136"/>
                      <a:pt x="1102" y="156"/>
                      <a:pt x="1147" y="162"/>
                    </a:cubicBezTo>
                    <a:cubicBezTo>
                      <a:pt x="1192" y="168"/>
                      <a:pt x="1199" y="147"/>
                      <a:pt x="1199" y="162"/>
                    </a:cubicBezTo>
                    <a:cubicBezTo>
                      <a:pt x="1199" y="177"/>
                      <a:pt x="1156" y="218"/>
                      <a:pt x="1147" y="252"/>
                    </a:cubicBezTo>
                    <a:cubicBezTo>
                      <a:pt x="1138" y="286"/>
                      <a:pt x="1161" y="333"/>
                      <a:pt x="1147" y="364"/>
                    </a:cubicBezTo>
                    <a:cubicBezTo>
                      <a:pt x="1133" y="395"/>
                      <a:pt x="1083" y="412"/>
                      <a:pt x="1064" y="439"/>
                    </a:cubicBezTo>
                    <a:cubicBezTo>
                      <a:pt x="1045" y="466"/>
                      <a:pt x="1058" y="506"/>
                      <a:pt x="1034" y="529"/>
                    </a:cubicBezTo>
                    <a:cubicBezTo>
                      <a:pt x="1010" y="552"/>
                      <a:pt x="951" y="554"/>
                      <a:pt x="922" y="574"/>
                    </a:cubicBezTo>
                    <a:cubicBezTo>
                      <a:pt x="893" y="594"/>
                      <a:pt x="894" y="629"/>
                      <a:pt x="862" y="649"/>
                    </a:cubicBezTo>
                    <a:cubicBezTo>
                      <a:pt x="830" y="669"/>
                      <a:pt x="767" y="683"/>
                      <a:pt x="727" y="694"/>
                    </a:cubicBezTo>
                    <a:cubicBezTo>
                      <a:pt x="687" y="705"/>
                      <a:pt x="657" y="714"/>
                      <a:pt x="622" y="717"/>
                    </a:cubicBezTo>
                    <a:cubicBezTo>
                      <a:pt x="587" y="720"/>
                      <a:pt x="546" y="710"/>
                      <a:pt x="517" y="709"/>
                    </a:cubicBezTo>
                    <a:cubicBezTo>
                      <a:pt x="488" y="708"/>
                      <a:pt x="475" y="713"/>
                      <a:pt x="449" y="709"/>
                    </a:cubicBezTo>
                    <a:cubicBezTo>
                      <a:pt x="423" y="705"/>
                      <a:pt x="390" y="691"/>
                      <a:pt x="359" y="687"/>
                    </a:cubicBezTo>
                    <a:cubicBezTo>
                      <a:pt x="328" y="683"/>
                      <a:pt x="286" y="702"/>
                      <a:pt x="262" y="687"/>
                    </a:cubicBezTo>
                    <a:cubicBezTo>
                      <a:pt x="238" y="672"/>
                      <a:pt x="237" y="616"/>
                      <a:pt x="217" y="597"/>
                    </a:cubicBezTo>
                    <a:cubicBezTo>
                      <a:pt x="197" y="578"/>
                      <a:pt x="156" y="594"/>
                      <a:pt x="142" y="574"/>
                    </a:cubicBezTo>
                    <a:cubicBezTo>
                      <a:pt x="128" y="554"/>
                      <a:pt x="148" y="503"/>
                      <a:pt x="134" y="477"/>
                    </a:cubicBezTo>
                    <a:cubicBezTo>
                      <a:pt x="120" y="451"/>
                      <a:pt x="69" y="443"/>
                      <a:pt x="59" y="417"/>
                    </a:cubicBezTo>
                    <a:cubicBezTo>
                      <a:pt x="49" y="391"/>
                      <a:pt x="83" y="348"/>
                      <a:pt x="74" y="319"/>
                    </a:cubicBezTo>
                    <a:cubicBezTo>
                      <a:pt x="65" y="290"/>
                      <a:pt x="14" y="273"/>
                      <a:pt x="7" y="244"/>
                    </a:cubicBezTo>
                    <a:cubicBezTo>
                      <a:pt x="0" y="215"/>
                      <a:pt x="25" y="182"/>
                      <a:pt x="29" y="147"/>
                    </a:cubicBezTo>
                    <a:cubicBezTo>
                      <a:pt x="33" y="112"/>
                      <a:pt x="2" y="46"/>
                      <a:pt x="29" y="34"/>
                    </a:cubicBezTo>
                    <a:cubicBezTo>
                      <a:pt x="56" y="22"/>
                      <a:pt x="147" y="65"/>
                      <a:pt x="194" y="72"/>
                    </a:cubicBezTo>
                    <a:cubicBezTo>
                      <a:pt x="241" y="79"/>
                      <a:pt x="274" y="80"/>
                      <a:pt x="314" y="79"/>
                    </a:cubicBezTo>
                    <a:cubicBezTo>
                      <a:pt x="354" y="78"/>
                      <a:pt x="399" y="73"/>
                      <a:pt x="434" y="64"/>
                    </a:cubicBezTo>
                    <a:cubicBezTo>
                      <a:pt x="469" y="55"/>
                      <a:pt x="492" y="38"/>
                      <a:pt x="524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221640" y="4579200"/>
                <a:ext cx="261720" cy="124200"/>
              </a:xfrm>
              <a:custGeom>
                <a:avLst/>
                <a:gdLst/>
                <a:ahLst/>
                <a:rect l="l" t="t" r="r" b="b"/>
                <a:pathLst>
                  <a:path w="457" h="217">
                    <a:moveTo>
                      <a:pt x="0" y="217"/>
                    </a:moveTo>
                    <a:cubicBezTo>
                      <a:pt x="81" y="213"/>
                      <a:pt x="163" y="209"/>
                      <a:pt x="225" y="187"/>
                    </a:cubicBezTo>
                    <a:cubicBezTo>
                      <a:pt x="287" y="165"/>
                      <a:pt x="336" y="113"/>
                      <a:pt x="375" y="82"/>
                    </a:cubicBezTo>
                    <a:cubicBezTo>
                      <a:pt x="414" y="51"/>
                      <a:pt x="435" y="25"/>
                      <a:pt x="457" y="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264840" y="4613760"/>
                <a:ext cx="223200" cy="189000"/>
              </a:xfrm>
              <a:custGeom>
                <a:avLst/>
                <a:gdLst/>
                <a:ahLst/>
                <a:rect l="l" t="t" r="r" b="b"/>
                <a:pathLst>
                  <a:path w="390" h="330">
                    <a:moveTo>
                      <a:pt x="0" y="330"/>
                    </a:moveTo>
                    <a:cubicBezTo>
                      <a:pt x="72" y="297"/>
                      <a:pt x="145" y="265"/>
                      <a:pt x="210" y="210"/>
                    </a:cubicBezTo>
                    <a:cubicBezTo>
                      <a:pt x="275" y="155"/>
                      <a:pt x="332" y="77"/>
                      <a:pt x="390" y="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565440" y="4591800"/>
                <a:ext cx="283680" cy="107640"/>
              </a:xfrm>
              <a:custGeom>
                <a:avLst/>
                <a:gdLst/>
                <a:ahLst/>
                <a:rect l="l" t="t" r="r" b="b"/>
                <a:pathLst>
                  <a:path w="495" h="188">
                    <a:moveTo>
                      <a:pt x="495" y="188"/>
                    </a:moveTo>
                    <a:cubicBezTo>
                      <a:pt x="454" y="179"/>
                      <a:pt x="311" y="151"/>
                      <a:pt x="247" y="135"/>
                    </a:cubicBezTo>
                    <a:cubicBezTo>
                      <a:pt x="183" y="119"/>
                      <a:pt x="153" y="112"/>
                      <a:pt x="112" y="90"/>
                    </a:cubicBezTo>
                    <a:cubicBezTo>
                      <a:pt x="71" y="68"/>
                      <a:pt x="23" y="19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557160" y="4639320"/>
                <a:ext cx="249120" cy="150120"/>
              </a:xfrm>
              <a:custGeom>
                <a:avLst/>
                <a:gdLst/>
                <a:ahLst/>
                <a:rect l="l" t="t" r="r" b="b"/>
                <a:pathLst>
                  <a:path w="435" h="262">
                    <a:moveTo>
                      <a:pt x="435" y="262"/>
                    </a:moveTo>
                    <a:cubicBezTo>
                      <a:pt x="375" y="246"/>
                      <a:pt x="316" y="230"/>
                      <a:pt x="262" y="210"/>
                    </a:cubicBezTo>
                    <a:cubicBezTo>
                      <a:pt x="208" y="190"/>
                      <a:pt x="156" y="177"/>
                      <a:pt x="112" y="142"/>
                    </a:cubicBezTo>
                    <a:cubicBezTo>
                      <a:pt x="68" y="107"/>
                      <a:pt x="34" y="53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397680" y="4643640"/>
                <a:ext cx="111600" cy="257760"/>
              </a:xfrm>
              <a:custGeom>
                <a:avLst/>
                <a:gdLst/>
                <a:ahLst/>
                <a:rect l="l" t="t" r="r" b="b"/>
                <a:pathLst>
                  <a:path w="195" h="450">
                    <a:moveTo>
                      <a:pt x="0" y="450"/>
                    </a:moveTo>
                    <a:cubicBezTo>
                      <a:pt x="59" y="360"/>
                      <a:pt x="118" y="270"/>
                      <a:pt x="150" y="195"/>
                    </a:cubicBezTo>
                    <a:cubicBezTo>
                      <a:pt x="182" y="120"/>
                      <a:pt x="188" y="60"/>
                      <a:pt x="195" y="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543840" y="4643640"/>
                <a:ext cx="120240" cy="240480"/>
              </a:xfrm>
              <a:custGeom>
                <a:avLst/>
                <a:gdLst/>
                <a:ahLst/>
                <a:rect l="l" t="t" r="r" b="b"/>
                <a:pathLst>
                  <a:path w="210" h="420">
                    <a:moveTo>
                      <a:pt x="210" y="420"/>
                    </a:moveTo>
                    <a:cubicBezTo>
                      <a:pt x="168" y="369"/>
                      <a:pt x="127" y="319"/>
                      <a:pt x="98" y="270"/>
                    </a:cubicBezTo>
                    <a:cubicBezTo>
                      <a:pt x="69" y="221"/>
                      <a:pt x="54" y="173"/>
                      <a:pt x="38" y="128"/>
                    </a:cubicBezTo>
                    <a:cubicBezTo>
                      <a:pt x="22" y="83"/>
                      <a:pt x="11" y="41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535200" y="4651920"/>
                <a:ext cx="60120" cy="262440"/>
              </a:xfrm>
              <a:custGeom>
                <a:avLst/>
                <a:gdLst/>
                <a:ahLst/>
                <a:rect l="l" t="t" r="r" b="b"/>
                <a:pathLst>
                  <a:path w="105" h="458">
                    <a:moveTo>
                      <a:pt x="105" y="458"/>
                    </a:moveTo>
                    <a:cubicBezTo>
                      <a:pt x="95" y="422"/>
                      <a:pt x="62" y="316"/>
                      <a:pt x="45" y="240"/>
                    </a:cubicBezTo>
                    <a:cubicBezTo>
                      <a:pt x="28" y="164"/>
                      <a:pt x="9" y="50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483720" y="4651920"/>
                <a:ext cx="42840" cy="266400"/>
              </a:xfrm>
              <a:custGeom>
                <a:avLst/>
                <a:gdLst/>
                <a:ahLst/>
                <a:rect l="l" t="t" r="r" b="b"/>
                <a:pathLst>
                  <a:path w="75" h="465">
                    <a:moveTo>
                      <a:pt x="0" y="465"/>
                    </a:moveTo>
                    <a:cubicBezTo>
                      <a:pt x="10" y="438"/>
                      <a:pt x="48" y="377"/>
                      <a:pt x="60" y="300"/>
                    </a:cubicBezTo>
                    <a:cubicBezTo>
                      <a:pt x="72" y="223"/>
                      <a:pt x="72" y="62"/>
                      <a:pt x="75" y="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441880" y="5089320"/>
              <a:ext cx="753120" cy="419040"/>
              <a:chOff x="2441880" y="5089320"/>
              <a:chExt cx="753120" cy="419040"/>
            </a:xfrm>
          </p:grpSpPr>
          <p:sp>
            <p:nvSpPr>
              <p:cNvPr id="176" name=""/>
              <p:cNvSpPr/>
              <p:nvPr/>
            </p:nvSpPr>
            <p:spPr>
              <a:xfrm>
                <a:off x="2722680" y="5089320"/>
                <a:ext cx="472320" cy="419040"/>
              </a:xfrm>
              <a:custGeom>
                <a:avLst/>
                <a:gdLst/>
                <a:ahLst/>
                <a:rect l="l" t="t" r="r" b="b"/>
                <a:pathLst>
                  <a:path w="824" h="731">
                    <a:moveTo>
                      <a:pt x="480" y="429"/>
                    </a:moveTo>
                    <a:cubicBezTo>
                      <a:pt x="490" y="440"/>
                      <a:pt x="531" y="468"/>
                      <a:pt x="549" y="456"/>
                    </a:cubicBezTo>
                    <a:cubicBezTo>
                      <a:pt x="567" y="444"/>
                      <a:pt x="588" y="390"/>
                      <a:pt x="587" y="359"/>
                    </a:cubicBezTo>
                    <a:cubicBezTo>
                      <a:pt x="586" y="328"/>
                      <a:pt x="558" y="293"/>
                      <a:pt x="542" y="269"/>
                    </a:cubicBezTo>
                    <a:cubicBezTo>
                      <a:pt x="526" y="245"/>
                      <a:pt x="518" y="228"/>
                      <a:pt x="489" y="216"/>
                    </a:cubicBezTo>
                    <a:cubicBezTo>
                      <a:pt x="460" y="204"/>
                      <a:pt x="408" y="187"/>
                      <a:pt x="369" y="194"/>
                    </a:cubicBezTo>
                    <a:cubicBezTo>
                      <a:pt x="330" y="201"/>
                      <a:pt x="284" y="226"/>
                      <a:pt x="257" y="261"/>
                    </a:cubicBezTo>
                    <a:cubicBezTo>
                      <a:pt x="230" y="296"/>
                      <a:pt x="200" y="357"/>
                      <a:pt x="204" y="404"/>
                    </a:cubicBezTo>
                    <a:cubicBezTo>
                      <a:pt x="208" y="451"/>
                      <a:pt x="240" y="512"/>
                      <a:pt x="279" y="546"/>
                    </a:cubicBezTo>
                    <a:cubicBezTo>
                      <a:pt x="318" y="580"/>
                      <a:pt x="391" y="600"/>
                      <a:pt x="437" y="606"/>
                    </a:cubicBezTo>
                    <a:cubicBezTo>
                      <a:pt x="483" y="612"/>
                      <a:pt x="522" y="594"/>
                      <a:pt x="557" y="584"/>
                    </a:cubicBezTo>
                    <a:cubicBezTo>
                      <a:pt x="592" y="574"/>
                      <a:pt x="621" y="571"/>
                      <a:pt x="647" y="546"/>
                    </a:cubicBezTo>
                    <a:cubicBezTo>
                      <a:pt x="673" y="521"/>
                      <a:pt x="700" y="476"/>
                      <a:pt x="714" y="434"/>
                    </a:cubicBezTo>
                    <a:cubicBezTo>
                      <a:pt x="728" y="392"/>
                      <a:pt x="746" y="351"/>
                      <a:pt x="729" y="291"/>
                    </a:cubicBezTo>
                    <a:cubicBezTo>
                      <a:pt x="712" y="231"/>
                      <a:pt x="656" y="121"/>
                      <a:pt x="609" y="74"/>
                    </a:cubicBezTo>
                    <a:cubicBezTo>
                      <a:pt x="562" y="27"/>
                      <a:pt x="514" y="12"/>
                      <a:pt x="444" y="6"/>
                    </a:cubicBezTo>
                    <a:cubicBezTo>
                      <a:pt x="374" y="0"/>
                      <a:pt x="254" y="9"/>
                      <a:pt x="189" y="36"/>
                    </a:cubicBezTo>
                    <a:cubicBezTo>
                      <a:pt x="124" y="63"/>
                      <a:pt x="83" y="109"/>
                      <a:pt x="54" y="171"/>
                    </a:cubicBezTo>
                    <a:cubicBezTo>
                      <a:pt x="25" y="233"/>
                      <a:pt x="0" y="331"/>
                      <a:pt x="17" y="411"/>
                    </a:cubicBezTo>
                    <a:cubicBezTo>
                      <a:pt x="34" y="491"/>
                      <a:pt x="102" y="601"/>
                      <a:pt x="159" y="651"/>
                    </a:cubicBezTo>
                    <a:cubicBezTo>
                      <a:pt x="216" y="701"/>
                      <a:pt x="288" y="701"/>
                      <a:pt x="362" y="711"/>
                    </a:cubicBezTo>
                    <a:cubicBezTo>
                      <a:pt x="436" y="721"/>
                      <a:pt x="532" y="731"/>
                      <a:pt x="602" y="711"/>
                    </a:cubicBezTo>
                    <a:cubicBezTo>
                      <a:pt x="672" y="691"/>
                      <a:pt x="746" y="640"/>
                      <a:pt x="782" y="591"/>
                    </a:cubicBezTo>
                    <a:cubicBezTo>
                      <a:pt x="818" y="542"/>
                      <a:pt x="824" y="459"/>
                      <a:pt x="819" y="419"/>
                    </a:cubicBezTo>
                    <a:cubicBezTo>
                      <a:pt x="814" y="379"/>
                      <a:pt x="773" y="340"/>
                      <a:pt x="752" y="351"/>
                    </a:cubicBezTo>
                    <a:cubicBezTo>
                      <a:pt x="731" y="362"/>
                      <a:pt x="723" y="445"/>
                      <a:pt x="692" y="486"/>
                    </a:cubicBezTo>
                    <a:cubicBezTo>
                      <a:pt x="661" y="527"/>
                      <a:pt x="624" y="583"/>
                      <a:pt x="564" y="599"/>
                    </a:cubicBezTo>
                    <a:cubicBezTo>
                      <a:pt x="504" y="615"/>
                      <a:pt x="388" y="600"/>
                      <a:pt x="332" y="584"/>
                    </a:cubicBezTo>
                    <a:cubicBezTo>
                      <a:pt x="276" y="568"/>
                      <a:pt x="248" y="539"/>
                      <a:pt x="227" y="501"/>
                    </a:cubicBezTo>
                    <a:cubicBezTo>
                      <a:pt x="206" y="463"/>
                      <a:pt x="202" y="401"/>
                      <a:pt x="204" y="359"/>
                    </a:cubicBezTo>
                    <a:cubicBezTo>
                      <a:pt x="206" y="317"/>
                      <a:pt x="215" y="276"/>
                      <a:pt x="242" y="246"/>
                    </a:cubicBezTo>
                    <a:cubicBezTo>
                      <a:pt x="269" y="216"/>
                      <a:pt x="325" y="185"/>
                      <a:pt x="369" y="179"/>
                    </a:cubicBezTo>
                    <a:cubicBezTo>
                      <a:pt x="413" y="173"/>
                      <a:pt x="468" y="181"/>
                      <a:pt x="504" y="209"/>
                    </a:cubicBezTo>
                    <a:cubicBezTo>
                      <a:pt x="540" y="237"/>
                      <a:pt x="579" y="300"/>
                      <a:pt x="587" y="344"/>
                    </a:cubicBezTo>
                    <a:cubicBezTo>
                      <a:pt x="595" y="388"/>
                      <a:pt x="573" y="445"/>
                      <a:pt x="549" y="471"/>
                    </a:cubicBezTo>
                    <a:cubicBezTo>
                      <a:pt x="525" y="497"/>
                      <a:pt x="479" y="511"/>
                      <a:pt x="444" y="501"/>
                    </a:cubicBezTo>
                    <a:cubicBezTo>
                      <a:pt x="409" y="491"/>
                      <a:pt x="350" y="436"/>
                      <a:pt x="339" y="411"/>
                    </a:cubicBezTo>
                    <a:cubicBezTo>
                      <a:pt x="328" y="386"/>
                      <a:pt x="360" y="365"/>
                      <a:pt x="377" y="351"/>
                    </a:cubicBezTo>
                    <a:cubicBezTo>
                      <a:pt x="394" y="337"/>
                      <a:pt x="425" y="323"/>
                      <a:pt x="444" y="329"/>
                    </a:cubicBezTo>
                    <a:cubicBezTo>
                      <a:pt x="463" y="335"/>
                      <a:pt x="483" y="372"/>
                      <a:pt x="489" y="389"/>
                    </a:cubicBezTo>
                    <a:cubicBezTo>
                      <a:pt x="495" y="406"/>
                      <a:pt x="470" y="418"/>
                      <a:pt x="480" y="429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583360" y="5100120"/>
                <a:ext cx="250920" cy="337680"/>
              </a:xfrm>
              <a:custGeom>
                <a:avLst/>
                <a:gdLst/>
                <a:ahLst/>
                <a:rect l="l" t="t" r="r" b="b"/>
                <a:pathLst>
                  <a:path w="438" h="589">
                    <a:moveTo>
                      <a:pt x="425" y="10"/>
                    </a:moveTo>
                    <a:cubicBezTo>
                      <a:pt x="412" y="0"/>
                      <a:pt x="336" y="10"/>
                      <a:pt x="291" y="26"/>
                    </a:cubicBezTo>
                    <a:cubicBezTo>
                      <a:pt x="246" y="42"/>
                      <a:pt x="198" y="76"/>
                      <a:pt x="153" y="107"/>
                    </a:cubicBezTo>
                    <a:cubicBezTo>
                      <a:pt x="108" y="138"/>
                      <a:pt x="42" y="180"/>
                      <a:pt x="21" y="215"/>
                    </a:cubicBezTo>
                    <a:cubicBezTo>
                      <a:pt x="0" y="250"/>
                      <a:pt x="8" y="268"/>
                      <a:pt x="27" y="317"/>
                    </a:cubicBezTo>
                    <a:cubicBezTo>
                      <a:pt x="46" y="366"/>
                      <a:pt x="99" y="470"/>
                      <a:pt x="135" y="512"/>
                    </a:cubicBezTo>
                    <a:cubicBezTo>
                      <a:pt x="171" y="554"/>
                      <a:pt x="210" y="563"/>
                      <a:pt x="243" y="572"/>
                    </a:cubicBezTo>
                    <a:cubicBezTo>
                      <a:pt x="276" y="581"/>
                      <a:pt x="329" y="589"/>
                      <a:pt x="333" y="563"/>
                    </a:cubicBezTo>
                    <a:cubicBezTo>
                      <a:pt x="337" y="537"/>
                      <a:pt x="275" y="478"/>
                      <a:pt x="267" y="415"/>
                    </a:cubicBezTo>
                    <a:cubicBezTo>
                      <a:pt x="259" y="352"/>
                      <a:pt x="265" y="237"/>
                      <a:pt x="282" y="182"/>
                    </a:cubicBezTo>
                    <a:cubicBezTo>
                      <a:pt x="299" y="127"/>
                      <a:pt x="347" y="111"/>
                      <a:pt x="372" y="85"/>
                    </a:cubicBezTo>
                    <a:cubicBezTo>
                      <a:pt x="397" y="59"/>
                      <a:pt x="438" y="19"/>
                      <a:pt x="425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484000" y="5130360"/>
                <a:ext cx="238320" cy="271440"/>
              </a:xfrm>
              <a:custGeom>
                <a:avLst/>
                <a:gdLst/>
                <a:ahLst/>
                <a:rect l="l" t="t" r="r" b="b"/>
                <a:pathLst>
                  <a:path w="416" h="474">
                    <a:moveTo>
                      <a:pt x="392" y="3"/>
                    </a:moveTo>
                    <a:cubicBezTo>
                      <a:pt x="368" y="0"/>
                      <a:pt x="234" y="7"/>
                      <a:pt x="170" y="39"/>
                    </a:cubicBezTo>
                    <a:cubicBezTo>
                      <a:pt x="106" y="71"/>
                      <a:pt x="16" y="141"/>
                      <a:pt x="8" y="198"/>
                    </a:cubicBezTo>
                    <a:cubicBezTo>
                      <a:pt x="0" y="255"/>
                      <a:pt x="88" y="344"/>
                      <a:pt x="119" y="384"/>
                    </a:cubicBezTo>
                    <a:cubicBezTo>
                      <a:pt x="150" y="424"/>
                      <a:pt x="168" y="426"/>
                      <a:pt x="191" y="438"/>
                    </a:cubicBezTo>
                    <a:cubicBezTo>
                      <a:pt x="214" y="450"/>
                      <a:pt x="242" y="455"/>
                      <a:pt x="260" y="459"/>
                    </a:cubicBezTo>
                    <a:cubicBezTo>
                      <a:pt x="278" y="463"/>
                      <a:pt x="299" y="474"/>
                      <a:pt x="299" y="459"/>
                    </a:cubicBezTo>
                    <a:cubicBezTo>
                      <a:pt x="299" y="444"/>
                      <a:pt x="279" y="415"/>
                      <a:pt x="260" y="369"/>
                    </a:cubicBezTo>
                    <a:cubicBezTo>
                      <a:pt x="241" y="323"/>
                      <a:pt x="176" y="234"/>
                      <a:pt x="185" y="182"/>
                    </a:cubicBezTo>
                    <a:cubicBezTo>
                      <a:pt x="194" y="130"/>
                      <a:pt x="280" y="87"/>
                      <a:pt x="314" y="57"/>
                    </a:cubicBezTo>
                    <a:cubicBezTo>
                      <a:pt x="348" y="27"/>
                      <a:pt x="416" y="6"/>
                      <a:pt x="392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441880" y="5169960"/>
                <a:ext cx="105840" cy="163800"/>
              </a:xfrm>
              <a:custGeom>
                <a:avLst/>
                <a:gdLst/>
                <a:ahLst/>
                <a:rect l="l" t="t" r="r" b="b"/>
                <a:pathLst>
                  <a:path w="185" h="286">
                    <a:moveTo>
                      <a:pt x="175" y="9"/>
                    </a:moveTo>
                    <a:cubicBezTo>
                      <a:pt x="165" y="6"/>
                      <a:pt x="119" y="0"/>
                      <a:pt x="94" y="9"/>
                    </a:cubicBezTo>
                    <a:cubicBezTo>
                      <a:pt x="69" y="18"/>
                      <a:pt x="39" y="40"/>
                      <a:pt x="25" y="66"/>
                    </a:cubicBezTo>
                    <a:cubicBezTo>
                      <a:pt x="11" y="92"/>
                      <a:pt x="0" y="132"/>
                      <a:pt x="7" y="165"/>
                    </a:cubicBezTo>
                    <a:cubicBezTo>
                      <a:pt x="14" y="198"/>
                      <a:pt x="44" y="245"/>
                      <a:pt x="64" y="264"/>
                    </a:cubicBezTo>
                    <a:cubicBezTo>
                      <a:pt x="84" y="283"/>
                      <a:pt x="115" y="279"/>
                      <a:pt x="130" y="279"/>
                    </a:cubicBezTo>
                    <a:cubicBezTo>
                      <a:pt x="145" y="279"/>
                      <a:pt x="162" y="286"/>
                      <a:pt x="154" y="263"/>
                    </a:cubicBezTo>
                    <a:cubicBezTo>
                      <a:pt x="146" y="240"/>
                      <a:pt x="79" y="182"/>
                      <a:pt x="79" y="143"/>
                    </a:cubicBezTo>
                    <a:cubicBezTo>
                      <a:pt x="79" y="104"/>
                      <a:pt x="138" y="52"/>
                      <a:pt x="154" y="30"/>
                    </a:cubicBezTo>
                    <a:cubicBezTo>
                      <a:pt x="170" y="8"/>
                      <a:pt x="185" y="14"/>
                      <a:pt x="175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3236040" y="5729400"/>
              <a:ext cx="588600" cy="453960"/>
              <a:chOff x="3236040" y="5729400"/>
              <a:chExt cx="588600" cy="45396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3457080" y="5755680"/>
                <a:ext cx="367560" cy="425880"/>
                <a:chOff x="3457080" y="5755680"/>
                <a:chExt cx="367560" cy="42588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3457080" y="5755680"/>
                  <a:ext cx="92880" cy="425880"/>
                </a:xfrm>
                <a:custGeom>
                  <a:avLst/>
                  <a:gdLst/>
                  <a:ahLst/>
                  <a:rect l="l" t="t" r="r" b="b"/>
                  <a:pathLst>
                    <a:path w="162" h="743">
                      <a:moveTo>
                        <a:pt x="150" y="1"/>
                      </a:moveTo>
                      <a:cubicBezTo>
                        <a:pt x="143" y="0"/>
                        <a:pt x="121" y="13"/>
                        <a:pt x="108" y="28"/>
                      </a:cubicBezTo>
                      <a:cubicBezTo>
                        <a:pt x="95" y="43"/>
                        <a:pt x="85" y="57"/>
                        <a:pt x="69" y="94"/>
                      </a:cubicBezTo>
                      <a:cubicBezTo>
                        <a:pt x="53" y="131"/>
                        <a:pt x="20" y="196"/>
                        <a:pt x="10" y="254"/>
                      </a:cubicBezTo>
                      <a:cubicBezTo>
                        <a:pt x="0" y="312"/>
                        <a:pt x="2" y="387"/>
                        <a:pt x="6" y="445"/>
                      </a:cubicBezTo>
                      <a:cubicBezTo>
                        <a:pt x="10" y="503"/>
                        <a:pt x="28" y="574"/>
                        <a:pt x="33" y="601"/>
                      </a:cubicBezTo>
                      <a:cubicBezTo>
                        <a:pt x="38" y="628"/>
                        <a:pt x="31" y="593"/>
                        <a:pt x="39" y="607"/>
                      </a:cubicBezTo>
                      <a:cubicBezTo>
                        <a:pt x="47" y="621"/>
                        <a:pt x="59" y="664"/>
                        <a:pt x="78" y="682"/>
                      </a:cubicBezTo>
                      <a:cubicBezTo>
                        <a:pt x="97" y="700"/>
                        <a:pt x="150" y="743"/>
                        <a:pt x="150" y="715"/>
                      </a:cubicBezTo>
                      <a:cubicBezTo>
                        <a:pt x="150" y="687"/>
                        <a:pt x="89" y="571"/>
                        <a:pt x="75" y="511"/>
                      </a:cubicBezTo>
                      <a:cubicBezTo>
                        <a:pt x="61" y="451"/>
                        <a:pt x="62" y="409"/>
                        <a:pt x="65" y="354"/>
                      </a:cubicBezTo>
                      <a:cubicBezTo>
                        <a:pt x="68" y="299"/>
                        <a:pt x="80" y="235"/>
                        <a:pt x="95" y="182"/>
                      </a:cubicBezTo>
                      <a:cubicBezTo>
                        <a:pt x="110" y="129"/>
                        <a:pt x="144" y="67"/>
                        <a:pt x="153" y="37"/>
                      </a:cubicBezTo>
                      <a:cubicBezTo>
                        <a:pt x="162" y="7"/>
                        <a:pt x="157" y="2"/>
                        <a:pt x="150" y="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493080" y="5762880"/>
                  <a:ext cx="90360" cy="412560"/>
                </a:xfrm>
                <a:custGeom>
                  <a:avLst/>
                  <a:gdLst/>
                  <a:ahLst/>
                  <a:rect l="l" t="t" r="r" b="b"/>
                  <a:pathLst>
                    <a:path w="158" h="720">
                      <a:moveTo>
                        <a:pt x="144" y="2"/>
                      </a:moveTo>
                      <a:cubicBezTo>
                        <a:pt x="135" y="0"/>
                        <a:pt x="113" y="23"/>
                        <a:pt x="91" y="64"/>
                      </a:cubicBezTo>
                      <a:cubicBezTo>
                        <a:pt x="69" y="105"/>
                        <a:pt x="28" y="190"/>
                        <a:pt x="14" y="250"/>
                      </a:cubicBezTo>
                      <a:cubicBezTo>
                        <a:pt x="0" y="310"/>
                        <a:pt x="1" y="370"/>
                        <a:pt x="6" y="426"/>
                      </a:cubicBezTo>
                      <a:cubicBezTo>
                        <a:pt x="11" y="482"/>
                        <a:pt x="32" y="545"/>
                        <a:pt x="46" y="586"/>
                      </a:cubicBezTo>
                      <a:cubicBezTo>
                        <a:pt x="60" y="627"/>
                        <a:pt x="74" y="652"/>
                        <a:pt x="91" y="670"/>
                      </a:cubicBezTo>
                      <a:cubicBezTo>
                        <a:pt x="108" y="688"/>
                        <a:pt x="153" y="720"/>
                        <a:pt x="151" y="690"/>
                      </a:cubicBezTo>
                      <a:cubicBezTo>
                        <a:pt x="149" y="661"/>
                        <a:pt x="90" y="546"/>
                        <a:pt x="76" y="489"/>
                      </a:cubicBezTo>
                      <a:cubicBezTo>
                        <a:pt x="62" y="431"/>
                        <a:pt x="65" y="393"/>
                        <a:pt x="69" y="342"/>
                      </a:cubicBezTo>
                      <a:cubicBezTo>
                        <a:pt x="73" y="291"/>
                        <a:pt x="85" y="234"/>
                        <a:pt x="99" y="183"/>
                      </a:cubicBezTo>
                      <a:cubicBezTo>
                        <a:pt x="113" y="132"/>
                        <a:pt x="144" y="66"/>
                        <a:pt x="151" y="36"/>
                      </a:cubicBezTo>
                      <a:cubicBezTo>
                        <a:pt x="158" y="6"/>
                        <a:pt x="145" y="9"/>
                        <a:pt x="144" y="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529800" y="5784840"/>
                  <a:ext cx="88200" cy="370440"/>
                </a:xfrm>
                <a:custGeom>
                  <a:avLst/>
                  <a:gdLst/>
                  <a:ahLst/>
                  <a:rect l="l" t="t" r="r" b="b"/>
                  <a:pathLst>
                    <a:path w="154" h="646">
                      <a:moveTo>
                        <a:pt x="140" y="0"/>
                      </a:moveTo>
                      <a:cubicBezTo>
                        <a:pt x="126" y="6"/>
                        <a:pt x="90" y="45"/>
                        <a:pt x="68" y="82"/>
                      </a:cubicBezTo>
                      <a:cubicBezTo>
                        <a:pt x="46" y="119"/>
                        <a:pt x="20" y="176"/>
                        <a:pt x="10" y="223"/>
                      </a:cubicBezTo>
                      <a:cubicBezTo>
                        <a:pt x="0" y="270"/>
                        <a:pt x="1" y="318"/>
                        <a:pt x="5" y="363"/>
                      </a:cubicBezTo>
                      <a:cubicBezTo>
                        <a:pt x="9" y="408"/>
                        <a:pt x="18" y="456"/>
                        <a:pt x="32" y="496"/>
                      </a:cubicBezTo>
                      <a:cubicBezTo>
                        <a:pt x="46" y="536"/>
                        <a:pt x="68" y="580"/>
                        <a:pt x="87" y="601"/>
                      </a:cubicBezTo>
                      <a:cubicBezTo>
                        <a:pt x="106" y="622"/>
                        <a:pt x="149" y="646"/>
                        <a:pt x="147" y="619"/>
                      </a:cubicBezTo>
                      <a:cubicBezTo>
                        <a:pt x="145" y="593"/>
                        <a:pt x="86" y="490"/>
                        <a:pt x="72" y="438"/>
                      </a:cubicBezTo>
                      <a:cubicBezTo>
                        <a:pt x="58" y="386"/>
                        <a:pt x="59" y="356"/>
                        <a:pt x="65" y="306"/>
                      </a:cubicBezTo>
                      <a:cubicBezTo>
                        <a:pt x="71" y="256"/>
                        <a:pt x="96" y="182"/>
                        <a:pt x="110" y="139"/>
                      </a:cubicBezTo>
                      <a:cubicBezTo>
                        <a:pt x="124" y="96"/>
                        <a:pt x="144" y="69"/>
                        <a:pt x="149" y="46"/>
                      </a:cubicBezTo>
                      <a:cubicBezTo>
                        <a:pt x="154" y="23"/>
                        <a:pt x="142" y="10"/>
                        <a:pt x="14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565800" y="5804640"/>
                  <a:ext cx="95760" cy="329400"/>
                </a:xfrm>
                <a:custGeom>
                  <a:avLst/>
                  <a:gdLst/>
                  <a:ahLst/>
                  <a:rect l="l" t="t" r="r" b="b"/>
                  <a:pathLst>
                    <a:path w="167" h="575">
                      <a:moveTo>
                        <a:pt x="153" y="0"/>
                      </a:moveTo>
                      <a:cubicBezTo>
                        <a:pt x="142" y="3"/>
                        <a:pt x="108" y="30"/>
                        <a:pt x="92" y="47"/>
                      </a:cubicBezTo>
                      <a:cubicBezTo>
                        <a:pt x="76" y="64"/>
                        <a:pt x="70" y="79"/>
                        <a:pt x="59" y="104"/>
                      </a:cubicBezTo>
                      <a:cubicBezTo>
                        <a:pt x="48" y="129"/>
                        <a:pt x="32" y="162"/>
                        <a:pt x="23" y="199"/>
                      </a:cubicBezTo>
                      <a:cubicBezTo>
                        <a:pt x="14" y="236"/>
                        <a:pt x="0" y="284"/>
                        <a:pt x="2" y="326"/>
                      </a:cubicBezTo>
                      <a:cubicBezTo>
                        <a:pt x="4" y="368"/>
                        <a:pt x="27" y="425"/>
                        <a:pt x="35" y="452"/>
                      </a:cubicBezTo>
                      <a:cubicBezTo>
                        <a:pt x="43" y="479"/>
                        <a:pt x="42" y="474"/>
                        <a:pt x="53" y="488"/>
                      </a:cubicBezTo>
                      <a:cubicBezTo>
                        <a:pt x="64" y="502"/>
                        <a:pt x="82" y="524"/>
                        <a:pt x="100" y="535"/>
                      </a:cubicBezTo>
                      <a:cubicBezTo>
                        <a:pt x="118" y="546"/>
                        <a:pt x="162" y="575"/>
                        <a:pt x="160" y="551"/>
                      </a:cubicBezTo>
                      <a:cubicBezTo>
                        <a:pt x="158" y="527"/>
                        <a:pt x="99" y="436"/>
                        <a:pt x="85" y="390"/>
                      </a:cubicBezTo>
                      <a:cubicBezTo>
                        <a:pt x="71" y="344"/>
                        <a:pt x="74" y="314"/>
                        <a:pt x="78" y="273"/>
                      </a:cubicBezTo>
                      <a:cubicBezTo>
                        <a:pt x="82" y="232"/>
                        <a:pt x="94" y="186"/>
                        <a:pt x="108" y="145"/>
                      </a:cubicBezTo>
                      <a:cubicBezTo>
                        <a:pt x="122" y="104"/>
                        <a:pt x="153" y="52"/>
                        <a:pt x="160" y="28"/>
                      </a:cubicBezTo>
                      <a:cubicBezTo>
                        <a:pt x="167" y="4"/>
                        <a:pt x="154" y="6"/>
                        <a:pt x="153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615840" y="5825520"/>
                  <a:ext cx="88560" cy="288360"/>
                </a:xfrm>
                <a:custGeom>
                  <a:avLst/>
                  <a:gdLst/>
                  <a:ahLst/>
                  <a:rect l="l" t="t" r="r" b="b"/>
                  <a:pathLst>
                    <a:path w="155" h="503">
                      <a:moveTo>
                        <a:pt x="141" y="0"/>
                      </a:moveTo>
                      <a:cubicBezTo>
                        <a:pt x="128" y="3"/>
                        <a:pt x="93" y="15"/>
                        <a:pt x="71" y="44"/>
                      </a:cubicBezTo>
                      <a:cubicBezTo>
                        <a:pt x="49" y="73"/>
                        <a:pt x="22" y="133"/>
                        <a:pt x="11" y="174"/>
                      </a:cubicBezTo>
                      <a:cubicBezTo>
                        <a:pt x="0" y="215"/>
                        <a:pt x="2" y="252"/>
                        <a:pt x="5" y="290"/>
                      </a:cubicBezTo>
                      <a:cubicBezTo>
                        <a:pt x="8" y="328"/>
                        <a:pt x="20" y="371"/>
                        <a:pt x="32" y="401"/>
                      </a:cubicBezTo>
                      <a:cubicBezTo>
                        <a:pt x="44" y="431"/>
                        <a:pt x="61" y="457"/>
                        <a:pt x="80" y="470"/>
                      </a:cubicBezTo>
                      <a:cubicBezTo>
                        <a:pt x="99" y="483"/>
                        <a:pt x="149" y="503"/>
                        <a:pt x="148" y="482"/>
                      </a:cubicBezTo>
                      <a:cubicBezTo>
                        <a:pt x="147" y="461"/>
                        <a:pt x="87" y="382"/>
                        <a:pt x="73" y="341"/>
                      </a:cubicBezTo>
                      <a:cubicBezTo>
                        <a:pt x="59" y="301"/>
                        <a:pt x="62" y="274"/>
                        <a:pt x="66" y="239"/>
                      </a:cubicBezTo>
                      <a:cubicBezTo>
                        <a:pt x="70" y="203"/>
                        <a:pt x="82" y="163"/>
                        <a:pt x="96" y="127"/>
                      </a:cubicBezTo>
                      <a:cubicBezTo>
                        <a:pt x="110" y="91"/>
                        <a:pt x="141" y="45"/>
                        <a:pt x="148" y="24"/>
                      </a:cubicBezTo>
                      <a:cubicBezTo>
                        <a:pt x="155" y="4"/>
                        <a:pt x="142" y="5"/>
                        <a:pt x="141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654000" y="5845680"/>
                  <a:ext cx="87120" cy="248400"/>
                </a:xfrm>
                <a:custGeom>
                  <a:avLst/>
                  <a:gdLst/>
                  <a:ahLst/>
                  <a:rect l="l" t="t" r="r" b="b"/>
                  <a:pathLst>
                    <a:path w="152" h="434">
                      <a:moveTo>
                        <a:pt x="142" y="1"/>
                      </a:moveTo>
                      <a:cubicBezTo>
                        <a:pt x="132" y="0"/>
                        <a:pt x="104" y="5"/>
                        <a:pt x="82" y="30"/>
                      </a:cubicBezTo>
                      <a:cubicBezTo>
                        <a:pt x="60" y="55"/>
                        <a:pt x="24" y="115"/>
                        <a:pt x="12" y="150"/>
                      </a:cubicBezTo>
                      <a:cubicBezTo>
                        <a:pt x="0" y="185"/>
                        <a:pt x="2" y="210"/>
                        <a:pt x="7" y="243"/>
                      </a:cubicBezTo>
                      <a:cubicBezTo>
                        <a:pt x="12" y="277"/>
                        <a:pt x="30" y="324"/>
                        <a:pt x="44" y="352"/>
                      </a:cubicBezTo>
                      <a:cubicBezTo>
                        <a:pt x="58" y="380"/>
                        <a:pt x="70" y="398"/>
                        <a:pt x="88" y="408"/>
                      </a:cubicBezTo>
                      <a:cubicBezTo>
                        <a:pt x="106" y="418"/>
                        <a:pt x="150" y="434"/>
                        <a:pt x="149" y="414"/>
                      </a:cubicBezTo>
                      <a:cubicBezTo>
                        <a:pt x="148" y="394"/>
                        <a:pt x="96" y="320"/>
                        <a:pt x="82" y="285"/>
                      </a:cubicBezTo>
                      <a:cubicBezTo>
                        <a:pt x="68" y="250"/>
                        <a:pt x="65" y="234"/>
                        <a:pt x="67" y="205"/>
                      </a:cubicBezTo>
                      <a:cubicBezTo>
                        <a:pt x="69" y="176"/>
                        <a:pt x="84" y="138"/>
                        <a:pt x="97" y="110"/>
                      </a:cubicBezTo>
                      <a:cubicBezTo>
                        <a:pt x="110" y="82"/>
                        <a:pt x="138" y="54"/>
                        <a:pt x="145" y="36"/>
                      </a:cubicBezTo>
                      <a:cubicBezTo>
                        <a:pt x="152" y="18"/>
                        <a:pt x="143" y="8"/>
                        <a:pt x="142" y="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696840" y="5868360"/>
                  <a:ext cx="87480" cy="206280"/>
                </a:xfrm>
                <a:custGeom>
                  <a:avLst/>
                  <a:gdLst/>
                  <a:ahLst/>
                  <a:rect l="l" t="t" r="r" b="b"/>
                  <a:pathLst>
                    <a:path w="153" h="360">
                      <a:moveTo>
                        <a:pt x="141" y="0"/>
                      </a:moveTo>
                      <a:cubicBezTo>
                        <a:pt x="129" y="2"/>
                        <a:pt x="95" y="12"/>
                        <a:pt x="74" y="32"/>
                      </a:cubicBezTo>
                      <a:cubicBezTo>
                        <a:pt x="53" y="52"/>
                        <a:pt x="22" y="96"/>
                        <a:pt x="11" y="124"/>
                      </a:cubicBezTo>
                      <a:cubicBezTo>
                        <a:pt x="0" y="152"/>
                        <a:pt x="2" y="175"/>
                        <a:pt x="6" y="202"/>
                      </a:cubicBezTo>
                      <a:cubicBezTo>
                        <a:pt x="10" y="229"/>
                        <a:pt x="22" y="264"/>
                        <a:pt x="35" y="287"/>
                      </a:cubicBezTo>
                      <a:cubicBezTo>
                        <a:pt x="48" y="310"/>
                        <a:pt x="64" y="328"/>
                        <a:pt x="83" y="338"/>
                      </a:cubicBezTo>
                      <a:cubicBezTo>
                        <a:pt x="102" y="348"/>
                        <a:pt x="150" y="360"/>
                        <a:pt x="148" y="344"/>
                      </a:cubicBezTo>
                      <a:cubicBezTo>
                        <a:pt x="146" y="328"/>
                        <a:pt x="87" y="272"/>
                        <a:pt x="73" y="243"/>
                      </a:cubicBezTo>
                      <a:cubicBezTo>
                        <a:pt x="59" y="215"/>
                        <a:pt x="60" y="197"/>
                        <a:pt x="66" y="170"/>
                      </a:cubicBezTo>
                      <a:cubicBezTo>
                        <a:pt x="72" y="143"/>
                        <a:pt x="96" y="105"/>
                        <a:pt x="110" y="80"/>
                      </a:cubicBezTo>
                      <a:cubicBezTo>
                        <a:pt x="124" y="55"/>
                        <a:pt x="143" y="30"/>
                        <a:pt x="148" y="17"/>
                      </a:cubicBezTo>
                      <a:cubicBezTo>
                        <a:pt x="153" y="4"/>
                        <a:pt x="142" y="4"/>
                        <a:pt x="141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736080" y="5902920"/>
                  <a:ext cx="70920" cy="143280"/>
                </a:xfrm>
                <a:custGeom>
                  <a:avLst/>
                  <a:gdLst/>
                  <a:ahLst/>
                  <a:rect l="l" t="t" r="r" b="b"/>
                  <a:pathLst>
                    <a:path w="124" h="250">
                      <a:moveTo>
                        <a:pt x="89" y="5"/>
                      </a:moveTo>
                      <a:cubicBezTo>
                        <a:pt x="80" y="5"/>
                        <a:pt x="81" y="0"/>
                        <a:pt x="68" y="14"/>
                      </a:cubicBezTo>
                      <a:cubicBezTo>
                        <a:pt x="55" y="28"/>
                        <a:pt x="20" y="66"/>
                        <a:pt x="10" y="87"/>
                      </a:cubicBezTo>
                      <a:cubicBezTo>
                        <a:pt x="0" y="108"/>
                        <a:pt x="2" y="122"/>
                        <a:pt x="6" y="141"/>
                      </a:cubicBezTo>
                      <a:cubicBezTo>
                        <a:pt x="10" y="160"/>
                        <a:pt x="24" y="185"/>
                        <a:pt x="36" y="202"/>
                      </a:cubicBezTo>
                      <a:cubicBezTo>
                        <a:pt x="48" y="219"/>
                        <a:pt x="63" y="236"/>
                        <a:pt x="77" y="242"/>
                      </a:cubicBezTo>
                      <a:cubicBezTo>
                        <a:pt x="91" y="248"/>
                        <a:pt x="124" y="250"/>
                        <a:pt x="121" y="238"/>
                      </a:cubicBezTo>
                      <a:cubicBezTo>
                        <a:pt x="118" y="226"/>
                        <a:pt x="72" y="189"/>
                        <a:pt x="61" y="169"/>
                      </a:cubicBezTo>
                      <a:cubicBezTo>
                        <a:pt x="49" y="149"/>
                        <a:pt x="52" y="136"/>
                        <a:pt x="55" y="119"/>
                      </a:cubicBezTo>
                      <a:cubicBezTo>
                        <a:pt x="58" y="102"/>
                        <a:pt x="68" y="82"/>
                        <a:pt x="79" y="64"/>
                      </a:cubicBezTo>
                      <a:cubicBezTo>
                        <a:pt x="91" y="47"/>
                        <a:pt x="119" y="24"/>
                        <a:pt x="121" y="14"/>
                      </a:cubicBezTo>
                      <a:cubicBezTo>
                        <a:pt x="123" y="4"/>
                        <a:pt x="98" y="5"/>
                        <a:pt x="89" y="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772800" y="5917680"/>
                  <a:ext cx="51840" cy="121320"/>
                </a:xfrm>
                <a:custGeom>
                  <a:avLst/>
                  <a:gdLst/>
                  <a:ahLst/>
                  <a:rect l="l" t="t" r="r" b="b"/>
                  <a:pathLst>
                    <a:path w="91" h="212">
                      <a:moveTo>
                        <a:pt x="91" y="12"/>
                      </a:moveTo>
                      <a:cubicBezTo>
                        <a:pt x="81" y="14"/>
                        <a:pt x="75" y="0"/>
                        <a:pt x="61" y="9"/>
                      </a:cubicBezTo>
                      <a:cubicBezTo>
                        <a:pt x="47" y="18"/>
                        <a:pt x="18" y="48"/>
                        <a:pt x="9" y="67"/>
                      </a:cubicBezTo>
                      <a:cubicBezTo>
                        <a:pt x="0" y="86"/>
                        <a:pt x="1" y="102"/>
                        <a:pt x="5" y="121"/>
                      </a:cubicBezTo>
                      <a:cubicBezTo>
                        <a:pt x="9" y="140"/>
                        <a:pt x="24" y="167"/>
                        <a:pt x="35" y="182"/>
                      </a:cubicBezTo>
                      <a:cubicBezTo>
                        <a:pt x="47" y="198"/>
                        <a:pt x="64" y="212"/>
                        <a:pt x="72" y="211"/>
                      </a:cubicBezTo>
                      <a:cubicBezTo>
                        <a:pt x="80" y="210"/>
                        <a:pt x="80" y="189"/>
                        <a:pt x="82" y="177"/>
                      </a:cubicBezTo>
                      <a:cubicBezTo>
                        <a:pt x="84" y="165"/>
                        <a:pt x="82" y="154"/>
                        <a:pt x="82" y="141"/>
                      </a:cubicBezTo>
                      <a:cubicBezTo>
                        <a:pt x="82" y="128"/>
                        <a:pt x="82" y="109"/>
                        <a:pt x="82" y="96"/>
                      </a:cubicBezTo>
                      <a:cubicBezTo>
                        <a:pt x="82" y="83"/>
                        <a:pt x="84" y="74"/>
                        <a:pt x="85" y="60"/>
                      </a:cubicBezTo>
                      <a:cubicBezTo>
                        <a:pt x="86" y="46"/>
                        <a:pt x="90" y="22"/>
                        <a:pt x="91" y="1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" name=""/>
              <p:cNvSpPr/>
              <p:nvPr/>
            </p:nvSpPr>
            <p:spPr>
              <a:xfrm>
                <a:off x="3285000" y="5729400"/>
                <a:ext cx="237240" cy="453960"/>
              </a:xfrm>
              <a:custGeom>
                <a:avLst/>
                <a:gdLst/>
                <a:ahLst/>
                <a:rect l="l" t="t" r="r" b="b"/>
                <a:pathLst>
                  <a:path w="414" h="792">
                    <a:moveTo>
                      <a:pt x="408" y="59"/>
                    </a:moveTo>
                    <a:cubicBezTo>
                      <a:pt x="413" y="32"/>
                      <a:pt x="414" y="10"/>
                      <a:pt x="387" y="5"/>
                    </a:cubicBezTo>
                    <a:cubicBezTo>
                      <a:pt x="360" y="0"/>
                      <a:pt x="290" y="15"/>
                      <a:pt x="246" y="29"/>
                    </a:cubicBezTo>
                    <a:cubicBezTo>
                      <a:pt x="202" y="43"/>
                      <a:pt x="162" y="57"/>
                      <a:pt x="126" y="89"/>
                    </a:cubicBezTo>
                    <a:cubicBezTo>
                      <a:pt x="90" y="121"/>
                      <a:pt x="47" y="170"/>
                      <a:pt x="27" y="224"/>
                    </a:cubicBezTo>
                    <a:cubicBezTo>
                      <a:pt x="7" y="278"/>
                      <a:pt x="0" y="354"/>
                      <a:pt x="6" y="416"/>
                    </a:cubicBezTo>
                    <a:cubicBezTo>
                      <a:pt x="12" y="478"/>
                      <a:pt x="33" y="545"/>
                      <a:pt x="63" y="596"/>
                    </a:cubicBezTo>
                    <a:cubicBezTo>
                      <a:pt x="93" y="647"/>
                      <a:pt x="150" y="691"/>
                      <a:pt x="189" y="722"/>
                    </a:cubicBezTo>
                    <a:cubicBezTo>
                      <a:pt x="228" y="753"/>
                      <a:pt x="265" y="772"/>
                      <a:pt x="297" y="782"/>
                    </a:cubicBezTo>
                    <a:cubicBezTo>
                      <a:pt x="329" y="792"/>
                      <a:pt x="367" y="791"/>
                      <a:pt x="381" y="782"/>
                    </a:cubicBezTo>
                    <a:cubicBezTo>
                      <a:pt x="395" y="773"/>
                      <a:pt x="385" y="754"/>
                      <a:pt x="378" y="728"/>
                    </a:cubicBezTo>
                    <a:cubicBezTo>
                      <a:pt x="371" y="702"/>
                      <a:pt x="347" y="671"/>
                      <a:pt x="336" y="623"/>
                    </a:cubicBezTo>
                    <a:cubicBezTo>
                      <a:pt x="325" y="575"/>
                      <a:pt x="310" y="495"/>
                      <a:pt x="309" y="437"/>
                    </a:cubicBezTo>
                    <a:cubicBezTo>
                      <a:pt x="308" y="379"/>
                      <a:pt x="322" y="316"/>
                      <a:pt x="330" y="272"/>
                    </a:cubicBezTo>
                    <a:cubicBezTo>
                      <a:pt x="338" y="228"/>
                      <a:pt x="344" y="205"/>
                      <a:pt x="357" y="170"/>
                    </a:cubicBezTo>
                    <a:cubicBezTo>
                      <a:pt x="370" y="135"/>
                      <a:pt x="403" y="86"/>
                      <a:pt x="408" y="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236040" y="5843880"/>
                <a:ext cx="74880" cy="213120"/>
              </a:xfrm>
              <a:custGeom>
                <a:avLst/>
                <a:gdLst/>
                <a:ahLst/>
                <a:rect l="l" t="t" r="r" b="b"/>
                <a:pathLst>
                  <a:path w="131" h="372">
                    <a:moveTo>
                      <a:pt x="125" y="28"/>
                    </a:moveTo>
                    <a:cubicBezTo>
                      <a:pt x="126" y="15"/>
                      <a:pt x="126" y="5"/>
                      <a:pt x="117" y="2"/>
                    </a:cubicBezTo>
                    <a:cubicBezTo>
                      <a:pt x="109" y="0"/>
                      <a:pt x="88" y="5"/>
                      <a:pt x="73" y="15"/>
                    </a:cubicBezTo>
                    <a:cubicBezTo>
                      <a:pt x="58" y="25"/>
                      <a:pt x="40" y="45"/>
                      <a:pt x="29" y="60"/>
                    </a:cubicBezTo>
                    <a:cubicBezTo>
                      <a:pt x="18" y="75"/>
                      <a:pt x="11" y="85"/>
                      <a:pt x="7" y="108"/>
                    </a:cubicBezTo>
                    <a:cubicBezTo>
                      <a:pt x="3" y="131"/>
                      <a:pt x="0" y="170"/>
                      <a:pt x="3" y="198"/>
                    </a:cubicBezTo>
                    <a:cubicBezTo>
                      <a:pt x="6" y="228"/>
                      <a:pt x="13" y="259"/>
                      <a:pt x="23" y="283"/>
                    </a:cubicBezTo>
                    <a:cubicBezTo>
                      <a:pt x="33" y="307"/>
                      <a:pt x="52" y="327"/>
                      <a:pt x="65" y="341"/>
                    </a:cubicBezTo>
                    <a:cubicBezTo>
                      <a:pt x="78" y="355"/>
                      <a:pt x="90" y="364"/>
                      <a:pt x="100" y="368"/>
                    </a:cubicBezTo>
                    <a:cubicBezTo>
                      <a:pt x="110" y="372"/>
                      <a:pt x="122" y="372"/>
                      <a:pt x="127" y="367"/>
                    </a:cubicBezTo>
                    <a:cubicBezTo>
                      <a:pt x="131" y="363"/>
                      <a:pt x="128" y="354"/>
                      <a:pt x="125" y="342"/>
                    </a:cubicBezTo>
                    <a:cubicBezTo>
                      <a:pt x="122" y="330"/>
                      <a:pt x="115" y="315"/>
                      <a:pt x="110" y="293"/>
                    </a:cubicBezTo>
                    <a:cubicBezTo>
                      <a:pt x="106" y="270"/>
                      <a:pt x="100" y="233"/>
                      <a:pt x="99" y="205"/>
                    </a:cubicBezTo>
                    <a:cubicBezTo>
                      <a:pt x="97" y="179"/>
                      <a:pt x="101" y="148"/>
                      <a:pt x="103" y="128"/>
                    </a:cubicBezTo>
                    <a:cubicBezTo>
                      <a:pt x="105" y="107"/>
                      <a:pt x="107" y="96"/>
                      <a:pt x="110" y="80"/>
                    </a:cubicBezTo>
                    <a:cubicBezTo>
                      <a:pt x="114" y="63"/>
                      <a:pt x="124" y="40"/>
                      <a:pt x="125" y="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82320" y="139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cc"/>
                </a:solidFill>
                <a:latin typeface="Eras Bold ITC"/>
              </a:rPr>
              <a:t>1 - FOSSIL RECORD</a:t>
            </a: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17600" y="1703520"/>
            <a:ext cx="76644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Comparing fossils from different layers shows: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51400" y="3192120"/>
            <a:ext cx="3564000" cy="30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901"/>
              </a:spcBef>
              <a:buClr>
                <a:srgbClr val="ffff00"/>
              </a:buClr>
              <a:buSzPct val="75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Life on Earth has changed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  <a:p>
            <a:pPr marL="463680" indent="-463680">
              <a:spcBef>
                <a:spcPts val="901"/>
              </a:spcBef>
              <a:buClr>
                <a:srgbClr val="ffff00"/>
              </a:buClr>
              <a:buSzPct val="75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Increased number of life forms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486080" y="3117960"/>
            <a:ext cx="3939480" cy="3579840"/>
            <a:chOff x="1486080" y="3117960"/>
            <a:chExt cx="3939480" cy="3579840"/>
          </a:xfrm>
        </p:grpSpPr>
        <p:sp>
          <p:nvSpPr>
            <p:cNvPr id="197" name=""/>
            <p:cNvSpPr/>
            <p:nvPr/>
          </p:nvSpPr>
          <p:spPr>
            <a:xfrm>
              <a:off x="1566000" y="6186240"/>
              <a:ext cx="3859560" cy="511560"/>
            </a:xfrm>
            <a:custGeom>
              <a:avLst/>
              <a:gdLst/>
              <a:ahLst/>
              <a:rect l="l" t="t" r="r" b="b"/>
              <a:pathLst>
                <a:path w="6735" h="892">
                  <a:moveTo>
                    <a:pt x="6715" y="852"/>
                  </a:moveTo>
                  <a:cubicBezTo>
                    <a:pt x="6695" y="812"/>
                    <a:pt x="6553" y="655"/>
                    <a:pt x="6490" y="612"/>
                  </a:cubicBezTo>
                  <a:cubicBezTo>
                    <a:pt x="6427" y="569"/>
                    <a:pt x="6392" y="644"/>
                    <a:pt x="6340" y="597"/>
                  </a:cubicBezTo>
                  <a:cubicBezTo>
                    <a:pt x="6288" y="550"/>
                    <a:pt x="6227" y="377"/>
                    <a:pt x="6175" y="327"/>
                  </a:cubicBezTo>
                  <a:cubicBezTo>
                    <a:pt x="6123" y="277"/>
                    <a:pt x="6072" y="344"/>
                    <a:pt x="6025" y="297"/>
                  </a:cubicBezTo>
                  <a:cubicBezTo>
                    <a:pt x="5978" y="250"/>
                    <a:pt x="5957" y="84"/>
                    <a:pt x="5890" y="42"/>
                  </a:cubicBezTo>
                  <a:cubicBezTo>
                    <a:pt x="5823" y="0"/>
                    <a:pt x="5922" y="25"/>
                    <a:pt x="5620" y="42"/>
                  </a:cubicBezTo>
                  <a:cubicBezTo>
                    <a:pt x="5318" y="59"/>
                    <a:pt x="4555" y="125"/>
                    <a:pt x="4075" y="147"/>
                  </a:cubicBezTo>
                  <a:cubicBezTo>
                    <a:pt x="3595" y="169"/>
                    <a:pt x="3192" y="167"/>
                    <a:pt x="2740" y="177"/>
                  </a:cubicBezTo>
                  <a:cubicBezTo>
                    <a:pt x="2288" y="187"/>
                    <a:pt x="1782" y="202"/>
                    <a:pt x="1360" y="207"/>
                  </a:cubicBezTo>
                  <a:cubicBezTo>
                    <a:pt x="938" y="212"/>
                    <a:pt x="410" y="185"/>
                    <a:pt x="205" y="207"/>
                  </a:cubicBezTo>
                  <a:cubicBezTo>
                    <a:pt x="0" y="229"/>
                    <a:pt x="143" y="245"/>
                    <a:pt x="130" y="342"/>
                  </a:cubicBezTo>
                  <a:cubicBezTo>
                    <a:pt x="117" y="439"/>
                    <a:pt x="85" y="710"/>
                    <a:pt x="130" y="792"/>
                  </a:cubicBezTo>
                  <a:cubicBezTo>
                    <a:pt x="175" y="874"/>
                    <a:pt x="135" y="837"/>
                    <a:pt x="400" y="837"/>
                  </a:cubicBezTo>
                  <a:cubicBezTo>
                    <a:pt x="665" y="837"/>
                    <a:pt x="1120" y="795"/>
                    <a:pt x="1720" y="792"/>
                  </a:cubicBezTo>
                  <a:cubicBezTo>
                    <a:pt x="2320" y="789"/>
                    <a:pt x="3443" y="820"/>
                    <a:pt x="4000" y="822"/>
                  </a:cubicBezTo>
                  <a:cubicBezTo>
                    <a:pt x="4557" y="824"/>
                    <a:pt x="4758" y="809"/>
                    <a:pt x="5065" y="807"/>
                  </a:cubicBezTo>
                  <a:cubicBezTo>
                    <a:pt x="5372" y="805"/>
                    <a:pt x="5620" y="802"/>
                    <a:pt x="5845" y="807"/>
                  </a:cubicBezTo>
                  <a:cubicBezTo>
                    <a:pt x="6070" y="812"/>
                    <a:pt x="6288" y="830"/>
                    <a:pt x="6415" y="837"/>
                  </a:cubicBezTo>
                  <a:cubicBezTo>
                    <a:pt x="6542" y="844"/>
                    <a:pt x="6560" y="849"/>
                    <a:pt x="6610" y="852"/>
                  </a:cubicBezTo>
                  <a:cubicBezTo>
                    <a:pt x="6660" y="855"/>
                    <a:pt x="6735" y="892"/>
                    <a:pt x="6715" y="852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85080" y="5530680"/>
              <a:ext cx="3322080" cy="767160"/>
            </a:xfrm>
            <a:custGeom>
              <a:avLst/>
              <a:gdLst/>
              <a:ahLst/>
              <a:rect l="l" t="t" r="r" b="b"/>
              <a:pathLst>
                <a:path w="5797" h="1338">
                  <a:moveTo>
                    <a:pt x="5782" y="1125"/>
                  </a:moveTo>
                  <a:cubicBezTo>
                    <a:pt x="5797" y="1068"/>
                    <a:pt x="5784" y="930"/>
                    <a:pt x="5767" y="840"/>
                  </a:cubicBezTo>
                  <a:cubicBezTo>
                    <a:pt x="5750" y="750"/>
                    <a:pt x="5697" y="667"/>
                    <a:pt x="5677" y="585"/>
                  </a:cubicBezTo>
                  <a:cubicBezTo>
                    <a:pt x="5657" y="503"/>
                    <a:pt x="5677" y="395"/>
                    <a:pt x="5647" y="345"/>
                  </a:cubicBezTo>
                  <a:cubicBezTo>
                    <a:pt x="5617" y="295"/>
                    <a:pt x="5524" y="337"/>
                    <a:pt x="5497" y="285"/>
                  </a:cubicBezTo>
                  <a:cubicBezTo>
                    <a:pt x="5470" y="233"/>
                    <a:pt x="5562" y="55"/>
                    <a:pt x="5482" y="30"/>
                  </a:cubicBezTo>
                  <a:cubicBezTo>
                    <a:pt x="5402" y="5"/>
                    <a:pt x="5264" y="125"/>
                    <a:pt x="5017" y="135"/>
                  </a:cubicBezTo>
                  <a:cubicBezTo>
                    <a:pt x="4770" y="145"/>
                    <a:pt x="4397" y="85"/>
                    <a:pt x="3997" y="90"/>
                  </a:cubicBezTo>
                  <a:cubicBezTo>
                    <a:pt x="3597" y="95"/>
                    <a:pt x="3047" y="155"/>
                    <a:pt x="2617" y="165"/>
                  </a:cubicBezTo>
                  <a:cubicBezTo>
                    <a:pt x="2187" y="175"/>
                    <a:pt x="1759" y="170"/>
                    <a:pt x="1417" y="150"/>
                  </a:cubicBezTo>
                  <a:cubicBezTo>
                    <a:pt x="1075" y="130"/>
                    <a:pt x="757" y="62"/>
                    <a:pt x="562" y="45"/>
                  </a:cubicBezTo>
                  <a:cubicBezTo>
                    <a:pt x="367" y="28"/>
                    <a:pt x="327" y="45"/>
                    <a:pt x="247" y="45"/>
                  </a:cubicBezTo>
                  <a:cubicBezTo>
                    <a:pt x="167" y="45"/>
                    <a:pt x="122" y="0"/>
                    <a:pt x="82" y="45"/>
                  </a:cubicBezTo>
                  <a:cubicBezTo>
                    <a:pt x="42" y="90"/>
                    <a:pt x="14" y="205"/>
                    <a:pt x="7" y="315"/>
                  </a:cubicBezTo>
                  <a:cubicBezTo>
                    <a:pt x="0" y="425"/>
                    <a:pt x="32" y="593"/>
                    <a:pt x="37" y="705"/>
                  </a:cubicBezTo>
                  <a:cubicBezTo>
                    <a:pt x="42" y="817"/>
                    <a:pt x="37" y="908"/>
                    <a:pt x="37" y="990"/>
                  </a:cubicBezTo>
                  <a:cubicBezTo>
                    <a:pt x="37" y="1072"/>
                    <a:pt x="34" y="1145"/>
                    <a:pt x="37" y="1200"/>
                  </a:cubicBezTo>
                  <a:cubicBezTo>
                    <a:pt x="40" y="1255"/>
                    <a:pt x="22" y="1302"/>
                    <a:pt x="52" y="1320"/>
                  </a:cubicBezTo>
                  <a:cubicBezTo>
                    <a:pt x="82" y="1338"/>
                    <a:pt x="72" y="1312"/>
                    <a:pt x="217" y="1305"/>
                  </a:cubicBezTo>
                  <a:cubicBezTo>
                    <a:pt x="362" y="1298"/>
                    <a:pt x="552" y="1275"/>
                    <a:pt x="922" y="1275"/>
                  </a:cubicBezTo>
                  <a:cubicBezTo>
                    <a:pt x="1292" y="1275"/>
                    <a:pt x="1945" y="1307"/>
                    <a:pt x="2437" y="1305"/>
                  </a:cubicBezTo>
                  <a:cubicBezTo>
                    <a:pt x="2929" y="1303"/>
                    <a:pt x="3412" y="1275"/>
                    <a:pt x="3877" y="1260"/>
                  </a:cubicBezTo>
                  <a:cubicBezTo>
                    <a:pt x="4342" y="1245"/>
                    <a:pt x="4927" y="1227"/>
                    <a:pt x="5227" y="1215"/>
                  </a:cubicBezTo>
                  <a:cubicBezTo>
                    <a:pt x="5527" y="1203"/>
                    <a:pt x="5582" y="1202"/>
                    <a:pt x="5677" y="1185"/>
                  </a:cubicBezTo>
                  <a:cubicBezTo>
                    <a:pt x="5772" y="1168"/>
                    <a:pt x="5767" y="1182"/>
                    <a:pt x="5782" y="1125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34680" y="5004360"/>
              <a:ext cx="3157560" cy="619200"/>
            </a:xfrm>
            <a:custGeom>
              <a:avLst/>
              <a:gdLst/>
              <a:ahLst/>
              <a:rect l="l" t="t" r="r" b="b"/>
              <a:pathLst>
                <a:path w="5510" h="1080">
                  <a:moveTo>
                    <a:pt x="5510" y="843"/>
                  </a:moveTo>
                  <a:cubicBezTo>
                    <a:pt x="5510" y="793"/>
                    <a:pt x="5500" y="698"/>
                    <a:pt x="5450" y="618"/>
                  </a:cubicBezTo>
                  <a:cubicBezTo>
                    <a:pt x="5400" y="538"/>
                    <a:pt x="5270" y="433"/>
                    <a:pt x="5210" y="363"/>
                  </a:cubicBezTo>
                  <a:cubicBezTo>
                    <a:pt x="5150" y="293"/>
                    <a:pt x="5120" y="253"/>
                    <a:pt x="5090" y="198"/>
                  </a:cubicBezTo>
                  <a:cubicBezTo>
                    <a:pt x="5060" y="143"/>
                    <a:pt x="5125" y="55"/>
                    <a:pt x="5030" y="33"/>
                  </a:cubicBezTo>
                  <a:cubicBezTo>
                    <a:pt x="4935" y="11"/>
                    <a:pt x="4785" y="68"/>
                    <a:pt x="4520" y="63"/>
                  </a:cubicBezTo>
                  <a:cubicBezTo>
                    <a:pt x="4255" y="58"/>
                    <a:pt x="3772" y="3"/>
                    <a:pt x="3440" y="3"/>
                  </a:cubicBezTo>
                  <a:cubicBezTo>
                    <a:pt x="3108" y="3"/>
                    <a:pt x="2785" y="50"/>
                    <a:pt x="2525" y="63"/>
                  </a:cubicBezTo>
                  <a:cubicBezTo>
                    <a:pt x="2265" y="76"/>
                    <a:pt x="2105" y="85"/>
                    <a:pt x="1880" y="78"/>
                  </a:cubicBezTo>
                  <a:cubicBezTo>
                    <a:pt x="1655" y="71"/>
                    <a:pt x="1382" y="30"/>
                    <a:pt x="1175" y="18"/>
                  </a:cubicBezTo>
                  <a:cubicBezTo>
                    <a:pt x="968" y="6"/>
                    <a:pt x="805" y="0"/>
                    <a:pt x="635" y="3"/>
                  </a:cubicBezTo>
                  <a:cubicBezTo>
                    <a:pt x="465" y="6"/>
                    <a:pt x="257" y="26"/>
                    <a:pt x="155" y="33"/>
                  </a:cubicBezTo>
                  <a:cubicBezTo>
                    <a:pt x="53" y="40"/>
                    <a:pt x="40" y="20"/>
                    <a:pt x="20" y="48"/>
                  </a:cubicBezTo>
                  <a:cubicBezTo>
                    <a:pt x="0" y="76"/>
                    <a:pt x="37" y="156"/>
                    <a:pt x="35" y="198"/>
                  </a:cubicBezTo>
                  <a:cubicBezTo>
                    <a:pt x="33" y="240"/>
                    <a:pt x="5" y="211"/>
                    <a:pt x="5" y="303"/>
                  </a:cubicBezTo>
                  <a:cubicBezTo>
                    <a:pt x="5" y="395"/>
                    <a:pt x="30" y="638"/>
                    <a:pt x="35" y="753"/>
                  </a:cubicBezTo>
                  <a:cubicBezTo>
                    <a:pt x="40" y="868"/>
                    <a:pt x="18" y="956"/>
                    <a:pt x="35" y="993"/>
                  </a:cubicBezTo>
                  <a:cubicBezTo>
                    <a:pt x="52" y="1030"/>
                    <a:pt x="93" y="988"/>
                    <a:pt x="140" y="978"/>
                  </a:cubicBezTo>
                  <a:cubicBezTo>
                    <a:pt x="187" y="968"/>
                    <a:pt x="175" y="923"/>
                    <a:pt x="320" y="933"/>
                  </a:cubicBezTo>
                  <a:cubicBezTo>
                    <a:pt x="465" y="943"/>
                    <a:pt x="738" y="1018"/>
                    <a:pt x="1010" y="1038"/>
                  </a:cubicBezTo>
                  <a:cubicBezTo>
                    <a:pt x="1282" y="1058"/>
                    <a:pt x="1598" y="1048"/>
                    <a:pt x="1955" y="1053"/>
                  </a:cubicBezTo>
                  <a:cubicBezTo>
                    <a:pt x="2312" y="1058"/>
                    <a:pt x="2733" y="1080"/>
                    <a:pt x="3155" y="1068"/>
                  </a:cubicBezTo>
                  <a:cubicBezTo>
                    <a:pt x="3577" y="1056"/>
                    <a:pt x="4148" y="988"/>
                    <a:pt x="4490" y="978"/>
                  </a:cubicBezTo>
                  <a:cubicBezTo>
                    <a:pt x="4832" y="968"/>
                    <a:pt x="5050" y="1018"/>
                    <a:pt x="5210" y="1008"/>
                  </a:cubicBezTo>
                  <a:cubicBezTo>
                    <a:pt x="5370" y="998"/>
                    <a:pt x="5403" y="953"/>
                    <a:pt x="5450" y="918"/>
                  </a:cubicBezTo>
                  <a:cubicBezTo>
                    <a:pt x="5497" y="883"/>
                    <a:pt x="5510" y="893"/>
                    <a:pt x="5510" y="843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86080" y="4365360"/>
              <a:ext cx="2939760" cy="667800"/>
            </a:xfrm>
            <a:custGeom>
              <a:avLst/>
              <a:gdLst/>
              <a:ahLst/>
              <a:rect l="l" t="t" r="r" b="b"/>
              <a:pathLst>
                <a:path w="5130" h="1165">
                  <a:moveTo>
                    <a:pt x="5115" y="1027"/>
                  </a:moveTo>
                  <a:cubicBezTo>
                    <a:pt x="5130" y="965"/>
                    <a:pt x="5105" y="839"/>
                    <a:pt x="5070" y="742"/>
                  </a:cubicBezTo>
                  <a:cubicBezTo>
                    <a:pt x="5035" y="645"/>
                    <a:pt x="4945" y="539"/>
                    <a:pt x="4905" y="442"/>
                  </a:cubicBezTo>
                  <a:cubicBezTo>
                    <a:pt x="4865" y="345"/>
                    <a:pt x="4872" y="227"/>
                    <a:pt x="4830" y="157"/>
                  </a:cubicBezTo>
                  <a:cubicBezTo>
                    <a:pt x="4788" y="87"/>
                    <a:pt x="4750" y="44"/>
                    <a:pt x="4650" y="22"/>
                  </a:cubicBezTo>
                  <a:cubicBezTo>
                    <a:pt x="4550" y="0"/>
                    <a:pt x="4400" y="17"/>
                    <a:pt x="4230" y="22"/>
                  </a:cubicBezTo>
                  <a:cubicBezTo>
                    <a:pt x="4060" y="27"/>
                    <a:pt x="4057" y="50"/>
                    <a:pt x="3630" y="52"/>
                  </a:cubicBezTo>
                  <a:cubicBezTo>
                    <a:pt x="3203" y="54"/>
                    <a:pt x="2197" y="30"/>
                    <a:pt x="1665" y="37"/>
                  </a:cubicBezTo>
                  <a:cubicBezTo>
                    <a:pt x="1133" y="44"/>
                    <a:pt x="702" y="87"/>
                    <a:pt x="435" y="97"/>
                  </a:cubicBezTo>
                  <a:cubicBezTo>
                    <a:pt x="168" y="107"/>
                    <a:pt x="120" y="20"/>
                    <a:pt x="60" y="97"/>
                  </a:cubicBezTo>
                  <a:cubicBezTo>
                    <a:pt x="0" y="174"/>
                    <a:pt x="75" y="452"/>
                    <a:pt x="75" y="562"/>
                  </a:cubicBezTo>
                  <a:cubicBezTo>
                    <a:pt x="75" y="672"/>
                    <a:pt x="62" y="695"/>
                    <a:pt x="60" y="757"/>
                  </a:cubicBezTo>
                  <a:cubicBezTo>
                    <a:pt x="58" y="819"/>
                    <a:pt x="58" y="875"/>
                    <a:pt x="60" y="937"/>
                  </a:cubicBezTo>
                  <a:cubicBezTo>
                    <a:pt x="62" y="999"/>
                    <a:pt x="52" y="1099"/>
                    <a:pt x="75" y="1132"/>
                  </a:cubicBezTo>
                  <a:cubicBezTo>
                    <a:pt x="98" y="1165"/>
                    <a:pt x="85" y="1132"/>
                    <a:pt x="195" y="1132"/>
                  </a:cubicBezTo>
                  <a:cubicBezTo>
                    <a:pt x="305" y="1132"/>
                    <a:pt x="435" y="1127"/>
                    <a:pt x="735" y="1132"/>
                  </a:cubicBezTo>
                  <a:cubicBezTo>
                    <a:pt x="1035" y="1137"/>
                    <a:pt x="1555" y="1162"/>
                    <a:pt x="1995" y="1162"/>
                  </a:cubicBezTo>
                  <a:cubicBezTo>
                    <a:pt x="2435" y="1162"/>
                    <a:pt x="2995" y="1140"/>
                    <a:pt x="3375" y="1132"/>
                  </a:cubicBezTo>
                  <a:cubicBezTo>
                    <a:pt x="3755" y="1124"/>
                    <a:pt x="4008" y="1119"/>
                    <a:pt x="4275" y="1117"/>
                  </a:cubicBezTo>
                  <a:cubicBezTo>
                    <a:pt x="4542" y="1115"/>
                    <a:pt x="4843" y="1127"/>
                    <a:pt x="4980" y="1117"/>
                  </a:cubicBezTo>
                  <a:cubicBezTo>
                    <a:pt x="5117" y="1107"/>
                    <a:pt x="5100" y="1089"/>
                    <a:pt x="5115" y="1027"/>
                  </a:cubicBez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43320" y="3700440"/>
              <a:ext cx="2645640" cy="732240"/>
            </a:xfrm>
            <a:custGeom>
              <a:avLst/>
              <a:gdLst/>
              <a:ahLst/>
              <a:rect l="l" t="t" r="r" b="b"/>
              <a:pathLst>
                <a:path w="4617" h="1277">
                  <a:moveTo>
                    <a:pt x="4610" y="1152"/>
                  </a:moveTo>
                  <a:cubicBezTo>
                    <a:pt x="4617" y="1122"/>
                    <a:pt x="4545" y="1057"/>
                    <a:pt x="4535" y="1002"/>
                  </a:cubicBezTo>
                  <a:cubicBezTo>
                    <a:pt x="4525" y="947"/>
                    <a:pt x="4553" y="892"/>
                    <a:pt x="4550" y="822"/>
                  </a:cubicBezTo>
                  <a:cubicBezTo>
                    <a:pt x="4547" y="752"/>
                    <a:pt x="4542" y="674"/>
                    <a:pt x="4520" y="582"/>
                  </a:cubicBezTo>
                  <a:cubicBezTo>
                    <a:pt x="4498" y="490"/>
                    <a:pt x="4435" y="354"/>
                    <a:pt x="4415" y="267"/>
                  </a:cubicBezTo>
                  <a:cubicBezTo>
                    <a:pt x="4395" y="180"/>
                    <a:pt x="4430" y="99"/>
                    <a:pt x="4400" y="57"/>
                  </a:cubicBezTo>
                  <a:cubicBezTo>
                    <a:pt x="4370" y="15"/>
                    <a:pt x="4352" y="0"/>
                    <a:pt x="4235" y="12"/>
                  </a:cubicBezTo>
                  <a:cubicBezTo>
                    <a:pt x="4118" y="24"/>
                    <a:pt x="3955" y="92"/>
                    <a:pt x="3695" y="132"/>
                  </a:cubicBezTo>
                  <a:cubicBezTo>
                    <a:pt x="3435" y="172"/>
                    <a:pt x="2962" y="227"/>
                    <a:pt x="2675" y="252"/>
                  </a:cubicBezTo>
                  <a:cubicBezTo>
                    <a:pt x="2388" y="277"/>
                    <a:pt x="2212" y="277"/>
                    <a:pt x="1970" y="282"/>
                  </a:cubicBezTo>
                  <a:cubicBezTo>
                    <a:pt x="1728" y="287"/>
                    <a:pt x="1450" y="282"/>
                    <a:pt x="1220" y="282"/>
                  </a:cubicBezTo>
                  <a:cubicBezTo>
                    <a:pt x="990" y="282"/>
                    <a:pt x="765" y="282"/>
                    <a:pt x="590" y="282"/>
                  </a:cubicBezTo>
                  <a:cubicBezTo>
                    <a:pt x="415" y="282"/>
                    <a:pt x="257" y="277"/>
                    <a:pt x="170" y="282"/>
                  </a:cubicBezTo>
                  <a:cubicBezTo>
                    <a:pt x="83" y="287"/>
                    <a:pt x="88" y="279"/>
                    <a:pt x="65" y="312"/>
                  </a:cubicBezTo>
                  <a:cubicBezTo>
                    <a:pt x="42" y="345"/>
                    <a:pt x="40" y="405"/>
                    <a:pt x="35" y="477"/>
                  </a:cubicBezTo>
                  <a:cubicBezTo>
                    <a:pt x="30" y="549"/>
                    <a:pt x="33" y="645"/>
                    <a:pt x="35" y="747"/>
                  </a:cubicBezTo>
                  <a:cubicBezTo>
                    <a:pt x="37" y="849"/>
                    <a:pt x="47" y="1012"/>
                    <a:pt x="50" y="1092"/>
                  </a:cubicBezTo>
                  <a:cubicBezTo>
                    <a:pt x="53" y="1172"/>
                    <a:pt x="0" y="1197"/>
                    <a:pt x="50" y="1227"/>
                  </a:cubicBezTo>
                  <a:cubicBezTo>
                    <a:pt x="100" y="1257"/>
                    <a:pt x="193" y="1267"/>
                    <a:pt x="350" y="1272"/>
                  </a:cubicBezTo>
                  <a:cubicBezTo>
                    <a:pt x="507" y="1277"/>
                    <a:pt x="700" y="1262"/>
                    <a:pt x="995" y="1257"/>
                  </a:cubicBezTo>
                  <a:cubicBezTo>
                    <a:pt x="1290" y="1252"/>
                    <a:pt x="1805" y="1247"/>
                    <a:pt x="2120" y="1242"/>
                  </a:cubicBezTo>
                  <a:cubicBezTo>
                    <a:pt x="2435" y="1237"/>
                    <a:pt x="2613" y="1237"/>
                    <a:pt x="2885" y="1227"/>
                  </a:cubicBezTo>
                  <a:cubicBezTo>
                    <a:pt x="3157" y="1217"/>
                    <a:pt x="3528" y="1194"/>
                    <a:pt x="3755" y="1182"/>
                  </a:cubicBezTo>
                  <a:cubicBezTo>
                    <a:pt x="3982" y="1170"/>
                    <a:pt x="4128" y="1152"/>
                    <a:pt x="4250" y="1152"/>
                  </a:cubicBezTo>
                  <a:cubicBezTo>
                    <a:pt x="4372" y="1152"/>
                    <a:pt x="4433" y="1180"/>
                    <a:pt x="4490" y="1182"/>
                  </a:cubicBezTo>
                  <a:cubicBezTo>
                    <a:pt x="4547" y="1184"/>
                    <a:pt x="4603" y="1182"/>
                    <a:pt x="4610" y="1152"/>
                  </a:cubicBez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60240" y="3117960"/>
              <a:ext cx="2525400" cy="756720"/>
            </a:xfrm>
            <a:custGeom>
              <a:avLst/>
              <a:gdLst/>
              <a:ahLst/>
              <a:rect l="l" t="t" r="r" b="b"/>
              <a:pathLst>
                <a:path w="4407" h="1320">
                  <a:moveTo>
                    <a:pt x="4400" y="1013"/>
                  </a:moveTo>
                  <a:cubicBezTo>
                    <a:pt x="4393" y="968"/>
                    <a:pt x="4207" y="845"/>
                    <a:pt x="4145" y="743"/>
                  </a:cubicBezTo>
                  <a:cubicBezTo>
                    <a:pt x="4083" y="641"/>
                    <a:pt x="4045" y="503"/>
                    <a:pt x="4025" y="398"/>
                  </a:cubicBezTo>
                  <a:cubicBezTo>
                    <a:pt x="4005" y="293"/>
                    <a:pt x="4105" y="178"/>
                    <a:pt x="4025" y="113"/>
                  </a:cubicBezTo>
                  <a:cubicBezTo>
                    <a:pt x="3945" y="48"/>
                    <a:pt x="3755" y="0"/>
                    <a:pt x="3545" y="8"/>
                  </a:cubicBezTo>
                  <a:cubicBezTo>
                    <a:pt x="3335" y="16"/>
                    <a:pt x="3020" y="145"/>
                    <a:pt x="2765" y="158"/>
                  </a:cubicBezTo>
                  <a:cubicBezTo>
                    <a:pt x="2510" y="171"/>
                    <a:pt x="2252" y="103"/>
                    <a:pt x="2015" y="83"/>
                  </a:cubicBezTo>
                  <a:cubicBezTo>
                    <a:pt x="1778" y="63"/>
                    <a:pt x="1552" y="23"/>
                    <a:pt x="1340" y="38"/>
                  </a:cubicBezTo>
                  <a:cubicBezTo>
                    <a:pt x="1128" y="53"/>
                    <a:pt x="940" y="170"/>
                    <a:pt x="740" y="173"/>
                  </a:cubicBezTo>
                  <a:cubicBezTo>
                    <a:pt x="540" y="176"/>
                    <a:pt x="260" y="48"/>
                    <a:pt x="140" y="53"/>
                  </a:cubicBezTo>
                  <a:cubicBezTo>
                    <a:pt x="20" y="58"/>
                    <a:pt x="40" y="153"/>
                    <a:pt x="20" y="203"/>
                  </a:cubicBezTo>
                  <a:cubicBezTo>
                    <a:pt x="0" y="253"/>
                    <a:pt x="22" y="261"/>
                    <a:pt x="20" y="353"/>
                  </a:cubicBezTo>
                  <a:cubicBezTo>
                    <a:pt x="18" y="445"/>
                    <a:pt x="5" y="641"/>
                    <a:pt x="5" y="758"/>
                  </a:cubicBezTo>
                  <a:cubicBezTo>
                    <a:pt x="5" y="875"/>
                    <a:pt x="18" y="981"/>
                    <a:pt x="20" y="1058"/>
                  </a:cubicBezTo>
                  <a:cubicBezTo>
                    <a:pt x="22" y="1135"/>
                    <a:pt x="10" y="1181"/>
                    <a:pt x="20" y="1223"/>
                  </a:cubicBezTo>
                  <a:cubicBezTo>
                    <a:pt x="30" y="1265"/>
                    <a:pt x="28" y="1306"/>
                    <a:pt x="80" y="1313"/>
                  </a:cubicBezTo>
                  <a:cubicBezTo>
                    <a:pt x="132" y="1320"/>
                    <a:pt x="175" y="1273"/>
                    <a:pt x="335" y="1268"/>
                  </a:cubicBezTo>
                  <a:cubicBezTo>
                    <a:pt x="495" y="1263"/>
                    <a:pt x="740" y="1280"/>
                    <a:pt x="1040" y="1283"/>
                  </a:cubicBezTo>
                  <a:cubicBezTo>
                    <a:pt x="1340" y="1286"/>
                    <a:pt x="1790" y="1293"/>
                    <a:pt x="2135" y="1283"/>
                  </a:cubicBezTo>
                  <a:cubicBezTo>
                    <a:pt x="2480" y="1273"/>
                    <a:pt x="2833" y="1255"/>
                    <a:pt x="3110" y="1223"/>
                  </a:cubicBezTo>
                  <a:cubicBezTo>
                    <a:pt x="3387" y="1191"/>
                    <a:pt x="3620" y="1123"/>
                    <a:pt x="3800" y="1088"/>
                  </a:cubicBezTo>
                  <a:cubicBezTo>
                    <a:pt x="3980" y="1053"/>
                    <a:pt x="4100" y="1025"/>
                    <a:pt x="4190" y="1013"/>
                  </a:cubicBezTo>
                  <a:cubicBezTo>
                    <a:pt x="4280" y="1001"/>
                    <a:pt x="4407" y="1058"/>
                    <a:pt x="4400" y="1013"/>
                  </a:cubicBez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2404440" y="3234600"/>
              <a:ext cx="1142640" cy="413280"/>
              <a:chOff x="2404440" y="3234600"/>
              <a:chExt cx="1142640" cy="41328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2639160" y="3290040"/>
                <a:ext cx="730080" cy="295200"/>
                <a:chOff x="2639160" y="3290040"/>
                <a:chExt cx="730080" cy="29520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2639160" y="3403080"/>
                  <a:ext cx="719640" cy="71640"/>
                </a:xfrm>
                <a:custGeom>
                  <a:avLst/>
                  <a:gdLst/>
                  <a:ahLst/>
                  <a:rect l="l" t="t" r="r" b="b"/>
                  <a:pathLst>
                    <a:path w="1687" h="128">
                      <a:moveTo>
                        <a:pt x="1687" y="68"/>
                      </a:moveTo>
                      <a:cubicBezTo>
                        <a:pt x="1637" y="67"/>
                        <a:pt x="1588" y="67"/>
                        <a:pt x="1507" y="60"/>
                      </a:cubicBezTo>
                      <a:cubicBezTo>
                        <a:pt x="1426" y="53"/>
                        <a:pt x="1297" y="33"/>
                        <a:pt x="1200" y="23"/>
                      </a:cubicBezTo>
                      <a:cubicBezTo>
                        <a:pt x="1103" y="13"/>
                        <a:pt x="1031" y="0"/>
                        <a:pt x="922" y="0"/>
                      </a:cubicBezTo>
                      <a:cubicBezTo>
                        <a:pt x="813" y="0"/>
                        <a:pt x="676" y="8"/>
                        <a:pt x="547" y="23"/>
                      </a:cubicBezTo>
                      <a:cubicBezTo>
                        <a:pt x="418" y="38"/>
                        <a:pt x="241" y="73"/>
                        <a:pt x="150" y="90"/>
                      </a:cubicBezTo>
                      <a:cubicBezTo>
                        <a:pt x="59" y="107"/>
                        <a:pt x="31" y="120"/>
                        <a:pt x="0" y="12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rot="16200000">
                  <a:off x="2604240" y="340884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16200000">
                  <a:off x="2658960" y="338328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rot="16200000">
                  <a:off x="2716200" y="337104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rot="16200000">
                  <a:off x="2777040" y="335916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rot="16200000">
                  <a:off x="2822760" y="3342240"/>
                  <a:ext cx="218880" cy="114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200000">
                  <a:off x="2871000" y="3356640"/>
                  <a:ext cx="244440" cy="113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23608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236086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16200000">
                  <a:off x="2956320" y="333684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16200000">
                  <a:off x="3017160" y="336096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rot="16200000">
                  <a:off x="3084120" y="336096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16200000">
                  <a:off x="3135600" y="337392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rot="16200000">
                  <a:off x="3211920" y="3375720"/>
                  <a:ext cx="133560" cy="77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rot="16200000">
                  <a:off x="3259800" y="3383640"/>
                  <a:ext cx="133560" cy="77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V="1" rot="5400000">
                  <a:off x="2607840" y="343044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V="1" rot="5400000">
                  <a:off x="2662560" y="341532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V="1" rot="5400000">
                  <a:off x="2720160" y="340092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V="1" rot="5400000">
                  <a:off x="2777400" y="338112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V="1" rot="5400000">
                  <a:off x="2826720" y="3368880"/>
                  <a:ext cx="218880" cy="114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V="1" rot="5400000">
                  <a:off x="2874600" y="3364200"/>
                  <a:ext cx="244440" cy="113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23608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236086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V="1" rot="5400000">
                  <a:off x="2959920" y="335880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V="1" rot="5400000">
                  <a:off x="3021120" y="336132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 rot="5400000">
                  <a:off x="3088080" y="336132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 rot="5400000">
                  <a:off x="3139200" y="337104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V="1" rot="5400000">
                  <a:off x="3215520" y="3407040"/>
                  <a:ext cx="133560" cy="78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V="1" rot="5400000">
                  <a:off x="3263760" y="3390480"/>
                  <a:ext cx="133560" cy="77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0" name=""/>
              <p:cNvSpPr/>
              <p:nvPr/>
            </p:nvSpPr>
            <p:spPr>
              <a:xfrm>
                <a:off x="2404440" y="3334320"/>
                <a:ext cx="237600" cy="313560"/>
              </a:xfrm>
              <a:custGeom>
                <a:avLst/>
                <a:gdLst/>
                <a:ahLst/>
                <a:rect l="l" t="t" r="r" b="b"/>
                <a:pathLst>
                  <a:path w="557" h="558">
                    <a:moveTo>
                      <a:pt x="542" y="369"/>
                    </a:moveTo>
                    <a:cubicBezTo>
                      <a:pt x="527" y="341"/>
                      <a:pt x="473" y="284"/>
                      <a:pt x="467" y="249"/>
                    </a:cubicBezTo>
                    <a:cubicBezTo>
                      <a:pt x="461" y="214"/>
                      <a:pt x="496" y="193"/>
                      <a:pt x="505" y="159"/>
                    </a:cubicBezTo>
                    <a:cubicBezTo>
                      <a:pt x="514" y="125"/>
                      <a:pt x="541" y="71"/>
                      <a:pt x="520" y="46"/>
                    </a:cubicBezTo>
                    <a:cubicBezTo>
                      <a:pt x="499" y="21"/>
                      <a:pt x="441" y="0"/>
                      <a:pt x="377" y="9"/>
                    </a:cubicBezTo>
                    <a:cubicBezTo>
                      <a:pt x="313" y="18"/>
                      <a:pt x="191" y="65"/>
                      <a:pt x="137" y="99"/>
                    </a:cubicBezTo>
                    <a:cubicBezTo>
                      <a:pt x="83" y="133"/>
                      <a:pt x="75" y="175"/>
                      <a:pt x="55" y="211"/>
                    </a:cubicBezTo>
                    <a:cubicBezTo>
                      <a:pt x="35" y="247"/>
                      <a:pt x="0" y="289"/>
                      <a:pt x="17" y="316"/>
                    </a:cubicBezTo>
                    <a:cubicBezTo>
                      <a:pt x="34" y="343"/>
                      <a:pt x="110" y="361"/>
                      <a:pt x="160" y="376"/>
                    </a:cubicBezTo>
                    <a:cubicBezTo>
                      <a:pt x="210" y="391"/>
                      <a:pt x="297" y="392"/>
                      <a:pt x="317" y="406"/>
                    </a:cubicBezTo>
                    <a:cubicBezTo>
                      <a:pt x="337" y="420"/>
                      <a:pt x="309" y="448"/>
                      <a:pt x="280" y="459"/>
                    </a:cubicBezTo>
                    <a:cubicBezTo>
                      <a:pt x="251" y="470"/>
                      <a:pt x="175" y="467"/>
                      <a:pt x="145" y="474"/>
                    </a:cubicBezTo>
                    <a:cubicBezTo>
                      <a:pt x="115" y="481"/>
                      <a:pt x="100" y="492"/>
                      <a:pt x="100" y="504"/>
                    </a:cubicBezTo>
                    <a:cubicBezTo>
                      <a:pt x="100" y="516"/>
                      <a:pt x="119" y="542"/>
                      <a:pt x="145" y="549"/>
                    </a:cubicBezTo>
                    <a:cubicBezTo>
                      <a:pt x="171" y="556"/>
                      <a:pt x="208" y="549"/>
                      <a:pt x="257" y="549"/>
                    </a:cubicBezTo>
                    <a:cubicBezTo>
                      <a:pt x="306" y="549"/>
                      <a:pt x="391" y="558"/>
                      <a:pt x="437" y="549"/>
                    </a:cubicBezTo>
                    <a:cubicBezTo>
                      <a:pt x="483" y="540"/>
                      <a:pt x="515" y="518"/>
                      <a:pt x="535" y="496"/>
                    </a:cubicBezTo>
                    <a:cubicBezTo>
                      <a:pt x="555" y="474"/>
                      <a:pt x="557" y="435"/>
                      <a:pt x="557" y="414"/>
                    </a:cubicBezTo>
                    <a:cubicBezTo>
                      <a:pt x="557" y="393"/>
                      <a:pt x="557" y="397"/>
                      <a:pt x="542" y="369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337920" y="3234600"/>
                <a:ext cx="209160" cy="370440"/>
              </a:xfrm>
              <a:custGeom>
                <a:avLst/>
                <a:gdLst/>
                <a:ahLst/>
                <a:rect l="l" t="t" r="r" b="b"/>
                <a:pathLst>
                  <a:path w="569" h="794">
                    <a:moveTo>
                      <a:pt x="17" y="282"/>
                    </a:moveTo>
                    <a:cubicBezTo>
                      <a:pt x="32" y="247"/>
                      <a:pt x="42" y="259"/>
                      <a:pt x="77" y="230"/>
                    </a:cubicBezTo>
                    <a:cubicBezTo>
                      <a:pt x="112" y="201"/>
                      <a:pt x="174" y="148"/>
                      <a:pt x="227" y="110"/>
                    </a:cubicBezTo>
                    <a:cubicBezTo>
                      <a:pt x="280" y="72"/>
                      <a:pt x="345" y="0"/>
                      <a:pt x="392" y="5"/>
                    </a:cubicBezTo>
                    <a:cubicBezTo>
                      <a:pt x="439" y="10"/>
                      <a:pt x="501" y="93"/>
                      <a:pt x="512" y="140"/>
                    </a:cubicBezTo>
                    <a:cubicBezTo>
                      <a:pt x="523" y="187"/>
                      <a:pt x="481" y="234"/>
                      <a:pt x="460" y="290"/>
                    </a:cubicBezTo>
                    <a:cubicBezTo>
                      <a:pt x="439" y="346"/>
                      <a:pt x="369" y="418"/>
                      <a:pt x="385" y="477"/>
                    </a:cubicBezTo>
                    <a:cubicBezTo>
                      <a:pt x="401" y="536"/>
                      <a:pt x="545" y="592"/>
                      <a:pt x="557" y="642"/>
                    </a:cubicBezTo>
                    <a:cubicBezTo>
                      <a:pt x="569" y="692"/>
                      <a:pt x="514" y="760"/>
                      <a:pt x="460" y="777"/>
                    </a:cubicBezTo>
                    <a:cubicBezTo>
                      <a:pt x="406" y="794"/>
                      <a:pt x="308" y="783"/>
                      <a:pt x="235" y="747"/>
                    </a:cubicBezTo>
                    <a:cubicBezTo>
                      <a:pt x="162" y="711"/>
                      <a:pt x="50" y="615"/>
                      <a:pt x="25" y="560"/>
                    </a:cubicBezTo>
                    <a:cubicBezTo>
                      <a:pt x="0" y="505"/>
                      <a:pt x="86" y="463"/>
                      <a:pt x="85" y="417"/>
                    </a:cubicBezTo>
                    <a:cubicBezTo>
                      <a:pt x="84" y="371"/>
                      <a:pt x="31" y="310"/>
                      <a:pt x="17" y="282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474280" y="3427560"/>
                <a:ext cx="38160" cy="46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2093400" y="3921840"/>
              <a:ext cx="519840" cy="431640"/>
              <a:chOff x="2093400" y="3921840"/>
              <a:chExt cx="519840" cy="431640"/>
            </a:xfrm>
          </p:grpSpPr>
          <p:sp>
            <p:nvSpPr>
              <p:cNvPr id="234" name=""/>
              <p:cNvSpPr/>
              <p:nvPr/>
            </p:nvSpPr>
            <p:spPr>
              <a:xfrm>
                <a:off x="2093400" y="3921840"/>
                <a:ext cx="519840" cy="431640"/>
              </a:xfrm>
              <a:custGeom>
                <a:avLst/>
                <a:gdLst/>
                <a:ahLst/>
                <a:rect l="l" t="t" r="r" b="b"/>
                <a:pathLst>
                  <a:path w="907" h="753">
                    <a:moveTo>
                      <a:pt x="638" y="745"/>
                    </a:moveTo>
                    <a:cubicBezTo>
                      <a:pt x="662" y="745"/>
                      <a:pt x="714" y="752"/>
                      <a:pt x="720" y="737"/>
                    </a:cubicBezTo>
                    <a:cubicBezTo>
                      <a:pt x="726" y="722"/>
                      <a:pt x="670" y="682"/>
                      <a:pt x="675" y="655"/>
                    </a:cubicBezTo>
                    <a:cubicBezTo>
                      <a:pt x="680" y="628"/>
                      <a:pt x="724" y="606"/>
                      <a:pt x="750" y="572"/>
                    </a:cubicBezTo>
                    <a:cubicBezTo>
                      <a:pt x="776" y="538"/>
                      <a:pt x="808" y="502"/>
                      <a:pt x="833" y="452"/>
                    </a:cubicBezTo>
                    <a:cubicBezTo>
                      <a:pt x="858" y="402"/>
                      <a:pt x="893" y="309"/>
                      <a:pt x="900" y="272"/>
                    </a:cubicBezTo>
                    <a:cubicBezTo>
                      <a:pt x="907" y="235"/>
                      <a:pt x="884" y="242"/>
                      <a:pt x="878" y="227"/>
                    </a:cubicBezTo>
                    <a:cubicBezTo>
                      <a:pt x="872" y="212"/>
                      <a:pt x="873" y="194"/>
                      <a:pt x="863" y="182"/>
                    </a:cubicBezTo>
                    <a:cubicBezTo>
                      <a:pt x="853" y="170"/>
                      <a:pt x="832" y="154"/>
                      <a:pt x="818" y="152"/>
                    </a:cubicBezTo>
                    <a:cubicBezTo>
                      <a:pt x="804" y="150"/>
                      <a:pt x="787" y="173"/>
                      <a:pt x="780" y="167"/>
                    </a:cubicBezTo>
                    <a:cubicBezTo>
                      <a:pt x="773" y="161"/>
                      <a:pt x="779" y="134"/>
                      <a:pt x="773" y="115"/>
                    </a:cubicBezTo>
                    <a:cubicBezTo>
                      <a:pt x="767" y="96"/>
                      <a:pt x="763" y="69"/>
                      <a:pt x="743" y="55"/>
                    </a:cubicBezTo>
                    <a:cubicBezTo>
                      <a:pt x="723" y="41"/>
                      <a:pt x="673" y="30"/>
                      <a:pt x="653" y="32"/>
                    </a:cubicBezTo>
                    <a:cubicBezTo>
                      <a:pt x="633" y="34"/>
                      <a:pt x="629" y="72"/>
                      <a:pt x="623" y="70"/>
                    </a:cubicBezTo>
                    <a:cubicBezTo>
                      <a:pt x="617" y="68"/>
                      <a:pt x="631" y="24"/>
                      <a:pt x="615" y="17"/>
                    </a:cubicBezTo>
                    <a:cubicBezTo>
                      <a:pt x="599" y="10"/>
                      <a:pt x="545" y="16"/>
                      <a:pt x="525" y="25"/>
                    </a:cubicBezTo>
                    <a:cubicBezTo>
                      <a:pt x="505" y="34"/>
                      <a:pt x="502" y="72"/>
                      <a:pt x="495" y="70"/>
                    </a:cubicBezTo>
                    <a:cubicBezTo>
                      <a:pt x="488" y="68"/>
                      <a:pt x="492" y="20"/>
                      <a:pt x="480" y="10"/>
                    </a:cubicBezTo>
                    <a:cubicBezTo>
                      <a:pt x="468" y="0"/>
                      <a:pt x="443" y="7"/>
                      <a:pt x="420" y="10"/>
                    </a:cubicBezTo>
                    <a:cubicBezTo>
                      <a:pt x="397" y="13"/>
                      <a:pt x="361" y="15"/>
                      <a:pt x="345" y="25"/>
                    </a:cubicBezTo>
                    <a:cubicBezTo>
                      <a:pt x="329" y="35"/>
                      <a:pt x="330" y="72"/>
                      <a:pt x="323" y="70"/>
                    </a:cubicBezTo>
                    <a:cubicBezTo>
                      <a:pt x="316" y="68"/>
                      <a:pt x="320" y="16"/>
                      <a:pt x="300" y="10"/>
                    </a:cubicBezTo>
                    <a:cubicBezTo>
                      <a:pt x="280" y="4"/>
                      <a:pt x="223" y="20"/>
                      <a:pt x="203" y="32"/>
                    </a:cubicBezTo>
                    <a:cubicBezTo>
                      <a:pt x="183" y="44"/>
                      <a:pt x="195" y="79"/>
                      <a:pt x="180" y="85"/>
                    </a:cubicBezTo>
                    <a:cubicBezTo>
                      <a:pt x="165" y="91"/>
                      <a:pt x="135" y="64"/>
                      <a:pt x="113" y="70"/>
                    </a:cubicBezTo>
                    <a:cubicBezTo>
                      <a:pt x="91" y="76"/>
                      <a:pt x="53" y="102"/>
                      <a:pt x="45" y="122"/>
                    </a:cubicBezTo>
                    <a:cubicBezTo>
                      <a:pt x="37" y="142"/>
                      <a:pt x="70" y="176"/>
                      <a:pt x="68" y="190"/>
                    </a:cubicBezTo>
                    <a:cubicBezTo>
                      <a:pt x="66" y="204"/>
                      <a:pt x="41" y="197"/>
                      <a:pt x="30" y="205"/>
                    </a:cubicBezTo>
                    <a:cubicBezTo>
                      <a:pt x="19" y="213"/>
                      <a:pt x="0" y="219"/>
                      <a:pt x="0" y="235"/>
                    </a:cubicBezTo>
                    <a:cubicBezTo>
                      <a:pt x="0" y="251"/>
                      <a:pt x="14" y="271"/>
                      <a:pt x="30" y="302"/>
                    </a:cubicBezTo>
                    <a:cubicBezTo>
                      <a:pt x="46" y="333"/>
                      <a:pt x="69" y="377"/>
                      <a:pt x="98" y="422"/>
                    </a:cubicBezTo>
                    <a:cubicBezTo>
                      <a:pt x="127" y="467"/>
                      <a:pt x="173" y="535"/>
                      <a:pt x="203" y="572"/>
                    </a:cubicBezTo>
                    <a:cubicBezTo>
                      <a:pt x="233" y="609"/>
                      <a:pt x="272" y="620"/>
                      <a:pt x="278" y="647"/>
                    </a:cubicBezTo>
                    <a:cubicBezTo>
                      <a:pt x="284" y="674"/>
                      <a:pt x="219" y="721"/>
                      <a:pt x="240" y="737"/>
                    </a:cubicBezTo>
                    <a:cubicBezTo>
                      <a:pt x="261" y="753"/>
                      <a:pt x="349" y="745"/>
                      <a:pt x="405" y="745"/>
                    </a:cubicBezTo>
                    <a:cubicBezTo>
                      <a:pt x="461" y="745"/>
                      <a:pt x="539" y="737"/>
                      <a:pt x="578" y="737"/>
                    </a:cubicBezTo>
                    <a:cubicBezTo>
                      <a:pt x="617" y="737"/>
                      <a:pt x="618" y="750"/>
                      <a:pt x="638" y="745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201040" y="4151160"/>
                <a:ext cx="81360" cy="111600"/>
              </a:xfrm>
              <a:custGeom>
                <a:avLst/>
                <a:gdLst/>
                <a:ahLst/>
                <a:rect l="l" t="t" r="r" b="b"/>
                <a:pathLst>
                  <a:path w="142" h="195">
                    <a:moveTo>
                      <a:pt x="142" y="195"/>
                    </a:moveTo>
                    <a:cubicBezTo>
                      <a:pt x="105" y="139"/>
                      <a:pt x="69" y="84"/>
                      <a:pt x="45" y="52"/>
                    </a:cubicBezTo>
                    <a:cubicBezTo>
                      <a:pt x="21" y="20"/>
                      <a:pt x="10" y="10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437200" y="4111920"/>
                <a:ext cx="77400" cy="141840"/>
              </a:xfrm>
              <a:custGeom>
                <a:avLst/>
                <a:gdLst/>
                <a:ahLst/>
                <a:rect l="l" t="t" r="r" b="b"/>
                <a:pathLst>
                  <a:path w="135" h="248">
                    <a:moveTo>
                      <a:pt x="0" y="248"/>
                    </a:moveTo>
                    <a:cubicBezTo>
                      <a:pt x="15" y="227"/>
                      <a:pt x="67" y="161"/>
                      <a:pt x="90" y="120"/>
                    </a:cubicBezTo>
                    <a:cubicBezTo>
                      <a:pt x="113" y="79"/>
                      <a:pt x="126" y="25"/>
                      <a:pt x="135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407320" y="4060440"/>
                <a:ext cx="34200" cy="180360"/>
              </a:xfrm>
              <a:custGeom>
                <a:avLst/>
                <a:gdLst/>
                <a:ahLst/>
                <a:rect l="l" t="t" r="r" b="b"/>
                <a:pathLst>
                  <a:path w="60" h="315">
                    <a:moveTo>
                      <a:pt x="0" y="315"/>
                    </a:moveTo>
                    <a:cubicBezTo>
                      <a:pt x="6" y="293"/>
                      <a:pt x="27" y="232"/>
                      <a:pt x="37" y="180"/>
                    </a:cubicBezTo>
                    <a:cubicBezTo>
                      <a:pt x="47" y="128"/>
                      <a:pt x="55" y="37"/>
                      <a:pt x="6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368440" y="4086360"/>
                <a:ext cx="5400" cy="137520"/>
              </a:xfrm>
              <a:custGeom>
                <a:avLst/>
                <a:gdLst/>
                <a:ahLst/>
                <a:rect l="l" t="t" r="r" b="b"/>
                <a:pathLst>
                  <a:path w="10" h="240">
                    <a:moveTo>
                      <a:pt x="0" y="240"/>
                    </a:moveTo>
                    <a:cubicBezTo>
                      <a:pt x="0" y="213"/>
                      <a:pt x="7" y="115"/>
                      <a:pt x="8" y="75"/>
                    </a:cubicBezTo>
                    <a:cubicBezTo>
                      <a:pt x="9" y="35"/>
                      <a:pt x="10" y="15"/>
                      <a:pt x="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252520" y="4077720"/>
                <a:ext cx="51480" cy="163440"/>
              </a:xfrm>
              <a:custGeom>
                <a:avLst/>
                <a:gdLst/>
                <a:ahLst/>
                <a:rect l="l" t="t" r="r" b="b"/>
                <a:pathLst>
                  <a:path w="90" h="285">
                    <a:moveTo>
                      <a:pt x="90" y="285"/>
                    </a:moveTo>
                    <a:cubicBezTo>
                      <a:pt x="67" y="241"/>
                      <a:pt x="45" y="197"/>
                      <a:pt x="30" y="150"/>
                    </a:cubicBezTo>
                    <a:cubicBezTo>
                      <a:pt x="15" y="103"/>
                      <a:pt x="7" y="51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299680" y="4047840"/>
                <a:ext cx="34200" cy="176040"/>
              </a:xfrm>
              <a:custGeom>
                <a:avLst/>
                <a:gdLst/>
                <a:ahLst/>
                <a:rect l="l" t="t" r="r" b="b"/>
                <a:pathLst>
                  <a:path w="60" h="307">
                    <a:moveTo>
                      <a:pt x="60" y="307"/>
                    </a:moveTo>
                    <a:cubicBezTo>
                      <a:pt x="58" y="291"/>
                      <a:pt x="52" y="242"/>
                      <a:pt x="45" y="210"/>
                    </a:cubicBezTo>
                    <a:cubicBezTo>
                      <a:pt x="38" y="178"/>
                      <a:pt x="22" y="147"/>
                      <a:pt x="15" y="112"/>
                    </a:cubicBezTo>
                    <a:cubicBezTo>
                      <a:pt x="8" y="77"/>
                      <a:pt x="3" y="23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3192120" y="4529520"/>
              <a:ext cx="686880" cy="412560"/>
              <a:chOff x="3192120" y="4529520"/>
              <a:chExt cx="686880" cy="412560"/>
            </a:xfrm>
          </p:grpSpPr>
          <p:sp>
            <p:nvSpPr>
              <p:cNvPr id="242" name=""/>
              <p:cNvSpPr/>
              <p:nvPr/>
            </p:nvSpPr>
            <p:spPr>
              <a:xfrm>
                <a:off x="3192120" y="4529520"/>
                <a:ext cx="686880" cy="412560"/>
              </a:xfrm>
              <a:custGeom>
                <a:avLst/>
                <a:gdLst/>
                <a:ahLst/>
                <a:rect l="l" t="t" r="r" b="b"/>
                <a:pathLst>
                  <a:path w="1199" h="720">
                    <a:moveTo>
                      <a:pt x="524" y="27"/>
                    </a:moveTo>
                    <a:cubicBezTo>
                      <a:pt x="551" y="17"/>
                      <a:pt x="572" y="0"/>
                      <a:pt x="599" y="4"/>
                    </a:cubicBezTo>
                    <a:cubicBezTo>
                      <a:pt x="626" y="8"/>
                      <a:pt x="660" y="35"/>
                      <a:pt x="689" y="49"/>
                    </a:cubicBezTo>
                    <a:cubicBezTo>
                      <a:pt x="718" y="63"/>
                      <a:pt x="732" y="75"/>
                      <a:pt x="772" y="87"/>
                    </a:cubicBezTo>
                    <a:cubicBezTo>
                      <a:pt x="812" y="99"/>
                      <a:pt x="867" y="112"/>
                      <a:pt x="929" y="124"/>
                    </a:cubicBezTo>
                    <a:cubicBezTo>
                      <a:pt x="991" y="136"/>
                      <a:pt x="1102" y="156"/>
                      <a:pt x="1147" y="162"/>
                    </a:cubicBezTo>
                    <a:cubicBezTo>
                      <a:pt x="1192" y="168"/>
                      <a:pt x="1199" y="147"/>
                      <a:pt x="1199" y="162"/>
                    </a:cubicBezTo>
                    <a:cubicBezTo>
                      <a:pt x="1199" y="177"/>
                      <a:pt x="1156" y="218"/>
                      <a:pt x="1147" y="252"/>
                    </a:cubicBezTo>
                    <a:cubicBezTo>
                      <a:pt x="1138" y="286"/>
                      <a:pt x="1161" y="333"/>
                      <a:pt x="1147" y="364"/>
                    </a:cubicBezTo>
                    <a:cubicBezTo>
                      <a:pt x="1133" y="395"/>
                      <a:pt x="1083" y="412"/>
                      <a:pt x="1064" y="439"/>
                    </a:cubicBezTo>
                    <a:cubicBezTo>
                      <a:pt x="1045" y="466"/>
                      <a:pt x="1058" y="506"/>
                      <a:pt x="1034" y="529"/>
                    </a:cubicBezTo>
                    <a:cubicBezTo>
                      <a:pt x="1010" y="552"/>
                      <a:pt x="951" y="554"/>
                      <a:pt x="922" y="574"/>
                    </a:cubicBezTo>
                    <a:cubicBezTo>
                      <a:pt x="893" y="594"/>
                      <a:pt x="894" y="629"/>
                      <a:pt x="862" y="649"/>
                    </a:cubicBezTo>
                    <a:cubicBezTo>
                      <a:pt x="830" y="669"/>
                      <a:pt x="767" y="683"/>
                      <a:pt x="727" y="694"/>
                    </a:cubicBezTo>
                    <a:cubicBezTo>
                      <a:pt x="687" y="705"/>
                      <a:pt x="657" y="714"/>
                      <a:pt x="622" y="717"/>
                    </a:cubicBezTo>
                    <a:cubicBezTo>
                      <a:pt x="587" y="720"/>
                      <a:pt x="546" y="710"/>
                      <a:pt x="517" y="709"/>
                    </a:cubicBezTo>
                    <a:cubicBezTo>
                      <a:pt x="488" y="708"/>
                      <a:pt x="475" y="713"/>
                      <a:pt x="449" y="709"/>
                    </a:cubicBezTo>
                    <a:cubicBezTo>
                      <a:pt x="423" y="705"/>
                      <a:pt x="390" y="691"/>
                      <a:pt x="359" y="687"/>
                    </a:cubicBezTo>
                    <a:cubicBezTo>
                      <a:pt x="328" y="683"/>
                      <a:pt x="286" y="702"/>
                      <a:pt x="262" y="687"/>
                    </a:cubicBezTo>
                    <a:cubicBezTo>
                      <a:pt x="238" y="672"/>
                      <a:pt x="237" y="616"/>
                      <a:pt x="217" y="597"/>
                    </a:cubicBezTo>
                    <a:cubicBezTo>
                      <a:pt x="197" y="578"/>
                      <a:pt x="156" y="594"/>
                      <a:pt x="142" y="574"/>
                    </a:cubicBezTo>
                    <a:cubicBezTo>
                      <a:pt x="128" y="554"/>
                      <a:pt x="148" y="503"/>
                      <a:pt x="134" y="477"/>
                    </a:cubicBezTo>
                    <a:cubicBezTo>
                      <a:pt x="120" y="451"/>
                      <a:pt x="69" y="443"/>
                      <a:pt x="59" y="417"/>
                    </a:cubicBezTo>
                    <a:cubicBezTo>
                      <a:pt x="49" y="391"/>
                      <a:pt x="83" y="348"/>
                      <a:pt x="74" y="319"/>
                    </a:cubicBezTo>
                    <a:cubicBezTo>
                      <a:pt x="65" y="290"/>
                      <a:pt x="14" y="273"/>
                      <a:pt x="7" y="244"/>
                    </a:cubicBezTo>
                    <a:cubicBezTo>
                      <a:pt x="0" y="215"/>
                      <a:pt x="25" y="182"/>
                      <a:pt x="29" y="147"/>
                    </a:cubicBezTo>
                    <a:cubicBezTo>
                      <a:pt x="33" y="112"/>
                      <a:pt x="2" y="46"/>
                      <a:pt x="29" y="34"/>
                    </a:cubicBezTo>
                    <a:cubicBezTo>
                      <a:pt x="56" y="22"/>
                      <a:pt x="147" y="65"/>
                      <a:pt x="194" y="72"/>
                    </a:cubicBezTo>
                    <a:cubicBezTo>
                      <a:pt x="241" y="79"/>
                      <a:pt x="274" y="80"/>
                      <a:pt x="314" y="79"/>
                    </a:cubicBezTo>
                    <a:cubicBezTo>
                      <a:pt x="354" y="78"/>
                      <a:pt x="399" y="73"/>
                      <a:pt x="434" y="64"/>
                    </a:cubicBezTo>
                    <a:cubicBezTo>
                      <a:pt x="469" y="55"/>
                      <a:pt x="492" y="38"/>
                      <a:pt x="524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221640" y="4579200"/>
                <a:ext cx="261720" cy="124200"/>
              </a:xfrm>
              <a:custGeom>
                <a:avLst/>
                <a:gdLst/>
                <a:ahLst/>
                <a:rect l="l" t="t" r="r" b="b"/>
                <a:pathLst>
                  <a:path w="457" h="217">
                    <a:moveTo>
                      <a:pt x="0" y="217"/>
                    </a:moveTo>
                    <a:cubicBezTo>
                      <a:pt x="81" y="213"/>
                      <a:pt x="163" y="209"/>
                      <a:pt x="225" y="187"/>
                    </a:cubicBezTo>
                    <a:cubicBezTo>
                      <a:pt x="287" y="165"/>
                      <a:pt x="336" y="113"/>
                      <a:pt x="375" y="82"/>
                    </a:cubicBezTo>
                    <a:cubicBezTo>
                      <a:pt x="414" y="51"/>
                      <a:pt x="435" y="25"/>
                      <a:pt x="457" y="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264840" y="4613760"/>
                <a:ext cx="223200" cy="189000"/>
              </a:xfrm>
              <a:custGeom>
                <a:avLst/>
                <a:gdLst/>
                <a:ahLst/>
                <a:rect l="l" t="t" r="r" b="b"/>
                <a:pathLst>
                  <a:path w="390" h="330">
                    <a:moveTo>
                      <a:pt x="0" y="330"/>
                    </a:moveTo>
                    <a:cubicBezTo>
                      <a:pt x="72" y="297"/>
                      <a:pt x="145" y="265"/>
                      <a:pt x="210" y="210"/>
                    </a:cubicBezTo>
                    <a:cubicBezTo>
                      <a:pt x="275" y="155"/>
                      <a:pt x="332" y="77"/>
                      <a:pt x="390" y="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565440" y="4591800"/>
                <a:ext cx="283680" cy="107640"/>
              </a:xfrm>
              <a:custGeom>
                <a:avLst/>
                <a:gdLst/>
                <a:ahLst/>
                <a:rect l="l" t="t" r="r" b="b"/>
                <a:pathLst>
                  <a:path w="495" h="188">
                    <a:moveTo>
                      <a:pt x="495" y="188"/>
                    </a:moveTo>
                    <a:cubicBezTo>
                      <a:pt x="454" y="179"/>
                      <a:pt x="311" y="151"/>
                      <a:pt x="247" y="135"/>
                    </a:cubicBezTo>
                    <a:cubicBezTo>
                      <a:pt x="183" y="119"/>
                      <a:pt x="153" y="112"/>
                      <a:pt x="112" y="90"/>
                    </a:cubicBezTo>
                    <a:cubicBezTo>
                      <a:pt x="71" y="68"/>
                      <a:pt x="23" y="19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557160" y="4639320"/>
                <a:ext cx="249120" cy="150120"/>
              </a:xfrm>
              <a:custGeom>
                <a:avLst/>
                <a:gdLst/>
                <a:ahLst/>
                <a:rect l="l" t="t" r="r" b="b"/>
                <a:pathLst>
                  <a:path w="435" h="262">
                    <a:moveTo>
                      <a:pt x="435" y="262"/>
                    </a:moveTo>
                    <a:cubicBezTo>
                      <a:pt x="375" y="246"/>
                      <a:pt x="316" y="230"/>
                      <a:pt x="262" y="210"/>
                    </a:cubicBezTo>
                    <a:cubicBezTo>
                      <a:pt x="208" y="190"/>
                      <a:pt x="156" y="177"/>
                      <a:pt x="112" y="142"/>
                    </a:cubicBezTo>
                    <a:cubicBezTo>
                      <a:pt x="68" y="107"/>
                      <a:pt x="34" y="53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397680" y="4643640"/>
                <a:ext cx="111600" cy="257760"/>
              </a:xfrm>
              <a:custGeom>
                <a:avLst/>
                <a:gdLst/>
                <a:ahLst/>
                <a:rect l="l" t="t" r="r" b="b"/>
                <a:pathLst>
                  <a:path w="195" h="450">
                    <a:moveTo>
                      <a:pt x="0" y="450"/>
                    </a:moveTo>
                    <a:cubicBezTo>
                      <a:pt x="59" y="360"/>
                      <a:pt x="118" y="270"/>
                      <a:pt x="150" y="195"/>
                    </a:cubicBezTo>
                    <a:cubicBezTo>
                      <a:pt x="182" y="120"/>
                      <a:pt x="188" y="60"/>
                      <a:pt x="195" y="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543840" y="4643640"/>
                <a:ext cx="120240" cy="240480"/>
              </a:xfrm>
              <a:custGeom>
                <a:avLst/>
                <a:gdLst/>
                <a:ahLst/>
                <a:rect l="l" t="t" r="r" b="b"/>
                <a:pathLst>
                  <a:path w="210" h="420">
                    <a:moveTo>
                      <a:pt x="210" y="420"/>
                    </a:moveTo>
                    <a:cubicBezTo>
                      <a:pt x="168" y="369"/>
                      <a:pt x="127" y="319"/>
                      <a:pt x="98" y="270"/>
                    </a:cubicBezTo>
                    <a:cubicBezTo>
                      <a:pt x="69" y="221"/>
                      <a:pt x="54" y="173"/>
                      <a:pt x="38" y="128"/>
                    </a:cubicBezTo>
                    <a:cubicBezTo>
                      <a:pt x="22" y="83"/>
                      <a:pt x="11" y="41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535200" y="4651920"/>
                <a:ext cx="60120" cy="262440"/>
              </a:xfrm>
              <a:custGeom>
                <a:avLst/>
                <a:gdLst/>
                <a:ahLst/>
                <a:rect l="l" t="t" r="r" b="b"/>
                <a:pathLst>
                  <a:path w="105" h="458">
                    <a:moveTo>
                      <a:pt x="105" y="458"/>
                    </a:moveTo>
                    <a:cubicBezTo>
                      <a:pt x="95" y="422"/>
                      <a:pt x="62" y="316"/>
                      <a:pt x="45" y="240"/>
                    </a:cubicBezTo>
                    <a:cubicBezTo>
                      <a:pt x="28" y="164"/>
                      <a:pt x="9" y="50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483720" y="4651920"/>
                <a:ext cx="42840" cy="266400"/>
              </a:xfrm>
              <a:custGeom>
                <a:avLst/>
                <a:gdLst/>
                <a:ahLst/>
                <a:rect l="l" t="t" r="r" b="b"/>
                <a:pathLst>
                  <a:path w="75" h="465">
                    <a:moveTo>
                      <a:pt x="0" y="465"/>
                    </a:moveTo>
                    <a:cubicBezTo>
                      <a:pt x="10" y="438"/>
                      <a:pt x="48" y="377"/>
                      <a:pt x="60" y="300"/>
                    </a:cubicBezTo>
                    <a:cubicBezTo>
                      <a:pt x="72" y="223"/>
                      <a:pt x="72" y="62"/>
                      <a:pt x="75" y="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2441880" y="5089320"/>
              <a:ext cx="753120" cy="419040"/>
              <a:chOff x="2441880" y="5089320"/>
              <a:chExt cx="753120" cy="419040"/>
            </a:xfrm>
          </p:grpSpPr>
          <p:sp>
            <p:nvSpPr>
              <p:cNvPr id="252" name=""/>
              <p:cNvSpPr/>
              <p:nvPr/>
            </p:nvSpPr>
            <p:spPr>
              <a:xfrm>
                <a:off x="2722680" y="5089320"/>
                <a:ext cx="472320" cy="419040"/>
              </a:xfrm>
              <a:custGeom>
                <a:avLst/>
                <a:gdLst/>
                <a:ahLst/>
                <a:rect l="l" t="t" r="r" b="b"/>
                <a:pathLst>
                  <a:path w="824" h="731">
                    <a:moveTo>
                      <a:pt x="480" y="429"/>
                    </a:moveTo>
                    <a:cubicBezTo>
                      <a:pt x="490" y="440"/>
                      <a:pt x="531" y="468"/>
                      <a:pt x="549" y="456"/>
                    </a:cubicBezTo>
                    <a:cubicBezTo>
                      <a:pt x="567" y="444"/>
                      <a:pt x="588" y="390"/>
                      <a:pt x="587" y="359"/>
                    </a:cubicBezTo>
                    <a:cubicBezTo>
                      <a:pt x="586" y="328"/>
                      <a:pt x="558" y="293"/>
                      <a:pt x="542" y="269"/>
                    </a:cubicBezTo>
                    <a:cubicBezTo>
                      <a:pt x="526" y="245"/>
                      <a:pt x="518" y="228"/>
                      <a:pt x="489" y="216"/>
                    </a:cubicBezTo>
                    <a:cubicBezTo>
                      <a:pt x="460" y="204"/>
                      <a:pt x="408" y="187"/>
                      <a:pt x="369" y="194"/>
                    </a:cubicBezTo>
                    <a:cubicBezTo>
                      <a:pt x="330" y="201"/>
                      <a:pt x="284" y="226"/>
                      <a:pt x="257" y="261"/>
                    </a:cubicBezTo>
                    <a:cubicBezTo>
                      <a:pt x="230" y="296"/>
                      <a:pt x="200" y="357"/>
                      <a:pt x="204" y="404"/>
                    </a:cubicBezTo>
                    <a:cubicBezTo>
                      <a:pt x="208" y="451"/>
                      <a:pt x="240" y="512"/>
                      <a:pt x="279" y="546"/>
                    </a:cubicBezTo>
                    <a:cubicBezTo>
                      <a:pt x="318" y="580"/>
                      <a:pt x="391" y="600"/>
                      <a:pt x="437" y="606"/>
                    </a:cubicBezTo>
                    <a:cubicBezTo>
                      <a:pt x="483" y="612"/>
                      <a:pt x="522" y="594"/>
                      <a:pt x="557" y="584"/>
                    </a:cubicBezTo>
                    <a:cubicBezTo>
                      <a:pt x="592" y="574"/>
                      <a:pt x="621" y="571"/>
                      <a:pt x="647" y="546"/>
                    </a:cubicBezTo>
                    <a:cubicBezTo>
                      <a:pt x="673" y="521"/>
                      <a:pt x="700" y="476"/>
                      <a:pt x="714" y="434"/>
                    </a:cubicBezTo>
                    <a:cubicBezTo>
                      <a:pt x="728" y="392"/>
                      <a:pt x="746" y="351"/>
                      <a:pt x="729" y="291"/>
                    </a:cubicBezTo>
                    <a:cubicBezTo>
                      <a:pt x="712" y="231"/>
                      <a:pt x="656" y="121"/>
                      <a:pt x="609" y="74"/>
                    </a:cubicBezTo>
                    <a:cubicBezTo>
                      <a:pt x="562" y="27"/>
                      <a:pt x="514" y="12"/>
                      <a:pt x="444" y="6"/>
                    </a:cubicBezTo>
                    <a:cubicBezTo>
                      <a:pt x="374" y="0"/>
                      <a:pt x="254" y="9"/>
                      <a:pt x="189" y="36"/>
                    </a:cubicBezTo>
                    <a:cubicBezTo>
                      <a:pt x="124" y="63"/>
                      <a:pt x="83" y="109"/>
                      <a:pt x="54" y="171"/>
                    </a:cubicBezTo>
                    <a:cubicBezTo>
                      <a:pt x="25" y="233"/>
                      <a:pt x="0" y="331"/>
                      <a:pt x="17" y="411"/>
                    </a:cubicBezTo>
                    <a:cubicBezTo>
                      <a:pt x="34" y="491"/>
                      <a:pt x="102" y="601"/>
                      <a:pt x="159" y="651"/>
                    </a:cubicBezTo>
                    <a:cubicBezTo>
                      <a:pt x="216" y="701"/>
                      <a:pt x="288" y="701"/>
                      <a:pt x="362" y="711"/>
                    </a:cubicBezTo>
                    <a:cubicBezTo>
                      <a:pt x="436" y="721"/>
                      <a:pt x="532" y="731"/>
                      <a:pt x="602" y="711"/>
                    </a:cubicBezTo>
                    <a:cubicBezTo>
                      <a:pt x="672" y="691"/>
                      <a:pt x="746" y="640"/>
                      <a:pt x="782" y="591"/>
                    </a:cubicBezTo>
                    <a:cubicBezTo>
                      <a:pt x="818" y="542"/>
                      <a:pt x="824" y="459"/>
                      <a:pt x="819" y="419"/>
                    </a:cubicBezTo>
                    <a:cubicBezTo>
                      <a:pt x="814" y="379"/>
                      <a:pt x="773" y="340"/>
                      <a:pt x="752" y="351"/>
                    </a:cubicBezTo>
                    <a:cubicBezTo>
                      <a:pt x="731" y="362"/>
                      <a:pt x="723" y="445"/>
                      <a:pt x="692" y="486"/>
                    </a:cubicBezTo>
                    <a:cubicBezTo>
                      <a:pt x="661" y="527"/>
                      <a:pt x="624" y="583"/>
                      <a:pt x="564" y="599"/>
                    </a:cubicBezTo>
                    <a:cubicBezTo>
                      <a:pt x="504" y="615"/>
                      <a:pt x="388" y="600"/>
                      <a:pt x="332" y="584"/>
                    </a:cubicBezTo>
                    <a:cubicBezTo>
                      <a:pt x="276" y="568"/>
                      <a:pt x="248" y="539"/>
                      <a:pt x="227" y="501"/>
                    </a:cubicBezTo>
                    <a:cubicBezTo>
                      <a:pt x="206" y="463"/>
                      <a:pt x="202" y="401"/>
                      <a:pt x="204" y="359"/>
                    </a:cubicBezTo>
                    <a:cubicBezTo>
                      <a:pt x="206" y="317"/>
                      <a:pt x="215" y="276"/>
                      <a:pt x="242" y="246"/>
                    </a:cubicBezTo>
                    <a:cubicBezTo>
                      <a:pt x="269" y="216"/>
                      <a:pt x="325" y="185"/>
                      <a:pt x="369" y="179"/>
                    </a:cubicBezTo>
                    <a:cubicBezTo>
                      <a:pt x="413" y="173"/>
                      <a:pt x="468" y="181"/>
                      <a:pt x="504" y="209"/>
                    </a:cubicBezTo>
                    <a:cubicBezTo>
                      <a:pt x="540" y="237"/>
                      <a:pt x="579" y="300"/>
                      <a:pt x="587" y="344"/>
                    </a:cubicBezTo>
                    <a:cubicBezTo>
                      <a:pt x="595" y="388"/>
                      <a:pt x="573" y="445"/>
                      <a:pt x="549" y="471"/>
                    </a:cubicBezTo>
                    <a:cubicBezTo>
                      <a:pt x="525" y="497"/>
                      <a:pt x="479" y="511"/>
                      <a:pt x="444" y="501"/>
                    </a:cubicBezTo>
                    <a:cubicBezTo>
                      <a:pt x="409" y="491"/>
                      <a:pt x="350" y="436"/>
                      <a:pt x="339" y="411"/>
                    </a:cubicBezTo>
                    <a:cubicBezTo>
                      <a:pt x="328" y="386"/>
                      <a:pt x="360" y="365"/>
                      <a:pt x="377" y="351"/>
                    </a:cubicBezTo>
                    <a:cubicBezTo>
                      <a:pt x="394" y="337"/>
                      <a:pt x="425" y="323"/>
                      <a:pt x="444" y="329"/>
                    </a:cubicBezTo>
                    <a:cubicBezTo>
                      <a:pt x="463" y="335"/>
                      <a:pt x="483" y="372"/>
                      <a:pt x="489" y="389"/>
                    </a:cubicBezTo>
                    <a:cubicBezTo>
                      <a:pt x="495" y="406"/>
                      <a:pt x="470" y="418"/>
                      <a:pt x="480" y="429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583360" y="5100120"/>
                <a:ext cx="250920" cy="337680"/>
              </a:xfrm>
              <a:custGeom>
                <a:avLst/>
                <a:gdLst/>
                <a:ahLst/>
                <a:rect l="l" t="t" r="r" b="b"/>
                <a:pathLst>
                  <a:path w="438" h="589">
                    <a:moveTo>
                      <a:pt x="425" y="10"/>
                    </a:moveTo>
                    <a:cubicBezTo>
                      <a:pt x="412" y="0"/>
                      <a:pt x="336" y="10"/>
                      <a:pt x="291" y="26"/>
                    </a:cubicBezTo>
                    <a:cubicBezTo>
                      <a:pt x="246" y="42"/>
                      <a:pt x="198" y="76"/>
                      <a:pt x="153" y="107"/>
                    </a:cubicBezTo>
                    <a:cubicBezTo>
                      <a:pt x="108" y="138"/>
                      <a:pt x="42" y="180"/>
                      <a:pt x="21" y="215"/>
                    </a:cubicBezTo>
                    <a:cubicBezTo>
                      <a:pt x="0" y="250"/>
                      <a:pt x="8" y="268"/>
                      <a:pt x="27" y="317"/>
                    </a:cubicBezTo>
                    <a:cubicBezTo>
                      <a:pt x="46" y="366"/>
                      <a:pt x="99" y="470"/>
                      <a:pt x="135" y="512"/>
                    </a:cubicBezTo>
                    <a:cubicBezTo>
                      <a:pt x="171" y="554"/>
                      <a:pt x="210" y="563"/>
                      <a:pt x="243" y="572"/>
                    </a:cubicBezTo>
                    <a:cubicBezTo>
                      <a:pt x="276" y="581"/>
                      <a:pt x="329" y="589"/>
                      <a:pt x="333" y="563"/>
                    </a:cubicBezTo>
                    <a:cubicBezTo>
                      <a:pt x="337" y="537"/>
                      <a:pt x="275" y="478"/>
                      <a:pt x="267" y="415"/>
                    </a:cubicBezTo>
                    <a:cubicBezTo>
                      <a:pt x="259" y="352"/>
                      <a:pt x="265" y="237"/>
                      <a:pt x="282" y="182"/>
                    </a:cubicBezTo>
                    <a:cubicBezTo>
                      <a:pt x="299" y="127"/>
                      <a:pt x="347" y="111"/>
                      <a:pt x="372" y="85"/>
                    </a:cubicBezTo>
                    <a:cubicBezTo>
                      <a:pt x="397" y="59"/>
                      <a:pt x="438" y="19"/>
                      <a:pt x="425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484000" y="5130360"/>
                <a:ext cx="238320" cy="271440"/>
              </a:xfrm>
              <a:custGeom>
                <a:avLst/>
                <a:gdLst/>
                <a:ahLst/>
                <a:rect l="l" t="t" r="r" b="b"/>
                <a:pathLst>
                  <a:path w="416" h="474">
                    <a:moveTo>
                      <a:pt x="392" y="3"/>
                    </a:moveTo>
                    <a:cubicBezTo>
                      <a:pt x="368" y="0"/>
                      <a:pt x="234" y="7"/>
                      <a:pt x="170" y="39"/>
                    </a:cubicBezTo>
                    <a:cubicBezTo>
                      <a:pt x="106" y="71"/>
                      <a:pt x="16" y="141"/>
                      <a:pt x="8" y="198"/>
                    </a:cubicBezTo>
                    <a:cubicBezTo>
                      <a:pt x="0" y="255"/>
                      <a:pt x="88" y="344"/>
                      <a:pt x="119" y="384"/>
                    </a:cubicBezTo>
                    <a:cubicBezTo>
                      <a:pt x="150" y="424"/>
                      <a:pt x="168" y="426"/>
                      <a:pt x="191" y="438"/>
                    </a:cubicBezTo>
                    <a:cubicBezTo>
                      <a:pt x="214" y="450"/>
                      <a:pt x="242" y="455"/>
                      <a:pt x="260" y="459"/>
                    </a:cubicBezTo>
                    <a:cubicBezTo>
                      <a:pt x="278" y="463"/>
                      <a:pt x="299" y="474"/>
                      <a:pt x="299" y="459"/>
                    </a:cubicBezTo>
                    <a:cubicBezTo>
                      <a:pt x="299" y="444"/>
                      <a:pt x="279" y="415"/>
                      <a:pt x="260" y="369"/>
                    </a:cubicBezTo>
                    <a:cubicBezTo>
                      <a:pt x="241" y="323"/>
                      <a:pt x="176" y="234"/>
                      <a:pt x="185" y="182"/>
                    </a:cubicBezTo>
                    <a:cubicBezTo>
                      <a:pt x="194" y="130"/>
                      <a:pt x="280" y="87"/>
                      <a:pt x="314" y="57"/>
                    </a:cubicBezTo>
                    <a:cubicBezTo>
                      <a:pt x="348" y="27"/>
                      <a:pt x="416" y="6"/>
                      <a:pt x="392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441880" y="5169960"/>
                <a:ext cx="105840" cy="163800"/>
              </a:xfrm>
              <a:custGeom>
                <a:avLst/>
                <a:gdLst/>
                <a:ahLst/>
                <a:rect l="l" t="t" r="r" b="b"/>
                <a:pathLst>
                  <a:path w="185" h="286">
                    <a:moveTo>
                      <a:pt x="175" y="9"/>
                    </a:moveTo>
                    <a:cubicBezTo>
                      <a:pt x="165" y="6"/>
                      <a:pt x="119" y="0"/>
                      <a:pt x="94" y="9"/>
                    </a:cubicBezTo>
                    <a:cubicBezTo>
                      <a:pt x="69" y="18"/>
                      <a:pt x="39" y="40"/>
                      <a:pt x="25" y="66"/>
                    </a:cubicBezTo>
                    <a:cubicBezTo>
                      <a:pt x="11" y="92"/>
                      <a:pt x="0" y="132"/>
                      <a:pt x="7" y="165"/>
                    </a:cubicBezTo>
                    <a:cubicBezTo>
                      <a:pt x="14" y="198"/>
                      <a:pt x="44" y="245"/>
                      <a:pt x="64" y="264"/>
                    </a:cubicBezTo>
                    <a:cubicBezTo>
                      <a:pt x="84" y="283"/>
                      <a:pt x="115" y="279"/>
                      <a:pt x="130" y="279"/>
                    </a:cubicBezTo>
                    <a:cubicBezTo>
                      <a:pt x="145" y="279"/>
                      <a:pt x="162" y="286"/>
                      <a:pt x="154" y="263"/>
                    </a:cubicBezTo>
                    <a:cubicBezTo>
                      <a:pt x="146" y="240"/>
                      <a:pt x="79" y="182"/>
                      <a:pt x="79" y="143"/>
                    </a:cubicBezTo>
                    <a:cubicBezTo>
                      <a:pt x="79" y="104"/>
                      <a:pt x="138" y="52"/>
                      <a:pt x="154" y="30"/>
                    </a:cubicBezTo>
                    <a:cubicBezTo>
                      <a:pt x="170" y="8"/>
                      <a:pt x="185" y="14"/>
                      <a:pt x="175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3236040" y="5729400"/>
              <a:ext cx="588600" cy="453960"/>
              <a:chOff x="3236040" y="5729400"/>
              <a:chExt cx="588600" cy="453960"/>
            </a:xfrm>
          </p:grpSpPr>
          <p:grpSp>
            <p:nvGrpSpPr>
              <p:cNvPr id="257" name=""/>
              <p:cNvGrpSpPr/>
              <p:nvPr/>
            </p:nvGrpSpPr>
            <p:grpSpPr>
              <a:xfrm>
                <a:off x="3457080" y="5755680"/>
                <a:ext cx="367560" cy="425880"/>
                <a:chOff x="3457080" y="5755680"/>
                <a:chExt cx="367560" cy="4258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3457080" y="5755680"/>
                  <a:ext cx="92880" cy="425880"/>
                </a:xfrm>
                <a:custGeom>
                  <a:avLst/>
                  <a:gdLst/>
                  <a:ahLst/>
                  <a:rect l="l" t="t" r="r" b="b"/>
                  <a:pathLst>
                    <a:path w="162" h="743">
                      <a:moveTo>
                        <a:pt x="150" y="1"/>
                      </a:moveTo>
                      <a:cubicBezTo>
                        <a:pt x="143" y="0"/>
                        <a:pt x="121" y="13"/>
                        <a:pt x="108" y="28"/>
                      </a:cubicBezTo>
                      <a:cubicBezTo>
                        <a:pt x="95" y="43"/>
                        <a:pt x="85" y="57"/>
                        <a:pt x="69" y="94"/>
                      </a:cubicBezTo>
                      <a:cubicBezTo>
                        <a:pt x="53" y="131"/>
                        <a:pt x="20" y="196"/>
                        <a:pt x="10" y="254"/>
                      </a:cubicBezTo>
                      <a:cubicBezTo>
                        <a:pt x="0" y="312"/>
                        <a:pt x="2" y="387"/>
                        <a:pt x="6" y="445"/>
                      </a:cubicBezTo>
                      <a:cubicBezTo>
                        <a:pt x="10" y="503"/>
                        <a:pt x="28" y="574"/>
                        <a:pt x="33" y="601"/>
                      </a:cubicBezTo>
                      <a:cubicBezTo>
                        <a:pt x="38" y="628"/>
                        <a:pt x="31" y="593"/>
                        <a:pt x="39" y="607"/>
                      </a:cubicBezTo>
                      <a:cubicBezTo>
                        <a:pt x="47" y="621"/>
                        <a:pt x="59" y="664"/>
                        <a:pt x="78" y="682"/>
                      </a:cubicBezTo>
                      <a:cubicBezTo>
                        <a:pt x="97" y="700"/>
                        <a:pt x="150" y="743"/>
                        <a:pt x="150" y="715"/>
                      </a:cubicBezTo>
                      <a:cubicBezTo>
                        <a:pt x="150" y="687"/>
                        <a:pt x="89" y="571"/>
                        <a:pt x="75" y="511"/>
                      </a:cubicBezTo>
                      <a:cubicBezTo>
                        <a:pt x="61" y="451"/>
                        <a:pt x="62" y="409"/>
                        <a:pt x="65" y="354"/>
                      </a:cubicBezTo>
                      <a:cubicBezTo>
                        <a:pt x="68" y="299"/>
                        <a:pt x="80" y="235"/>
                        <a:pt x="95" y="182"/>
                      </a:cubicBezTo>
                      <a:cubicBezTo>
                        <a:pt x="110" y="129"/>
                        <a:pt x="144" y="67"/>
                        <a:pt x="153" y="37"/>
                      </a:cubicBezTo>
                      <a:cubicBezTo>
                        <a:pt x="162" y="7"/>
                        <a:pt x="157" y="2"/>
                        <a:pt x="150" y="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493080" y="5762880"/>
                  <a:ext cx="90360" cy="412560"/>
                </a:xfrm>
                <a:custGeom>
                  <a:avLst/>
                  <a:gdLst/>
                  <a:ahLst/>
                  <a:rect l="l" t="t" r="r" b="b"/>
                  <a:pathLst>
                    <a:path w="158" h="720">
                      <a:moveTo>
                        <a:pt x="144" y="2"/>
                      </a:moveTo>
                      <a:cubicBezTo>
                        <a:pt x="135" y="0"/>
                        <a:pt x="113" y="23"/>
                        <a:pt x="91" y="64"/>
                      </a:cubicBezTo>
                      <a:cubicBezTo>
                        <a:pt x="69" y="105"/>
                        <a:pt x="28" y="190"/>
                        <a:pt x="14" y="250"/>
                      </a:cubicBezTo>
                      <a:cubicBezTo>
                        <a:pt x="0" y="310"/>
                        <a:pt x="1" y="370"/>
                        <a:pt x="6" y="426"/>
                      </a:cubicBezTo>
                      <a:cubicBezTo>
                        <a:pt x="11" y="482"/>
                        <a:pt x="32" y="545"/>
                        <a:pt x="46" y="586"/>
                      </a:cubicBezTo>
                      <a:cubicBezTo>
                        <a:pt x="60" y="627"/>
                        <a:pt x="74" y="652"/>
                        <a:pt x="91" y="670"/>
                      </a:cubicBezTo>
                      <a:cubicBezTo>
                        <a:pt x="108" y="688"/>
                        <a:pt x="153" y="720"/>
                        <a:pt x="151" y="690"/>
                      </a:cubicBezTo>
                      <a:cubicBezTo>
                        <a:pt x="149" y="661"/>
                        <a:pt x="90" y="546"/>
                        <a:pt x="76" y="489"/>
                      </a:cubicBezTo>
                      <a:cubicBezTo>
                        <a:pt x="62" y="431"/>
                        <a:pt x="65" y="393"/>
                        <a:pt x="69" y="342"/>
                      </a:cubicBezTo>
                      <a:cubicBezTo>
                        <a:pt x="73" y="291"/>
                        <a:pt x="85" y="234"/>
                        <a:pt x="99" y="183"/>
                      </a:cubicBezTo>
                      <a:cubicBezTo>
                        <a:pt x="113" y="132"/>
                        <a:pt x="144" y="66"/>
                        <a:pt x="151" y="36"/>
                      </a:cubicBezTo>
                      <a:cubicBezTo>
                        <a:pt x="158" y="6"/>
                        <a:pt x="145" y="9"/>
                        <a:pt x="144" y="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529800" y="5784840"/>
                  <a:ext cx="88200" cy="370440"/>
                </a:xfrm>
                <a:custGeom>
                  <a:avLst/>
                  <a:gdLst/>
                  <a:ahLst/>
                  <a:rect l="l" t="t" r="r" b="b"/>
                  <a:pathLst>
                    <a:path w="154" h="646">
                      <a:moveTo>
                        <a:pt x="140" y="0"/>
                      </a:moveTo>
                      <a:cubicBezTo>
                        <a:pt x="126" y="6"/>
                        <a:pt x="90" y="45"/>
                        <a:pt x="68" y="82"/>
                      </a:cubicBezTo>
                      <a:cubicBezTo>
                        <a:pt x="46" y="119"/>
                        <a:pt x="20" y="176"/>
                        <a:pt x="10" y="223"/>
                      </a:cubicBezTo>
                      <a:cubicBezTo>
                        <a:pt x="0" y="270"/>
                        <a:pt x="1" y="318"/>
                        <a:pt x="5" y="363"/>
                      </a:cubicBezTo>
                      <a:cubicBezTo>
                        <a:pt x="9" y="408"/>
                        <a:pt x="18" y="456"/>
                        <a:pt x="32" y="496"/>
                      </a:cubicBezTo>
                      <a:cubicBezTo>
                        <a:pt x="46" y="536"/>
                        <a:pt x="68" y="580"/>
                        <a:pt x="87" y="601"/>
                      </a:cubicBezTo>
                      <a:cubicBezTo>
                        <a:pt x="106" y="622"/>
                        <a:pt x="149" y="646"/>
                        <a:pt x="147" y="619"/>
                      </a:cubicBezTo>
                      <a:cubicBezTo>
                        <a:pt x="145" y="593"/>
                        <a:pt x="86" y="490"/>
                        <a:pt x="72" y="438"/>
                      </a:cubicBezTo>
                      <a:cubicBezTo>
                        <a:pt x="58" y="386"/>
                        <a:pt x="59" y="356"/>
                        <a:pt x="65" y="306"/>
                      </a:cubicBezTo>
                      <a:cubicBezTo>
                        <a:pt x="71" y="256"/>
                        <a:pt x="96" y="182"/>
                        <a:pt x="110" y="139"/>
                      </a:cubicBezTo>
                      <a:cubicBezTo>
                        <a:pt x="124" y="96"/>
                        <a:pt x="144" y="69"/>
                        <a:pt x="149" y="46"/>
                      </a:cubicBezTo>
                      <a:cubicBezTo>
                        <a:pt x="154" y="23"/>
                        <a:pt x="142" y="10"/>
                        <a:pt x="14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565800" y="5804640"/>
                  <a:ext cx="95760" cy="329400"/>
                </a:xfrm>
                <a:custGeom>
                  <a:avLst/>
                  <a:gdLst/>
                  <a:ahLst/>
                  <a:rect l="l" t="t" r="r" b="b"/>
                  <a:pathLst>
                    <a:path w="167" h="575">
                      <a:moveTo>
                        <a:pt x="153" y="0"/>
                      </a:moveTo>
                      <a:cubicBezTo>
                        <a:pt x="142" y="3"/>
                        <a:pt x="108" y="30"/>
                        <a:pt x="92" y="47"/>
                      </a:cubicBezTo>
                      <a:cubicBezTo>
                        <a:pt x="76" y="64"/>
                        <a:pt x="70" y="79"/>
                        <a:pt x="59" y="104"/>
                      </a:cubicBezTo>
                      <a:cubicBezTo>
                        <a:pt x="48" y="129"/>
                        <a:pt x="32" y="162"/>
                        <a:pt x="23" y="199"/>
                      </a:cubicBezTo>
                      <a:cubicBezTo>
                        <a:pt x="14" y="236"/>
                        <a:pt x="0" y="284"/>
                        <a:pt x="2" y="326"/>
                      </a:cubicBezTo>
                      <a:cubicBezTo>
                        <a:pt x="4" y="368"/>
                        <a:pt x="27" y="425"/>
                        <a:pt x="35" y="452"/>
                      </a:cubicBezTo>
                      <a:cubicBezTo>
                        <a:pt x="43" y="479"/>
                        <a:pt x="42" y="474"/>
                        <a:pt x="53" y="488"/>
                      </a:cubicBezTo>
                      <a:cubicBezTo>
                        <a:pt x="64" y="502"/>
                        <a:pt x="82" y="524"/>
                        <a:pt x="100" y="535"/>
                      </a:cubicBezTo>
                      <a:cubicBezTo>
                        <a:pt x="118" y="546"/>
                        <a:pt x="162" y="575"/>
                        <a:pt x="160" y="551"/>
                      </a:cubicBezTo>
                      <a:cubicBezTo>
                        <a:pt x="158" y="527"/>
                        <a:pt x="99" y="436"/>
                        <a:pt x="85" y="390"/>
                      </a:cubicBezTo>
                      <a:cubicBezTo>
                        <a:pt x="71" y="344"/>
                        <a:pt x="74" y="314"/>
                        <a:pt x="78" y="273"/>
                      </a:cubicBezTo>
                      <a:cubicBezTo>
                        <a:pt x="82" y="232"/>
                        <a:pt x="94" y="186"/>
                        <a:pt x="108" y="145"/>
                      </a:cubicBezTo>
                      <a:cubicBezTo>
                        <a:pt x="122" y="104"/>
                        <a:pt x="153" y="52"/>
                        <a:pt x="160" y="28"/>
                      </a:cubicBezTo>
                      <a:cubicBezTo>
                        <a:pt x="167" y="4"/>
                        <a:pt x="154" y="6"/>
                        <a:pt x="153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3615840" y="5825520"/>
                  <a:ext cx="88560" cy="288360"/>
                </a:xfrm>
                <a:custGeom>
                  <a:avLst/>
                  <a:gdLst/>
                  <a:ahLst/>
                  <a:rect l="l" t="t" r="r" b="b"/>
                  <a:pathLst>
                    <a:path w="155" h="503">
                      <a:moveTo>
                        <a:pt x="141" y="0"/>
                      </a:moveTo>
                      <a:cubicBezTo>
                        <a:pt x="128" y="3"/>
                        <a:pt x="93" y="15"/>
                        <a:pt x="71" y="44"/>
                      </a:cubicBezTo>
                      <a:cubicBezTo>
                        <a:pt x="49" y="73"/>
                        <a:pt x="22" y="133"/>
                        <a:pt x="11" y="174"/>
                      </a:cubicBezTo>
                      <a:cubicBezTo>
                        <a:pt x="0" y="215"/>
                        <a:pt x="2" y="252"/>
                        <a:pt x="5" y="290"/>
                      </a:cubicBezTo>
                      <a:cubicBezTo>
                        <a:pt x="8" y="328"/>
                        <a:pt x="20" y="371"/>
                        <a:pt x="32" y="401"/>
                      </a:cubicBezTo>
                      <a:cubicBezTo>
                        <a:pt x="44" y="431"/>
                        <a:pt x="61" y="457"/>
                        <a:pt x="80" y="470"/>
                      </a:cubicBezTo>
                      <a:cubicBezTo>
                        <a:pt x="99" y="483"/>
                        <a:pt x="149" y="503"/>
                        <a:pt x="148" y="482"/>
                      </a:cubicBezTo>
                      <a:cubicBezTo>
                        <a:pt x="147" y="461"/>
                        <a:pt x="87" y="382"/>
                        <a:pt x="73" y="341"/>
                      </a:cubicBezTo>
                      <a:cubicBezTo>
                        <a:pt x="59" y="301"/>
                        <a:pt x="62" y="274"/>
                        <a:pt x="66" y="239"/>
                      </a:cubicBezTo>
                      <a:cubicBezTo>
                        <a:pt x="70" y="203"/>
                        <a:pt x="82" y="163"/>
                        <a:pt x="96" y="127"/>
                      </a:cubicBezTo>
                      <a:cubicBezTo>
                        <a:pt x="110" y="91"/>
                        <a:pt x="141" y="45"/>
                        <a:pt x="148" y="24"/>
                      </a:cubicBezTo>
                      <a:cubicBezTo>
                        <a:pt x="155" y="4"/>
                        <a:pt x="142" y="5"/>
                        <a:pt x="141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3654000" y="5845680"/>
                  <a:ext cx="87120" cy="248400"/>
                </a:xfrm>
                <a:custGeom>
                  <a:avLst/>
                  <a:gdLst/>
                  <a:ahLst/>
                  <a:rect l="l" t="t" r="r" b="b"/>
                  <a:pathLst>
                    <a:path w="152" h="434">
                      <a:moveTo>
                        <a:pt x="142" y="1"/>
                      </a:moveTo>
                      <a:cubicBezTo>
                        <a:pt x="132" y="0"/>
                        <a:pt x="104" y="5"/>
                        <a:pt x="82" y="30"/>
                      </a:cubicBezTo>
                      <a:cubicBezTo>
                        <a:pt x="60" y="55"/>
                        <a:pt x="24" y="115"/>
                        <a:pt x="12" y="150"/>
                      </a:cubicBezTo>
                      <a:cubicBezTo>
                        <a:pt x="0" y="185"/>
                        <a:pt x="2" y="210"/>
                        <a:pt x="7" y="243"/>
                      </a:cubicBezTo>
                      <a:cubicBezTo>
                        <a:pt x="12" y="277"/>
                        <a:pt x="30" y="324"/>
                        <a:pt x="44" y="352"/>
                      </a:cubicBezTo>
                      <a:cubicBezTo>
                        <a:pt x="58" y="380"/>
                        <a:pt x="70" y="398"/>
                        <a:pt x="88" y="408"/>
                      </a:cubicBezTo>
                      <a:cubicBezTo>
                        <a:pt x="106" y="418"/>
                        <a:pt x="150" y="434"/>
                        <a:pt x="149" y="414"/>
                      </a:cubicBezTo>
                      <a:cubicBezTo>
                        <a:pt x="148" y="394"/>
                        <a:pt x="96" y="320"/>
                        <a:pt x="82" y="285"/>
                      </a:cubicBezTo>
                      <a:cubicBezTo>
                        <a:pt x="68" y="250"/>
                        <a:pt x="65" y="234"/>
                        <a:pt x="67" y="205"/>
                      </a:cubicBezTo>
                      <a:cubicBezTo>
                        <a:pt x="69" y="176"/>
                        <a:pt x="84" y="138"/>
                        <a:pt x="97" y="110"/>
                      </a:cubicBezTo>
                      <a:cubicBezTo>
                        <a:pt x="110" y="82"/>
                        <a:pt x="138" y="54"/>
                        <a:pt x="145" y="36"/>
                      </a:cubicBezTo>
                      <a:cubicBezTo>
                        <a:pt x="152" y="18"/>
                        <a:pt x="143" y="8"/>
                        <a:pt x="142" y="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696840" y="5868360"/>
                  <a:ext cx="87480" cy="206280"/>
                </a:xfrm>
                <a:custGeom>
                  <a:avLst/>
                  <a:gdLst/>
                  <a:ahLst/>
                  <a:rect l="l" t="t" r="r" b="b"/>
                  <a:pathLst>
                    <a:path w="153" h="360">
                      <a:moveTo>
                        <a:pt x="141" y="0"/>
                      </a:moveTo>
                      <a:cubicBezTo>
                        <a:pt x="129" y="2"/>
                        <a:pt x="95" y="12"/>
                        <a:pt x="74" y="32"/>
                      </a:cubicBezTo>
                      <a:cubicBezTo>
                        <a:pt x="53" y="52"/>
                        <a:pt x="22" y="96"/>
                        <a:pt x="11" y="124"/>
                      </a:cubicBezTo>
                      <a:cubicBezTo>
                        <a:pt x="0" y="152"/>
                        <a:pt x="2" y="175"/>
                        <a:pt x="6" y="202"/>
                      </a:cubicBezTo>
                      <a:cubicBezTo>
                        <a:pt x="10" y="229"/>
                        <a:pt x="22" y="264"/>
                        <a:pt x="35" y="287"/>
                      </a:cubicBezTo>
                      <a:cubicBezTo>
                        <a:pt x="48" y="310"/>
                        <a:pt x="64" y="328"/>
                        <a:pt x="83" y="338"/>
                      </a:cubicBezTo>
                      <a:cubicBezTo>
                        <a:pt x="102" y="348"/>
                        <a:pt x="150" y="360"/>
                        <a:pt x="148" y="344"/>
                      </a:cubicBezTo>
                      <a:cubicBezTo>
                        <a:pt x="146" y="328"/>
                        <a:pt x="87" y="272"/>
                        <a:pt x="73" y="243"/>
                      </a:cubicBezTo>
                      <a:cubicBezTo>
                        <a:pt x="59" y="215"/>
                        <a:pt x="60" y="197"/>
                        <a:pt x="66" y="170"/>
                      </a:cubicBezTo>
                      <a:cubicBezTo>
                        <a:pt x="72" y="143"/>
                        <a:pt x="96" y="105"/>
                        <a:pt x="110" y="80"/>
                      </a:cubicBezTo>
                      <a:cubicBezTo>
                        <a:pt x="124" y="55"/>
                        <a:pt x="143" y="30"/>
                        <a:pt x="148" y="17"/>
                      </a:cubicBezTo>
                      <a:cubicBezTo>
                        <a:pt x="153" y="4"/>
                        <a:pt x="142" y="4"/>
                        <a:pt x="141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3736080" y="5902920"/>
                  <a:ext cx="70920" cy="143280"/>
                </a:xfrm>
                <a:custGeom>
                  <a:avLst/>
                  <a:gdLst/>
                  <a:ahLst/>
                  <a:rect l="l" t="t" r="r" b="b"/>
                  <a:pathLst>
                    <a:path w="124" h="250">
                      <a:moveTo>
                        <a:pt x="89" y="5"/>
                      </a:moveTo>
                      <a:cubicBezTo>
                        <a:pt x="80" y="5"/>
                        <a:pt x="81" y="0"/>
                        <a:pt x="68" y="14"/>
                      </a:cubicBezTo>
                      <a:cubicBezTo>
                        <a:pt x="55" y="28"/>
                        <a:pt x="20" y="66"/>
                        <a:pt x="10" y="87"/>
                      </a:cubicBezTo>
                      <a:cubicBezTo>
                        <a:pt x="0" y="108"/>
                        <a:pt x="2" y="122"/>
                        <a:pt x="6" y="141"/>
                      </a:cubicBezTo>
                      <a:cubicBezTo>
                        <a:pt x="10" y="160"/>
                        <a:pt x="24" y="185"/>
                        <a:pt x="36" y="202"/>
                      </a:cubicBezTo>
                      <a:cubicBezTo>
                        <a:pt x="48" y="219"/>
                        <a:pt x="63" y="236"/>
                        <a:pt x="77" y="242"/>
                      </a:cubicBezTo>
                      <a:cubicBezTo>
                        <a:pt x="91" y="248"/>
                        <a:pt x="124" y="250"/>
                        <a:pt x="121" y="238"/>
                      </a:cubicBezTo>
                      <a:cubicBezTo>
                        <a:pt x="118" y="226"/>
                        <a:pt x="72" y="189"/>
                        <a:pt x="61" y="169"/>
                      </a:cubicBezTo>
                      <a:cubicBezTo>
                        <a:pt x="49" y="149"/>
                        <a:pt x="52" y="136"/>
                        <a:pt x="55" y="119"/>
                      </a:cubicBezTo>
                      <a:cubicBezTo>
                        <a:pt x="58" y="102"/>
                        <a:pt x="68" y="82"/>
                        <a:pt x="79" y="64"/>
                      </a:cubicBezTo>
                      <a:cubicBezTo>
                        <a:pt x="91" y="47"/>
                        <a:pt x="119" y="24"/>
                        <a:pt x="121" y="14"/>
                      </a:cubicBezTo>
                      <a:cubicBezTo>
                        <a:pt x="123" y="4"/>
                        <a:pt x="98" y="5"/>
                        <a:pt x="89" y="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772800" y="5917680"/>
                  <a:ext cx="51840" cy="121320"/>
                </a:xfrm>
                <a:custGeom>
                  <a:avLst/>
                  <a:gdLst/>
                  <a:ahLst/>
                  <a:rect l="l" t="t" r="r" b="b"/>
                  <a:pathLst>
                    <a:path w="91" h="212">
                      <a:moveTo>
                        <a:pt x="91" y="12"/>
                      </a:moveTo>
                      <a:cubicBezTo>
                        <a:pt x="81" y="14"/>
                        <a:pt x="75" y="0"/>
                        <a:pt x="61" y="9"/>
                      </a:cubicBezTo>
                      <a:cubicBezTo>
                        <a:pt x="47" y="18"/>
                        <a:pt x="18" y="48"/>
                        <a:pt x="9" y="67"/>
                      </a:cubicBezTo>
                      <a:cubicBezTo>
                        <a:pt x="0" y="86"/>
                        <a:pt x="1" y="102"/>
                        <a:pt x="5" y="121"/>
                      </a:cubicBezTo>
                      <a:cubicBezTo>
                        <a:pt x="9" y="140"/>
                        <a:pt x="24" y="167"/>
                        <a:pt x="35" y="182"/>
                      </a:cubicBezTo>
                      <a:cubicBezTo>
                        <a:pt x="47" y="198"/>
                        <a:pt x="64" y="212"/>
                        <a:pt x="72" y="211"/>
                      </a:cubicBezTo>
                      <a:cubicBezTo>
                        <a:pt x="80" y="210"/>
                        <a:pt x="80" y="189"/>
                        <a:pt x="82" y="177"/>
                      </a:cubicBezTo>
                      <a:cubicBezTo>
                        <a:pt x="84" y="165"/>
                        <a:pt x="82" y="154"/>
                        <a:pt x="82" y="141"/>
                      </a:cubicBezTo>
                      <a:cubicBezTo>
                        <a:pt x="82" y="128"/>
                        <a:pt x="82" y="109"/>
                        <a:pt x="82" y="96"/>
                      </a:cubicBezTo>
                      <a:cubicBezTo>
                        <a:pt x="82" y="83"/>
                        <a:pt x="84" y="74"/>
                        <a:pt x="85" y="60"/>
                      </a:cubicBezTo>
                      <a:cubicBezTo>
                        <a:pt x="86" y="46"/>
                        <a:pt x="90" y="22"/>
                        <a:pt x="91" y="1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7" name=""/>
              <p:cNvSpPr/>
              <p:nvPr/>
            </p:nvSpPr>
            <p:spPr>
              <a:xfrm>
                <a:off x="3285000" y="5729400"/>
                <a:ext cx="237240" cy="453960"/>
              </a:xfrm>
              <a:custGeom>
                <a:avLst/>
                <a:gdLst/>
                <a:ahLst/>
                <a:rect l="l" t="t" r="r" b="b"/>
                <a:pathLst>
                  <a:path w="414" h="792">
                    <a:moveTo>
                      <a:pt x="408" y="59"/>
                    </a:moveTo>
                    <a:cubicBezTo>
                      <a:pt x="413" y="32"/>
                      <a:pt x="414" y="10"/>
                      <a:pt x="387" y="5"/>
                    </a:cubicBezTo>
                    <a:cubicBezTo>
                      <a:pt x="360" y="0"/>
                      <a:pt x="290" y="15"/>
                      <a:pt x="246" y="29"/>
                    </a:cubicBezTo>
                    <a:cubicBezTo>
                      <a:pt x="202" y="43"/>
                      <a:pt x="162" y="57"/>
                      <a:pt x="126" y="89"/>
                    </a:cubicBezTo>
                    <a:cubicBezTo>
                      <a:pt x="90" y="121"/>
                      <a:pt x="47" y="170"/>
                      <a:pt x="27" y="224"/>
                    </a:cubicBezTo>
                    <a:cubicBezTo>
                      <a:pt x="7" y="278"/>
                      <a:pt x="0" y="354"/>
                      <a:pt x="6" y="416"/>
                    </a:cubicBezTo>
                    <a:cubicBezTo>
                      <a:pt x="12" y="478"/>
                      <a:pt x="33" y="545"/>
                      <a:pt x="63" y="596"/>
                    </a:cubicBezTo>
                    <a:cubicBezTo>
                      <a:pt x="93" y="647"/>
                      <a:pt x="150" y="691"/>
                      <a:pt x="189" y="722"/>
                    </a:cubicBezTo>
                    <a:cubicBezTo>
                      <a:pt x="228" y="753"/>
                      <a:pt x="265" y="772"/>
                      <a:pt x="297" y="782"/>
                    </a:cubicBezTo>
                    <a:cubicBezTo>
                      <a:pt x="329" y="792"/>
                      <a:pt x="367" y="791"/>
                      <a:pt x="381" y="782"/>
                    </a:cubicBezTo>
                    <a:cubicBezTo>
                      <a:pt x="395" y="773"/>
                      <a:pt x="385" y="754"/>
                      <a:pt x="378" y="728"/>
                    </a:cubicBezTo>
                    <a:cubicBezTo>
                      <a:pt x="371" y="702"/>
                      <a:pt x="347" y="671"/>
                      <a:pt x="336" y="623"/>
                    </a:cubicBezTo>
                    <a:cubicBezTo>
                      <a:pt x="325" y="575"/>
                      <a:pt x="310" y="495"/>
                      <a:pt x="309" y="437"/>
                    </a:cubicBezTo>
                    <a:cubicBezTo>
                      <a:pt x="308" y="379"/>
                      <a:pt x="322" y="316"/>
                      <a:pt x="330" y="272"/>
                    </a:cubicBezTo>
                    <a:cubicBezTo>
                      <a:pt x="338" y="228"/>
                      <a:pt x="344" y="205"/>
                      <a:pt x="357" y="170"/>
                    </a:cubicBezTo>
                    <a:cubicBezTo>
                      <a:pt x="370" y="135"/>
                      <a:pt x="403" y="86"/>
                      <a:pt x="408" y="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236040" y="5843880"/>
                <a:ext cx="74880" cy="213120"/>
              </a:xfrm>
              <a:custGeom>
                <a:avLst/>
                <a:gdLst/>
                <a:ahLst/>
                <a:rect l="l" t="t" r="r" b="b"/>
                <a:pathLst>
                  <a:path w="131" h="372">
                    <a:moveTo>
                      <a:pt x="125" y="28"/>
                    </a:moveTo>
                    <a:cubicBezTo>
                      <a:pt x="126" y="15"/>
                      <a:pt x="126" y="5"/>
                      <a:pt x="117" y="2"/>
                    </a:cubicBezTo>
                    <a:cubicBezTo>
                      <a:pt x="109" y="0"/>
                      <a:pt x="88" y="5"/>
                      <a:pt x="73" y="15"/>
                    </a:cubicBezTo>
                    <a:cubicBezTo>
                      <a:pt x="58" y="25"/>
                      <a:pt x="40" y="45"/>
                      <a:pt x="29" y="60"/>
                    </a:cubicBezTo>
                    <a:cubicBezTo>
                      <a:pt x="18" y="75"/>
                      <a:pt x="11" y="85"/>
                      <a:pt x="7" y="108"/>
                    </a:cubicBezTo>
                    <a:cubicBezTo>
                      <a:pt x="3" y="131"/>
                      <a:pt x="0" y="170"/>
                      <a:pt x="3" y="198"/>
                    </a:cubicBezTo>
                    <a:cubicBezTo>
                      <a:pt x="6" y="228"/>
                      <a:pt x="13" y="259"/>
                      <a:pt x="23" y="283"/>
                    </a:cubicBezTo>
                    <a:cubicBezTo>
                      <a:pt x="33" y="307"/>
                      <a:pt x="52" y="327"/>
                      <a:pt x="65" y="341"/>
                    </a:cubicBezTo>
                    <a:cubicBezTo>
                      <a:pt x="78" y="355"/>
                      <a:pt x="90" y="364"/>
                      <a:pt x="100" y="368"/>
                    </a:cubicBezTo>
                    <a:cubicBezTo>
                      <a:pt x="110" y="372"/>
                      <a:pt x="122" y="372"/>
                      <a:pt x="127" y="367"/>
                    </a:cubicBezTo>
                    <a:cubicBezTo>
                      <a:pt x="131" y="363"/>
                      <a:pt x="128" y="354"/>
                      <a:pt x="125" y="342"/>
                    </a:cubicBezTo>
                    <a:cubicBezTo>
                      <a:pt x="122" y="330"/>
                      <a:pt x="115" y="315"/>
                      <a:pt x="110" y="293"/>
                    </a:cubicBezTo>
                    <a:cubicBezTo>
                      <a:pt x="106" y="270"/>
                      <a:pt x="100" y="233"/>
                      <a:pt x="99" y="205"/>
                    </a:cubicBezTo>
                    <a:cubicBezTo>
                      <a:pt x="97" y="179"/>
                      <a:pt x="101" y="148"/>
                      <a:pt x="103" y="128"/>
                    </a:cubicBezTo>
                    <a:cubicBezTo>
                      <a:pt x="105" y="107"/>
                      <a:pt x="107" y="96"/>
                      <a:pt x="110" y="80"/>
                    </a:cubicBezTo>
                    <a:cubicBezTo>
                      <a:pt x="114" y="63"/>
                      <a:pt x="124" y="40"/>
                      <a:pt x="125" y="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69" name="" descr=""/>
          <p:cNvPicPr/>
          <p:nvPr/>
        </p:nvPicPr>
        <p:blipFill>
          <a:blip r:embed="rId8"/>
          <a:stretch/>
        </p:blipFill>
        <p:spPr>
          <a:xfrm>
            <a:off x="4567320" y="3306600"/>
            <a:ext cx="804960" cy="4827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9"/>
          <a:stretch/>
        </p:blipFill>
        <p:spPr>
          <a:xfrm>
            <a:off x="4567320" y="4417920"/>
            <a:ext cx="804960" cy="4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0000" y="139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cc"/>
                </a:solidFill>
                <a:latin typeface="Eras Bold ITC"/>
              </a:rPr>
              <a:t>2 - BIOCHEMICAL</a:t>
            </a: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70000" y="1143000"/>
            <a:ext cx="7888320" cy="25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Franklin Gothic Heavy"/>
              </a:rPr>
              <a:t>THE GENETIC CODE</a:t>
            </a:r>
            <a:endParaRPr b="0" lang="en-US" sz="4000" spc="-1" strike="noStrike">
              <a:solidFill>
                <a:srgbClr val="00ffff"/>
              </a:solidFill>
              <a:latin typeface="Franklin Gothic Heavy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Triplets of DNA nitrogen-base sequences that code for specific amino acids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001920" y="3236760"/>
            <a:ext cx="2994120" cy="33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The amino acid triplet is the same in almost all organisms.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1193760" y="3638520"/>
            <a:ext cx="4378320" cy="29368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312840" y="1968480"/>
            <a:ext cx="804600" cy="4827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5576760" y="4956120"/>
            <a:ext cx="804960" cy="482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0:10:26Z</dcterms:created>
  <dc:creator>Plano ISD</dc:creator>
  <dc:description/>
  <dc:language>en-US</dc:language>
  <cp:lastModifiedBy>Clear Creek ISD</cp:lastModifiedBy>
  <dcterms:modified xsi:type="dcterms:W3CDTF">2009-02-02T16:33:40Z</dcterms:modified>
  <cp:revision>80</cp:revision>
  <dc:subject/>
  <dc:title>Populations in Ecosystems</dc:title>
</cp:coreProperties>
</file>